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2FFB582-A445-4F12-8E62-F889E0DDAA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457165-2EC9-4A32-B845-98B174AC8E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C987DC-420E-4353-AB34-1DEDBF556E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E305432-9586-49C4-87A8-6BBF5B13072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3C26CC7-11D7-4039-98F1-AF8F88E7B3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59F918E-DF5A-48AC-A4B6-0419D41A4F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6F95C5-9814-4F07-9BBE-635C476DD3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30DA1F9-FD64-4E57-BB0E-45844DFB04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3BF2706-944A-40C8-BB90-F9EEF5CF42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C54297-FC28-4355-9FE9-8400EB784F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6FAA8A7-34C5-4634-BD31-850C312C8B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6B2D812-E123-4C3F-A613-2AC720B405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Geschichtsbewusstsein meint die Verschränkung der Wahrnehmungen und Deutungen von Vergangenheit mit Gegenwartserfahrungen und Zukunftserwartunge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Ein reflektiertes Geschichtsbewusstsein steht somit gleichermaßen gegen „Identitätslosigkeit“ als auch verfestigte Geschichtsbi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FC1472-3420-4543-B410-91F58C402C4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13599CE-A5F9-4EF2-BFE1-B284A30C723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954F45C-52A1-481F-A73B-D3804B2EB5A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3017CC-47E1-47E1-9509-68CED85E1B1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804E96B-B454-4518-AE88-122CC5BE946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EA69484-A7E8-47C6-9F76-7DD6E440AA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368E3A-8363-4C90-8AC3-1E0530C21B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98DC21D-CB6A-45B2-BF69-3D4667DF7C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A4E2558-6902-4712-9B8C-294FB7D2B0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Gautsch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712105D-6D90-4905-91DB-0FD7D64E765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ne Mischung von Aufgabentypen wegen der geforderten Methodenarb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4BBC5D7-4AE6-4146-8C8C-2F423209159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Bei anderen Typen Vorbereitung nöt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6A677C1-5DA9-4038-9257-03E695845E6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70F705D-65DA-4ACF-96DE-C9A9B5FEFE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8246B37-E445-4F74-B406-82F47ACA5C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CA86BB1-ABD2-452C-93ED-CDEE5DE824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ACA96C4-356B-4F28-B1CC-CC6CA792D8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0FB0707-6382-4A3E-A824-F33DAB1B2D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CA55DFC-751B-4EA2-B50F-7D9DA33351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25BAD07-39CC-49BD-92DE-F8078979DC5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9AA546A-BBD8-4295-AA42-78CF21DF84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674B638-543A-4635-82BF-9DA5B8982B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0505-FB40-4611-852E-0CAB4A227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395A-F661-4320-8D31-577B20B32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07F6-03AC-4973-8565-65A62A7A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795A-2C91-4233-BF15-20A5BAF0D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3FC1-0625-4414-BB16-2D5BB5CE0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FE04-4D77-4362-81EC-7A0BE8978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E827-2560-452F-A916-B810744EF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22DE-C23B-469F-A60A-9DF84D48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55EE-26E6-4864-BAE5-33C9D6A1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FE23-97C4-408C-9DB7-76D4D0F33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54B7-1B06-4838-B5EF-E282B7EBE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30AD-3C85-4BAC-8968-3E679D10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AD0-5000-4036-9B76-233D1B91BB1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klp-wbk-logo"/>
          <p:cNvPicPr/>
          <p:nvPr/>
        </p:nvPicPr>
        <p:blipFill>
          <a:blip r:embed="rId2"/>
          <a:stretch/>
        </p:blipFill>
        <p:spPr>
          <a:xfrm>
            <a:off x="517680" y="241200"/>
            <a:ext cx="2197080" cy="627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3"/>
          <a:stretch/>
        </p:blipFill>
        <p:spPr>
          <a:xfrm>
            <a:off x="5610240" y="249120"/>
            <a:ext cx="3049560" cy="644760"/>
          </a:xfrm>
          <a:prstGeom prst="rect">
            <a:avLst/>
          </a:prstGeom>
          <a:ln w="0">
            <a:noFill/>
          </a:ln>
        </p:spPr>
      </p:pic>
      <p:sp>
        <p:nvSpPr>
          <p:cNvPr id="8" name="Textfeld 2"/>
          <p:cNvSpPr/>
          <p:nvPr/>
        </p:nvSpPr>
        <p:spPr>
          <a:xfrm>
            <a:off x="5132520" y="212760"/>
            <a:ext cx="275724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-7920" y="13050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Neue Kernlehrpläne für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Abendgymnasium und Koll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Volkswirtschaftslehre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1"/>
          <p:cNvSpPr/>
          <p:nvPr/>
        </p:nvSpPr>
        <p:spPr>
          <a:xfrm>
            <a:off x="2286000" y="113976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5B2-9069-40B9-B562-C7532952C7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7" descr="auge-mit"/>
          <p:cNvPicPr/>
          <p:nvPr/>
        </p:nvPicPr>
        <p:blipFill>
          <a:blip r:embed="rId1"/>
          <a:stretch/>
        </p:blipFill>
        <p:spPr>
          <a:xfrm>
            <a:off x="7037280" y="1954080"/>
            <a:ext cx="1386000" cy="7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6" descr="auge-ohne"/>
          <p:cNvPicPr/>
          <p:nvPr/>
        </p:nvPicPr>
        <p:blipFill>
          <a:blip r:embed="rId2"/>
          <a:stretch/>
        </p:blipFill>
        <p:spPr>
          <a:xfrm>
            <a:off x="539640" y="4135320"/>
            <a:ext cx="1405080" cy="7876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2"/>
          <p:cNvSpPr/>
          <p:nvPr/>
        </p:nvSpPr>
        <p:spPr>
          <a:xfrm rot="2778000">
            <a:off x="1211040" y="4317840"/>
            <a:ext cx="917640" cy="292320"/>
          </a:xfrm>
          <a:prstGeom prst="wedgeEllipseCallout">
            <a:avLst>
              <a:gd name="adj1" fmla="val 183347"/>
              <a:gd name="adj2" fmla="val -449500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1"/>
          <p:cNvSpPr/>
          <p:nvPr/>
        </p:nvSpPr>
        <p:spPr>
          <a:xfrm rot="2311800">
            <a:off x="6195960" y="2097000"/>
            <a:ext cx="1158840" cy="549360"/>
          </a:xfrm>
          <a:prstGeom prst="wedgeEllipseCallout">
            <a:avLst>
              <a:gd name="adj1" fmla="val 41504"/>
              <a:gd name="adj2" fmla="val 68175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9"/>
          <p:cNvSpPr/>
          <p:nvPr/>
        </p:nvSpPr>
        <p:spPr>
          <a:xfrm rot="2311800">
            <a:off x="6186600" y="2093760"/>
            <a:ext cx="1158840" cy="549360"/>
          </a:xfrm>
          <a:prstGeom prst="wedgeEllipseCallout">
            <a:avLst>
              <a:gd name="adj1" fmla="val -157004"/>
              <a:gd name="adj2" fmla="val 195583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ff"/>
                </a:solidFill>
                <a:latin typeface="Arial"/>
              </a:rPr>
              <a:t>Studie-r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4C3-A6EF-4F56-9F4C-E991B6F6CBF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E30-16EC-4142-8658-6B694036A83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22360" y="1409760"/>
            <a:ext cx="79851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ung: Lehren planen, Lernen begl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01760" y="5375160"/>
            <a:ext cx="8030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es bei Planung u. Gestaltung von Unterricht zu beachten ist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entraler Bestandteil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kompetenzorientierter Lehrerprofessionalitä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999080" y="2513160"/>
            <a:ext cx="9291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589360" y="3952800"/>
            <a:ext cx="965520" cy="368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ö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472200" y="3192480"/>
            <a:ext cx="1678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Kompeten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999800" y="3951360"/>
            <a:ext cx="88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84320" y="2514600"/>
            <a:ext cx="88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5861160" y="2879640"/>
            <a:ext cx="163440" cy="1071720"/>
          </a:xfrm>
          <a:prstGeom prst="upDownArrow">
            <a:avLst>
              <a:gd name="adj1" fmla="val 50000"/>
              <a:gd name="adj2" fmla="val 130538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2935440" y="2646360"/>
            <a:ext cx="2641320" cy="184320"/>
          </a:xfrm>
          <a:prstGeom prst="leftRightArrow">
            <a:avLst>
              <a:gd name="adj1" fmla="val 50000"/>
              <a:gd name="adj2" fmla="val 285274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2925720" y="4044960"/>
            <a:ext cx="2651040" cy="184320"/>
          </a:xfrm>
          <a:prstGeom prst="leftRightArrow">
            <a:avLst>
              <a:gd name="adj1" fmla="val 50000"/>
              <a:gd name="adj2" fmla="val 286324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 rot="5400000">
            <a:off x="5869440" y="3245400"/>
            <a:ext cx="9273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w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 rot="16200000">
            <a:off x="1679040" y="3243600"/>
            <a:ext cx="9108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itt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646360" y="4327560"/>
            <a:ext cx="3214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forderungssituationen arrang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720880" y="2371680"/>
            <a:ext cx="3214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ssen aneig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 rot="16200000">
            <a:off x="1011600" y="3335400"/>
            <a:ext cx="900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Ange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3871080" y="4618080"/>
            <a:ext cx="900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Ange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2362320" y="2890800"/>
            <a:ext cx="163440" cy="1071720"/>
          </a:xfrm>
          <a:prstGeom prst="upDownArrow">
            <a:avLst>
              <a:gd name="adj1" fmla="val 50000"/>
              <a:gd name="adj2" fmla="val 130538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3722760" y="1954080"/>
            <a:ext cx="89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8"/>
          <p:cNvSpPr/>
          <p:nvPr/>
        </p:nvSpPr>
        <p:spPr>
          <a:xfrm rot="5400000">
            <a:off x="6481080" y="3256200"/>
            <a:ext cx="891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0"/>
          <p:cNvSpPr/>
          <p:nvPr/>
        </p:nvSpPr>
        <p:spPr>
          <a:xfrm rot="2778000">
            <a:off x="1173960" y="4274280"/>
            <a:ext cx="1022040" cy="350640"/>
          </a:xfrm>
          <a:prstGeom prst="wedgeEllipseCallout">
            <a:avLst>
              <a:gd name="adj1" fmla="val -52782"/>
              <a:gd name="adj2" fmla="val -67037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912080" y="2612880"/>
            <a:ext cx="1022400" cy="351000"/>
          </a:xfrm>
          <a:prstGeom prst="wedgeEllipseCallout">
            <a:avLst>
              <a:gd name="adj1" fmla="val -22513"/>
              <a:gd name="adj2" fmla="val 21944"/>
            </a:avLst>
          </a:prstGeom>
          <a:solidFill>
            <a:srgbClr val="ffffff">
              <a:alpha val="71000"/>
            </a:srgbClr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900"/>
                </a:solidFill>
                <a:latin typeface="Arial"/>
              </a:rPr>
              <a:t>Leh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0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3"/>
          <p:cNvSpPr/>
          <p:nvPr/>
        </p:nvSpPr>
        <p:spPr>
          <a:xfrm>
            <a:off x="1380960" y="3114720"/>
            <a:ext cx="6807240" cy="210672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4288" h="1327">
                <a:moveTo>
                  <a:pt x="4218" y="0"/>
                </a:moveTo>
                <a:cubicBezTo>
                  <a:pt x="4253" y="246"/>
                  <a:pt x="4288" y="492"/>
                  <a:pt x="4164" y="690"/>
                </a:cubicBezTo>
                <a:cubicBezTo>
                  <a:pt x="4040" y="888"/>
                  <a:pt x="3779" y="1087"/>
                  <a:pt x="3474" y="1188"/>
                </a:cubicBezTo>
                <a:cubicBezTo>
                  <a:pt x="3169" y="1289"/>
                  <a:pt x="2847" y="1276"/>
                  <a:pt x="2334" y="1296"/>
                </a:cubicBezTo>
                <a:cubicBezTo>
                  <a:pt x="1821" y="1316"/>
                  <a:pt x="785" y="1327"/>
                  <a:pt x="396" y="1308"/>
                </a:cubicBezTo>
                <a:cubicBezTo>
                  <a:pt x="7" y="1289"/>
                  <a:pt x="3" y="1235"/>
                  <a:pt x="0" y="1182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  <a:headEnd len="med" type="stealth" w="med"/>
            <a:tailEnd len="med" type="stealth" w="med"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399999991059303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2C8C-D002-42CA-A356-F19E6FABC6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82760" y="1414440"/>
            <a:ext cx="8569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399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Merkmale der Kernlehrplä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greifen die Bildungsstandard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llständig auf bzw.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34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tdidaktisiert“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zu erreichenden Ergebnisse und treffen keine Aussagen zu We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Verfahren der Zielerreichung. Didaktische Entscheidungen wer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 den Schulen getrof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88E-5842-4CB9-A675-7AA605797C7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55760" y="1892160"/>
          <a:ext cx="8129520" cy="4389480"/>
        </p:xfrm>
        <a:graphic>
          <a:graphicData uri="http://schemas.openxmlformats.org/drawingml/2006/table">
            <a:tbl>
              <a:tblPr/>
              <a:tblGrid>
                <a:gridCol w="869760"/>
                <a:gridCol w="725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AB94-C148-4471-A8D0-E04CAA70C38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2040" y="1382760"/>
            <a:ext cx="765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Gliederungsübersicht d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7"/>
          <p:cNvSpPr/>
          <p:nvPr/>
        </p:nvSpPr>
        <p:spPr>
          <a:xfrm>
            <a:off x="4452840" y="293544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62240" y="4516560"/>
            <a:ext cx="2684520" cy="40320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101"/>
                </a:solidFill>
                <a:latin typeface="Arial"/>
              </a:rPr>
              <a:t>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047600" y="5383080"/>
            <a:ext cx="6775560" cy="6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e Studierenden </a:t>
            </a:r>
            <a:r>
              <a:rPr b="0" i="1" lang="de-DE" sz="1600" spc="-1" strike="noStrike">
                <a:solidFill>
                  <a:srgbClr val="ff0101"/>
                </a:solidFill>
                <a:latin typeface="Arial"/>
              </a:rPr>
              <a:t>erörtern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exemplarisch kontroverse Positionen zu Zukunftsperspektiven der sozialen Marktwirtschaf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19160" y="2151000"/>
            <a:ext cx="6737400" cy="792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greifende fachliche Kompetenz (Kapitel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z.B. 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ur reflektierten Teilhabe fähige mündige Bürger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2293920" y="3222720"/>
            <a:ext cx="216216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4452840" y="322272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2295360" y="3222720"/>
            <a:ext cx="0" cy="280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670800" y="3211560"/>
            <a:ext cx="7920" cy="38268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268360" y="3645000"/>
            <a:ext cx="0" cy="1152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6659640" y="3645000"/>
            <a:ext cx="0" cy="115236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278080" y="4768920"/>
            <a:ext cx="8301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 flipH="1">
            <a:off x="5881320" y="4797360"/>
            <a:ext cx="777960" cy="972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322960" y="3559320"/>
            <a:ext cx="2406600" cy="641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egenstän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4502160" y="4910040"/>
            <a:ext cx="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17CD-F0A8-419C-BD46-3FADF4790F6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050840" y="3511440"/>
            <a:ext cx="2370240" cy="631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oze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12640" y="140184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truktur d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EE9-AD4C-4002-8402-AB8941A311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09760" y="1976400"/>
            <a:ext cx="3995640" cy="11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atisieren die kognitiven Prozes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ch-, Methoden-, Urteils- und Handlung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20560" y="1401840"/>
            <a:ext cx="6618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e Begriffe und Ebenen im Kernlehrplan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724280" y="3236760"/>
            <a:ext cx="4235400" cy="12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 1: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twirtschaftliche Ord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708440" y="1954080"/>
            <a:ext cx="4235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721400" y="2235240"/>
            <a:ext cx="4198680" cy="8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identifizieren eindimensionale und hermetische Argument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01480" y="4668840"/>
            <a:ext cx="4042080" cy="140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gliederungselemente der Inhalts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732200" y="4726080"/>
            <a:ext cx="422748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liche Schwerpunkt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- Die Rolle der Akteure in einem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marktwirtschaftlichen Syste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- Das Marktsystem und sein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14440" y="3246480"/>
            <a:ext cx="4005000" cy="129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altsfel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sieren die Gegenstände, sind nicht mit Unterrichtsvorhaben gleichzuset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2920" y="2230560"/>
            <a:ext cx="806436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übergreifende Kompetenzerwartungen aus allen Kompetenzbereichen, mit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kretisierte 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altsfeldbezogene Kompetenzerwartungen als heruntergebrochene Zusammenführung von Prozessen und Gegenständen (Sach- und Urteils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0276-6509-471E-8370-79284F87C9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11200" y="1447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e Begriffe und Ebenen im Kernlehrplan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57200" y="1971720"/>
            <a:ext cx="8062920" cy="293760"/>
          </a:xfrm>
          <a:prstGeom prst="rect">
            <a:avLst/>
          </a:prstGeom>
          <a:solidFill>
            <a:srgbClr val="ffb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85640" y="2525760"/>
            <a:ext cx="37785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Die Studierenden analysieren exempla-risch ökonomische Bedingungen im ge-sellschaftlichen Kontex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754520" y="2422440"/>
            <a:ext cx="38671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800"/>
            </a:b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e Studierenden beschreiben auf 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er Grundlage eigener Anschauungen Abläufe und Ergebnisse des Marktpro-zesses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4720" y="4425840"/>
            <a:ext cx="382428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beurteilen exemplarisch politische, soziale und ökonomische Entscheidungen aus der Perspektive von (politischen) Akteuren, Adressaten und Systeme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2040" y="1346040"/>
            <a:ext cx="813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ispiele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zu übergeordneten und konkretisierten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2719-57CC-4CE9-9481-4AC9BDC76DE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4756320" y="4444920"/>
            <a:ext cx="38671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„Die Studierenden erörtern exempla-risch kontroverse Positionen zu Zu-kunftsperspektiven der sozialen Markt-wirtschaf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66560" y="4052880"/>
            <a:ext cx="8064720" cy="295200"/>
          </a:xfrm>
          <a:prstGeom prst="rect">
            <a:avLst/>
          </a:prstGeom>
          <a:solidFill>
            <a:srgbClr val="ffb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386000"/>
            <a:ext cx="824076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Beispie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für eine Progression einer Methodenkompe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mitteln Grundprinzipien, Konstruktion sowie Abstraktionsgrad und Reichweite ökonomischer Modelle </a:t>
            </a:r>
            <a:r>
              <a:rPr b="0" i="1" lang="en-US" sz="1800" spc="-1" strike="noStrike">
                <a:solidFill>
                  <a:srgbClr val="e2001a"/>
                </a:solidFill>
                <a:latin typeface="Arial"/>
              </a:rPr>
              <a:t>(Einführungsphase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mitteln – auch vergleichend – Prämissen, Grundprinzipien, Konstruktion sowie Abstraktionsgrad und Reichweite ökonomischer Modelle und Theorien und überprüfen diese auf ihren Erkenntniswert </a:t>
            </a:r>
            <a:r>
              <a:rPr b="0" i="1" lang="en-US" sz="1800" spc="-1" strike="noStrike">
                <a:solidFill>
                  <a:srgbClr val="e2001a"/>
                </a:solidFill>
                <a:latin typeface="Arial"/>
              </a:rPr>
              <a:t>(Qualifikationsphase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feil nach unten 3"/>
          <p:cNvSpPr/>
          <p:nvPr/>
        </p:nvSpPr>
        <p:spPr>
          <a:xfrm>
            <a:off x="3986280" y="3301920"/>
            <a:ext cx="625320" cy="7462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175-0B42-442A-A0B3-A279E9B755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6FDB-699D-4E3E-89EB-97DEFC4FAE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gliederung"/>
          <p:cNvPicPr/>
          <p:nvPr/>
        </p:nvPicPr>
        <p:blipFill>
          <a:blip r:embed="rId1"/>
          <a:stretch/>
        </p:blipFill>
        <p:spPr>
          <a:xfrm>
            <a:off x="457200" y="2208240"/>
            <a:ext cx="4334040" cy="3767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7"/>
          <p:cNvSpPr/>
          <p:nvPr/>
        </p:nvSpPr>
        <p:spPr>
          <a:xfrm rot="1381800">
            <a:off x="4125600" y="2722680"/>
            <a:ext cx="971640" cy="600120"/>
          </a:xfrm>
          <a:prstGeom prst="leftArrow">
            <a:avLst>
              <a:gd name="adj1" fmla="val 50000"/>
              <a:gd name="adj2" fmla="val 40477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052960" y="4552920"/>
            <a:ext cx="3870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ufbau der folgenden Kapitel differenziert nach Einführungs- und Qualifikationsphase und Grundkurs und Leistungsk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feld 4"/>
          <p:cNvSpPr/>
          <p:nvPr/>
        </p:nvSpPr>
        <p:spPr>
          <a:xfrm>
            <a:off x="5024520" y="1805040"/>
            <a:ext cx="411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Aussagen zu didaktischen Hintergründen nur in den Anfangskapi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Hier finden sich u.a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s Bildungsziel des Fach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ie Beschreibung der Kompetenzbereich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ie Beschreibung der Inhaltsfe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1381800">
            <a:off x="4111200" y="4249800"/>
            <a:ext cx="971640" cy="600120"/>
          </a:xfrm>
          <a:prstGeom prst="leftArrow">
            <a:avLst>
              <a:gd name="adj1" fmla="val 50000"/>
              <a:gd name="adj2" fmla="val 40477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3D31-E2FB-47D8-8C59-FABC21C95CAF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4"/>
          <p:cNvSpPr/>
          <p:nvPr/>
        </p:nvSpPr>
        <p:spPr>
          <a:xfrm>
            <a:off x="392040" y="2127240"/>
            <a:ext cx="334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Zuer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alle übergeordneten Sach-, Methoden-, Urteils- und Handlungskompetenzen für die Phas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n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die Kurzbezeichnung des Inhaltsfel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ana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 eine Kurzbenenn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der inhaltlichen Schwerpunk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dem Inhalts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3781440" y="2147760"/>
            <a:ext cx="5191200" cy="1395720"/>
          </a:xfrm>
          <a:prstGeom prst="rect">
            <a:avLst/>
          </a:prstGeom>
          <a:ln w="0">
            <a:noFill/>
          </a:ln>
        </p:spPr>
      </p:pic>
      <p:sp>
        <p:nvSpPr>
          <p:cNvPr id="227" name="Line 9"/>
          <p:cNvSpPr/>
          <p:nvPr/>
        </p:nvSpPr>
        <p:spPr>
          <a:xfrm flipV="1">
            <a:off x="3481560" y="2336760"/>
            <a:ext cx="369720" cy="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3408480" y="3898800"/>
            <a:ext cx="2952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814920" y="4081320"/>
            <a:ext cx="5179680" cy="1468440"/>
          </a:xfrm>
          <a:prstGeom prst="rect">
            <a:avLst/>
          </a:prstGeom>
          <a:ln w="0">
            <a:noFill/>
          </a:ln>
        </p:spPr>
      </p:pic>
      <p:sp>
        <p:nvSpPr>
          <p:cNvPr id="230" name="Line 11"/>
          <p:cNvSpPr/>
          <p:nvPr/>
        </p:nvSpPr>
        <p:spPr>
          <a:xfrm>
            <a:off x="3611520" y="4683240"/>
            <a:ext cx="266760" cy="15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1817640"/>
            <a:ext cx="84409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336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-BoldMT"/>
              </a:rPr>
              <a:t>Die neuen Kernlehrpläne Soziologe und Volkswirtschaftslehre an Weiterbildungskollegs implementieren</a:t>
            </a:r>
            <a:br>
              <a:rPr sz="1800"/>
            </a:b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642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Arbeit mit den neuen Lehrplänen beginnen</a:t>
            </a: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e75112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642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Fragen aufgreifen und Klärungen schaffen</a:t>
            </a:r>
            <a:br>
              <a:rPr sz="1800"/>
            </a:br>
            <a:r>
              <a:rPr b="0" lang="de-DE" sz="1800" spc="-1" strike="noStrike">
                <a:solidFill>
                  <a:srgbClr val="006426"/>
                </a:solidFill>
                <a:latin typeface="Arial-Bold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3366"/>
              </a:buClr>
              <a:buFont typeface="Arial-BoldMT"/>
              <a:buChar char="•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-BoldMT"/>
              </a:rPr>
              <a:t>Ziele der Fachkonferenzarbeit aufze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6D3-CB1B-4E73-855B-670B45B0F15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2236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ages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C42A-390E-4CE5-85ED-4B3C14FA0EF4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4"/>
          <p:cNvSpPr/>
          <p:nvPr/>
        </p:nvSpPr>
        <p:spPr>
          <a:xfrm>
            <a:off x="431640" y="1736640"/>
            <a:ext cx="83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In den zentralen KLP-Teilen werden jeweils inhaltliche Schwerpunkte mit den zugehörigen Sach- und Urteilskompetenzen gebü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463680" y="2803680"/>
            <a:ext cx="4201920" cy="2782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tretch/>
        </p:blipFill>
        <p:spPr>
          <a:xfrm>
            <a:off x="4740120" y="4467240"/>
            <a:ext cx="416268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906C-F783-4EC4-934D-5B877BA9B3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4"/>
          <p:cNvSpPr/>
          <p:nvPr/>
        </p:nvSpPr>
        <p:spPr>
          <a:xfrm>
            <a:off x="426960" y="211140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Kapitel 5 (Anhang) des KLP bietet ein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graduierende tabellarische Übersich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über die übergeordneten Kompetenzen des K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88880" y="3195720"/>
            <a:ext cx="8043840" cy="2162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404640" y="1349280"/>
            <a:ext cx="3259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Übersicht der Kapi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liennummernplatzhalter 5"/>
          <p:cNvSpPr/>
          <p:nvPr/>
        </p:nvSpPr>
        <p:spPr>
          <a:xfrm>
            <a:off x="539640" y="6453360"/>
            <a:ext cx="509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2542-FB7C-4736-9725-288332C0667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0280" y="1366560"/>
            <a:ext cx="64087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Die Zielvorstell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1854360"/>
            <a:ext cx="828036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as Leitbild der gesellschaftswissenschaftlichen Fächer ist der sozialwissenschaftlich gebildete, zur demokratischen Auseinandersetzung und zur reflektierten Teilhabe fähige mündige Bürger – als mündiger Wirtschaftsbürger, als mündiger Staatsbürger und als mündiges Mitglied vielfältiger gesellschaftlicher Gruppierungen, der eine umfassende volkswirtschaftliche Kompetenz entwickel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kratielern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ht für den Erwerb jener Kompetenzen, die  Studierende dabei unterstützen, ihre unterschiedlichen Rollen als Bürgerinnen und Bürger in Gesellschaft, Staat und Wirtschaft zu erweitern, kritisch zu reflektieren und zu gestalten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liennummernplatzhalter 5"/>
          <p:cNvSpPr/>
          <p:nvPr/>
        </p:nvSpPr>
        <p:spPr>
          <a:xfrm>
            <a:off x="514440" y="6445080"/>
            <a:ext cx="4428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13BF-EA7F-4066-8201-144A84FE13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0920" y="1338120"/>
            <a:ext cx="3485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Die Kompetenzbereich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45" name="Inhaltsplatzhalter 2" descr=""/>
          <p:cNvPicPr/>
          <p:nvPr/>
        </p:nvPicPr>
        <p:blipFill>
          <a:blip r:embed="rId1"/>
          <a:stretch/>
        </p:blipFill>
        <p:spPr>
          <a:xfrm>
            <a:off x="536400" y="1779480"/>
            <a:ext cx="8339400" cy="43894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795600" y="228924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135440" y="3300480"/>
            <a:ext cx="535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156320" y="433872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99200" y="531180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liennummernplatzhalter 5"/>
          <p:cNvSpPr/>
          <p:nvPr/>
        </p:nvSpPr>
        <p:spPr>
          <a:xfrm>
            <a:off x="514440" y="6445080"/>
            <a:ext cx="4428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990-C725-4179-82F1-CA90FEF80E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nhaltsplatzhalter 2" descr=""/>
          <p:cNvPicPr/>
          <p:nvPr/>
        </p:nvPicPr>
        <p:blipFill>
          <a:blip r:embed="rId1"/>
          <a:stretch/>
        </p:blipFill>
        <p:spPr>
          <a:xfrm>
            <a:off x="515880" y="1714680"/>
            <a:ext cx="8339040" cy="4389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757440" y="2244600"/>
            <a:ext cx="49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154520" y="3262320"/>
            <a:ext cx="535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127520" y="424656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762480" y="5303880"/>
            <a:ext cx="509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5680" y="2335320"/>
            <a:ext cx="718488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eren exemplarisch ökonomische Bedingungen im gesellschaftlichen K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76320" y="3316320"/>
            <a:ext cx="685332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mitteln fragegeleitet einfache Daten und Zusammenhänge durch empirische Metho-den der Volkswirtschaftslehre und wenden statistische Verfahren exemplarisch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86040" y="4335480"/>
            <a:ext cx="682632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wickeln auf der Basis der Analyse der jeweiligen Interessen- und Perspektivleitung der Argumentation Urteilskriterien und formulieren abwägend kriteriale selbstständige Urte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1000" y="5345280"/>
            <a:ext cx="7203960" cy="45900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wickeln wirtschaftspolitische Handlungsszenarien und führen diese ggf. innerhalb bzw. außerhalb der Schule d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19120" y="1347840"/>
            <a:ext cx="7688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Geneva"/>
              </a:rPr>
              <a:t>Beispiel: 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  <a:ea typeface="Geneva"/>
              </a:rPr>
              <a:t>Übergeordnete Kompetenzerwartungen Ende der E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C15-967E-4668-A0CC-2B5C2DD0D3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2520" y="1358640"/>
            <a:ext cx="524988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Geneva"/>
              </a:rPr>
              <a:t>Inhaltsfelde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Genev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34960" y="1995480"/>
          <a:ext cx="7934400" cy="3870360"/>
        </p:xfrm>
        <a:graphic>
          <a:graphicData uri="http://schemas.openxmlformats.org/drawingml/2006/table">
            <a:tbl>
              <a:tblPr/>
              <a:tblGrid>
                <a:gridCol w="674640"/>
                <a:gridCol w="725976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wirtschaftliche Ordnung (E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 und Gesellschaft (E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ba9d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k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äischer Binnenmarkt und Geldwertstabilität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isierung und Nachhaltigkeit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08A-C480-4991-8CEB-53EA64DD151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1419120"/>
            <a:ext cx="7210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Beispiel für Inhaltsfelder und inhaltliche Schwerpunkt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4960" y="1941480"/>
          <a:ext cx="7934400" cy="4143240"/>
        </p:xfrm>
        <a:graphic>
          <a:graphicData uri="http://schemas.openxmlformats.org/drawingml/2006/table">
            <a:tbl>
              <a:tblPr/>
              <a:tblGrid>
                <a:gridCol w="7934400"/>
              </a:tblGrid>
              <a:tr h="16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feld 1: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wirtschaftliche Ordnung (Eph)</a:t>
                      </a:r>
                      <a:br>
                        <a:rPr sz="1800"/>
                      </a:b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ie Rolle der Akteure in einem marktwirtschaftlichen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rdnungselemente und normative Grundannahmen der sozialen Marktwirtsch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as Marktsystem uns seine Leistungsfähigkeit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24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feld 3: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k (Q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timation staatlichen Handel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elgrößen der gesamtwirtschaftlichen Entwick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ur und Wachst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tschaftspolitische Konzeptio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iche und Instrumente der Wirtschaftspoli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marktpolit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01BF-C5B9-41E4-889B-BA62446C2A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68320" y="1933560"/>
            <a:ext cx="77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, schulinterner Lehrplan)?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 Kompetenzen zu entwickeln?  In welch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ler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die (vielen verschiedenen) Studierenden (an unserer Schule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muss auf dieser Grundlage die Lernsituation gestaltet sei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14520" y="5143680"/>
            <a:ext cx="80308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ch __ Stunden zum Thema ______________ erwarte ich, d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e Studierenden ___, ___, ___ und  ___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235-D93C-4C3C-A060-F4476FFA299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522360" y="14191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 pla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160-43C8-494B-ABCF-37FC5F6608C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03A-9B5D-47B5-AA66-DED8773BED2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65040" y="1473120"/>
            <a:ext cx="84344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Ende Tei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9840" y="2119320"/>
            <a:ext cx="847548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onzept und Gestaltung von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ompetenzorientierten Kernlehrplä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3147840"/>
            <a:ext cx="84754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Fragen und Klärungen zu Te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" y="3887640"/>
            <a:ext cx="847584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Arbeit mit den neuen KLP 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- Kompetenzpuzzl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6880" y="4795920"/>
            <a:ext cx="8475840" cy="5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Arbeit mit den neuen KLP (2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- Arbeit mit dem SILP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2840" y="1546200"/>
            <a:ext cx="8434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Teil 2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rnerfolgsüberprüfung, Leistungsbewertung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und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6A9-C53C-4222-9672-83C62F1926D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agesablauf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7A80-254B-42E1-99E3-EA1D1F49DF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8600" y="1811160"/>
          <a:ext cx="8137440" cy="4206960"/>
        </p:xfrm>
        <a:graphic>
          <a:graphicData uri="http://schemas.openxmlformats.org/drawingml/2006/table">
            <a:tbl>
              <a:tblPr/>
              <a:tblGrid>
                <a:gridCol w="803160"/>
                <a:gridCol w="2151000"/>
                <a:gridCol w="2679840"/>
                <a:gridCol w="250344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hal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beits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kunf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grüßu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Kartenabfrage zu den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positive Aspekte,  Klärungsbedarf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zeln/ Plen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1</a:t>
                      </a:r>
                      <a:r>
                        <a:rPr b="0" lang="en-US" sz="1300" spc="-1" strike="noStrike">
                          <a:solidFill>
                            <a:srgbClr val="7f012e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onzept und Gestaltung der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 V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rbeit mit dem K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Kompetenzpuzz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eingrupp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tagspa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rbeit mit dem SIL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Ein UV konkret gestal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eingruppe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eistungsbewertung und Abit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num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äsentatio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lärun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lementation Teil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chulinterne Lehrpläne und Fachkonferenzarbei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426"/>
                          </a:solidFill>
                          <a:latin typeface="Arial"/>
                          <a:ea typeface="Arial"/>
                        </a:rPr>
                        <a:t>Abschlu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2920" y="1379160"/>
            <a:ext cx="80643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-BoldMT"/>
              </a:rPr>
              <a:t>Leistungsbewertung unter Bezug auf Kompetenzbereich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2108160"/>
            <a:ext cx="829944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d grundsätzl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… Kompetenzberei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ch-, Methoden-, Urteils-, Handlungskompetenz) bei der Leistungsbewertung angemessen zu berücksichtigen.“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prüfungsformen schriftlicher, mündlicher und ggf. praktischer Art sollen deshalb darauf ausgerichtet sein, di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ichung 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t aufgeführ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u überprüf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isoliertes, lediglich auf Reproduktion angelegtes Abfragen einzelner Daten und Sachverhalte allein kann dabei den … Ansprüchen an die Leistungsfeststellung nicht gerecht werden.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BC90-7D67-4AD8-BDF8-6410FA7038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0840" y="1352520"/>
            <a:ext cx="8064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-BoldMT"/>
              </a:rPr>
              <a:t>Leistungsbewertung -  Sonstige Mitarbei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4280" y="1925640"/>
            <a:ext cx="819000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lfältige Möglichkeiten die Kompetenzentwicklung darzustellen und zu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kumentiere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selbstständige und kooperative Aufgabenerfüllung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Beiträge zum Unterricht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von der Lehrkraft abgerufene Leistungsnachweise wie z.B. die schriftliche Übung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von den Studierenden vorbereitete Präsentationen, Protokolle, Referate und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Portfol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eststellen des Standes der Kompetenzentwicklung in der „Sonstigen Mitarbeit“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Beobachtung während des Schuljahre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Prozess der Kompetenzentwicklu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punktuelle Überprüfunge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Stand der Kompetenzentwicklu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4029-F1ED-48CD-816C-7AEC59A13CB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liennummernplatzhalter 5"/>
          <p:cNvSpPr/>
          <p:nvPr/>
        </p:nvSpPr>
        <p:spPr>
          <a:xfrm>
            <a:off x="539640" y="6453360"/>
            <a:ext cx="484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F96-4024-490C-8ADC-AF1D0461EDD3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6440" y="1353960"/>
            <a:ext cx="7410600" cy="3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Lernerfolgsüberprüfungen –  Überprüfungsformen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1" name="Inhaltsplatzhalter 2" descr=""/>
          <p:cNvPicPr/>
          <p:nvPr/>
        </p:nvPicPr>
        <p:blipFill>
          <a:blip r:embed="rId1"/>
          <a:stretch/>
        </p:blipFill>
        <p:spPr>
          <a:xfrm>
            <a:off x="262080" y="1500120"/>
            <a:ext cx="82724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liennummernplatzhalter 5"/>
          <p:cNvSpPr/>
          <p:nvPr/>
        </p:nvSpPr>
        <p:spPr>
          <a:xfrm>
            <a:off x="539640" y="6453360"/>
            <a:ext cx="45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4A3-171C-4A0F-829C-2AA531847A5E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6160" y="1417680"/>
            <a:ext cx="322884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Schriftliche 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4" name="Inhaltsplatzhalter 2" descr=""/>
          <p:cNvPicPr/>
          <p:nvPr/>
        </p:nvPicPr>
        <p:blipFill>
          <a:blip r:embed="rId1"/>
          <a:stretch/>
        </p:blipFill>
        <p:spPr>
          <a:xfrm>
            <a:off x="669960" y="1305000"/>
            <a:ext cx="771192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liennummernplatzhalter 5"/>
          <p:cNvSpPr/>
          <p:nvPr/>
        </p:nvSpPr>
        <p:spPr>
          <a:xfrm>
            <a:off x="539640" y="6453360"/>
            <a:ext cx="603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103F-BE43-4512-9F48-42097251AE7A}" type="slidenum">
              <a:rPr b="0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5240" y="1357200"/>
            <a:ext cx="36176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Geneva"/>
              </a:rPr>
              <a:t>Mündliche Abiturprüfung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97" name="Inhaltsplatzhalter 2" descr=""/>
          <p:cNvPicPr/>
          <p:nvPr/>
        </p:nvPicPr>
        <p:blipFill>
          <a:blip r:embed="rId1"/>
          <a:stretch/>
        </p:blipFill>
        <p:spPr>
          <a:xfrm>
            <a:off x="-293760" y="1509840"/>
            <a:ext cx="78519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107-9A48-49F5-AEB7-5B9FDFD610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ECBD-D3A6-4F79-9CFD-5CF1D1D634E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4280" y="3824280"/>
            <a:ext cx="847584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Fragen und Klärungen zu Te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01680" y="1397160"/>
            <a:ext cx="843444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-BoldMT"/>
              </a:rPr>
              <a:t>Ende Teil 2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rnerfolgsüberprüfung, Leistungsbewertung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und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bitur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30360" y="151416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ei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chulinterne Lehrpläne und Fachkonferenz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AFD-64C0-4D71-A936-B18F62D0A8C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79440" y="1500120"/>
            <a:ext cx="82011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chulinterner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gab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es, die verbindlichen Vorgaben der Kernlehrpläne auf die Situation der Schule bezogen zu konkretisieren und Freiräume auszugest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tliche Grundlage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29 - Unterrichts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)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steriu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rlässt in der Regel schulformspezifische Vor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den Unterricht (Richtlinien, Rahmenvorgaben, Lehrpläne). Diese legen insbesondere die Ziele und Inhalte für die Bildungsgänge, Unterrichtsfächer und Lernbereiche fest und bestimmen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en Lernergebnis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ildungsstandar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2) 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timmen auf der Grundlage der Unterrichtsvorgaben nach Absatz 1 in Verbindung mit ihrem Schulprogram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schuleigene Unterrichtsvor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Unterrichtsvorgaben nach den Absätzen 1 und 2 sind so zu f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s für die Lehrerinnen und Lehrer ei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pädagogischer Gestaltungsspielrau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leib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C9E8-56A5-4F0F-90FA-4797DD6852E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73120" y="1998720"/>
            <a:ext cx="82011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htliche Grundlage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ulG § 70 Abs. 3 u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) Die Fachkonferenz berät über alle das Fach … betreffenden Angelegenheiten einschließlich der Zusammenarbeit mit anderen Fächern. Sie trägt Verantwortung für die schulinterne Qualitätssicherung und –entwicklung der fachlichen Arbeit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ä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über Ziele, Arbeitspläne; Evaluationsmaßnahmen und -ergebnisse und Rechenschaftsle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scheide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ihrem Fach insbesondere ü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e der fachmethodischen und fachdidaktischen Arbe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e zur Leistungsbewert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schläge an die Lehrerkonferenz zur Einführung von Lernmittel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6"/>
          <p:cNvSpPr/>
          <p:nvPr/>
        </p:nvSpPr>
        <p:spPr>
          <a:xfrm>
            <a:off x="558720" y="1403280"/>
            <a:ext cx="30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Schulinterne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DC0-5A73-4C79-BB4E-3B0DAB9E218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3792-D0EE-4C83-BD6D-944DA645388E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31920" y="144000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Kernlehrplan und Anforderungen an die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22000" y="2109960"/>
            <a:ext cx="40402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gabe zu erreichender Kompetenzen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 auf den Kernbereich fachlicher Anforderungen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ulierung von Kompetenz-erwartungen und inhaltlichen Schwerpunkten zu einem bestimmten Zeitpunkt eines Bildungsgang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4720" y="21286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324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daktisch-pädagogische Prozesse in der Verantwor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taltungsräume der Schu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8600" indent="-3240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retisierung in unterricht-lichen Kontexten und Umsetzung in aufeinander abgestimmte Unter-richtsvorhaben (Progression, Kumulativitä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liennummernplatzhalter 7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E315-4372-4918-A844-B7AF2C15988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74560" y="17845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533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eil 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nzept und Gestaltung von </a:t>
            </a:r>
            <a:br>
              <a:rPr sz="2000"/>
            </a:b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n Kernlehrplänen (K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BB2F-71CE-4983-9219-9E99382DD9D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0436-9E3E-4795-8801-8FE95FA61DB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feld 7"/>
          <p:cNvSpPr/>
          <p:nvPr/>
        </p:nvSpPr>
        <p:spPr>
          <a:xfrm>
            <a:off x="3670200" y="8478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49000" y="21844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estlegung des Umfangs von Kompetenzerwartungen und damit verbundener Fachkenntnis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sagen zur Leistungserfassung und -bewertu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3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78440" indent="-311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gruppen-adäquate Umsetzung und Konkretisieru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einbarungen und Absprachen über Kriter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8440" indent="-311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sgesam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pflichtung der Schulen schuleigene Curricula (Lehrpläne/ Arbeitspläne) zu erstellen (siehe Schulgesetz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1E00-7A76-4BEA-A19D-A1BC5F3BC6E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49200" y="1403280"/>
            <a:ext cx="8425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Kernlehrplan und Anforderungen an die Sch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AE1-F511-4545-8B2D-1F3DFC916DC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080" y="1508040"/>
            <a:ext cx="80643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Struktur eines schulinternen Lehrplans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47560" y="2022480"/>
          <a:ext cx="8064720" cy="393228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e Fachgruppe VWL/SZ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sätze der fachmethodischen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74CB-8386-4FD9-8242-CC6BAC05CB2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14F-B8AB-43D5-AEF9-50758853FF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B56-FCD0-40C6-8F6E-B9C99A694D3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71520" y="142092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Beispiel für ein Übersichtsr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8520" y="1986120"/>
          <a:ext cx="8812440" cy="4084560"/>
        </p:xfrm>
        <a:graphic>
          <a:graphicData uri="http://schemas.openxmlformats.org/drawingml/2006/table">
            <a:tbl>
              <a:tblPr/>
              <a:tblGrid>
                <a:gridCol w="2765520"/>
                <a:gridCol w="3038400"/>
                <a:gridCol w="3008520"/>
              </a:tblGrid>
              <a:tr h="408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ma, Kompetenzen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33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757-BC28-4E62-AADF-2A3CC26F67A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64C-B051-4FD5-9EC9-6B9A0B07A78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5584680" y="879480"/>
            <a:ext cx="3051000" cy="2890800"/>
            <a:chOff x="5584680" y="879480"/>
            <a:chExt cx="3051000" cy="2890800"/>
          </a:xfrm>
        </p:grpSpPr>
        <p:sp>
          <p:nvSpPr>
            <p:cNvPr id="335" name="Document"/>
            <p:cNvSpPr/>
            <p:nvPr/>
          </p:nvSpPr>
          <p:spPr>
            <a:xfrm>
              <a:off x="5584680" y="879480"/>
              <a:ext cx="2928960" cy="268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Schulintern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Lehrpla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"/>
            <p:cNvSpPr/>
            <p:nvPr/>
          </p:nvSpPr>
          <p:spPr>
            <a:xfrm>
              <a:off x="5784480" y="1860480"/>
              <a:ext cx="28512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undmuster,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estandteil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Konstruktionshinweise, „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lgorithm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usterbeispi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eine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schulinternen Fachlehrplan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und einer Jahrgangsparti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5"/>
          <p:cNvGrpSpPr/>
          <p:nvPr/>
        </p:nvGrpSpPr>
        <p:grpSpPr>
          <a:xfrm>
            <a:off x="2835360" y="882720"/>
            <a:ext cx="3029040" cy="2636640"/>
            <a:chOff x="2835360" y="882720"/>
            <a:chExt cx="3029040" cy="2636640"/>
          </a:xfrm>
        </p:grpSpPr>
        <p:sp>
          <p:nvSpPr>
            <p:cNvPr id="338" name="Document"/>
            <p:cNvSpPr/>
            <p:nvPr/>
          </p:nvSpPr>
          <p:spPr>
            <a:xfrm>
              <a:off x="2835360" y="882720"/>
              <a:ext cx="2895840" cy="26366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3366"/>
                  </a:solidFill>
                  <a:latin typeface="Arial"/>
                </a:rPr>
                <a:t>Kernlehrplan</a:t>
              </a: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2911680" y="1916640"/>
              <a:ext cx="2581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bindli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mpetenz-erwartung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am Ende der Doppeljahrgangsstufen bzw. bestimmter Phasen des Bildungsg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3454560" y="2993400"/>
              <a:ext cx="240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ligatoris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haltlich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chwerpunk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9"/>
          <p:cNvGrpSpPr/>
          <p:nvPr/>
        </p:nvGrpSpPr>
        <p:grpSpPr>
          <a:xfrm>
            <a:off x="1512720" y="2593800"/>
            <a:ext cx="4479840" cy="1094040"/>
            <a:chOff x="1512720" y="2593800"/>
            <a:chExt cx="4479840" cy="1094040"/>
          </a:xfrm>
        </p:grpSpPr>
        <p:sp>
          <p:nvSpPr>
            <p:cNvPr id="342" name="Line 10"/>
            <p:cNvSpPr/>
            <p:nvPr/>
          </p:nvSpPr>
          <p:spPr>
            <a:xfrm>
              <a:off x="4982760" y="2613600"/>
              <a:ext cx="1009800" cy="432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1519200" y="2593800"/>
              <a:ext cx="9720" cy="109404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>
              <a:off x="1512720" y="2599560"/>
              <a:ext cx="1709640" cy="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0" y="3666960"/>
            <a:ext cx="8991720" cy="2457720"/>
            <a:chOff x="0" y="3666960"/>
            <a:chExt cx="8991720" cy="2457720"/>
          </a:xfrm>
        </p:grpSpPr>
        <p:sp>
          <p:nvSpPr>
            <p:cNvPr id="346" name="File"/>
            <p:cNvSpPr/>
            <p:nvPr/>
          </p:nvSpPr>
          <p:spPr>
            <a:xfrm>
              <a:off x="86040" y="3695760"/>
              <a:ext cx="8905680" cy="2428920"/>
            </a:xfrm>
            <a:custGeom>
              <a:avLst/>
              <a:gdLst>
                <a:gd name="textAreaLeft" fmla="*/ 447480 w 8905680"/>
                <a:gd name="textAreaRight" fmla="*/ 8507520 w 8905680"/>
                <a:gd name="textAreaTop" fmla="*/ 520560 h 2428920"/>
                <a:gd name="textAreaBottom" fmla="*/ 228132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lnTo>
                    <a:pt x="19790" y="324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6"/>
            <p:cNvGrpSpPr/>
            <p:nvPr/>
          </p:nvGrpSpPr>
          <p:grpSpPr>
            <a:xfrm>
              <a:off x="0" y="3666960"/>
              <a:ext cx="8909280" cy="2311560"/>
              <a:chOff x="0" y="3666960"/>
              <a:chExt cx="8909280" cy="2311560"/>
            </a:xfrm>
          </p:grpSpPr>
          <p:sp>
            <p:nvSpPr>
              <p:cNvPr id="348" name="Text Box 17"/>
              <p:cNvSpPr/>
              <p:nvPr/>
            </p:nvSpPr>
            <p:spPr>
              <a:xfrm>
                <a:off x="1095480" y="3666960"/>
                <a:ext cx="14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Arial"/>
                  </a:rPr>
                  <a:t>Datenba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" name="Group 18"/>
              <p:cNvGrpSpPr/>
              <p:nvPr/>
            </p:nvGrpSpPr>
            <p:grpSpPr>
              <a:xfrm>
                <a:off x="7442280" y="4137120"/>
                <a:ext cx="1467000" cy="1809720"/>
                <a:chOff x="7442280" y="4137120"/>
                <a:chExt cx="1467000" cy="1809720"/>
              </a:xfrm>
            </p:grpSpPr>
            <p:sp>
              <p:nvSpPr>
                <p:cNvPr id="350" name="Documents"/>
                <p:cNvSpPr/>
                <p:nvPr/>
              </p:nvSpPr>
              <p:spPr>
                <a:xfrm>
                  <a:off x="7452000" y="41371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20"/>
                <p:cNvSpPr/>
                <p:nvPr/>
              </p:nvSpPr>
              <p:spPr>
                <a:xfrm>
                  <a:off x="7442280" y="4365720"/>
                  <a:ext cx="144792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intergrund-materiali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, „Tools“,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stützungs-mater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Documents"/>
              <p:cNvSpPr/>
              <p:nvPr/>
            </p:nvSpPr>
            <p:spPr>
              <a:xfrm>
                <a:off x="6016680" y="4168800"/>
                <a:ext cx="1457280" cy="1809720"/>
              </a:xfrm>
              <a:custGeom>
                <a:avLst/>
                <a:gdLst>
                  <a:gd name="textAreaLeft" fmla="*/ 110880 w 1457280"/>
                  <a:gd name="textAreaRight" fmla="*/ 1114560 w 1457280"/>
                  <a:gd name="textAreaTop" fmla="*/ 349200 h 1809720"/>
                  <a:gd name="textAreaBottom" fmla="*/ 1451160 h 18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014"/>
                    </a:moveTo>
                    <a:lnTo>
                      <a:pt x="0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68" y="1428"/>
                    </a:lnTo>
                    <a:lnTo>
                      <a:pt x="3468" y="0"/>
                    </a:lnTo>
                    <a:lnTo>
                      <a:pt x="21653" y="0"/>
                    </a:lnTo>
                    <a:lnTo>
                      <a:pt x="21653" y="18828"/>
                    </a:lnTo>
                    <a:lnTo>
                      <a:pt x="19954" y="188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16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  <a:path w="21600" h="21600">
                    <a:moveTo>
                      <a:pt x="3486" y="1428"/>
                    </a:moveTo>
                    <a:lnTo>
                      <a:pt x="19954" y="14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86" y="1428"/>
                    </a:lnTo>
                    <a:close/>
                  </a:path>
                  <a:path w="21600" h="21600">
                    <a:moveTo>
                      <a:pt x="0" y="18014"/>
                    </a:moveTo>
                    <a:lnTo>
                      <a:pt x="4434" y="180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22"/>
              <p:cNvGrpSpPr/>
              <p:nvPr/>
            </p:nvGrpSpPr>
            <p:grpSpPr>
              <a:xfrm>
                <a:off x="4499280" y="4156200"/>
                <a:ext cx="1476360" cy="1809720"/>
                <a:chOff x="4499280" y="4156200"/>
                <a:chExt cx="1476360" cy="1809720"/>
              </a:xfrm>
            </p:grpSpPr>
            <p:sp>
              <p:nvSpPr>
                <p:cNvPr id="354" name="Documents"/>
                <p:cNvSpPr/>
                <p:nvPr/>
              </p:nvSpPr>
              <p:spPr>
                <a:xfrm>
                  <a:off x="4518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 Box 24"/>
                <p:cNvSpPr/>
                <p:nvPr/>
              </p:nvSpPr>
              <p:spPr>
                <a:xfrm>
                  <a:off x="4499280" y="4384800"/>
                  <a:ext cx="13716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iagnose-bögen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und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valuations-instrum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25"/>
              <p:cNvGrpSpPr/>
              <p:nvPr/>
            </p:nvGrpSpPr>
            <p:grpSpPr>
              <a:xfrm>
                <a:off x="2975040" y="4156200"/>
                <a:ext cx="1533600" cy="1809720"/>
                <a:chOff x="2975040" y="4156200"/>
                <a:chExt cx="1533600" cy="1809720"/>
              </a:xfrm>
            </p:grpSpPr>
            <p:sp>
              <p:nvSpPr>
                <p:cNvPr id="357" name="Documents"/>
                <p:cNvSpPr/>
                <p:nvPr/>
              </p:nvSpPr>
              <p:spPr>
                <a:xfrm>
                  <a:off x="3051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Text Box 27"/>
                <p:cNvSpPr/>
                <p:nvPr/>
              </p:nvSpPr>
              <p:spPr>
                <a:xfrm>
                  <a:off x="2975040" y="4384800"/>
                  <a:ext cx="138132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schülerver-ständliche Ausformulie-rung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von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28"/>
              <p:cNvGrpSpPr/>
              <p:nvPr/>
            </p:nvGrpSpPr>
            <p:grpSpPr>
              <a:xfrm>
                <a:off x="1587600" y="4149720"/>
                <a:ext cx="1457280" cy="1809720"/>
                <a:chOff x="1587600" y="4149720"/>
                <a:chExt cx="1457280" cy="1809720"/>
              </a:xfrm>
            </p:grpSpPr>
            <p:sp>
              <p:nvSpPr>
                <p:cNvPr id="360" name="Documents"/>
                <p:cNvSpPr/>
                <p:nvPr/>
              </p:nvSpPr>
              <p:spPr>
                <a:xfrm>
                  <a:off x="1587600" y="41497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Text Box 30"/>
                <p:cNvSpPr/>
                <p:nvPr/>
              </p:nvSpPr>
              <p:spPr>
                <a:xfrm>
                  <a:off x="1616400" y="4378320"/>
                  <a:ext cx="127620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richts- und Lernarran-gements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zu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31"/>
              <p:cNvGrpSpPr/>
              <p:nvPr/>
            </p:nvGrpSpPr>
            <p:grpSpPr>
              <a:xfrm>
                <a:off x="0" y="4152960"/>
                <a:ext cx="1571760" cy="1809720"/>
                <a:chOff x="0" y="4152960"/>
                <a:chExt cx="1571760" cy="1809720"/>
              </a:xfrm>
            </p:grpSpPr>
            <p:sp>
              <p:nvSpPr>
                <p:cNvPr id="363" name="Documents"/>
                <p:cNvSpPr/>
                <p:nvPr/>
              </p:nvSpPr>
              <p:spPr>
                <a:xfrm>
                  <a:off x="114120" y="4152960"/>
                  <a:ext cx="1457640" cy="1809720"/>
                </a:xfrm>
                <a:custGeom>
                  <a:avLst/>
                  <a:gdLst>
                    <a:gd name="textAreaLeft" fmla="*/ 110880 w 1457640"/>
                    <a:gd name="textAreaRight" fmla="*/ 1114920 w 145764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33"/>
                <p:cNvSpPr/>
                <p:nvPr/>
              </p:nvSpPr>
              <p:spPr>
                <a:xfrm>
                  <a:off x="0" y="4400640"/>
                  <a:ext cx="1467000" cy="14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eispiel-aufgaben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(Lernaufgaben / Testaufgaben) zu konkreten 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Text Box 34"/>
              <p:cNvSpPr/>
              <p:nvPr/>
            </p:nvSpPr>
            <p:spPr>
              <a:xfrm>
                <a:off x="5981760" y="4362480"/>
                <a:ext cx="135252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Konkretisie-rungen zum Schulinternen Lehrplan: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Beispiele zu Unterrichts-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    vorha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feld 37"/>
          <p:cNvSpPr/>
          <p:nvPr/>
        </p:nvSpPr>
        <p:spPr>
          <a:xfrm>
            <a:off x="434880" y="1295280"/>
            <a:ext cx="24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Unterstützung: Lehrplan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38"/>
          <p:cNvSpPr/>
          <p:nvPr/>
        </p:nvSpPr>
        <p:spPr>
          <a:xfrm>
            <a:off x="133200" y="6364440"/>
            <a:ext cx="81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ttp://www.standardsicherung.schulministerium.nrw.de/lehrplaene/lehrplan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2"/>
          <p:cNvGrpSpPr/>
          <p:nvPr/>
        </p:nvGrpSpPr>
        <p:grpSpPr>
          <a:xfrm>
            <a:off x="2484000" y="1068480"/>
            <a:ext cx="4114800" cy="3345840"/>
            <a:chOff x="2484000" y="1068480"/>
            <a:chExt cx="4114800" cy="3345840"/>
          </a:xfrm>
        </p:grpSpPr>
        <p:sp>
          <p:nvSpPr>
            <p:cNvPr id="369" name="Line 38"/>
            <p:cNvSpPr/>
            <p:nvPr/>
          </p:nvSpPr>
          <p:spPr>
            <a:xfrm flipH="1">
              <a:off x="5076720" y="1068480"/>
              <a:ext cx="9050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2484000" y="3395520"/>
              <a:ext cx="4114800" cy="1018800"/>
              <a:chOff x="2484000" y="3395520"/>
              <a:chExt cx="4114800" cy="1018800"/>
            </a:xfrm>
          </p:grpSpPr>
          <p:sp>
            <p:nvSpPr>
              <p:cNvPr id="371" name="Line 40"/>
              <p:cNvSpPr/>
              <p:nvPr/>
            </p:nvSpPr>
            <p:spPr>
              <a:xfrm flipH="1">
                <a:off x="6589080" y="3395520"/>
                <a:ext cx="9720" cy="10188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41"/>
              <p:cNvSpPr/>
              <p:nvPr/>
            </p:nvSpPr>
            <p:spPr>
              <a:xfrm flipH="1">
                <a:off x="2484000" y="3888720"/>
                <a:ext cx="40957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Group 53"/>
          <p:cNvGrpSpPr/>
          <p:nvPr/>
        </p:nvGrpSpPr>
        <p:grpSpPr>
          <a:xfrm>
            <a:off x="2266920" y="3538440"/>
            <a:ext cx="4851360" cy="325440"/>
            <a:chOff x="2266920" y="3538440"/>
            <a:chExt cx="4851360" cy="325440"/>
          </a:xfrm>
        </p:grpSpPr>
        <p:sp>
          <p:nvSpPr>
            <p:cNvPr id="374" name="Line 34"/>
            <p:cNvSpPr/>
            <p:nvPr/>
          </p:nvSpPr>
          <p:spPr>
            <a:xfrm flipV="1">
              <a:off x="42418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5"/>
            <p:cNvSpPr/>
            <p:nvPr/>
          </p:nvSpPr>
          <p:spPr>
            <a:xfrm flipV="1">
              <a:off x="70930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6"/>
            <p:cNvSpPr/>
            <p:nvPr/>
          </p:nvSpPr>
          <p:spPr>
            <a:xfrm flipH="1" flipV="1">
              <a:off x="2266920" y="3735000"/>
              <a:ext cx="4851360" cy="1908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7"/>
            <p:cNvSpPr/>
            <p:nvPr/>
          </p:nvSpPr>
          <p:spPr>
            <a:xfrm flipV="1">
              <a:off x="2268360" y="3754440"/>
              <a:ext cx="0" cy="10944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6F55-BB3A-4650-B024-72EA6A3D137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5E1-D86A-4C12-AA3E-D9867ECD9F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8B1-90F4-4025-AB11-32B9029F9E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66840" y="149544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Zeitplan zur Entwicklung der schulinternen 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82480" y="2373480"/>
          <a:ext cx="7967880" cy="2944800"/>
        </p:xfrm>
        <a:graphic>
          <a:graphicData uri="http://schemas.openxmlformats.org/drawingml/2006/table">
            <a:tbl>
              <a:tblPr/>
              <a:tblGrid>
                <a:gridCol w="6012000"/>
                <a:gridCol w="195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rplan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tiggestellt b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bersichtsraster Unterrichtsvorhaben E-phase + Grundsätze der Beurteilung in der E-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bersichtsraster Unterrichtsvorhaben Q-phase + Grundsätze der Beurteilung in der Q-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tinuierliche Konkretisierung und Verbesserung der geplanten und durchgeführten Unterrichtsvorhaben sowie der weiteren Lehrplanelemente bis hin zu einem komplett ausgearbeitetem schulinternen Lehr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 2014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Rectangle 3"/>
          <p:cNvSpPr/>
          <p:nvPr/>
        </p:nvSpPr>
        <p:spPr>
          <a:xfrm>
            <a:off x="352440" y="1914480"/>
            <a:ext cx="8424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9960" indent="-223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hrplanentwicklung Schritt für Sch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8FC8-219B-48FE-8819-87F445FFD34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200" y="2109960"/>
            <a:ext cx="8475840" cy="13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bschlu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offene Fragen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036"/>
                </a:solidFill>
                <a:latin typeface="Arial"/>
              </a:rPr>
              <a:t>Tagesrück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0" y="143352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0" y="292896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Herzlichen Dank f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Ihre Aufmerksamkeit und Mitarbe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hteck 1"/>
          <p:cNvSpPr/>
          <p:nvPr/>
        </p:nvSpPr>
        <p:spPr>
          <a:xfrm>
            <a:off x="522360" y="164628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-BoldMT"/>
              </a:rPr>
              <a:t>Wir wünschen: Erfolg und Freude bei der Umsetzung neuen KLP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-BoldMT"/>
              </a:rPr>
              <a:t>und am kompetenzorientierten Unterricht</a:t>
            </a:r>
            <a:r>
              <a:rPr b="0" lang="en-US" sz="2000" spc="-1" strike="noStrike">
                <a:solidFill>
                  <a:srgbClr val="000099"/>
                </a:solidFill>
                <a:latin typeface="Arial-BoldM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4DF-4130-4127-B1E0-5777D0E415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9640" y="2373480"/>
            <a:ext cx="806472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97B-6814-426F-92E1-80FF13EFE63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39640" y="144468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inle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issen-kompetenz"/>
          <p:cNvPicPr/>
          <p:nvPr/>
        </p:nvPicPr>
        <p:blipFill>
          <a:blip r:embed="rId1"/>
          <a:stretch/>
        </p:blipFill>
        <p:spPr>
          <a:xfrm>
            <a:off x="541440" y="1847880"/>
            <a:ext cx="6896160" cy="427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068000" y="6453360"/>
            <a:ext cx="48196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ichnung: Peter Meyer, Quelle: http://lehrerfortbildung-bw.de/faecher/bio/gym/fb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56B-F7FD-4CE6-AA2C-E4EDB287CBC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84200" y="3197160"/>
            <a:ext cx="791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längeren Entwicklungsproz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kumulativ) erworb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sind also nicht identisch mit Stundenzie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374760" y="4859280"/>
            <a:ext cx="693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stärkenorienti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nicht defizitorienti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8588-8305-41C6-83C6-5967B81C67D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90680" y="2262240"/>
            <a:ext cx="81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individuell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fachspezifisch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  <a:ea typeface="ヒラギノ角ゴ Pro W3"/>
              </a:rPr>
              <a:t> </a:t>
            </a: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Fähigkeiten und Fertigkei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sind also keine reinen Unterrichtsinha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74760" y="403560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ea typeface="ヒラギノ角ゴ Pro W3"/>
              </a:rPr>
              <a:t>Grundlage für das selbstständige Lös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von Problemen und für das Hervorbringen von Neu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1474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99AB-57B4-4E06-8333-2C63ED5AFEDA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3E6-91EB-477C-8489-99493C405CC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8040" y="2790720"/>
            <a:ext cx="7723080" cy="131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 (Problemlösefähigkei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86AE-7F27-4995-80F5-6F22DCF90B1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39640" y="1474920"/>
            <a:ext cx="6618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 – ein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B49-F8DD-4E50-93DD-3E6E50BC09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531720" y="1392120"/>
            <a:ext cx="82472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s Lernen ermöglichen: Unterrichtsskri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39640" y="5817600"/>
            <a:ext cx="7847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pointierte Veränderung bislang dominierender Unterrichtsskri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493560" y="3222720"/>
            <a:ext cx="847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e2001a"/>
                </a:solidFill>
                <a:latin typeface="Arial"/>
              </a:rPr>
              <a:t>ne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93560" y="4043520"/>
            <a:ext cx="68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2327400" y="4768920"/>
            <a:ext cx="88920" cy="326880"/>
          </a:xfrm>
          <a:prstGeom prst="upArrow">
            <a:avLst>
              <a:gd name="adj1" fmla="val 50000"/>
              <a:gd name="adj2" fmla="val 91903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2327400" y="2587680"/>
            <a:ext cx="88920" cy="26676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1341360" y="2160720"/>
            <a:ext cx="20782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mpetenze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ildungs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1432080" y="5095800"/>
            <a:ext cx="18651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Inhalt orientierte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hrplä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3"/>
          <p:cNvSpPr/>
          <p:nvPr/>
        </p:nvSpPr>
        <p:spPr>
          <a:xfrm>
            <a:off x="3438360" y="2000160"/>
            <a:ext cx="1925640" cy="663840"/>
          </a:xfrm>
          <a:prstGeom prst="wedgeEllipseCallout">
            <a:avLst>
              <a:gd name="adj1" fmla="val -67888"/>
              <a:gd name="adj2" fmla="val 2393"/>
            </a:avLst>
          </a:prstGeom>
          <a:blipFill rotWithShape="0">
            <a:blip r:embed="rId1">
              <a:alphaModFix amt="52000"/>
            </a:blip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wartungen an da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rgeb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5"/>
          <p:cNvSpPr/>
          <p:nvPr/>
        </p:nvSpPr>
        <p:spPr>
          <a:xfrm rot="21233400">
            <a:off x="3294000" y="3222360"/>
            <a:ext cx="1279440" cy="166680"/>
          </a:xfrm>
          <a:prstGeom prst="rightArrow">
            <a:avLst>
              <a:gd name="adj1" fmla="val 50000"/>
              <a:gd name="adj2" fmla="val 537926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6"/>
          <p:cNvSpPr/>
          <p:nvPr/>
        </p:nvSpPr>
        <p:spPr>
          <a:xfrm rot="489600">
            <a:off x="3303360" y="4133880"/>
            <a:ext cx="1258920" cy="154080"/>
          </a:xfrm>
          <a:prstGeom prst="rightArrow">
            <a:avLst>
              <a:gd name="adj1" fmla="val 50000"/>
              <a:gd name="adj2" fmla="val 537630"/>
            </a:avLst>
          </a:prstGeom>
          <a:solidFill>
            <a:srgbClr val="acacac"/>
          </a:solidFill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7500960" y="3575160"/>
            <a:ext cx="1285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istungen der Studier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4735440" y="2770200"/>
            <a:ext cx="307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wältigung von Anwendungs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tuationen mit fachlichen und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überfachlichen Anforderung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4754520" y="4091040"/>
            <a:ext cx="307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oduzieren von und Ausein-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ersetzung mit meist fach-lichen Anforde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3"/>
          <p:cNvSpPr/>
          <p:nvPr/>
        </p:nvSpPr>
        <p:spPr>
          <a:xfrm>
            <a:off x="3473280" y="4889520"/>
            <a:ext cx="1925640" cy="663480"/>
          </a:xfrm>
          <a:prstGeom prst="wedgeEllipseCallout">
            <a:avLst>
              <a:gd name="adj1" fmla="val -68712"/>
              <a:gd name="adj2" fmla="val 3347"/>
            </a:avLst>
          </a:prstGeom>
          <a:blipFill rotWithShape="0">
            <a:blip r:embed="rId2">
              <a:alphaModFix amt="52000"/>
            </a:blip>
            <a:srcRect/>
            <a:stretch/>
          </a:blip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gaben für di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ha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668600" y="3025800"/>
            <a:ext cx="1469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Entwicklung </a:t>
            </a:r>
            <a:br>
              <a:rPr sz="1400"/>
            </a:b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von </a:t>
            </a:r>
            <a:br>
              <a:rPr sz="1400"/>
            </a:br>
            <a:r>
              <a:rPr b="1" lang="en-US" sz="1400" spc="-1" strike="noStrike">
                <a:solidFill>
                  <a:srgbClr val="e2001a"/>
                </a:solidFill>
                <a:latin typeface="Arial"/>
              </a:rPr>
              <a:t>Fähig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668600" y="3841920"/>
            <a:ext cx="1469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mittlu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4235400" y="3645000"/>
            <a:ext cx="3075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Wis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Könn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Kompeten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 flipH="1">
            <a:off x="2927160" y="3801960"/>
            <a:ext cx="13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9"/>
          <p:cNvSpPr/>
          <p:nvPr/>
        </p:nvSpPr>
        <p:spPr>
          <a:xfrm>
            <a:off x="1441440" y="2854440"/>
            <a:ext cx="1862280" cy="1268280"/>
          </a:xfrm>
          <a:prstGeom prst="ellipse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1476360" y="3500280"/>
            <a:ext cx="1862280" cy="1258920"/>
          </a:xfrm>
          <a:prstGeom prst="ellipse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9"/>
          <p:cNvSpPr/>
          <p:nvPr/>
        </p:nvSpPr>
        <p:spPr>
          <a:xfrm rot="19947000">
            <a:off x="181080" y="3084480"/>
            <a:ext cx="7904160" cy="2641680"/>
          </a:xfrm>
          <a:prstGeom prst="rightArrow">
            <a:avLst>
              <a:gd name="adj1" fmla="val 50000"/>
              <a:gd name="adj2" fmla="val 74802"/>
            </a:avLst>
          </a:prstGeom>
          <a:solidFill>
            <a:srgbClr val="33ccff">
              <a:alpha val="43000"/>
            </a:srgbClr>
          </a:solidFill>
          <a:ln w="0">
            <a:noFill/>
          </a:ln>
          <a:effectLst>
            <a:outerShdw dist="17819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3BED-B4D2-4C38-897C-0A0BA829E25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22360" y="1400040"/>
            <a:ext cx="7591320" cy="6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ompetenzorientiertes Lernen ermöglichen: Lerngelegenheiten arrang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6"/>
          <p:cNvSpPr/>
          <p:nvPr/>
        </p:nvSpPr>
        <p:spPr>
          <a:xfrm>
            <a:off x="655560" y="5567400"/>
            <a:ext cx="7958160" cy="488880"/>
          </a:xfrm>
          <a:prstGeom prst="rightArrow">
            <a:avLst>
              <a:gd name="adj1" fmla="val 59019"/>
              <a:gd name="adj2" fmla="val 73705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7"/>
          <p:cNvSpPr/>
          <p:nvPr/>
        </p:nvSpPr>
        <p:spPr>
          <a:xfrm rot="16200000">
            <a:off x="-897480" y="4014000"/>
            <a:ext cx="3942000" cy="488880"/>
          </a:xfrm>
          <a:prstGeom prst="rightArrow">
            <a:avLst>
              <a:gd name="adj1" fmla="val 59019"/>
              <a:gd name="adj2" fmla="val 36509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1317600" y="527544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0"/>
          <p:cNvSpPr/>
          <p:nvPr/>
        </p:nvSpPr>
        <p:spPr>
          <a:xfrm>
            <a:off x="1317600" y="4695840"/>
            <a:ext cx="2284560" cy="571320"/>
          </a:xfrm>
          <a:prstGeom prst="parallelogram">
            <a:avLst>
              <a:gd name="adj" fmla="val 205916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 rot="20043000">
            <a:off x="1790640" y="4766760"/>
            <a:ext cx="11955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orhabe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444760" y="5018040"/>
            <a:ext cx="115740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3602160" y="47037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16200000">
            <a:off x="-847080" y="4173120"/>
            <a:ext cx="3805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hliche Kenntnisse, Fertigkeit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 u="sng">
                <a:solidFill>
                  <a:srgbClr val="008232"/>
                </a:solidFill>
                <a:uFillTx/>
                <a:latin typeface="Arial"/>
              </a:rPr>
              <a:t>Wi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948320" y="5646600"/>
            <a:ext cx="6349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it dem Wissen in variablen Anwendungssituationen etwas anfangen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7540560" y="2084400"/>
            <a:ext cx="14763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8232"/>
                </a:solidFill>
                <a:latin typeface="Arial"/>
              </a:rPr>
              <a:t>Wi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Können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------------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 rot="20043000">
            <a:off x="2443320" y="499428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3300480" y="3840120"/>
            <a:ext cx="2284200" cy="571680"/>
          </a:xfrm>
          <a:prstGeom prst="parallelogram">
            <a:avLst>
              <a:gd name="adj" fmla="val 205754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4"/>
          <p:cNvSpPr/>
          <p:nvPr/>
        </p:nvSpPr>
        <p:spPr>
          <a:xfrm flipV="1">
            <a:off x="4427640" y="4154400"/>
            <a:ext cx="1157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5"/>
          <p:cNvSpPr/>
          <p:nvPr/>
        </p:nvSpPr>
        <p:spPr>
          <a:xfrm>
            <a:off x="5584680" y="3840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4921200" y="356544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8"/>
          <p:cNvSpPr/>
          <p:nvPr/>
        </p:nvSpPr>
        <p:spPr>
          <a:xfrm>
            <a:off x="4944960" y="2976480"/>
            <a:ext cx="2284560" cy="571680"/>
          </a:xfrm>
          <a:prstGeom prst="parallelogram">
            <a:avLst>
              <a:gd name="adj" fmla="val 20578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0"/>
          <p:cNvSpPr/>
          <p:nvPr/>
        </p:nvSpPr>
        <p:spPr>
          <a:xfrm flipV="1">
            <a:off x="6072120" y="3290760"/>
            <a:ext cx="115740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1"/>
          <p:cNvSpPr/>
          <p:nvPr/>
        </p:nvSpPr>
        <p:spPr>
          <a:xfrm>
            <a:off x="7229520" y="29764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3"/>
          <p:cNvSpPr/>
          <p:nvPr/>
        </p:nvSpPr>
        <p:spPr>
          <a:xfrm rot="20043000">
            <a:off x="4437360" y="414180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 rot="20043000">
            <a:off x="3742200" y="3870000"/>
            <a:ext cx="1305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vorhabe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6"/>
          <p:cNvSpPr/>
          <p:nvPr/>
        </p:nvSpPr>
        <p:spPr>
          <a:xfrm rot="20043000">
            <a:off x="6110640" y="3267000"/>
            <a:ext cx="10980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Kompetenz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7"/>
          <p:cNvSpPr/>
          <p:nvPr/>
        </p:nvSpPr>
        <p:spPr>
          <a:xfrm rot="20043000">
            <a:off x="5440320" y="3015720"/>
            <a:ext cx="13446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richts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vorhabe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3300480" y="4411800"/>
            <a:ext cx="1127160" cy="276480"/>
          </a:xfrm>
          <a:prstGeom prst="rect">
            <a:avLst/>
          </a:prstGeom>
          <a:solidFill>
            <a:srgbClr val="ccffcc">
              <a:alpha val="82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hal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2"/>
          <p:cNvSpPr/>
          <p:nvPr/>
        </p:nvSpPr>
        <p:spPr>
          <a:xfrm>
            <a:off x="2441520" y="3473280"/>
            <a:ext cx="3240" cy="12844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441520" y="3290760"/>
            <a:ext cx="1465200" cy="717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441520" y="3290760"/>
            <a:ext cx="31431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1476360" y="2878200"/>
            <a:ext cx="243036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hrmeth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mittlung von Wiss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 dessen Situ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 flipH="1">
            <a:off x="2943000" y="4976640"/>
            <a:ext cx="29415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 flipH="1" flipV="1">
            <a:off x="4427640" y="4292280"/>
            <a:ext cx="1457280" cy="701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5892840" y="3565080"/>
            <a:ext cx="0" cy="1452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5303880" y="4695840"/>
            <a:ext cx="160812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rnmeth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äten d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ieren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8"/>
          <p:cNvSpPr/>
          <p:nvPr/>
        </p:nvSpPr>
        <p:spPr>
          <a:xfrm>
            <a:off x="6097680" y="6453360"/>
            <a:ext cx="277452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h Prof. Dr. Rainer Lersch, Düsseldorf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Chef</cp:lastModifiedBy>
  <cp:lastPrinted>2013-05-14T13:09:49Z</cp:lastPrinted>
  <dcterms:modified xsi:type="dcterms:W3CDTF">2014-06-18T11:13:32Z</dcterms:modified>
  <cp:revision>561</cp:revision>
  <dc:subject/>
  <dc:title>Folie 1</dc:title>
</cp:coreProperties>
</file>