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9.wmf" ContentType="image/x-wmf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377676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85248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4"/>
          </p:nvPr>
        </p:nvSpPr>
        <p:spPr>
          <a:xfrm>
            <a:off x="0" y="9427680"/>
            <a:ext cx="2890800" cy="4971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5"/>
          </p:nvPr>
        </p:nvSpPr>
        <p:spPr>
          <a:xfrm>
            <a:off x="3776760" y="9427680"/>
            <a:ext cx="2890800" cy="4971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CB0C12EF-E8F1-4C7F-8DEE-39CF1ABA6F9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FCFE945C-52E9-4E04-855F-D0E21121552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oliennummernplatzhalter 3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FEF5ACF6-951E-42FB-98BA-CA04F0A0546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BE56F3B5-959F-4A48-8D19-EB0F3CAA2E3A}" type="slidenum">
              <a:rPr b="0" lang="de-D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855720" y="744480"/>
            <a:ext cx="4960800" cy="372276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D71B1EA6-DD2B-494E-9FB8-17DF3FE2577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E030190A-52C8-49D8-898C-BCF4BE44828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C55E31DB-89B8-496B-9E7C-E76CB5DB21F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D198E8DF-ED62-4075-98FD-AD01DF1660D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ADB595E8-0624-49EB-9766-BFB39564ABF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AB626DD2-0FE9-4937-92E2-9641262B20D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2DD33451-12D4-48FD-B915-002838409B3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E245B822-4E05-4993-B5BF-E4B17E79FC9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MS PGothic"/>
              </a:rPr>
              <a:t>Geschichtsbewusstsein meint die Verschränkung der Wahrnehmungen und Deutungen von Vergangenheit mit Gegenwartserfahrungen und Zukunftserwartungen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MS PGothic"/>
              </a:rPr>
              <a:t>Ein reflektiertes Geschichtsbewusstsein steht somit gleichermaßen gegen „Identitätslosigkeit“ als auch verfestigte Geschichtsbild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Foliennummernplatzhalter 3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3D404E40-E1A8-4703-90CB-54465E183296}" type="slidenum">
              <a:rPr b="0" lang="de-DE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oliennummernplatzhalter 3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A062E822-6A7F-41A6-ACBC-3D446E3A6707}" type="slidenum">
              <a:rPr b="0" lang="de-DE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oliennummernplatzhalter 3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9D88BBDD-EE9B-4298-8625-054687B79A11}" type="slidenum">
              <a:rPr b="0" lang="de-DE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oliennummernplatzhalter 3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934BE1A4-C631-4C7F-8B73-B8436153A285}" type="slidenum">
              <a:rPr b="0" lang="de-DE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Foliennummernplatzhalter 3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4C088A2F-F5C1-42E3-8C1A-64908A412B4C}" type="slidenum">
              <a:rPr b="0" lang="de-DE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oliennummernplatzhalter 3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112476A3-5F8B-412E-8401-EDE0ECB1F3E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Foliennummernplatzhalter 3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F6CCEF8F-0EC2-4319-8CD7-915F7D4DA15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03E7A85C-0D27-44D8-98D2-C58D4366BF6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52E1DC7D-F3DE-481B-99DB-A58A420719A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MS PGothic"/>
              </a:rPr>
              <a:t>Gautschi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oliennummernplatzhalter 3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71148D4A-6072-4FEA-9BE1-75BF3D2CC515}" type="slidenum">
              <a:rPr b="0" lang="de-DE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MS PGothic"/>
              </a:rPr>
              <a:t>Keine Mischung von Aufgabentypen wegen der geforderten Methodenarbe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oliennummernplatzhalter 3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2CFE1B34-EBB9-4B26-844E-04AC6ABEB6A3}" type="slidenum">
              <a:rPr b="0" lang="de-DE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MS PGothic"/>
              </a:rPr>
              <a:t>Bei anderen Typen Vorbereitung nöti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oliennummernplatzhalter 3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74EBA89C-047A-482F-8F21-BECB47293AA9}" type="slidenum">
              <a:rPr b="0" lang="de-DE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oliennummernplatzhalter 3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B6B1ABD9-80FF-4FE1-AEE9-524A562DD0A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9BB2EFD4-43E6-4BB9-B3B9-7F1F1BB280A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EDB6A7CE-2D80-4634-AF1D-C595699D876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4E02DAAE-AFEC-4BD6-8979-DFFBD7DA4AF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6BEA381A-44B2-41D8-BC28-E4CDB8E5AAA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BF685DEC-DAF3-4224-A792-298AD383A41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7"/>
          <p:cNvSpPr/>
          <p:nvPr/>
        </p:nvSpPr>
        <p:spPr>
          <a:xfrm>
            <a:off x="3776760" y="9429840"/>
            <a:ext cx="2890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298F8A62-E6CF-446F-87DD-0D1EC0516DD2}" type="slidenum">
              <a:rPr b="0" lang="de-D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E4964403-0630-4600-B8D8-F215D779042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363623DA-E2F4-42D6-BD20-6006D6B07FD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13C38-F92A-4D26-A6F8-FE41C2E50D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2589A-86D1-416D-BFDC-189D7794B4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FCC6A-6938-4DBA-A0DF-6A509CB47D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66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328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9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66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328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76A81-BF06-4092-A37B-E65D7E09A6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1C83F-DC77-4953-B6E7-F320DE65BB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9737C-A085-405E-B0A4-5CE87C8220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1DEB1-9B8E-42A3-9E07-C34BDB67BC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A8B48-6CFD-46E4-9113-019610756D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9640" y="1268280"/>
            <a:ext cx="806472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1F8AD-CB49-4DF7-8FB6-4F663163C5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23C13-3C60-4DFB-BE8D-0C719F8AAA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AB149-7059-4E58-9A4E-76152D983B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AD083-98A2-4C58-AAFE-4AD4783CFD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281160" indent="-281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899640" y="6453360"/>
            <a:ext cx="775044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53928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44769-CDAC-413E-96A3-EF03BD0B9C3C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AutoShape 12"/>
          <p:cNvSpPr/>
          <p:nvPr/>
        </p:nvSpPr>
        <p:spPr>
          <a:xfrm>
            <a:off x="1509840" y="2805120"/>
            <a:ext cx="612432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2"/>
          <p:cNvSpPr/>
          <p:nvPr/>
        </p:nvSpPr>
        <p:spPr>
          <a:xfrm>
            <a:off x="0" y="1311120"/>
            <a:ext cx="9144000" cy="4953240"/>
          </a:xfrm>
          <a:prstGeom prst="rect">
            <a:avLst/>
          </a:prstGeom>
          <a:solidFill>
            <a:srgbClr val="66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0" descr="klp-wbk-logo"/>
          <p:cNvPicPr/>
          <p:nvPr/>
        </p:nvPicPr>
        <p:blipFill>
          <a:blip r:embed="rId2"/>
          <a:stretch/>
        </p:blipFill>
        <p:spPr>
          <a:xfrm>
            <a:off x="517680" y="241200"/>
            <a:ext cx="2197080" cy="6271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1" descr=""/>
          <p:cNvPicPr/>
          <p:nvPr/>
        </p:nvPicPr>
        <p:blipFill>
          <a:blip r:embed="rId3"/>
          <a:stretch/>
        </p:blipFill>
        <p:spPr>
          <a:xfrm>
            <a:off x="5610240" y="249120"/>
            <a:ext cx="3049560" cy="644760"/>
          </a:xfrm>
          <a:prstGeom prst="rect">
            <a:avLst/>
          </a:prstGeom>
          <a:ln w="0">
            <a:noFill/>
          </a:ln>
        </p:spPr>
      </p:pic>
      <p:sp>
        <p:nvSpPr>
          <p:cNvPr id="8" name="Textfeld 2"/>
          <p:cNvSpPr/>
          <p:nvPr/>
        </p:nvSpPr>
        <p:spPr>
          <a:xfrm>
            <a:off x="5132520" y="212760"/>
            <a:ext cx="2757240" cy="61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9036"/>
                </a:solidFill>
                <a:latin typeface="Arial"/>
                <a:ea typeface="Calibri"/>
              </a:rPr>
              <a:t>Q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ualitäts- und </a:t>
            </a:r>
            <a:r>
              <a:rPr b="1" lang="de-DE" sz="1100" spc="-1" strike="noStrike">
                <a:solidFill>
                  <a:srgbClr val="7f7f7f"/>
                </a:solidFill>
                <a:latin typeface="Arial"/>
                <a:ea typeface="Calibri"/>
              </a:rPr>
              <a:t>U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nterstützungs</a:t>
            </a:r>
            <a:r>
              <a:rPr b="1" lang="de-DE" sz="1100" spc="-1" strike="noStrike">
                <a:solidFill>
                  <a:srgbClr val="c00000"/>
                </a:solidFill>
                <a:latin typeface="Arial"/>
                <a:ea typeface="Calibri"/>
              </a:rPr>
              <a:t>A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gentu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9036"/>
                </a:solidFill>
                <a:latin typeface="Arial"/>
                <a:ea typeface="Calibri"/>
              </a:rPr>
              <a:t>L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andes</a:t>
            </a:r>
            <a:r>
              <a:rPr b="1" lang="de-DE" sz="1100" spc="-1" strike="noStrike">
                <a:solidFill>
                  <a:srgbClr val="7f7f7f"/>
                </a:solidFill>
                <a:latin typeface="Arial"/>
                <a:ea typeface="Calibri"/>
              </a:rPr>
              <a:t>i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nstitut für </a:t>
            </a:r>
            <a:r>
              <a:rPr b="1" lang="de-DE" sz="1100" spc="-1" strike="noStrike">
                <a:solidFill>
                  <a:srgbClr val="c00000"/>
                </a:solidFill>
                <a:latin typeface="Arial"/>
                <a:ea typeface="Calibri"/>
              </a:rPr>
              <a:t>S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chu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des Landes </a:t>
            </a:r>
            <a:r>
              <a:rPr b="1" lang="de-DE" sz="1100" spc="-1" strike="noStrike">
                <a:solidFill>
                  <a:srgbClr val="009036"/>
                </a:solidFill>
                <a:latin typeface="Arial"/>
                <a:ea typeface="Calibri"/>
              </a:rPr>
              <a:t>N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ord</a:t>
            </a:r>
            <a:r>
              <a:rPr b="1" lang="de-DE" sz="1100" spc="-1" strike="noStrike">
                <a:solidFill>
                  <a:srgbClr val="7f7f7f"/>
                </a:solidFill>
                <a:latin typeface="Arial"/>
                <a:ea typeface="Calibri"/>
              </a:rPr>
              <a:t>r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hein-</a:t>
            </a:r>
            <a:r>
              <a:rPr b="1" lang="de-DE" sz="1100" spc="-1" strike="noStrike">
                <a:solidFill>
                  <a:srgbClr val="c00000"/>
                </a:solidFill>
                <a:latin typeface="Arial"/>
                <a:ea typeface="Calibri"/>
              </a:rPr>
              <a:t>W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estfal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-7920" y="1305000"/>
            <a:ext cx="9144000" cy="504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NRW_Guillochen_PowerPoint-Titel"/>
          <p:cNvPicPr/>
          <p:nvPr/>
        </p:nvPicPr>
        <p:blipFill>
          <a:blip r:embed="rId1"/>
          <a:stretch/>
        </p:blipFill>
        <p:spPr>
          <a:xfrm>
            <a:off x="11160" y="3019320"/>
            <a:ext cx="9144000" cy="19144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3"/>
          <p:cNvSpPr/>
          <p:nvPr/>
        </p:nvSpPr>
        <p:spPr>
          <a:xfrm>
            <a:off x="68400" y="2846520"/>
            <a:ext cx="8989920" cy="31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2060"/>
                </a:solidFill>
                <a:latin typeface="Arial"/>
              </a:rPr>
              <a:t>Neue Kernlehrpläne für d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2060"/>
                </a:solidFill>
                <a:latin typeface="Arial"/>
              </a:rPr>
              <a:t>Abendgymnasium und Kolle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2060"/>
                </a:solidFill>
                <a:latin typeface="Arial"/>
              </a:rPr>
              <a:t>Volkswirtschaftslehre</a:t>
            </a: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hteck 1"/>
          <p:cNvSpPr/>
          <p:nvPr/>
        </p:nvSpPr>
        <p:spPr>
          <a:xfrm>
            <a:off x="2286000" y="1139760"/>
            <a:ext cx="45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-BoldMT"/>
              </a:rPr>
              <a:t>HERZLICH WILLKOM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1BA50-1BB3-495E-BF1A-E637B0AB32DC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57" descr="auge-mit"/>
          <p:cNvPicPr/>
          <p:nvPr/>
        </p:nvPicPr>
        <p:blipFill>
          <a:blip r:embed="rId1"/>
          <a:stretch/>
        </p:blipFill>
        <p:spPr>
          <a:xfrm>
            <a:off x="7037280" y="1954080"/>
            <a:ext cx="1386000" cy="7765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6" descr="auge-ohne"/>
          <p:cNvPicPr/>
          <p:nvPr/>
        </p:nvPicPr>
        <p:blipFill>
          <a:blip r:embed="rId2"/>
          <a:stretch/>
        </p:blipFill>
        <p:spPr>
          <a:xfrm>
            <a:off x="539640" y="4135320"/>
            <a:ext cx="1405080" cy="78768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52"/>
          <p:cNvSpPr/>
          <p:nvPr/>
        </p:nvSpPr>
        <p:spPr>
          <a:xfrm rot="2778000">
            <a:off x="1211040" y="4317840"/>
            <a:ext cx="917640" cy="292320"/>
          </a:xfrm>
          <a:prstGeom prst="wedgeEllipseCallout">
            <a:avLst>
              <a:gd name="adj1" fmla="val 183347"/>
              <a:gd name="adj2" fmla="val -449500"/>
            </a:avLst>
          </a:prstGeom>
          <a:solidFill>
            <a:srgbClr val="ffffff">
              <a:alpha val="71000"/>
            </a:srgbClr>
          </a:soli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ff"/>
                </a:solidFill>
                <a:latin typeface="Arial"/>
              </a:rPr>
              <a:t>Lehr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51"/>
          <p:cNvSpPr/>
          <p:nvPr/>
        </p:nvSpPr>
        <p:spPr>
          <a:xfrm rot="2311800">
            <a:off x="6195960" y="2097000"/>
            <a:ext cx="1158840" cy="549360"/>
          </a:xfrm>
          <a:prstGeom prst="wedgeEllipseCallout">
            <a:avLst>
              <a:gd name="adj1" fmla="val 41504"/>
              <a:gd name="adj2" fmla="val 68175"/>
            </a:avLst>
          </a:prstGeom>
          <a:solidFill>
            <a:srgbClr val="ffffff">
              <a:alpha val="71000"/>
            </a:srgbClr>
          </a:soli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49"/>
          <p:cNvSpPr/>
          <p:nvPr/>
        </p:nvSpPr>
        <p:spPr>
          <a:xfrm rot="2311800">
            <a:off x="6186600" y="2093760"/>
            <a:ext cx="1158840" cy="549360"/>
          </a:xfrm>
          <a:prstGeom prst="wedgeEllipseCallout">
            <a:avLst>
              <a:gd name="adj1" fmla="val -157004"/>
              <a:gd name="adj2" fmla="val 195583"/>
            </a:avLst>
          </a:prstGeom>
          <a:solidFill>
            <a:srgbClr val="ffffff">
              <a:alpha val="71000"/>
            </a:srgbClr>
          </a:soli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66ff"/>
                </a:solidFill>
                <a:latin typeface="Arial"/>
              </a:rPr>
              <a:t>Studie-ren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oliennummernplatzhalter 4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4A1CA-7481-405A-A8EA-F01418EC71B6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CE175-59C5-4A93-806F-D59E8FAA2D0C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522360" y="1409760"/>
            <a:ext cx="798516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Kompetenzorientierung: Lehren planen, Lernen beglei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401760" y="5375160"/>
            <a:ext cx="80308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Dies bei Planung u. Gestaltung von Unterricht zu beachten ist </a:t>
            </a:r>
            <a:br>
              <a:rPr sz="1800"/>
            </a:b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zentraler Bestandteil 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kompetenzorientierter Lehrerprofessionalität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1"/>
          <p:cNvSpPr/>
          <p:nvPr/>
        </p:nvSpPr>
        <p:spPr>
          <a:xfrm>
            <a:off x="1999080" y="2513160"/>
            <a:ext cx="929160" cy="368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s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2"/>
          <p:cNvSpPr/>
          <p:nvPr/>
        </p:nvSpPr>
        <p:spPr>
          <a:xfrm>
            <a:off x="5589360" y="3952800"/>
            <a:ext cx="965520" cy="3682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ön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3"/>
          <p:cNvSpPr/>
          <p:nvPr/>
        </p:nvSpPr>
        <p:spPr>
          <a:xfrm>
            <a:off x="3472200" y="3192480"/>
            <a:ext cx="1678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Kompetenz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4"/>
          <p:cNvSpPr/>
          <p:nvPr/>
        </p:nvSpPr>
        <p:spPr>
          <a:xfrm>
            <a:off x="1999800" y="3951360"/>
            <a:ext cx="889560" cy="368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h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5"/>
          <p:cNvSpPr/>
          <p:nvPr/>
        </p:nvSpPr>
        <p:spPr>
          <a:xfrm>
            <a:off x="5584320" y="2514600"/>
            <a:ext cx="889560" cy="368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r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8"/>
          <p:cNvSpPr/>
          <p:nvPr/>
        </p:nvSpPr>
        <p:spPr>
          <a:xfrm>
            <a:off x="5861160" y="2879640"/>
            <a:ext cx="163440" cy="1071720"/>
          </a:xfrm>
          <a:prstGeom prst="upDownArrow">
            <a:avLst>
              <a:gd name="adj1" fmla="val 50000"/>
              <a:gd name="adj2" fmla="val 130538"/>
            </a:avLst>
          </a:prstGeom>
          <a:solidFill>
            <a:srgbClr val="acacac"/>
          </a:solidFill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20"/>
          <p:cNvSpPr/>
          <p:nvPr/>
        </p:nvSpPr>
        <p:spPr>
          <a:xfrm>
            <a:off x="2935440" y="2646360"/>
            <a:ext cx="2641320" cy="184320"/>
          </a:xfrm>
          <a:prstGeom prst="leftRightArrow">
            <a:avLst>
              <a:gd name="adj1" fmla="val 50000"/>
              <a:gd name="adj2" fmla="val 285274"/>
            </a:avLst>
          </a:prstGeom>
          <a:solidFill>
            <a:srgbClr val="acacac"/>
          </a:solidFill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21"/>
          <p:cNvSpPr/>
          <p:nvPr/>
        </p:nvSpPr>
        <p:spPr>
          <a:xfrm>
            <a:off x="2925720" y="4044960"/>
            <a:ext cx="2651040" cy="184320"/>
          </a:xfrm>
          <a:prstGeom prst="leftRightArrow">
            <a:avLst>
              <a:gd name="adj1" fmla="val 50000"/>
              <a:gd name="adj2" fmla="val 286324"/>
            </a:avLst>
          </a:prstGeom>
          <a:solidFill>
            <a:srgbClr val="acacac"/>
          </a:solidFill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3"/>
          <p:cNvSpPr/>
          <p:nvPr/>
        </p:nvSpPr>
        <p:spPr>
          <a:xfrm rot="5400000">
            <a:off x="5869440" y="3245400"/>
            <a:ext cx="927360" cy="45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ss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wen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4"/>
          <p:cNvSpPr/>
          <p:nvPr/>
        </p:nvSpPr>
        <p:spPr>
          <a:xfrm rot="16200000">
            <a:off x="1679040" y="3243600"/>
            <a:ext cx="910800" cy="45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ss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mittel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5"/>
          <p:cNvSpPr/>
          <p:nvPr/>
        </p:nvSpPr>
        <p:spPr>
          <a:xfrm>
            <a:off x="2646360" y="4327560"/>
            <a:ext cx="321480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forderungssituationen arrang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6"/>
          <p:cNvSpPr/>
          <p:nvPr/>
        </p:nvSpPr>
        <p:spPr>
          <a:xfrm>
            <a:off x="2720880" y="2371680"/>
            <a:ext cx="321480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ssen aneig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7"/>
          <p:cNvSpPr/>
          <p:nvPr/>
        </p:nvSpPr>
        <p:spPr>
          <a:xfrm rot="16200000">
            <a:off x="1011600" y="3335400"/>
            <a:ext cx="9000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5900"/>
                </a:solidFill>
                <a:latin typeface="Arial"/>
              </a:rPr>
              <a:t>Angeb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8"/>
          <p:cNvSpPr/>
          <p:nvPr/>
        </p:nvSpPr>
        <p:spPr>
          <a:xfrm>
            <a:off x="3871080" y="4618080"/>
            <a:ext cx="9000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5900"/>
                </a:solidFill>
                <a:latin typeface="Arial"/>
              </a:rPr>
              <a:t>Angeb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2362320" y="2890800"/>
            <a:ext cx="163440" cy="1071720"/>
          </a:xfrm>
          <a:prstGeom prst="upDownArrow">
            <a:avLst>
              <a:gd name="adj1" fmla="val 50000"/>
              <a:gd name="adj2" fmla="val 130538"/>
            </a:avLst>
          </a:prstGeom>
          <a:solidFill>
            <a:srgbClr val="acacac"/>
          </a:solidFill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7"/>
          <p:cNvSpPr/>
          <p:nvPr/>
        </p:nvSpPr>
        <p:spPr>
          <a:xfrm>
            <a:off x="3722760" y="1954080"/>
            <a:ext cx="8920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ff"/>
                </a:solidFill>
                <a:latin typeface="Arial"/>
              </a:rPr>
              <a:t>Nutz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8"/>
          <p:cNvSpPr/>
          <p:nvPr/>
        </p:nvSpPr>
        <p:spPr>
          <a:xfrm rot="5400000">
            <a:off x="6481080" y="3256200"/>
            <a:ext cx="8910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ff"/>
                </a:solidFill>
                <a:latin typeface="Arial"/>
              </a:rPr>
              <a:t>Nutz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50"/>
          <p:cNvSpPr/>
          <p:nvPr/>
        </p:nvSpPr>
        <p:spPr>
          <a:xfrm rot="2778000">
            <a:off x="1173960" y="4274280"/>
            <a:ext cx="1022040" cy="350640"/>
          </a:xfrm>
          <a:prstGeom prst="wedgeEllipseCallout">
            <a:avLst>
              <a:gd name="adj1" fmla="val -52782"/>
              <a:gd name="adj2" fmla="val -67037"/>
            </a:avLst>
          </a:prstGeom>
          <a:solidFill>
            <a:srgbClr val="ffffff">
              <a:alpha val="71000"/>
            </a:srgbClr>
          </a:soli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5900"/>
                </a:solidFill>
                <a:latin typeface="Arial"/>
              </a:rPr>
              <a:t>Lehr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59"/>
          <p:cNvSpPr/>
          <p:nvPr/>
        </p:nvSpPr>
        <p:spPr>
          <a:xfrm>
            <a:off x="7912080" y="2612880"/>
            <a:ext cx="1022400" cy="351000"/>
          </a:xfrm>
          <a:prstGeom prst="wedgeEllipseCallout">
            <a:avLst>
              <a:gd name="adj1" fmla="val -22513"/>
              <a:gd name="adj2" fmla="val 21944"/>
            </a:avLst>
          </a:prstGeom>
          <a:solidFill>
            <a:srgbClr val="ffffff">
              <a:alpha val="71000"/>
            </a:srgbClr>
          </a:soli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5900"/>
                </a:solidFill>
                <a:latin typeface="Arial"/>
              </a:rPr>
              <a:t>Lehr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0"/>
          <p:cNvSpPr/>
          <p:nvPr/>
        </p:nvSpPr>
        <p:spPr>
          <a:xfrm>
            <a:off x="6097680" y="6453360"/>
            <a:ext cx="277452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ach Prof. Dr. Rainer Lersch, Düsseldorf 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63"/>
          <p:cNvSpPr/>
          <p:nvPr/>
        </p:nvSpPr>
        <p:spPr>
          <a:xfrm>
            <a:off x="1380960" y="3114720"/>
            <a:ext cx="6807240" cy="210672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2106720"/>
              <a:gd name="textAreaBottom" fmla="*/ 2107080 h 2106720"/>
            </a:gdLst>
            <a:ahLst/>
            <a:rect l="textAreaLeft" t="textAreaTop" r="textAreaRight" b="textAreaBottom"/>
            <a:pathLst>
              <a:path w="4288" h="1327">
                <a:moveTo>
                  <a:pt x="4218" y="0"/>
                </a:moveTo>
                <a:cubicBezTo>
                  <a:pt x="4253" y="246"/>
                  <a:pt x="4288" y="492"/>
                  <a:pt x="4164" y="690"/>
                </a:cubicBezTo>
                <a:cubicBezTo>
                  <a:pt x="4040" y="888"/>
                  <a:pt x="3779" y="1087"/>
                  <a:pt x="3474" y="1188"/>
                </a:cubicBezTo>
                <a:cubicBezTo>
                  <a:pt x="3169" y="1289"/>
                  <a:pt x="2847" y="1276"/>
                  <a:pt x="2334" y="1296"/>
                </a:cubicBezTo>
                <a:cubicBezTo>
                  <a:pt x="1821" y="1316"/>
                  <a:pt x="785" y="1327"/>
                  <a:pt x="396" y="1308"/>
                </a:cubicBezTo>
                <a:cubicBezTo>
                  <a:pt x="7" y="1289"/>
                  <a:pt x="3" y="1235"/>
                  <a:pt x="0" y="1182"/>
                </a:cubicBezTo>
              </a:path>
            </a:pathLst>
          </a:custGeom>
          <a:noFill/>
          <a:ln w="25560">
            <a:solidFill>
              <a:srgbClr val="ffcc00"/>
            </a:solidFill>
            <a:round/>
            <a:headEnd len="med" type="stealth" w="med"/>
            <a:tailEnd len="med" type="stealth" w="med"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399999991059303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0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D827C-6A6A-4016-B037-38AC51414D13}" type="slidenum"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482760" y="1414440"/>
            <a:ext cx="8569080" cy="49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9960" indent="-3999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Arial"/>
                <a:ea typeface="ヒラギノ角ゴ Pro W3"/>
              </a:rPr>
              <a:t>Merkmale der Kernlehrplän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16344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kompetenzorientiert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Kernlehrpläne bestehen aus fachbezogenen Kompetenzerwartun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16344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tandardorientiert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Kernlehrpläne greifen die Bildungsstandards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vollständig auf bzw. definieren Standards (zu erreichende Zie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16344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outputorientiert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Kernlehrpläne beschreiben die erwarteten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Lernergebnis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16344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verbindlich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Kernlehrpläne beschreiben eine landesweit verbindliche Obligatorik; sie formulieren klare Ergebniserwartungen und keine Wahlmöglichkei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16344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„</a:t>
            </a:r>
            <a:r>
              <a:rPr b="1" i="1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ntdidaktisiert“: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Kernlehrpläne beschränken sich auf die Formulierung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er zu erreichenden Ergebnisse und treffen keine Aussagen zu Wegen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und Verfahren der Zielerreichung. Didaktische Entscheidungen werden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n den Schulen getroff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AF946-AC2A-4DEB-A472-9D9D48A99D9E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455760" y="1892160"/>
          <a:ext cx="8129520" cy="4389480"/>
        </p:xfrm>
        <a:graphic>
          <a:graphicData uri="http://schemas.openxmlformats.org/drawingml/2006/table">
            <a:tbl>
              <a:tblPr/>
              <a:tblGrid>
                <a:gridCol w="869760"/>
                <a:gridCol w="72597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apit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liederungspunk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rbemerkung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Aufgaben und Ziele des Faches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Kompetenzbereiche, Inhaltsfelder und Kompetenzerwartungen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Kompetenzbereiche und Inhaltsfelder des Fache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Kompetenzerwartungen und inhaltliche Schwerpunkte bis zum Ende der Einführungsph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Kompetenzerwartungen und inhaltliche Schwerpunkte bis zum Ende der Qualifikationsph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undku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istungsku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Lernerfolgsüberprüfung und Leistungsbewertung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iturprüfung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ha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78C35-E033-4067-B3DE-6CEE7410E1C5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392040" y="1382760"/>
            <a:ext cx="76518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Gliederungsübersicht der Kernlehrplä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Line 7"/>
          <p:cNvSpPr/>
          <p:nvPr/>
        </p:nvSpPr>
        <p:spPr>
          <a:xfrm>
            <a:off x="4452840" y="293544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3162240" y="4516560"/>
            <a:ext cx="2684520" cy="403200"/>
          </a:xfrm>
          <a:prstGeom prst="rect">
            <a:avLst/>
          </a:prstGeom>
          <a:gradFill rotWithShape="0">
            <a:gsLst>
              <a:gs pos="0">
                <a:srgbClr val="ffcc00">
                  <a:alpha val="56078"/>
                </a:srgbClr>
              </a:gs>
              <a:gs pos="100000">
                <a:srgbClr val="cc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101"/>
                </a:solidFill>
                <a:latin typeface="Arial"/>
              </a:rPr>
              <a:t>Kompetenzerwartu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1047600" y="5383080"/>
            <a:ext cx="6775560" cy="6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Die Studierenden </a:t>
            </a:r>
            <a:r>
              <a:rPr b="0" i="1" lang="de-DE" sz="1600" spc="-1" strike="noStrike">
                <a:solidFill>
                  <a:srgbClr val="ff0101"/>
                </a:solidFill>
                <a:latin typeface="Arial"/>
              </a:rPr>
              <a:t>erörtern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exemplarisch kontroverse Positionen zu Zukunftsperspektiven der sozialen Marktwirtschaft.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1"/>
          <p:cNvSpPr/>
          <p:nvPr/>
        </p:nvSpPr>
        <p:spPr>
          <a:xfrm>
            <a:off x="1019160" y="2151000"/>
            <a:ext cx="6737400" cy="7923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cc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Übergreifende fachliche Kompetenz (Kapitel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z.B. „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zur reflektierten Teilhabe fähige mündige Bürger“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2"/>
          <p:cNvSpPr/>
          <p:nvPr/>
        </p:nvSpPr>
        <p:spPr>
          <a:xfrm flipH="1">
            <a:off x="2293920" y="3222720"/>
            <a:ext cx="2162160" cy="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3"/>
          <p:cNvSpPr/>
          <p:nvPr/>
        </p:nvSpPr>
        <p:spPr>
          <a:xfrm>
            <a:off x="4452840" y="3222720"/>
            <a:ext cx="2232000" cy="0"/>
          </a:xfrm>
          <a:prstGeom prst="line">
            <a:avLst/>
          </a:prstGeom>
          <a:ln w="255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4"/>
          <p:cNvSpPr/>
          <p:nvPr/>
        </p:nvSpPr>
        <p:spPr>
          <a:xfrm>
            <a:off x="2295360" y="3222720"/>
            <a:ext cx="0" cy="28080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5"/>
          <p:cNvSpPr/>
          <p:nvPr/>
        </p:nvSpPr>
        <p:spPr>
          <a:xfrm>
            <a:off x="6670800" y="3211560"/>
            <a:ext cx="7920" cy="382680"/>
          </a:xfrm>
          <a:prstGeom prst="line">
            <a:avLst/>
          </a:prstGeom>
          <a:ln w="255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6"/>
          <p:cNvSpPr/>
          <p:nvPr/>
        </p:nvSpPr>
        <p:spPr>
          <a:xfrm>
            <a:off x="2268360" y="3645000"/>
            <a:ext cx="0" cy="115236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7"/>
          <p:cNvSpPr/>
          <p:nvPr/>
        </p:nvSpPr>
        <p:spPr>
          <a:xfrm>
            <a:off x="6659640" y="3645000"/>
            <a:ext cx="0" cy="1152360"/>
          </a:xfrm>
          <a:prstGeom prst="line">
            <a:avLst/>
          </a:prstGeom>
          <a:ln w="255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8"/>
          <p:cNvSpPr/>
          <p:nvPr/>
        </p:nvSpPr>
        <p:spPr>
          <a:xfrm>
            <a:off x="2278080" y="4768920"/>
            <a:ext cx="830160" cy="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9"/>
          <p:cNvSpPr/>
          <p:nvPr/>
        </p:nvSpPr>
        <p:spPr>
          <a:xfrm flipH="1">
            <a:off x="5881320" y="4797360"/>
            <a:ext cx="777960" cy="9720"/>
          </a:xfrm>
          <a:prstGeom prst="line">
            <a:avLst/>
          </a:prstGeom>
          <a:ln w="2556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1"/>
          <p:cNvSpPr/>
          <p:nvPr/>
        </p:nvSpPr>
        <p:spPr>
          <a:xfrm>
            <a:off x="5322960" y="3559320"/>
            <a:ext cx="2406600" cy="641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haltsfe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Gegenstän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7"/>
          <p:cNvSpPr/>
          <p:nvPr/>
        </p:nvSpPr>
        <p:spPr>
          <a:xfrm>
            <a:off x="4502160" y="4910040"/>
            <a:ext cx="0" cy="488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5331B-6DE2-4A2F-8A57-389B637E732E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1050840" y="3511440"/>
            <a:ext cx="2370240" cy="631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ompetenzberei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Prozes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512640" y="1401840"/>
            <a:ext cx="661824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Struktur der Kernlehrplä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62BE3-5FE7-413D-A863-CDEBBBC204C5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509760" y="1976400"/>
            <a:ext cx="3995640" cy="111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ompetenzbereic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ystematisieren die kognitiven Prozess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ch-, Methoden-, Urteils- und Handlungskompeten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520560" y="1401840"/>
            <a:ext cx="661860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Zentrale Begriffe und Ebenen im Kernlehrplan (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4724280" y="3236760"/>
            <a:ext cx="4235400" cy="127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haltsfeld 1: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rktwirtschaftliche Ordn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4708440" y="1954080"/>
            <a:ext cx="42354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ispie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4721400" y="2235240"/>
            <a:ext cx="4198680" cy="84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enkompetenz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…identifizieren eindimensionale und hermetische Argumentati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501480" y="4668840"/>
            <a:ext cx="4042080" cy="140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haltliche Schwerpunkte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tergliederungselemente der Inhaltsfe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4732200" y="4726080"/>
            <a:ext cx="4227480" cy="141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haltliche Schwerpunkte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- Die Rolle der Akteure in einem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marktwirtschaftlichen System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- Das Marktsystem und seine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Leistungsfähigk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514440" y="3246480"/>
            <a:ext cx="4005000" cy="129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haltsfeld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atisieren die Gegenstände, sind nicht mit Unterrichtsvorhaben gleichzusetz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502920" y="2230560"/>
            <a:ext cx="8064360" cy="26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Übergeordnete Kompetenzerwartung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haltsfeldübergreifende Kompetenzerwartungen aus allen Kompetenzbereichen, mit Prog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onkretisierte Kompetenzerwartung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haltsfeldbezogene Kompetenzerwartungen als heruntergebrochene Zusammenführung von Prozessen und Gegenständen (Sach- und Urteilskompetenz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1FE7B-C69A-449C-97D4-CAADDD7105C9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511200" y="1447920"/>
            <a:ext cx="661824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Zentrale Begriffe und Ebenen im Kernlehrplan (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4"/>
          <p:cNvSpPr/>
          <p:nvPr/>
        </p:nvSpPr>
        <p:spPr>
          <a:xfrm>
            <a:off x="457200" y="1971720"/>
            <a:ext cx="8062920" cy="293760"/>
          </a:xfrm>
          <a:prstGeom prst="rect">
            <a:avLst/>
          </a:prstGeom>
          <a:solidFill>
            <a:srgbClr val="ffb4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achkompeten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485640" y="2525760"/>
            <a:ext cx="3778560" cy="13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Übergeordnete Kompetenzerwartung:</a:t>
            </a:r>
            <a:br>
              <a:rPr sz="1800"/>
            </a:b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„Die Studierenden analysieren exempla-risch ökonomische Bedingungen im ge-sellschaftlichen Kontext.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4754520" y="2422440"/>
            <a:ext cx="3867120" cy="16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64960"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onkretisierte Kompetenzerwartung:</a:t>
            </a:r>
            <a:br>
              <a:rPr sz="1800"/>
            </a:b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Die Studierenden beschreiben auf </a:t>
            </a:r>
            <a:br>
              <a:rPr sz="1600"/>
            </a:b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der Grundlage eigener Anschauungen Abläufe und Ergebnisse des Marktpro-zesses.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504720" y="4425840"/>
            <a:ext cx="3824280" cy="16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Übergeordnete Kompetenzerwartung:</a:t>
            </a:r>
            <a:br>
              <a:rPr sz="1800"/>
            </a:b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„beurteilen exemplarisch politische, soziale und ökonomische Entscheidungen aus der Perspektive von (politischen) Akteuren, Adressaten und Systemen.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92040" y="1346040"/>
            <a:ext cx="813132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Beispiele 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zu übergeordneten und konkretisierten Kompetenzerwartu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B605D-A08C-4CD8-A8A8-3A2268BC6B8A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4756320" y="4444920"/>
            <a:ext cx="3867120" cy="16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64960"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onkretisierte Kompetenzerwartung:</a:t>
            </a:r>
            <a:br>
              <a:rPr sz="1800"/>
            </a:b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„Die Studierenden erörtern exempla-risch kontroverse Positionen zu Zu-kunftsperspektiven der sozialen Markt-wirtschaft.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466560" y="4052880"/>
            <a:ext cx="8064720" cy="295200"/>
          </a:xfrm>
          <a:prstGeom prst="rect">
            <a:avLst/>
          </a:prstGeom>
          <a:solidFill>
            <a:srgbClr val="ffb4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Urteilskompeten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539280" y="1386000"/>
            <a:ext cx="8240760" cy="38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ヒラギノ角ゴ Pro W3"/>
              </a:rPr>
              <a:t>Beispiel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ヒラギノ角ゴ Pro W3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ヒラギノ角ゴ Pro W3"/>
              </a:rPr>
              <a:t>für eine Progression einer Methodenkompeten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ie Studieren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rmitteln Grundprinzipien, Konstruktion sowie Abstraktionsgrad und Reichweite ökonomischer Modelle </a:t>
            </a:r>
            <a:r>
              <a:rPr b="0" i="1" lang="en-US" sz="1800" spc="-1" strike="noStrike">
                <a:solidFill>
                  <a:srgbClr val="e2001a"/>
                </a:solidFill>
                <a:latin typeface="Arial"/>
              </a:rPr>
              <a:t>(Einführungsphase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rmitteln – auch vergleichend – Prämissen, Grundprinzipien, Konstruktion sowie Abstraktionsgrad und Reichweite ökonomischer Modelle und Theorien und überprüfen diese auf ihren Erkenntniswert </a:t>
            </a:r>
            <a:r>
              <a:rPr b="0" i="1" lang="en-US" sz="1800" spc="-1" strike="noStrike">
                <a:solidFill>
                  <a:srgbClr val="e2001a"/>
                </a:solidFill>
                <a:latin typeface="Arial"/>
              </a:rPr>
              <a:t>(Qualifikationsphase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feil nach unten 3"/>
          <p:cNvSpPr/>
          <p:nvPr/>
        </p:nvSpPr>
        <p:spPr>
          <a:xfrm>
            <a:off x="3986280" y="3301920"/>
            <a:ext cx="625320" cy="746280"/>
          </a:xfrm>
          <a:prstGeom prst="downArrow">
            <a:avLst>
              <a:gd name="adj1" fmla="val 50000"/>
              <a:gd name="adj2" fmla="val 50025"/>
            </a:avLst>
          </a:prstGeom>
          <a:solidFill>
            <a:srgbClr val="acacac"/>
          </a:solidFill>
          <a:ln w="25560">
            <a:solidFill>
              <a:srgbClr val="7d7d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E7DD1-B56D-46F4-A307-2DEB3FE0B75B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8E345-C7BC-467B-93DC-3C6FA73F2BFB}" type="slidenum">
              <a:rPr b="0" lang="de-DE" sz="8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5" descr="gliederung"/>
          <p:cNvPicPr/>
          <p:nvPr/>
        </p:nvPicPr>
        <p:blipFill>
          <a:blip r:embed="rId1"/>
          <a:stretch/>
        </p:blipFill>
        <p:spPr>
          <a:xfrm>
            <a:off x="457200" y="2208240"/>
            <a:ext cx="4334040" cy="3767040"/>
          </a:xfrm>
          <a:prstGeom prst="rect">
            <a:avLst/>
          </a:prstGeom>
          <a:ln w="0">
            <a:noFill/>
          </a:ln>
        </p:spPr>
      </p:pic>
      <p:sp>
        <p:nvSpPr>
          <p:cNvPr id="218" name="AutoShape 7"/>
          <p:cNvSpPr/>
          <p:nvPr/>
        </p:nvSpPr>
        <p:spPr>
          <a:xfrm rot="1381800">
            <a:off x="4125600" y="2722680"/>
            <a:ext cx="971640" cy="600120"/>
          </a:xfrm>
          <a:prstGeom prst="leftArrow">
            <a:avLst>
              <a:gd name="adj1" fmla="val 50000"/>
              <a:gd name="adj2" fmla="val 40477"/>
            </a:avLst>
          </a:prstGeom>
          <a:solidFill>
            <a:srgbClr val="acacac"/>
          </a:solidFill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404640" y="1349280"/>
            <a:ext cx="32594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Übersicht der Kapi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8"/>
          <p:cNvSpPr/>
          <p:nvPr/>
        </p:nvSpPr>
        <p:spPr>
          <a:xfrm>
            <a:off x="5052960" y="4552920"/>
            <a:ext cx="38703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r Aufbau der folgenden Kapitel differenziert nach Einführungs- und Qualifikationsphase und Grundkurs und Leistungsk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feld 4"/>
          <p:cNvSpPr/>
          <p:nvPr/>
        </p:nvSpPr>
        <p:spPr>
          <a:xfrm>
            <a:off x="5024520" y="1805040"/>
            <a:ext cx="4119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MS PGothic"/>
              </a:rPr>
              <a:t>Aussagen zu didaktischen Hintergründen nur in den Anfangskapitel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MS PGothic"/>
              </a:rPr>
              <a:t>Hier finden sich u.a.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MS PGothic"/>
              </a:rPr>
              <a:t>Das Bildungsziel des Fach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MS PGothic"/>
              </a:rPr>
              <a:t>die Beschreibung der Kompetenzbereich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MS PGothic"/>
              </a:rPr>
              <a:t>die Beschreibung der Inhaltsfel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10"/>
          <p:cNvSpPr/>
          <p:nvPr/>
        </p:nvSpPr>
        <p:spPr>
          <a:xfrm rot="1381800">
            <a:off x="4111200" y="4249800"/>
            <a:ext cx="971640" cy="600120"/>
          </a:xfrm>
          <a:prstGeom prst="leftArrow">
            <a:avLst>
              <a:gd name="adj1" fmla="val 50000"/>
              <a:gd name="adj2" fmla="val 40477"/>
            </a:avLst>
          </a:prstGeom>
          <a:solidFill>
            <a:srgbClr val="acacac"/>
          </a:solidFill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1AC7A-9CC2-446B-9E17-EADA275D1BFE}" type="slidenum">
              <a:rPr b="0" lang="de-DE" sz="8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feld 4"/>
          <p:cNvSpPr/>
          <p:nvPr/>
        </p:nvSpPr>
        <p:spPr>
          <a:xfrm>
            <a:off x="392040" y="2127240"/>
            <a:ext cx="3346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MS PGothic"/>
              </a:rPr>
              <a:t>Zuerst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MS PGothic"/>
              </a:rPr>
              <a:t> alle übergeordneten Sach-, Methoden-, Urteils- und Handlungskompetenzen für die Phase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MS PGothic"/>
              </a:rPr>
              <a:t>dan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MS PGothic"/>
              </a:rPr>
              <a:t> die Kurzbezeichnung des Inhaltsfeld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MS PGothic"/>
              </a:rPr>
              <a:t>danac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MS PGothic"/>
              </a:rPr>
              <a:t> eine Kurzbenennu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MS PGothic"/>
              </a:rPr>
              <a:t>der inhaltlichen Schwerpunk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MS PGothic"/>
              </a:rPr>
              <a:t>in dem Inhaltsf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404640" y="1349280"/>
            <a:ext cx="32594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Übersicht der Kapi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7" descr=""/>
          <p:cNvPicPr/>
          <p:nvPr/>
        </p:nvPicPr>
        <p:blipFill>
          <a:blip r:embed="rId1"/>
          <a:stretch/>
        </p:blipFill>
        <p:spPr>
          <a:xfrm>
            <a:off x="3781440" y="2147760"/>
            <a:ext cx="5191200" cy="1395720"/>
          </a:xfrm>
          <a:prstGeom prst="rect">
            <a:avLst/>
          </a:prstGeom>
          <a:ln w="0">
            <a:noFill/>
          </a:ln>
        </p:spPr>
      </p:pic>
      <p:sp>
        <p:nvSpPr>
          <p:cNvPr id="227" name="Line 9"/>
          <p:cNvSpPr/>
          <p:nvPr/>
        </p:nvSpPr>
        <p:spPr>
          <a:xfrm flipV="1">
            <a:off x="3481560" y="2336760"/>
            <a:ext cx="369720" cy="5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0"/>
          <p:cNvSpPr/>
          <p:nvPr/>
        </p:nvSpPr>
        <p:spPr>
          <a:xfrm>
            <a:off x="3408480" y="3898800"/>
            <a:ext cx="295200" cy="21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3814920" y="4081320"/>
            <a:ext cx="5179680" cy="1468440"/>
          </a:xfrm>
          <a:prstGeom prst="rect">
            <a:avLst/>
          </a:prstGeom>
          <a:ln w="0">
            <a:noFill/>
          </a:ln>
        </p:spPr>
      </p:pic>
      <p:sp>
        <p:nvSpPr>
          <p:cNvPr id="230" name="Line 11"/>
          <p:cNvSpPr/>
          <p:nvPr/>
        </p:nvSpPr>
        <p:spPr>
          <a:xfrm>
            <a:off x="3611520" y="4683240"/>
            <a:ext cx="266760" cy="156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539280" y="1817640"/>
            <a:ext cx="8440920" cy="31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9960" indent="0">
              <a:lnSpc>
                <a:spcPct val="100000"/>
              </a:lnSpc>
              <a:buNone/>
              <a:tabLst>
                <a:tab algn="l" pos="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buClr>
                <a:srgbClr val="003366"/>
              </a:buClr>
              <a:buFont typeface="Arial-BoldMT"/>
              <a:buChar char="•"/>
              <a:tabLst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Arial-BoldMT"/>
              </a:rPr>
              <a:t>Die neuen Kernlehrpläne Soziologe und Volkswirtschaftslehre an Weiterbildungskollegs implementieren</a:t>
            </a:r>
            <a:br>
              <a:rPr sz="1800"/>
            </a:br>
            <a:r>
              <a:rPr b="0" lang="de-DE" sz="1800" spc="-1" strike="noStrike">
                <a:solidFill>
                  <a:srgbClr val="e75112"/>
                </a:solidFill>
                <a:latin typeface="Arial-Bold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buClr>
                <a:srgbClr val="006426"/>
              </a:buClr>
              <a:buFont typeface="Arial-BoldMT"/>
              <a:buChar char="•"/>
              <a:tabLst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r>
              <a:rPr b="0" lang="de-DE" sz="1800" spc="-1" strike="noStrike">
                <a:solidFill>
                  <a:srgbClr val="006426"/>
                </a:solidFill>
                <a:latin typeface="Arial-BoldMT"/>
              </a:rPr>
              <a:t>Arbeit mit den neuen Lehrplänen beginnen</a:t>
            </a:r>
            <a:r>
              <a:rPr b="0" lang="de-DE" sz="1800" spc="-1" strike="noStrike">
                <a:solidFill>
                  <a:srgbClr val="e75112"/>
                </a:solidFill>
                <a:latin typeface="Arial-BoldMT"/>
              </a:rPr>
              <a:t> </a:t>
            </a:r>
            <a:r>
              <a:rPr b="0" lang="de-DE" sz="1800" spc="-1" strike="noStrike">
                <a:solidFill>
                  <a:srgbClr val="e75112"/>
                </a:solidFill>
                <a:latin typeface="Arial-BoldMT"/>
              </a:rPr>
              <a:t>	</a:t>
            </a:r>
            <a:br>
              <a:rPr sz="1800"/>
            </a:br>
            <a:r>
              <a:rPr b="0" lang="de-DE" sz="1800" spc="-1" strike="noStrike">
                <a:solidFill>
                  <a:srgbClr val="e75112"/>
                </a:solidFill>
                <a:latin typeface="Arial-Bold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buClr>
                <a:srgbClr val="006426"/>
              </a:buClr>
              <a:buFont typeface="Arial-BoldMT"/>
              <a:buChar char="•"/>
              <a:tabLst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r>
              <a:rPr b="0" lang="de-DE" sz="1800" spc="-1" strike="noStrike">
                <a:solidFill>
                  <a:srgbClr val="006426"/>
                </a:solidFill>
                <a:latin typeface="Arial-BoldMT"/>
              </a:rPr>
              <a:t>Fragen aufgreifen und Klärungen schaffen</a:t>
            </a:r>
            <a:br>
              <a:rPr sz="1800"/>
            </a:br>
            <a:r>
              <a:rPr b="0" lang="de-DE" sz="1800" spc="-1" strike="noStrike">
                <a:solidFill>
                  <a:srgbClr val="006426"/>
                </a:solidFill>
                <a:latin typeface="Arial-Bold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buClr>
                <a:srgbClr val="003366"/>
              </a:buClr>
              <a:buFont typeface="Arial-BoldMT"/>
              <a:buChar char="•"/>
              <a:tabLst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Arial-BoldMT"/>
              </a:rPr>
              <a:t>Ziele der Fachkonferenzarbeit aufzei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F8302-0B51-421B-87FF-30324EE698E9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1"/>
          <p:cNvSpPr/>
          <p:nvPr/>
        </p:nvSpPr>
        <p:spPr>
          <a:xfrm>
            <a:off x="522360" y="1397160"/>
            <a:ext cx="806436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Tageszi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C7AE8-1BA5-4005-8A85-837C4D45646B}" type="slidenum">
              <a:rPr b="0" lang="de-DE" sz="8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feld 4"/>
          <p:cNvSpPr/>
          <p:nvPr/>
        </p:nvSpPr>
        <p:spPr>
          <a:xfrm>
            <a:off x="431640" y="1736640"/>
            <a:ext cx="839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MS PGothic"/>
              </a:rPr>
              <a:t>In den zentralen KLP-Teilen werden jeweils inhaltliche Schwerpunkte mit den zugehörigen Sach- und Urteilskompetenzen gebünde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6" descr=""/>
          <p:cNvPicPr/>
          <p:nvPr/>
        </p:nvPicPr>
        <p:blipFill>
          <a:blip r:embed="rId1"/>
          <a:stretch/>
        </p:blipFill>
        <p:spPr>
          <a:xfrm>
            <a:off x="463680" y="2803680"/>
            <a:ext cx="4201920" cy="278280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7"/>
          <p:cNvSpPr/>
          <p:nvPr/>
        </p:nvSpPr>
        <p:spPr>
          <a:xfrm>
            <a:off x="404640" y="1349280"/>
            <a:ext cx="32594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Übersicht der Kapi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8" descr=""/>
          <p:cNvPicPr/>
          <p:nvPr/>
        </p:nvPicPr>
        <p:blipFill>
          <a:blip r:embed="rId2"/>
          <a:stretch/>
        </p:blipFill>
        <p:spPr>
          <a:xfrm>
            <a:off x="4740120" y="4467240"/>
            <a:ext cx="4162680" cy="111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21753-A94A-4729-A83A-E6BC747F4B86}" type="slidenum">
              <a:rPr b="0" lang="de-DE" sz="8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feld 4"/>
          <p:cNvSpPr/>
          <p:nvPr/>
        </p:nvSpPr>
        <p:spPr>
          <a:xfrm>
            <a:off x="426960" y="2111400"/>
            <a:ext cx="817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MS PGothic"/>
              </a:rPr>
              <a:t>Kapitel 5 (Anhang) des KLP bietet eine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MS PGothic"/>
              </a:rPr>
              <a:t>graduierende tabellarische Übersicht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MS PGothic"/>
              </a:rPr>
              <a:t>über die übergeordneten Kompetenzen des KL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5" descr=""/>
          <p:cNvPicPr/>
          <p:nvPr/>
        </p:nvPicPr>
        <p:blipFill>
          <a:blip r:embed="rId1"/>
          <a:stretch/>
        </p:blipFill>
        <p:spPr>
          <a:xfrm>
            <a:off x="488880" y="3195720"/>
            <a:ext cx="8043840" cy="216216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6"/>
          <p:cNvSpPr/>
          <p:nvPr/>
        </p:nvSpPr>
        <p:spPr>
          <a:xfrm>
            <a:off x="404640" y="1349280"/>
            <a:ext cx="32594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Übersicht der Kapi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Foliennummernplatzhalter 5"/>
          <p:cNvSpPr/>
          <p:nvPr/>
        </p:nvSpPr>
        <p:spPr>
          <a:xfrm>
            <a:off x="539640" y="6453360"/>
            <a:ext cx="50976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F3573-85A0-4C5C-8830-43DA4001F517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0280" y="1366560"/>
            <a:ext cx="6408720" cy="3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Geneva"/>
              </a:rPr>
              <a:t>Die Zielvorstellung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9280" y="1854360"/>
            <a:ext cx="8280360" cy="43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Das Leitbild der gesellschaftswissenschaftlichen Fächer ist der sozialwissenschaftlich gebildete, zur demokratischen Auseinandersetzung und zur reflektierten Teilhabe fähige mündige Bürger – als mündiger Wirtschaftsbürger, als mündiger Staatsbürger und als mündiges Mitglied vielfältiger gesellschaftlicher Gruppierungen, der eine umfassende volkswirtschaftliche Kompetenz entwickelt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kratielern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eht für den Erwerb jener Kompetenzen, die  Studierende dabei unterstützen, ihre unterschiedlichen Rollen als Bürgerinnen und Bürger in Gesellschaft, Staat und Wirtschaft zu erweitern, kritisch zu reflektieren und zu gestalten.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Foliennummernplatzhalter 5"/>
          <p:cNvSpPr/>
          <p:nvPr/>
        </p:nvSpPr>
        <p:spPr>
          <a:xfrm>
            <a:off x="514440" y="6445080"/>
            <a:ext cx="44280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D4228-E115-4326-9149-8C3425E924AF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10920" y="1338120"/>
            <a:ext cx="348588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Geneva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Geneva"/>
              </a:rPr>
              <a:t>Die Kompetenzbereiche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pic>
        <p:nvPicPr>
          <p:cNvPr id="245" name="Inhaltsplatzhalter 2" descr=""/>
          <p:cNvPicPr/>
          <p:nvPr/>
        </p:nvPicPr>
        <p:blipFill>
          <a:blip r:embed="rId1"/>
          <a:stretch/>
        </p:blipFill>
        <p:spPr>
          <a:xfrm>
            <a:off x="536400" y="1779480"/>
            <a:ext cx="8339400" cy="438948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5"/>
          <p:cNvSpPr/>
          <p:nvPr/>
        </p:nvSpPr>
        <p:spPr>
          <a:xfrm>
            <a:off x="795600" y="2289240"/>
            <a:ext cx="4978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1135440" y="3300480"/>
            <a:ext cx="535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1156320" y="4338720"/>
            <a:ext cx="5097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8"/>
          <p:cNvSpPr/>
          <p:nvPr/>
        </p:nvSpPr>
        <p:spPr>
          <a:xfrm>
            <a:off x="799200" y="5311800"/>
            <a:ext cx="5097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liennummernplatzhalter 5"/>
          <p:cNvSpPr/>
          <p:nvPr/>
        </p:nvSpPr>
        <p:spPr>
          <a:xfrm>
            <a:off x="514440" y="6445080"/>
            <a:ext cx="44280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0F407-1337-4AD0-B649-B6941BE8B473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Inhaltsplatzhalter 2" descr=""/>
          <p:cNvPicPr/>
          <p:nvPr/>
        </p:nvPicPr>
        <p:blipFill>
          <a:blip r:embed="rId1"/>
          <a:stretch/>
        </p:blipFill>
        <p:spPr>
          <a:xfrm>
            <a:off x="515880" y="1714680"/>
            <a:ext cx="8339040" cy="438912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5"/>
          <p:cNvSpPr/>
          <p:nvPr/>
        </p:nvSpPr>
        <p:spPr>
          <a:xfrm>
            <a:off x="757440" y="2244600"/>
            <a:ext cx="4978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6"/>
          <p:cNvSpPr/>
          <p:nvPr/>
        </p:nvSpPr>
        <p:spPr>
          <a:xfrm>
            <a:off x="1154520" y="3262320"/>
            <a:ext cx="535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1127520" y="4246560"/>
            <a:ext cx="5097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8"/>
          <p:cNvSpPr/>
          <p:nvPr/>
        </p:nvSpPr>
        <p:spPr>
          <a:xfrm>
            <a:off x="762480" y="5303880"/>
            <a:ext cx="5097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525680" y="2335320"/>
            <a:ext cx="7184880" cy="459000"/>
          </a:xfrm>
          <a:prstGeom prst="rect">
            <a:avLst/>
          </a:prstGeom>
          <a:gradFill rotWithShape="0">
            <a:gsLst>
              <a:gs pos="0">
                <a:srgbClr val="f5f5f5"/>
              </a:gs>
              <a:gs pos="100000">
                <a:srgbClr val="d9d9d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ieren exemplarisch ökonomische Bedingungen im gesellschaftlichen Kon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876320" y="3316320"/>
            <a:ext cx="6853320" cy="459000"/>
          </a:xfrm>
          <a:prstGeom prst="rect">
            <a:avLst/>
          </a:prstGeom>
          <a:gradFill rotWithShape="0">
            <a:gsLst>
              <a:gs pos="0">
                <a:srgbClr val="f5f5f5"/>
              </a:gs>
              <a:gs pos="100000">
                <a:srgbClr val="d9d9d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rmitteln fragegeleitet einfache Daten und Zusammenhänge durch empirische Metho-den der Volkswirtschaftslehre und wenden statistische Verfahren exemplarisch 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886040" y="4335480"/>
            <a:ext cx="6826320" cy="459000"/>
          </a:xfrm>
          <a:prstGeom prst="rect">
            <a:avLst/>
          </a:prstGeom>
          <a:gradFill rotWithShape="0">
            <a:gsLst>
              <a:gs pos="0">
                <a:srgbClr val="f5f5f5"/>
              </a:gs>
              <a:gs pos="100000">
                <a:srgbClr val="d9d9d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ntwickeln auf der Basis der Analyse der jeweiligen Interessen- und Perspektivleitung der Argumentation Urteilskriterien und formulieren abwägend kriteriale selbstständige Urte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521000" y="5345280"/>
            <a:ext cx="7203960" cy="459000"/>
          </a:xfrm>
          <a:prstGeom prst="rect">
            <a:avLst/>
          </a:prstGeom>
          <a:gradFill rotWithShape="0">
            <a:gsLst>
              <a:gs pos="0">
                <a:srgbClr val="f5f5f5"/>
              </a:gs>
              <a:gs pos="100000">
                <a:srgbClr val="d9d9d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wickeln wirtschaftspolitische Handlungsszenarien und führen diese ggf. innerhalb bzw. außerhalb der Schule du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519120" y="1347840"/>
            <a:ext cx="76881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Arial"/>
                <a:ea typeface="Geneva"/>
              </a:rPr>
              <a:t>Beispiel:  </a:t>
            </a:r>
            <a:r>
              <a:rPr b="1" lang="de-DE" sz="1800" spc="-1" strike="noStrike">
                <a:solidFill>
                  <a:srgbClr val="003366"/>
                </a:solidFill>
                <a:latin typeface="Arial"/>
                <a:ea typeface="Geneva"/>
              </a:rPr>
              <a:t>Übergeordnete Kompetenzerwartungen Ende der E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liennummernplatzhalter 5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8C45A-CEB7-46AE-AE9F-2D2FA0176EFE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42520" y="1358640"/>
            <a:ext cx="524988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Geneva"/>
              </a:rPr>
              <a:t>Inhaltsfelder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Genev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534960" y="1995480"/>
          <a:ext cx="7934400" cy="3870360"/>
        </p:xfrm>
        <a:graphic>
          <a:graphicData uri="http://schemas.openxmlformats.org/drawingml/2006/table">
            <a:tbl>
              <a:tblPr/>
              <a:tblGrid>
                <a:gridCol w="674640"/>
                <a:gridCol w="7259760"/>
              </a:tblGrid>
              <a:tr h="76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0ba9d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twirtschaftliche Ordnung (Eph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0ba9d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</a:tr>
              <a:tr h="77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0ba9d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rtschaft und Gesellschaft (Eph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0ba9d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</a:tr>
              <a:tr h="77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cecff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rtschaftspolitik (Qph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cecff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</a:tr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cecff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äischer Binnenmarkt und Geldwertstabilität (Qph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cecff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</a:tr>
              <a:tr h="77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cecff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isierung und Nachhaltigkeit (Qph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cecff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liennummernplatzhalter 5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DD350-AFD7-4816-A607-A1EE635FE902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9280" y="1419120"/>
            <a:ext cx="721044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Geneva"/>
              </a:rPr>
              <a:t>Beispiel für Inhaltsfelder und inhaltliche Schwerpunkte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534960" y="1941480"/>
          <a:ext cx="7934400" cy="4143240"/>
        </p:xfrm>
        <a:graphic>
          <a:graphicData uri="http://schemas.openxmlformats.org/drawingml/2006/table">
            <a:tbl>
              <a:tblPr/>
              <a:tblGrid>
                <a:gridCol w="7934400"/>
              </a:tblGrid>
              <a:tr h="168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haltsfeld 1: </a:t>
                      </a: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twirtschaftliche Ordnung (Eph)</a:t>
                      </a:r>
                      <a:br>
                        <a:rPr sz="1800"/>
                      </a:br>
                      <a:br>
                        <a:rPr sz="1600"/>
                      </a:b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Die Rolle der Akteure in einem marktwirtschaftlichen Sys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Ordnungselemente und normative Grundannahmen der sozialen Marktwirtscha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Das Marktsystem uns seine Leistungsfähigkeit</a:t>
                      </a: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cc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</a:tr>
              <a:tr h="246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haltsfeld 3: </a:t>
                      </a: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rtschaftspolitik (Qph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gitimation staatlichen Handel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ielgrößen der gesamtwirtschaftlichen Entwicklu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junktur und Wachst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rtschaftspolitische Konzeption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reiche und Instrumente der Wirtschaftspoliti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beitsmarktpoliti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cecff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liennummernplatzhalter 4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D4874-44CD-4D5D-AB77-D933A589EE2C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"/>
          <p:cNvSpPr/>
          <p:nvPr/>
        </p:nvSpPr>
        <p:spPr>
          <a:xfrm>
            <a:off x="1352520" y="2876400"/>
            <a:ext cx="721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868320" y="1933560"/>
            <a:ext cx="777708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elche Kompetenze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sollen bis zum Ende des Bildungsabschnitts entwickelt werden (KLP-Vorgabe, schulinterner Lehrplan)?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orauf konzentrieren wir uns zunächs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elcher Inhalt / welche Sache ist geeignet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, um diese Kompetenzen zu entwickeln?  In welchen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nwendungs- und Handlungssituatione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ist die Kompetenz relevan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ie lerne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die (vielen verschiedenen) Studierenden (an unserer Schule)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i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muss auf dieser Grundlage die Lernsituation gestaltet sein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614520" y="5143680"/>
            <a:ext cx="803088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„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Nach __ Stunden zum Thema ______________ erwarte ich, da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ie Studierenden ___, ___, ___ und  ___ können.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0F3CF-BBFC-4B5B-BDE6-A72FA689FE18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8"/>
          <p:cNvSpPr/>
          <p:nvPr/>
        </p:nvSpPr>
        <p:spPr>
          <a:xfrm>
            <a:off x="522360" y="1419120"/>
            <a:ext cx="661824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kompetenzorientiert pla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0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Foliennummernplatzhalter 4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4044E-165F-483D-B523-6CC875B45874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"/>
          <p:cNvSpPr/>
          <p:nvPr/>
        </p:nvSpPr>
        <p:spPr>
          <a:xfrm>
            <a:off x="1352520" y="2876400"/>
            <a:ext cx="721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D0BDA-EE60-48CC-8D31-B47BD7A6BA53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9"/>
          <p:cNvSpPr/>
          <p:nvPr/>
        </p:nvSpPr>
        <p:spPr>
          <a:xfrm>
            <a:off x="365040" y="1473120"/>
            <a:ext cx="843444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44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Arial-BoldMT"/>
              </a:rPr>
              <a:t>Ende Teil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39840" y="2119320"/>
            <a:ext cx="8475480" cy="58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66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Konzept und Gestaltung von </a:t>
            </a:r>
            <a:br>
              <a:rPr sz="1800"/>
            </a:b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kompetenzorientierten Kernlehrplä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24000" y="3147840"/>
            <a:ext cx="8475480" cy="34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66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9036"/>
                </a:solidFill>
                <a:latin typeface="Arial"/>
              </a:rPr>
              <a:t>Fragen und Klärungen zu Tei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34800" y="3887640"/>
            <a:ext cx="8475840" cy="58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66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9036"/>
                </a:solidFill>
                <a:latin typeface="Arial"/>
              </a:rPr>
              <a:t>Arbeit mit den neuen KLP  (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9036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9036"/>
                </a:solidFill>
                <a:latin typeface="Arial"/>
              </a:rPr>
              <a:t>- Kompetenzpuzzle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26880" y="4795920"/>
            <a:ext cx="8475840" cy="58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66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9036"/>
                </a:solidFill>
                <a:latin typeface="Arial"/>
              </a:rPr>
              <a:t>Arbeit mit den neuen KLP (2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de-DE" sz="1800" spc="-1" strike="noStrike">
                <a:solidFill>
                  <a:srgbClr val="009036"/>
                </a:solidFill>
                <a:latin typeface="Arial"/>
              </a:rPr>
              <a:t>- Arbeit mit dem SILP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02840" y="1546200"/>
            <a:ext cx="843444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1440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Arial-BoldMT"/>
              </a:rPr>
              <a:t>Teil 2</a:t>
            </a:r>
            <a:br>
              <a:rPr sz="2000"/>
            </a:br>
            <a:br>
              <a:rPr sz="2000"/>
            </a:br>
            <a:r>
              <a:rPr b="1" lang="de-DE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Lernerfolgsüberprüfung, Leistungsbewertung </a:t>
            </a:r>
            <a:br>
              <a:rPr sz="2000"/>
            </a:br>
            <a:r>
              <a:rPr b="1" lang="de-DE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und </a:t>
            </a:r>
            <a:br>
              <a:rPr sz="2000"/>
            </a:br>
            <a:r>
              <a:rPr b="1" lang="de-DE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Abiturprüfung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82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F227E-AC57-4B00-91AC-DABA7266BC92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22000" y="1397160"/>
            <a:ext cx="806436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Tagesablauf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61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0173C-66DA-4285-AEAC-E7AAA93DB4EE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98600" y="1811160"/>
          <a:ext cx="8137440" cy="4206960"/>
        </p:xfrm>
        <a:graphic>
          <a:graphicData uri="http://schemas.openxmlformats.org/drawingml/2006/table">
            <a:tbl>
              <a:tblPr/>
              <a:tblGrid>
                <a:gridCol w="803160"/>
                <a:gridCol w="2151000"/>
                <a:gridCol w="2679840"/>
                <a:gridCol w="2503440"/>
              </a:tblGrid>
              <a:tr h="33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ei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hal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beitsfor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3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kunf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grüßun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en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6426"/>
                          </a:solidFill>
                          <a:latin typeface="Arial"/>
                          <a:ea typeface="Arial"/>
                        </a:rPr>
                        <a:t>Kartenabfrage zu den KL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6426"/>
                          </a:solidFill>
                          <a:latin typeface="Arial"/>
                          <a:ea typeface="Arial"/>
                        </a:rPr>
                        <a:t>positive Aspekte,  Klärungsbedarf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zeln/ Plen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Implementation Teil 1</a:t>
                      </a:r>
                      <a:r>
                        <a:rPr b="0" lang="en-US" sz="1300" spc="-1" strike="noStrike">
                          <a:solidFill>
                            <a:srgbClr val="7f012e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Konzept und Gestaltung der KL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enum VW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.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us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.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6426"/>
                          </a:solidFill>
                          <a:latin typeface="Arial"/>
                          <a:ea typeface="Arial"/>
                        </a:rPr>
                        <a:t>Arbeit mit dem KL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6426"/>
                          </a:solidFill>
                          <a:latin typeface="Arial"/>
                          <a:ea typeface="Arial"/>
                        </a:rPr>
                        <a:t>Kompetenzpuzzl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leingruppe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.3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ttagspaus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.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6426"/>
                          </a:solidFill>
                          <a:latin typeface="Arial"/>
                          <a:ea typeface="Arial"/>
                        </a:rPr>
                        <a:t>Arbeit mit dem SIL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6426"/>
                          </a:solidFill>
                          <a:latin typeface="Arial"/>
                          <a:ea typeface="Arial"/>
                        </a:rPr>
                        <a:t>Ein UV konkret gestalte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leingruppen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.3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Implementation Teil 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Leistungsbewertung und Abitu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enum 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äsentation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lärunge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.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Implementation Teil 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Schulinterne Lehrpläne und Fachkonferenzarbeit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.3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6426"/>
                          </a:solidFill>
                          <a:latin typeface="Arial"/>
                          <a:ea typeface="Arial"/>
                        </a:rPr>
                        <a:t>Abschlus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2920" y="1379160"/>
            <a:ext cx="806436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-BoldMT"/>
              </a:rPr>
              <a:t>Leistungsbewertung unter Bezug auf Kompetenzbereiche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9640" y="2108160"/>
            <a:ext cx="8299440" cy="36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„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d grundsätzlich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e … Kompetenzbereich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ach-, Methoden-, Urteils-, Handlungskompetenz) bei der Leistungsbewertung angemessen zu berücksichtigen.“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Überprüfungsformen schriftlicher, mündlicher und ggf. praktischer Art sollen deshalb darauf ausgerichtet sein, di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reichung d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rt aufgeführte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ompetenzerwartung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zu überprüfen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n isoliertes, lediglich auf Reproduktion angelegtes Abfragen einzelner Daten und Sachverhalte allein kann dabei den … Ansprüchen an die Leistungsfeststellung nicht gerecht werden.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oliennummernplatzhalter 4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B3BBE-B790-4E43-817E-83DC2143516E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0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10840" y="1352520"/>
            <a:ext cx="806436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-BoldMT"/>
              </a:rPr>
              <a:t>Leistungsbewertung -  Sonstige Mitarbeit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584280" y="1925640"/>
            <a:ext cx="8190000" cy="36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Vielfältige Möglichkeiten die Kompetenzentwicklung darzustellen und zu 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okumentieren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- selbstständige und kooperative Aufgabenerfüllung,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- Beiträge zum Unterricht,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- von der Lehrkraft abgerufene Leistungsnachweise wie z.B. die schriftliche Übung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- von den Studierenden vorbereitete Präsentationen, Protokolle, Referate und 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Portfolio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- ……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eststellen des Standes der Kompetenzentwicklung in der „Sonstigen Mitarbeit“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- Beobachtung während des Schuljahres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(Prozess der Kompetenzentwicklung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- punktuelle Überprüfungen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(Stand der Kompetenzentwicklung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oliennummernplatzhalter 4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C80A8-3CDA-4EC2-9B60-8F54D6104CC0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3" dur="500"/>
                                        <p:tgtEl>
                                          <p:spTgt spid="2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Foliennummernplatzhalter 5"/>
          <p:cNvSpPr/>
          <p:nvPr/>
        </p:nvSpPr>
        <p:spPr>
          <a:xfrm>
            <a:off x="539640" y="6453360"/>
            <a:ext cx="4842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EFAF2-1E30-432B-9F5C-AC640C644B36}" type="slidenum">
              <a:rPr b="0" lang="en-US" sz="8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96440" y="1353960"/>
            <a:ext cx="7410600" cy="3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Geneva"/>
              </a:rPr>
              <a:t>Lernerfolgsüberprüfungen –  Überprüfungsformen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pic>
        <p:nvPicPr>
          <p:cNvPr id="291" name="Inhaltsplatzhalter 2" descr=""/>
          <p:cNvPicPr/>
          <p:nvPr/>
        </p:nvPicPr>
        <p:blipFill>
          <a:blip r:embed="rId1"/>
          <a:stretch/>
        </p:blipFill>
        <p:spPr>
          <a:xfrm>
            <a:off x="262080" y="1500120"/>
            <a:ext cx="8272440" cy="474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liennummernplatzhalter 5"/>
          <p:cNvSpPr/>
          <p:nvPr/>
        </p:nvSpPr>
        <p:spPr>
          <a:xfrm>
            <a:off x="539640" y="6453360"/>
            <a:ext cx="451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4613C-5128-4E8F-BE8D-06C596A35878}" type="slidenum">
              <a:rPr b="0" lang="en-US" sz="8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6160" y="1417680"/>
            <a:ext cx="3228840" cy="3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Geneva"/>
              </a:rPr>
              <a:t>Schriftliche Abiturprüfung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pic>
        <p:nvPicPr>
          <p:cNvPr id="294" name="Inhaltsplatzhalter 2" descr=""/>
          <p:cNvPicPr/>
          <p:nvPr/>
        </p:nvPicPr>
        <p:blipFill>
          <a:blip r:embed="rId1"/>
          <a:stretch/>
        </p:blipFill>
        <p:spPr>
          <a:xfrm>
            <a:off x="669960" y="1305000"/>
            <a:ext cx="7711920" cy="491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liennummernplatzhalter 5"/>
          <p:cNvSpPr/>
          <p:nvPr/>
        </p:nvSpPr>
        <p:spPr>
          <a:xfrm>
            <a:off x="539640" y="6453360"/>
            <a:ext cx="60336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A27E5-D86C-4B86-8562-53C8C51290D7}" type="slidenum">
              <a:rPr b="0" lang="en-US" sz="8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25240" y="1357200"/>
            <a:ext cx="3617640" cy="3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Geneva"/>
              </a:rPr>
              <a:t>Mündliche Abiturprüfung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pic>
        <p:nvPicPr>
          <p:cNvPr id="297" name="Inhaltsplatzhalter 2" descr=""/>
          <p:cNvPicPr/>
          <p:nvPr/>
        </p:nvPicPr>
        <p:blipFill>
          <a:blip r:embed="rId1"/>
          <a:stretch/>
        </p:blipFill>
        <p:spPr>
          <a:xfrm>
            <a:off x="-293760" y="1509840"/>
            <a:ext cx="7851960" cy="490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Foliennummernplatzhalter 4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98E07-6AA5-4B33-A45A-33BB02E550B4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"/>
          <p:cNvSpPr/>
          <p:nvPr/>
        </p:nvSpPr>
        <p:spPr>
          <a:xfrm>
            <a:off x="1352520" y="2876400"/>
            <a:ext cx="721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E85ED-7C42-43DC-85C4-30324B61EC9B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14280" y="3824280"/>
            <a:ext cx="8475840" cy="34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66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9036"/>
                </a:solidFill>
                <a:latin typeface="Arial"/>
              </a:rPr>
              <a:t>Fragen und Klärungen zu Tei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9"/>
          <p:cNvSpPr/>
          <p:nvPr/>
        </p:nvSpPr>
        <p:spPr>
          <a:xfrm>
            <a:off x="301680" y="1397160"/>
            <a:ext cx="8434440" cy="20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44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Arial-BoldMT"/>
              </a:rPr>
              <a:t>Ende Teil 2</a:t>
            </a:r>
            <a:br>
              <a:rPr sz="2000"/>
            </a:br>
            <a:br>
              <a:rPr sz="2000"/>
            </a:br>
            <a:r>
              <a:rPr b="1" lang="de-DE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Lernerfolgsüberprüfung, Leistungsbewertung </a:t>
            </a:r>
            <a:br>
              <a:rPr sz="2000"/>
            </a:br>
            <a:r>
              <a:rPr b="1" lang="de-DE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und </a:t>
            </a:r>
            <a:br>
              <a:rPr sz="2000"/>
            </a:br>
            <a:r>
              <a:rPr b="1" lang="de-DE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Abiturprüf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630360" y="1514160"/>
            <a:ext cx="7772400" cy="15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marL="5335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Teil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Schulinterne Lehrpläne und Fachkonferenzarb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oliennummernplatzhalter 4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8FDD3-28D3-482A-91C0-9630A2296773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2"/>
          <p:cNvSpPr/>
          <p:nvPr/>
        </p:nvSpPr>
        <p:spPr>
          <a:xfrm>
            <a:off x="379440" y="1500120"/>
            <a:ext cx="8201160" cy="45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Schulinterner Lehrplä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fgab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ist es, die verbindlichen Vorgaben der Kernlehrpläne auf die Situation der Schule bezogen zu konkretisieren und Freiräume auszugestal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chtliche Grundlagen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chulG § 29 - Unterrichtsvorga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1) Da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inisterium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erlässt in der Regel schulformspezifische Vorga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ür den Unterricht (Richtlinien, Rahmenvorgaben, Lehrpläne). Diese legen insbesondere die Ziele und Inhalte für die Bildungsgänge, Unterrichtsfächer und Lernbereiche fest und bestimmen die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rwarteten Lernergebniss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Bildungsstandard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2) Die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chul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bestimmen auf der Grundlage der Unterrichtsvorgaben nach Absatz 1 in Verbindung mit ihrem Schulprogramm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schuleigene Unterrichtsvorgab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3) Unterrichtsvorgaben nach den Absätzen 1 und 2 sind so zu fasse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s für die Lehrerinnen und Lehrer ein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pädagogischer Gestaltungsspielraum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leibt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1311120" y="2935440"/>
            <a:ext cx="7267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893FF-54E0-4BD0-B459-D9A351FFE45F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0" dur="500"/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6" dur="500"/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9" dur="500"/>
                                        <p:tgtEl>
                                          <p:spTgt spid="3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2" dur="500"/>
                                        <p:tgtEl>
                                          <p:spTgt spid="3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2"/>
          <p:cNvSpPr/>
          <p:nvPr/>
        </p:nvSpPr>
        <p:spPr>
          <a:xfrm>
            <a:off x="573120" y="1998720"/>
            <a:ext cx="8201160" cy="33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chtliche Grundlagen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chulG § 70 Abs. 3 und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3) Die Fachkonferenz berät über alle das Fach … betreffenden Angelegenheiten einschließlich der Zusammenarbeit mit anderen Fächern. Sie trägt Verantwortung für die schulinterne Qualitätssicherung und –entwicklung der fachlichen Arbeit und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erä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über Ziele, Arbeitspläne; Evaluationsmaßnahmen und -ergebnisse und Rechenschaftsleg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4) Die Fachkonferenz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ntscheidet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ihrem Fach insbesondere ü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undsätze der fachmethodischen und fachdidaktischen Arbei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undsätze zur Leistungsbewertung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schläge an die Lehrerkonferenz zur Einführung von Lernmittel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3"/>
          <p:cNvSpPr/>
          <p:nvPr/>
        </p:nvSpPr>
        <p:spPr>
          <a:xfrm>
            <a:off x="1311120" y="2935440"/>
            <a:ext cx="7267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feld 6"/>
          <p:cNvSpPr/>
          <p:nvPr/>
        </p:nvSpPr>
        <p:spPr>
          <a:xfrm>
            <a:off x="558720" y="1403280"/>
            <a:ext cx="305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Arial"/>
                <a:ea typeface="ヒラギノ角ゴ Pro W3"/>
              </a:rPr>
              <a:t>Schulinterne Lehrplä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492D0-F29E-4DEC-AD60-A2505544CB7B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0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497E2-650F-4729-A994-EBC54383E303}" type="slidenum"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331920" y="1440000"/>
            <a:ext cx="8424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9960" indent="-223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Arial"/>
                <a:ea typeface="ヒラギノ角ゴ Pro W3"/>
              </a:rPr>
              <a:t>Kernlehrplan und Anforderungen an die Sch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22000" y="2109960"/>
            <a:ext cx="4040280" cy="36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Kernlehrpla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Vorgabe zu erreichender Kompetenzen …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eschränkung auf den Kernbereich fachlicher Anforderungen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ormulierung von Kompetenz-erwartungen und inhaltlichen Schwerpunkten zu einem bestimmten Zeitpunkt eines Bildungsganges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644720" y="212868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8600" indent="-3240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chul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8600" indent="-32400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…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idaktisch-pädagogische Prozesse in der Verantwortung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er Sch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8600" indent="-32400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…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Gestaltungsräume der Schulen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8600" indent="-32400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…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Konkretisierung in unterricht-lichen Kontexten und Umsetzung in aufeinander abgestimmte Unter-richtsvorhaben (Progression, Kumulativitä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oliennummernplatzhalter 7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13F8B-6199-4B49-96D6-123E4DF90368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9" dur="5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2" dur="5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7" dur="5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574560" y="1784520"/>
            <a:ext cx="7772400" cy="14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marL="5335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Teil 1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Konzept und Gestaltung von </a:t>
            </a:r>
            <a:br>
              <a:rPr sz="2000"/>
            </a:b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kompetenzorientierten Kernlehrplänen (KL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oliennummernplatzhalter 4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A16E5-8B69-4B35-B035-3B7CF27B07C2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20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18D45-10CE-4DD1-8189-4DD25BACDC99}" type="slidenum"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feld 7"/>
          <p:cNvSpPr/>
          <p:nvPr/>
        </p:nvSpPr>
        <p:spPr>
          <a:xfrm>
            <a:off x="3670200" y="847800"/>
            <a:ext cx="51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2060"/>
                </a:solidFill>
                <a:latin typeface="Arial"/>
              </a:rPr>
              <a:t>Schulinterne Lehrplä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549000" y="218448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Kernlehrpl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estlegung des Umfangs von Kompetenzerwartungen und damit verbundener Fachkenntnisse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ussagen zur Leistungserfassung und -bewertung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644720" y="2174760"/>
            <a:ext cx="4041720" cy="33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478440" indent="-311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chu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8440" indent="-31104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lerngruppen-adäquate Umsetzung und Konkretisierun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78440" indent="-31104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Vereinbarungen und Absprachen über Kriteri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78440" indent="-311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nsgesamt: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Verpflichtung der Schulen schuleigene Curricula (Lehrpläne/ Arbeitspläne) zu erstellen (siehe Schulgesetz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F0D78-0767-4BBE-A98F-76D2154DB10B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3"/>
          <p:cNvSpPr/>
          <p:nvPr/>
        </p:nvSpPr>
        <p:spPr>
          <a:xfrm>
            <a:off x="349200" y="1403280"/>
            <a:ext cx="84250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9960" indent="-223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Arial"/>
                <a:ea typeface="ヒラギノ角ゴ Pro W3"/>
              </a:rPr>
              <a:t>Kernlehrplan und Anforderungen an die Sch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5" dur="5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3" dur="5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Foliennummernplatzhalter 4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911A0-83F3-4D35-B7F7-46F7302D42D0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14080" y="1508040"/>
            <a:ext cx="8064360" cy="3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ヒラギノ角ゴ Pro W3"/>
              </a:rPr>
              <a:t>Struktur eines schulinternen Lehrplans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547560" y="2022480"/>
          <a:ext cx="8064720" cy="3932280"/>
        </p:xfrm>
        <a:graphic>
          <a:graphicData uri="http://schemas.openxmlformats.org/drawingml/2006/table">
            <a:tbl>
              <a:tblPr/>
              <a:tblGrid>
                <a:gridCol w="863640"/>
                <a:gridCol w="7201080"/>
              </a:tblGrid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apit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liederungspunk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58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e Fachgruppe VWL/SZ in der Y-Schu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Entscheidungen zum Unterricht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Unterrichtsvorhabe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 marL="457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Übersichtsraster Unterrichtsvorhaben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1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 marL="457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Konkretisierte Unterrichtsvorhaben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undsätze der fachmethodischen und fachdidaktischen Arbe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undsätze der Leistungsbewertung und Leistungsrückmeldu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hr- und Lernmitt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Entscheidungen zu fach- und unterrichtsübergreifenden Fragen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Qualitätssicherung und Eval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6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27F05-A896-4BDF-B13F-BD869A1DD83E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D5713-BD51-4210-9943-157B1FD1C97F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Foliennummernplatzhalter 3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205CD-5492-407A-A159-F18984790D87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1311120" y="2935440"/>
            <a:ext cx="7267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4"/>
          <p:cNvSpPr/>
          <p:nvPr/>
        </p:nvSpPr>
        <p:spPr>
          <a:xfrm>
            <a:off x="371520" y="1420920"/>
            <a:ext cx="833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3366"/>
                </a:solidFill>
                <a:latin typeface="Arial"/>
                <a:ea typeface="ヒラギノ角ゴ Pro W3"/>
              </a:rPr>
              <a:t>Beispiel für ein Übersichtsr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128520" y="1986120"/>
          <a:ext cx="8812440" cy="4084560"/>
        </p:xfrm>
        <a:graphic>
          <a:graphicData uri="http://schemas.openxmlformats.org/drawingml/2006/table">
            <a:tbl>
              <a:tblPr/>
              <a:tblGrid>
                <a:gridCol w="2765520"/>
                <a:gridCol w="3038400"/>
                <a:gridCol w="3008520"/>
              </a:tblGrid>
              <a:tr h="4084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EP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Unterrichtsvorhaben I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ema, Kompetenzen, Inhaltsfelder, inhaltliche Schwerpunk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Unterrichtsvorhaben II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ema, Kompetenzen, Inhaltsfelder, inhaltliche Schwerpunk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Q1, G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Unterrichtsvorhaben I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ema, Kompetenzen, Inhaltsfelder, inhaltliche Schwerpunk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Unterrichtsvorhaben II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ema, Kompetenzen, Inhaltsfelder, inhaltliche Schwerpunk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Q2, G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Unterrichtsvorhaben I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ema, Kompetenzen, Inhaltsfelder, inhaltliche Schwerpunk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Unterrichtsvorhaben II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ema, Kompetenzen, Inhaltsfelder, inhaltliche Schwerpunk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Q1, L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Unterrichtsvorhaben I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ema, Kompetenzen, Inhaltsfelder, inhaltliche Schwerpunk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Unterrichtsvorhaben II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ema, Kompetenzen, Inhaltsfelder, inhaltliche Schwerpunk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Q2, L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Unterrichtsvorhaben I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ema, Kompetenzen, Inhaltsfelder, inhaltliche Schwerpunk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Unterrichtsvorhaben II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ema, Kompetenzen, Inhaltsfelder, inhaltliche Schwerpunk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d1"/>
                    </a:solidFill>
                  </a:tcPr>
                </a:tc>
              </a:tr>
            </a:tbl>
          </a:graphicData>
        </a:graphic>
      </p:graphicFrame>
      <p:sp>
        <p:nvSpPr>
          <p:cNvPr id="332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3C1B2-1083-4FB0-9A57-8B8D7684D9B5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Foliennummernplatzhalter 3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81EA0-CA1A-4921-A8B5-B9164F6009EF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Group 2"/>
          <p:cNvGrpSpPr/>
          <p:nvPr/>
        </p:nvGrpSpPr>
        <p:grpSpPr>
          <a:xfrm>
            <a:off x="5584680" y="879480"/>
            <a:ext cx="3051000" cy="2890800"/>
            <a:chOff x="5584680" y="879480"/>
            <a:chExt cx="3051000" cy="2890800"/>
          </a:xfrm>
        </p:grpSpPr>
        <p:sp>
          <p:nvSpPr>
            <p:cNvPr id="335" name="Document"/>
            <p:cNvSpPr/>
            <p:nvPr/>
          </p:nvSpPr>
          <p:spPr>
            <a:xfrm>
              <a:off x="5584680" y="879480"/>
              <a:ext cx="2928960" cy="268596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542880"/>
                  <a:tab algn="l" pos="1085760"/>
                  <a:tab algn="l" pos="1628640"/>
                  <a:tab algn="l" pos="2171880"/>
                  <a:tab algn="l" pos="2714760"/>
                  <a:tab algn="l" pos="3257640"/>
                  <a:tab algn="l" pos="3800520"/>
                  <a:tab algn="l" pos="4343400"/>
                  <a:tab algn="l" pos="4886280"/>
                  <a:tab algn="l" pos="5429160"/>
                  <a:tab algn="l" pos="5972040"/>
                  <a:tab algn="l" pos="6515280"/>
                  <a:tab algn="l" pos="7058160"/>
                  <a:tab algn="l" pos="7601040"/>
                  <a:tab algn="l" pos="8143920"/>
                  <a:tab algn="l" pos="8686800"/>
                  <a:tab algn="l" pos="9229680"/>
                  <a:tab algn="l" pos="9772560"/>
                  <a:tab algn="l" pos="10315440"/>
                  <a:tab algn="l" pos="10858680"/>
                </a:tabLst>
              </a:pPr>
              <a:r>
                <a:rPr b="1" lang="de-DE" sz="2000" spc="-1" strike="noStrike">
                  <a:solidFill>
                    <a:srgbClr val="003366"/>
                  </a:solidFill>
                  <a:latin typeface="Arial"/>
                </a:rPr>
                <a:t>Schulinterner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542880"/>
                  <a:tab algn="l" pos="1085760"/>
                  <a:tab algn="l" pos="1628640"/>
                  <a:tab algn="l" pos="2171880"/>
                  <a:tab algn="l" pos="2714760"/>
                  <a:tab algn="l" pos="3257640"/>
                  <a:tab algn="l" pos="3800520"/>
                  <a:tab algn="l" pos="4343400"/>
                  <a:tab algn="l" pos="4886280"/>
                  <a:tab algn="l" pos="5429160"/>
                  <a:tab algn="l" pos="5972040"/>
                  <a:tab algn="l" pos="6515280"/>
                  <a:tab algn="l" pos="7058160"/>
                  <a:tab algn="l" pos="7601040"/>
                  <a:tab algn="l" pos="8143920"/>
                  <a:tab algn="l" pos="8686800"/>
                  <a:tab algn="l" pos="9229680"/>
                  <a:tab algn="l" pos="9772560"/>
                  <a:tab algn="l" pos="10315440"/>
                  <a:tab algn="l" pos="10858680"/>
                </a:tabLst>
              </a:pPr>
              <a:r>
                <a:rPr b="1" lang="de-DE" sz="2000" spc="-1" strike="noStrike">
                  <a:solidFill>
                    <a:srgbClr val="003366"/>
                  </a:solidFill>
                  <a:latin typeface="Arial"/>
                </a:rPr>
                <a:t>Lehrplan</a:t>
              </a: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542880"/>
                  <a:tab algn="l" pos="1085760"/>
                  <a:tab algn="l" pos="1628640"/>
                  <a:tab algn="l" pos="2171880"/>
                  <a:tab algn="l" pos="2714760"/>
                  <a:tab algn="l" pos="3257640"/>
                  <a:tab algn="l" pos="3800520"/>
                  <a:tab algn="l" pos="4343400"/>
                  <a:tab algn="l" pos="4886280"/>
                  <a:tab algn="l" pos="5429160"/>
                  <a:tab algn="l" pos="5972040"/>
                  <a:tab algn="l" pos="6515280"/>
                  <a:tab algn="l" pos="7058160"/>
                  <a:tab algn="l" pos="7601040"/>
                  <a:tab algn="l" pos="8143920"/>
                  <a:tab algn="l" pos="8686800"/>
                  <a:tab algn="l" pos="9229680"/>
                  <a:tab algn="l" pos="9772560"/>
                  <a:tab algn="l" pos="10315440"/>
                  <a:tab algn="l" pos="1085868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im HTML-Forma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4"/>
            <p:cNvSpPr/>
            <p:nvPr/>
          </p:nvSpPr>
          <p:spPr>
            <a:xfrm>
              <a:off x="5784480" y="1860480"/>
              <a:ext cx="2851200" cy="19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spcBef>
                  <a:spcPts val="437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Vorgaben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81080" indent="-181080">
                <a:spcBef>
                  <a:spcPts val="437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Grundmuster, 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estandteile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, Konstruktionshinweise, „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lgorithmen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81080" indent="-181080">
                <a:spcBef>
                  <a:spcPts val="437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Musterbeispiel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 eines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     schulinternen Fachlehrplans 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     und einer Jahrgangspartitu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Group 5"/>
          <p:cNvGrpSpPr/>
          <p:nvPr/>
        </p:nvGrpSpPr>
        <p:grpSpPr>
          <a:xfrm>
            <a:off x="2835360" y="882720"/>
            <a:ext cx="3029040" cy="2636640"/>
            <a:chOff x="2835360" y="882720"/>
            <a:chExt cx="3029040" cy="2636640"/>
          </a:xfrm>
        </p:grpSpPr>
        <p:sp>
          <p:nvSpPr>
            <p:cNvPr id="338" name="Document"/>
            <p:cNvSpPr/>
            <p:nvPr/>
          </p:nvSpPr>
          <p:spPr>
            <a:xfrm>
              <a:off x="2835360" y="882720"/>
              <a:ext cx="2895840" cy="2636640"/>
            </a:xfrm>
            <a:prstGeom prst="pi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542880"/>
                  <a:tab algn="l" pos="1085760"/>
                  <a:tab algn="l" pos="1628640"/>
                  <a:tab algn="l" pos="2171880"/>
                  <a:tab algn="l" pos="2714760"/>
                  <a:tab algn="l" pos="3257640"/>
                  <a:tab algn="l" pos="3800520"/>
                  <a:tab algn="l" pos="4343400"/>
                  <a:tab algn="l" pos="4886280"/>
                  <a:tab algn="l" pos="5429160"/>
                  <a:tab algn="l" pos="5972040"/>
                  <a:tab algn="l" pos="6515280"/>
                  <a:tab algn="l" pos="7058160"/>
                  <a:tab algn="l" pos="7601040"/>
                  <a:tab algn="l" pos="8143920"/>
                  <a:tab algn="l" pos="8686800"/>
                  <a:tab algn="l" pos="9229680"/>
                  <a:tab algn="l" pos="9772560"/>
                  <a:tab algn="l" pos="10315440"/>
                  <a:tab algn="l" pos="10858680"/>
                </a:tabLst>
              </a:pPr>
              <a:r>
                <a:rPr b="1" lang="de-DE" sz="2000" spc="-1" strike="noStrike">
                  <a:solidFill>
                    <a:srgbClr val="003366"/>
                  </a:solidFill>
                  <a:latin typeface="Arial"/>
                </a:rPr>
                <a:t>Kernlehrplan</a:t>
              </a:r>
              <a:r>
                <a:rPr b="1" lang="de-DE" sz="2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542880"/>
                  <a:tab algn="l" pos="1085760"/>
                  <a:tab algn="l" pos="1628640"/>
                  <a:tab algn="l" pos="2171880"/>
                  <a:tab algn="l" pos="2714760"/>
                  <a:tab algn="l" pos="3257640"/>
                  <a:tab algn="l" pos="3800520"/>
                  <a:tab algn="l" pos="4343400"/>
                  <a:tab algn="l" pos="4886280"/>
                  <a:tab algn="l" pos="5429160"/>
                  <a:tab algn="l" pos="5972040"/>
                  <a:tab algn="l" pos="6515280"/>
                  <a:tab algn="l" pos="7058160"/>
                  <a:tab algn="l" pos="7601040"/>
                  <a:tab algn="l" pos="8143920"/>
                  <a:tab algn="l" pos="8686800"/>
                  <a:tab algn="l" pos="9229680"/>
                  <a:tab algn="l" pos="9772560"/>
                  <a:tab algn="l" pos="10315440"/>
                  <a:tab algn="l" pos="1085868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im  HTML-Forma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 Box 7"/>
            <p:cNvSpPr/>
            <p:nvPr/>
          </p:nvSpPr>
          <p:spPr>
            <a:xfrm>
              <a:off x="2911680" y="1916640"/>
              <a:ext cx="2581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verbindliche 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Kompetenz-erwartungen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 am Ende der Doppeljahrgangsstufen bzw. bestimmter Phasen des Bildungsgang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8"/>
            <p:cNvSpPr/>
            <p:nvPr/>
          </p:nvSpPr>
          <p:spPr>
            <a:xfrm>
              <a:off x="3454560" y="2993400"/>
              <a:ext cx="2409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obligatorische 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inhaltliche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Schwerpunk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9"/>
          <p:cNvGrpSpPr/>
          <p:nvPr/>
        </p:nvGrpSpPr>
        <p:grpSpPr>
          <a:xfrm>
            <a:off x="1512720" y="2593800"/>
            <a:ext cx="4479840" cy="1094040"/>
            <a:chOff x="1512720" y="2593800"/>
            <a:chExt cx="4479840" cy="1094040"/>
          </a:xfrm>
        </p:grpSpPr>
        <p:sp>
          <p:nvSpPr>
            <p:cNvPr id="342" name="Line 10"/>
            <p:cNvSpPr/>
            <p:nvPr/>
          </p:nvSpPr>
          <p:spPr>
            <a:xfrm>
              <a:off x="4982760" y="2613600"/>
              <a:ext cx="1009800" cy="4320"/>
            </a:xfrm>
            <a:prstGeom prst="line">
              <a:avLst/>
            </a:prstGeom>
            <a:ln w="4140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11"/>
            <p:cNvSpPr/>
            <p:nvPr/>
          </p:nvSpPr>
          <p:spPr>
            <a:xfrm>
              <a:off x="1519200" y="2593800"/>
              <a:ext cx="9720" cy="1094040"/>
            </a:xfrm>
            <a:prstGeom prst="line">
              <a:avLst/>
            </a:prstGeom>
            <a:ln w="4140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Line 12"/>
            <p:cNvSpPr/>
            <p:nvPr/>
          </p:nvSpPr>
          <p:spPr>
            <a:xfrm>
              <a:off x="1512720" y="2599560"/>
              <a:ext cx="1709640" cy="0"/>
            </a:xfrm>
            <a:prstGeom prst="line">
              <a:avLst/>
            </a:prstGeom>
            <a:ln w="41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Group 14"/>
          <p:cNvGrpSpPr/>
          <p:nvPr/>
        </p:nvGrpSpPr>
        <p:grpSpPr>
          <a:xfrm>
            <a:off x="0" y="3666960"/>
            <a:ext cx="8991720" cy="2457720"/>
            <a:chOff x="0" y="3666960"/>
            <a:chExt cx="8991720" cy="2457720"/>
          </a:xfrm>
        </p:grpSpPr>
        <p:sp>
          <p:nvSpPr>
            <p:cNvPr id="346" name="File"/>
            <p:cNvSpPr/>
            <p:nvPr/>
          </p:nvSpPr>
          <p:spPr>
            <a:xfrm>
              <a:off x="86040" y="3695760"/>
              <a:ext cx="8905680" cy="2428920"/>
            </a:xfrm>
            <a:custGeom>
              <a:avLst/>
              <a:gdLst>
                <a:gd name="textAreaLeft" fmla="*/ 447480 w 8905680"/>
                <a:gd name="textAreaRight" fmla="*/ 8507520 w 8905680"/>
                <a:gd name="textAreaTop" fmla="*/ 520560 h 2428920"/>
                <a:gd name="textAreaBottom" fmla="*/ 2281320 h 242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790" y="3240"/>
                  </a:moveTo>
                  <a:cubicBezTo>
                    <a:pt x="10981" y="3240"/>
                    <a:pt x="9171" y="3240"/>
                    <a:pt x="9050" y="3086"/>
                  </a:cubicBezTo>
                  <a:cubicBezTo>
                    <a:pt x="9050" y="2931"/>
                    <a:pt x="8930" y="2777"/>
                    <a:pt x="8930" y="2469"/>
                  </a:cubicBezTo>
                  <a:cubicBezTo>
                    <a:pt x="8930" y="2160"/>
                    <a:pt x="8809" y="1851"/>
                    <a:pt x="8688" y="1389"/>
                  </a:cubicBezTo>
                  <a:cubicBezTo>
                    <a:pt x="8568" y="1080"/>
                    <a:pt x="8326" y="771"/>
                    <a:pt x="8085" y="463"/>
                  </a:cubicBezTo>
                  <a:cubicBezTo>
                    <a:pt x="7723" y="154"/>
                    <a:pt x="7361" y="0"/>
                    <a:pt x="7361" y="0"/>
                  </a:cubicBezTo>
                  <a:cubicBezTo>
                    <a:pt x="7361" y="0"/>
                    <a:pt x="2293" y="0"/>
                    <a:pt x="2051" y="154"/>
                  </a:cubicBezTo>
                  <a:cubicBezTo>
                    <a:pt x="1689" y="309"/>
                    <a:pt x="1448" y="463"/>
                    <a:pt x="1327" y="771"/>
                  </a:cubicBezTo>
                  <a:cubicBezTo>
                    <a:pt x="1207" y="1080"/>
                    <a:pt x="1086" y="1389"/>
                    <a:pt x="965" y="1697"/>
                  </a:cubicBezTo>
                  <a:cubicBezTo>
                    <a:pt x="845" y="2160"/>
                    <a:pt x="724" y="2314"/>
                    <a:pt x="724" y="2469"/>
                  </a:cubicBezTo>
                  <a:cubicBezTo>
                    <a:pt x="603" y="2623"/>
                    <a:pt x="603" y="2777"/>
                    <a:pt x="483" y="2931"/>
                  </a:cubicBezTo>
                  <a:cubicBezTo>
                    <a:pt x="483" y="3086"/>
                    <a:pt x="362" y="3240"/>
                    <a:pt x="241" y="3240"/>
                  </a:cubicBezTo>
                  <a:lnTo>
                    <a:pt x="0" y="3394"/>
                  </a:lnTo>
                  <a:lnTo>
                    <a:pt x="0" y="3703"/>
                  </a:lnTo>
                  <a:lnTo>
                    <a:pt x="0" y="10800"/>
                  </a:lnTo>
                  <a:lnTo>
                    <a:pt x="0" y="21600"/>
                  </a:lnTo>
                  <a:lnTo>
                    <a:pt x="10981" y="21600"/>
                  </a:lnTo>
                  <a:lnTo>
                    <a:pt x="21600" y="21600"/>
                  </a:lnTo>
                  <a:lnTo>
                    <a:pt x="21600" y="10800"/>
                  </a:lnTo>
                  <a:lnTo>
                    <a:pt x="21600" y="5246"/>
                  </a:lnTo>
                  <a:lnTo>
                    <a:pt x="21600" y="4783"/>
                  </a:lnTo>
                  <a:cubicBezTo>
                    <a:pt x="21479" y="4320"/>
                    <a:pt x="21359" y="4011"/>
                    <a:pt x="21117" y="3703"/>
                  </a:cubicBezTo>
                  <a:cubicBezTo>
                    <a:pt x="20876" y="3549"/>
                    <a:pt x="20514" y="3394"/>
                    <a:pt x="20152" y="3240"/>
                  </a:cubicBezTo>
                  <a:lnTo>
                    <a:pt x="19790" y="324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7" name="Group 16"/>
            <p:cNvGrpSpPr/>
            <p:nvPr/>
          </p:nvGrpSpPr>
          <p:grpSpPr>
            <a:xfrm>
              <a:off x="0" y="3666960"/>
              <a:ext cx="8909280" cy="2311560"/>
              <a:chOff x="0" y="3666960"/>
              <a:chExt cx="8909280" cy="2311560"/>
            </a:xfrm>
          </p:grpSpPr>
          <p:sp>
            <p:nvSpPr>
              <p:cNvPr id="348" name="Text Box 17"/>
              <p:cNvSpPr/>
              <p:nvPr/>
            </p:nvSpPr>
            <p:spPr>
              <a:xfrm>
                <a:off x="1095480" y="3666960"/>
                <a:ext cx="1409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3366"/>
                    </a:solidFill>
                    <a:latin typeface="Arial"/>
                  </a:rPr>
                  <a:t>Datenban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9" name="Group 18"/>
              <p:cNvGrpSpPr/>
              <p:nvPr/>
            </p:nvGrpSpPr>
            <p:grpSpPr>
              <a:xfrm>
                <a:off x="7442280" y="4137120"/>
                <a:ext cx="1467000" cy="1809720"/>
                <a:chOff x="7442280" y="4137120"/>
                <a:chExt cx="1467000" cy="1809720"/>
              </a:xfrm>
            </p:grpSpPr>
            <p:sp>
              <p:nvSpPr>
                <p:cNvPr id="350" name="Documents"/>
                <p:cNvSpPr/>
                <p:nvPr/>
              </p:nvSpPr>
              <p:spPr>
                <a:xfrm>
                  <a:off x="7452000" y="4137120"/>
                  <a:ext cx="1457280" cy="1809720"/>
                </a:xfrm>
                <a:custGeom>
                  <a:avLst/>
                  <a:gdLst>
                    <a:gd name="textAreaLeft" fmla="*/ 110880 w 1457280"/>
                    <a:gd name="textAreaRight" fmla="*/ 1114560 w 1457280"/>
                    <a:gd name="textAreaTop" fmla="*/ 349200 h 1809720"/>
                    <a:gd name="textAreaBottom" fmla="*/ 1451160 h 180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8014"/>
                      </a:moveTo>
                      <a:lnTo>
                        <a:pt x="0" y="2800"/>
                      </a:lnTo>
                      <a:lnTo>
                        <a:pt x="1645" y="2800"/>
                      </a:lnTo>
                      <a:lnTo>
                        <a:pt x="1645" y="1428"/>
                      </a:lnTo>
                      <a:lnTo>
                        <a:pt x="3468" y="1428"/>
                      </a:lnTo>
                      <a:lnTo>
                        <a:pt x="3468" y="0"/>
                      </a:lnTo>
                      <a:lnTo>
                        <a:pt x="21653" y="0"/>
                      </a:lnTo>
                      <a:lnTo>
                        <a:pt x="21653" y="18828"/>
                      </a:lnTo>
                      <a:lnTo>
                        <a:pt x="19954" y="18828"/>
                      </a:lnTo>
                      <a:lnTo>
                        <a:pt x="19954" y="20214"/>
                      </a:lnTo>
                      <a:lnTo>
                        <a:pt x="18256" y="20214"/>
                      </a:lnTo>
                      <a:lnTo>
                        <a:pt x="18256" y="21600"/>
                      </a:lnTo>
                      <a:lnTo>
                        <a:pt x="4434" y="21600"/>
                      </a:lnTo>
                      <a:lnTo>
                        <a:pt x="0" y="18014"/>
                      </a:lnTo>
                      <a:close/>
                    </a:path>
                    <a:path w="21600" h="21600">
                      <a:moveTo>
                        <a:pt x="3486" y="1428"/>
                      </a:moveTo>
                      <a:lnTo>
                        <a:pt x="19954" y="1428"/>
                      </a:lnTo>
                      <a:lnTo>
                        <a:pt x="19954" y="20214"/>
                      </a:lnTo>
                      <a:lnTo>
                        <a:pt x="18256" y="20214"/>
                      </a:lnTo>
                      <a:lnTo>
                        <a:pt x="18256" y="2800"/>
                      </a:lnTo>
                      <a:lnTo>
                        <a:pt x="1645" y="2800"/>
                      </a:lnTo>
                      <a:lnTo>
                        <a:pt x="1645" y="1428"/>
                      </a:lnTo>
                      <a:lnTo>
                        <a:pt x="3486" y="1428"/>
                      </a:lnTo>
                      <a:close/>
                    </a:path>
                    <a:path w="21600" h="21600">
                      <a:moveTo>
                        <a:pt x="0" y="18014"/>
                      </a:moveTo>
                      <a:lnTo>
                        <a:pt x="4434" y="18000"/>
                      </a:lnTo>
                      <a:lnTo>
                        <a:pt x="4434" y="21600"/>
                      </a:lnTo>
                      <a:lnTo>
                        <a:pt x="0" y="18014"/>
                      </a:lnTo>
                      <a:close/>
                    </a:path>
                  </a:pathLst>
                </a:custGeom>
                <a:solidFill>
                  <a:srgbClr val="d8ebb3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Text Box 20"/>
                <p:cNvSpPr/>
                <p:nvPr/>
              </p:nvSpPr>
              <p:spPr>
                <a:xfrm>
                  <a:off x="7442280" y="4365720"/>
                  <a:ext cx="1447920" cy="137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000000"/>
                      </a:solidFill>
                      <a:latin typeface="Arial"/>
                    </a:rPr>
                    <a:t>Hintergrund-materialien</a:t>
                  </a:r>
                  <a:r>
                    <a:rPr b="0" lang="de-DE" sz="1400" spc="-1" strike="noStrike">
                      <a:solidFill>
                        <a:srgbClr val="000000"/>
                      </a:solidFill>
                      <a:latin typeface="Arial"/>
                    </a:rPr>
                    <a:t>, „Tools“,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400" spc="-1" strike="noStrike">
                      <a:solidFill>
                        <a:srgbClr val="000000"/>
                      </a:solidFill>
                      <a:latin typeface="Arial"/>
                    </a:rPr>
                    <a:t>Unterstützungs-material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2" name="Documents"/>
              <p:cNvSpPr/>
              <p:nvPr/>
            </p:nvSpPr>
            <p:spPr>
              <a:xfrm>
                <a:off x="6016680" y="4168800"/>
                <a:ext cx="1457280" cy="1809720"/>
              </a:xfrm>
              <a:custGeom>
                <a:avLst/>
                <a:gdLst>
                  <a:gd name="textAreaLeft" fmla="*/ 110880 w 1457280"/>
                  <a:gd name="textAreaRight" fmla="*/ 1114560 w 1457280"/>
                  <a:gd name="textAreaTop" fmla="*/ 349200 h 1809720"/>
                  <a:gd name="textAreaBottom" fmla="*/ 1451160 h 180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8014"/>
                    </a:moveTo>
                    <a:lnTo>
                      <a:pt x="0" y="2800"/>
                    </a:lnTo>
                    <a:lnTo>
                      <a:pt x="1645" y="2800"/>
                    </a:lnTo>
                    <a:lnTo>
                      <a:pt x="1645" y="1428"/>
                    </a:lnTo>
                    <a:lnTo>
                      <a:pt x="3468" y="1428"/>
                    </a:lnTo>
                    <a:lnTo>
                      <a:pt x="3468" y="0"/>
                    </a:lnTo>
                    <a:lnTo>
                      <a:pt x="21653" y="0"/>
                    </a:lnTo>
                    <a:lnTo>
                      <a:pt x="21653" y="18828"/>
                    </a:lnTo>
                    <a:lnTo>
                      <a:pt x="19954" y="18828"/>
                    </a:lnTo>
                    <a:lnTo>
                      <a:pt x="19954" y="20214"/>
                    </a:lnTo>
                    <a:lnTo>
                      <a:pt x="18256" y="20214"/>
                    </a:lnTo>
                    <a:lnTo>
                      <a:pt x="18256" y="21600"/>
                    </a:lnTo>
                    <a:lnTo>
                      <a:pt x="4434" y="21600"/>
                    </a:lnTo>
                    <a:lnTo>
                      <a:pt x="0" y="18014"/>
                    </a:lnTo>
                    <a:close/>
                  </a:path>
                  <a:path w="21600" h="21600">
                    <a:moveTo>
                      <a:pt x="3486" y="1428"/>
                    </a:moveTo>
                    <a:lnTo>
                      <a:pt x="19954" y="1428"/>
                    </a:lnTo>
                    <a:lnTo>
                      <a:pt x="19954" y="20214"/>
                    </a:lnTo>
                    <a:lnTo>
                      <a:pt x="18256" y="20214"/>
                    </a:lnTo>
                    <a:lnTo>
                      <a:pt x="18256" y="2800"/>
                    </a:lnTo>
                    <a:lnTo>
                      <a:pt x="1645" y="2800"/>
                    </a:lnTo>
                    <a:lnTo>
                      <a:pt x="1645" y="1428"/>
                    </a:lnTo>
                    <a:lnTo>
                      <a:pt x="3486" y="1428"/>
                    </a:lnTo>
                    <a:close/>
                  </a:path>
                  <a:path w="21600" h="21600">
                    <a:moveTo>
                      <a:pt x="0" y="18014"/>
                    </a:moveTo>
                    <a:lnTo>
                      <a:pt x="4434" y="18000"/>
                    </a:lnTo>
                    <a:lnTo>
                      <a:pt x="4434" y="21600"/>
                    </a:lnTo>
                    <a:lnTo>
                      <a:pt x="0" y="18014"/>
                    </a:lnTo>
                    <a:close/>
                  </a:path>
                </a:pathLst>
              </a:custGeom>
              <a:solidFill>
                <a:srgbClr val="d8ebb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3" name="Group 22"/>
              <p:cNvGrpSpPr/>
              <p:nvPr/>
            </p:nvGrpSpPr>
            <p:grpSpPr>
              <a:xfrm>
                <a:off x="4499280" y="4156200"/>
                <a:ext cx="1476360" cy="1809720"/>
                <a:chOff x="4499280" y="4156200"/>
                <a:chExt cx="1476360" cy="1809720"/>
              </a:xfrm>
            </p:grpSpPr>
            <p:sp>
              <p:nvSpPr>
                <p:cNvPr id="354" name="Documents"/>
                <p:cNvSpPr/>
                <p:nvPr/>
              </p:nvSpPr>
              <p:spPr>
                <a:xfrm>
                  <a:off x="4518360" y="4156200"/>
                  <a:ext cx="1457280" cy="1809720"/>
                </a:xfrm>
                <a:custGeom>
                  <a:avLst/>
                  <a:gdLst>
                    <a:gd name="textAreaLeft" fmla="*/ 110880 w 1457280"/>
                    <a:gd name="textAreaRight" fmla="*/ 1114560 w 1457280"/>
                    <a:gd name="textAreaTop" fmla="*/ 349200 h 1809720"/>
                    <a:gd name="textAreaBottom" fmla="*/ 1451160 h 180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8014"/>
                      </a:moveTo>
                      <a:lnTo>
                        <a:pt x="0" y="2800"/>
                      </a:lnTo>
                      <a:lnTo>
                        <a:pt x="1645" y="2800"/>
                      </a:lnTo>
                      <a:lnTo>
                        <a:pt x="1645" y="1428"/>
                      </a:lnTo>
                      <a:lnTo>
                        <a:pt x="3468" y="1428"/>
                      </a:lnTo>
                      <a:lnTo>
                        <a:pt x="3468" y="0"/>
                      </a:lnTo>
                      <a:lnTo>
                        <a:pt x="21653" y="0"/>
                      </a:lnTo>
                      <a:lnTo>
                        <a:pt x="21653" y="18828"/>
                      </a:lnTo>
                      <a:lnTo>
                        <a:pt x="19954" y="18828"/>
                      </a:lnTo>
                      <a:lnTo>
                        <a:pt x="19954" y="20214"/>
                      </a:lnTo>
                      <a:lnTo>
                        <a:pt x="18256" y="20214"/>
                      </a:lnTo>
                      <a:lnTo>
                        <a:pt x="18256" y="21600"/>
                      </a:lnTo>
                      <a:lnTo>
                        <a:pt x="4434" y="21600"/>
                      </a:lnTo>
                      <a:lnTo>
                        <a:pt x="0" y="18014"/>
                      </a:lnTo>
                      <a:close/>
                    </a:path>
                    <a:path w="21600" h="21600">
                      <a:moveTo>
                        <a:pt x="3486" y="1428"/>
                      </a:moveTo>
                      <a:lnTo>
                        <a:pt x="19954" y="1428"/>
                      </a:lnTo>
                      <a:lnTo>
                        <a:pt x="19954" y="20214"/>
                      </a:lnTo>
                      <a:lnTo>
                        <a:pt x="18256" y="20214"/>
                      </a:lnTo>
                      <a:lnTo>
                        <a:pt x="18256" y="2800"/>
                      </a:lnTo>
                      <a:lnTo>
                        <a:pt x="1645" y="2800"/>
                      </a:lnTo>
                      <a:lnTo>
                        <a:pt x="1645" y="1428"/>
                      </a:lnTo>
                      <a:lnTo>
                        <a:pt x="3486" y="1428"/>
                      </a:lnTo>
                      <a:close/>
                    </a:path>
                    <a:path w="21600" h="21600">
                      <a:moveTo>
                        <a:pt x="0" y="18014"/>
                      </a:moveTo>
                      <a:lnTo>
                        <a:pt x="4434" y="18000"/>
                      </a:lnTo>
                      <a:lnTo>
                        <a:pt x="4434" y="21600"/>
                      </a:lnTo>
                      <a:lnTo>
                        <a:pt x="0" y="18014"/>
                      </a:lnTo>
                      <a:close/>
                    </a:path>
                  </a:pathLst>
                </a:custGeom>
                <a:solidFill>
                  <a:srgbClr val="d8ebb3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Text Box 24"/>
                <p:cNvSpPr/>
                <p:nvPr/>
              </p:nvSpPr>
              <p:spPr>
                <a:xfrm>
                  <a:off x="4499280" y="4384800"/>
                  <a:ext cx="1371600" cy="11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000000"/>
                      </a:solidFill>
                      <a:latin typeface="Arial"/>
                    </a:rPr>
                    <a:t>Diagnose-bögen</a:t>
                  </a:r>
                  <a:br>
                    <a:rPr sz="1400"/>
                  </a:br>
                  <a:r>
                    <a:rPr b="0" lang="de-DE" sz="1200" spc="-1" strike="noStrike">
                      <a:solidFill>
                        <a:srgbClr val="000000"/>
                      </a:solidFill>
                      <a:latin typeface="Arial"/>
                    </a:rPr>
                    <a:t>und</a:t>
                  </a:r>
                  <a:r>
                    <a:rPr b="0" lang="de-DE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000000"/>
                      </a:solidFill>
                      <a:latin typeface="Arial"/>
                    </a:rPr>
                    <a:t>Evaluations-instrumente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6" name="Group 25"/>
              <p:cNvGrpSpPr/>
              <p:nvPr/>
            </p:nvGrpSpPr>
            <p:grpSpPr>
              <a:xfrm>
                <a:off x="2975040" y="4156200"/>
                <a:ext cx="1533600" cy="1809720"/>
                <a:chOff x="2975040" y="4156200"/>
                <a:chExt cx="1533600" cy="1809720"/>
              </a:xfrm>
            </p:grpSpPr>
            <p:sp>
              <p:nvSpPr>
                <p:cNvPr id="357" name="Documents"/>
                <p:cNvSpPr/>
                <p:nvPr/>
              </p:nvSpPr>
              <p:spPr>
                <a:xfrm>
                  <a:off x="3051360" y="4156200"/>
                  <a:ext cx="1457280" cy="1809720"/>
                </a:xfrm>
                <a:custGeom>
                  <a:avLst/>
                  <a:gdLst>
                    <a:gd name="textAreaLeft" fmla="*/ 110880 w 1457280"/>
                    <a:gd name="textAreaRight" fmla="*/ 1114560 w 1457280"/>
                    <a:gd name="textAreaTop" fmla="*/ 349200 h 1809720"/>
                    <a:gd name="textAreaBottom" fmla="*/ 1451160 h 180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8014"/>
                      </a:moveTo>
                      <a:lnTo>
                        <a:pt x="0" y="2800"/>
                      </a:lnTo>
                      <a:lnTo>
                        <a:pt x="1645" y="2800"/>
                      </a:lnTo>
                      <a:lnTo>
                        <a:pt x="1645" y="1428"/>
                      </a:lnTo>
                      <a:lnTo>
                        <a:pt x="3468" y="1428"/>
                      </a:lnTo>
                      <a:lnTo>
                        <a:pt x="3468" y="0"/>
                      </a:lnTo>
                      <a:lnTo>
                        <a:pt x="21653" y="0"/>
                      </a:lnTo>
                      <a:lnTo>
                        <a:pt x="21653" y="18828"/>
                      </a:lnTo>
                      <a:lnTo>
                        <a:pt x="19954" y="18828"/>
                      </a:lnTo>
                      <a:lnTo>
                        <a:pt x="19954" y="20214"/>
                      </a:lnTo>
                      <a:lnTo>
                        <a:pt x="18256" y="20214"/>
                      </a:lnTo>
                      <a:lnTo>
                        <a:pt x="18256" y="21600"/>
                      </a:lnTo>
                      <a:lnTo>
                        <a:pt x="4434" y="21600"/>
                      </a:lnTo>
                      <a:lnTo>
                        <a:pt x="0" y="18014"/>
                      </a:lnTo>
                      <a:close/>
                    </a:path>
                    <a:path w="21600" h="21600">
                      <a:moveTo>
                        <a:pt x="3486" y="1428"/>
                      </a:moveTo>
                      <a:lnTo>
                        <a:pt x="19954" y="1428"/>
                      </a:lnTo>
                      <a:lnTo>
                        <a:pt x="19954" y="20214"/>
                      </a:lnTo>
                      <a:lnTo>
                        <a:pt x="18256" y="20214"/>
                      </a:lnTo>
                      <a:lnTo>
                        <a:pt x="18256" y="2800"/>
                      </a:lnTo>
                      <a:lnTo>
                        <a:pt x="1645" y="2800"/>
                      </a:lnTo>
                      <a:lnTo>
                        <a:pt x="1645" y="1428"/>
                      </a:lnTo>
                      <a:lnTo>
                        <a:pt x="3486" y="1428"/>
                      </a:lnTo>
                      <a:close/>
                    </a:path>
                    <a:path w="21600" h="21600">
                      <a:moveTo>
                        <a:pt x="0" y="18014"/>
                      </a:moveTo>
                      <a:lnTo>
                        <a:pt x="4434" y="18000"/>
                      </a:lnTo>
                      <a:lnTo>
                        <a:pt x="4434" y="21600"/>
                      </a:lnTo>
                      <a:lnTo>
                        <a:pt x="0" y="18014"/>
                      </a:lnTo>
                      <a:close/>
                    </a:path>
                  </a:pathLst>
                </a:custGeom>
                <a:solidFill>
                  <a:srgbClr val="d8ebb3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Text Box 27"/>
                <p:cNvSpPr/>
                <p:nvPr/>
              </p:nvSpPr>
              <p:spPr>
                <a:xfrm>
                  <a:off x="2975040" y="4384800"/>
                  <a:ext cx="1381320" cy="149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000000"/>
                      </a:solidFill>
                      <a:latin typeface="Arial"/>
                    </a:rPr>
                    <a:t>schülerver-ständliche Ausformulie-rungen</a:t>
                  </a:r>
                  <a:r>
                    <a:rPr b="0" lang="de-DE" sz="14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br>
                    <a:rPr sz="1400"/>
                  </a:br>
                  <a:r>
                    <a:rPr b="0" lang="de-DE" sz="1200" spc="-1" strike="noStrike">
                      <a:solidFill>
                        <a:srgbClr val="000000"/>
                      </a:solidFill>
                      <a:latin typeface="Arial"/>
                    </a:rPr>
                    <a:t>von</a:t>
                  </a:r>
                  <a:br>
                    <a:rPr sz="1200"/>
                  </a:br>
                  <a:r>
                    <a:rPr b="0" lang="de-DE" sz="1200" spc="-1" strike="noStrike">
                      <a:solidFill>
                        <a:srgbClr val="000000"/>
                      </a:solidFill>
                      <a:latin typeface="Arial"/>
                    </a:rPr>
                    <a:t>Kompetenz-</a:t>
                  </a:r>
                  <a:br>
                    <a:rPr sz="1200"/>
                  </a:br>
                  <a:r>
                    <a:rPr b="0" lang="de-DE" sz="1200" spc="-1" strike="noStrike">
                      <a:solidFill>
                        <a:srgbClr val="000000"/>
                      </a:solidFill>
                      <a:latin typeface="Arial"/>
                    </a:rPr>
                    <a:t>      erwartunge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9" name="Group 28"/>
              <p:cNvGrpSpPr/>
              <p:nvPr/>
            </p:nvGrpSpPr>
            <p:grpSpPr>
              <a:xfrm>
                <a:off x="1587600" y="4149720"/>
                <a:ext cx="1457280" cy="1809720"/>
                <a:chOff x="1587600" y="4149720"/>
                <a:chExt cx="1457280" cy="1809720"/>
              </a:xfrm>
            </p:grpSpPr>
            <p:sp>
              <p:nvSpPr>
                <p:cNvPr id="360" name="Documents"/>
                <p:cNvSpPr/>
                <p:nvPr/>
              </p:nvSpPr>
              <p:spPr>
                <a:xfrm>
                  <a:off x="1587600" y="4149720"/>
                  <a:ext cx="1457280" cy="1809720"/>
                </a:xfrm>
                <a:custGeom>
                  <a:avLst/>
                  <a:gdLst>
                    <a:gd name="textAreaLeft" fmla="*/ 110880 w 1457280"/>
                    <a:gd name="textAreaRight" fmla="*/ 1114560 w 1457280"/>
                    <a:gd name="textAreaTop" fmla="*/ 349200 h 1809720"/>
                    <a:gd name="textAreaBottom" fmla="*/ 1451160 h 180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8014"/>
                      </a:moveTo>
                      <a:lnTo>
                        <a:pt x="0" y="2800"/>
                      </a:lnTo>
                      <a:lnTo>
                        <a:pt x="1645" y="2800"/>
                      </a:lnTo>
                      <a:lnTo>
                        <a:pt x="1645" y="1428"/>
                      </a:lnTo>
                      <a:lnTo>
                        <a:pt x="3468" y="1428"/>
                      </a:lnTo>
                      <a:lnTo>
                        <a:pt x="3468" y="0"/>
                      </a:lnTo>
                      <a:lnTo>
                        <a:pt x="21653" y="0"/>
                      </a:lnTo>
                      <a:lnTo>
                        <a:pt x="21653" y="18828"/>
                      </a:lnTo>
                      <a:lnTo>
                        <a:pt x="19954" y="18828"/>
                      </a:lnTo>
                      <a:lnTo>
                        <a:pt x="19954" y="20214"/>
                      </a:lnTo>
                      <a:lnTo>
                        <a:pt x="18256" y="20214"/>
                      </a:lnTo>
                      <a:lnTo>
                        <a:pt x="18256" y="21600"/>
                      </a:lnTo>
                      <a:lnTo>
                        <a:pt x="4434" y="21600"/>
                      </a:lnTo>
                      <a:lnTo>
                        <a:pt x="0" y="18014"/>
                      </a:lnTo>
                      <a:close/>
                    </a:path>
                    <a:path w="21600" h="21600">
                      <a:moveTo>
                        <a:pt x="3486" y="1428"/>
                      </a:moveTo>
                      <a:lnTo>
                        <a:pt x="19954" y="1428"/>
                      </a:lnTo>
                      <a:lnTo>
                        <a:pt x="19954" y="20214"/>
                      </a:lnTo>
                      <a:lnTo>
                        <a:pt x="18256" y="20214"/>
                      </a:lnTo>
                      <a:lnTo>
                        <a:pt x="18256" y="2800"/>
                      </a:lnTo>
                      <a:lnTo>
                        <a:pt x="1645" y="2800"/>
                      </a:lnTo>
                      <a:lnTo>
                        <a:pt x="1645" y="1428"/>
                      </a:lnTo>
                      <a:lnTo>
                        <a:pt x="3486" y="1428"/>
                      </a:lnTo>
                      <a:close/>
                    </a:path>
                    <a:path w="21600" h="21600">
                      <a:moveTo>
                        <a:pt x="0" y="18014"/>
                      </a:moveTo>
                      <a:lnTo>
                        <a:pt x="4434" y="18000"/>
                      </a:lnTo>
                      <a:lnTo>
                        <a:pt x="4434" y="21600"/>
                      </a:lnTo>
                      <a:lnTo>
                        <a:pt x="0" y="18014"/>
                      </a:lnTo>
                      <a:close/>
                    </a:path>
                  </a:pathLst>
                </a:custGeom>
                <a:solidFill>
                  <a:srgbClr val="d8ebb3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Text Box 30"/>
                <p:cNvSpPr/>
                <p:nvPr/>
              </p:nvSpPr>
              <p:spPr>
                <a:xfrm>
                  <a:off x="1616400" y="4378320"/>
                  <a:ext cx="1276200" cy="149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000000"/>
                      </a:solidFill>
                      <a:latin typeface="Arial"/>
                    </a:rPr>
                    <a:t>Unterrichts- und Lernarran-gements</a:t>
                  </a:r>
                  <a:r>
                    <a:rPr b="0" lang="de-DE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br>
                    <a:rPr sz="1400"/>
                  </a:br>
                  <a:r>
                    <a:rPr b="0" lang="de-DE" sz="1200" spc="-1" strike="noStrike">
                      <a:solidFill>
                        <a:srgbClr val="000000"/>
                      </a:solidFill>
                      <a:latin typeface="Arial"/>
                    </a:rPr>
                    <a:t>zu</a:t>
                  </a:r>
                  <a:br>
                    <a:rPr sz="1200"/>
                  </a:br>
                  <a:r>
                    <a:rPr b="0" lang="de-DE" sz="1200" spc="-1" strike="noStrike">
                      <a:solidFill>
                        <a:srgbClr val="000000"/>
                      </a:solidFill>
                      <a:latin typeface="Arial"/>
                    </a:rPr>
                    <a:t>Kompetenz-</a:t>
                  </a:r>
                  <a:br>
                    <a:rPr sz="1200"/>
                  </a:br>
                  <a:r>
                    <a:rPr b="0" lang="de-DE" sz="1200" spc="-1" strike="noStrike">
                      <a:solidFill>
                        <a:srgbClr val="000000"/>
                      </a:solidFill>
                      <a:latin typeface="Arial"/>
                    </a:rPr>
                    <a:t>    erwartunge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2" name="Group 31"/>
              <p:cNvGrpSpPr/>
              <p:nvPr/>
            </p:nvGrpSpPr>
            <p:grpSpPr>
              <a:xfrm>
                <a:off x="0" y="4152960"/>
                <a:ext cx="1571760" cy="1809720"/>
                <a:chOff x="0" y="4152960"/>
                <a:chExt cx="1571760" cy="1809720"/>
              </a:xfrm>
            </p:grpSpPr>
            <p:sp>
              <p:nvSpPr>
                <p:cNvPr id="363" name="Documents"/>
                <p:cNvSpPr/>
                <p:nvPr/>
              </p:nvSpPr>
              <p:spPr>
                <a:xfrm>
                  <a:off x="114120" y="4152960"/>
                  <a:ext cx="1457640" cy="1809720"/>
                </a:xfrm>
                <a:custGeom>
                  <a:avLst/>
                  <a:gdLst>
                    <a:gd name="textAreaLeft" fmla="*/ 110880 w 1457640"/>
                    <a:gd name="textAreaRight" fmla="*/ 1114920 w 1457640"/>
                    <a:gd name="textAreaTop" fmla="*/ 349200 h 1809720"/>
                    <a:gd name="textAreaBottom" fmla="*/ 1451160 h 180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8014"/>
                      </a:moveTo>
                      <a:lnTo>
                        <a:pt x="0" y="2800"/>
                      </a:lnTo>
                      <a:lnTo>
                        <a:pt x="1645" y="2800"/>
                      </a:lnTo>
                      <a:lnTo>
                        <a:pt x="1645" y="1428"/>
                      </a:lnTo>
                      <a:lnTo>
                        <a:pt x="3468" y="1428"/>
                      </a:lnTo>
                      <a:lnTo>
                        <a:pt x="3468" y="0"/>
                      </a:lnTo>
                      <a:lnTo>
                        <a:pt x="21653" y="0"/>
                      </a:lnTo>
                      <a:lnTo>
                        <a:pt x="21653" y="18828"/>
                      </a:lnTo>
                      <a:lnTo>
                        <a:pt x="19954" y="18828"/>
                      </a:lnTo>
                      <a:lnTo>
                        <a:pt x="19954" y="20214"/>
                      </a:lnTo>
                      <a:lnTo>
                        <a:pt x="18256" y="20214"/>
                      </a:lnTo>
                      <a:lnTo>
                        <a:pt x="18256" y="21600"/>
                      </a:lnTo>
                      <a:lnTo>
                        <a:pt x="4434" y="21600"/>
                      </a:lnTo>
                      <a:lnTo>
                        <a:pt x="0" y="18014"/>
                      </a:lnTo>
                      <a:close/>
                    </a:path>
                    <a:path w="21600" h="21600">
                      <a:moveTo>
                        <a:pt x="3486" y="1428"/>
                      </a:moveTo>
                      <a:lnTo>
                        <a:pt x="19954" y="1428"/>
                      </a:lnTo>
                      <a:lnTo>
                        <a:pt x="19954" y="20214"/>
                      </a:lnTo>
                      <a:lnTo>
                        <a:pt x="18256" y="20214"/>
                      </a:lnTo>
                      <a:lnTo>
                        <a:pt x="18256" y="2800"/>
                      </a:lnTo>
                      <a:lnTo>
                        <a:pt x="1645" y="2800"/>
                      </a:lnTo>
                      <a:lnTo>
                        <a:pt x="1645" y="1428"/>
                      </a:lnTo>
                      <a:lnTo>
                        <a:pt x="3486" y="1428"/>
                      </a:lnTo>
                      <a:close/>
                    </a:path>
                    <a:path w="21600" h="21600">
                      <a:moveTo>
                        <a:pt x="0" y="18014"/>
                      </a:moveTo>
                      <a:lnTo>
                        <a:pt x="4434" y="18000"/>
                      </a:lnTo>
                      <a:lnTo>
                        <a:pt x="4434" y="21600"/>
                      </a:lnTo>
                      <a:lnTo>
                        <a:pt x="0" y="18014"/>
                      </a:lnTo>
                      <a:close/>
                    </a:path>
                  </a:pathLst>
                </a:custGeom>
                <a:solidFill>
                  <a:srgbClr val="d8ebb3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Text Box 33"/>
                <p:cNvSpPr/>
                <p:nvPr/>
              </p:nvSpPr>
              <p:spPr>
                <a:xfrm>
                  <a:off x="0" y="4400640"/>
                  <a:ext cx="1467000" cy="148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000000"/>
                      </a:solidFill>
                      <a:latin typeface="Arial"/>
                    </a:rPr>
                    <a:t>Beispiel-aufgaben</a:t>
                  </a:r>
                  <a:r>
                    <a:rPr b="0" lang="de-DE" sz="12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spcBef>
                      <a:spcPts val="3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Arial"/>
                    </a:rPr>
                    <a:t>(Lernaufgaben / Testaufgaben) zu konkreten Kompetenz-</a:t>
                  </a:r>
                  <a:br>
                    <a:rPr sz="1200"/>
                  </a:br>
                  <a:r>
                    <a:rPr b="0" lang="de-DE" sz="1200" spc="-1" strike="noStrike">
                      <a:solidFill>
                        <a:srgbClr val="000000"/>
                      </a:solidFill>
                      <a:latin typeface="Arial"/>
                    </a:rPr>
                    <a:t>      erwartunge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5" name="Text Box 34"/>
              <p:cNvSpPr/>
              <p:nvPr/>
            </p:nvSpPr>
            <p:spPr>
              <a:xfrm>
                <a:off x="5981760" y="4362480"/>
                <a:ext cx="1352520" cy="149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Konkretisie-rungen zum Schulinternen Lehrplan:</a:t>
                </a: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de-DE" sz="1400" spc="-1" strike="noStrike">
                    <a:solidFill>
                      <a:srgbClr val="000000"/>
                    </a:solidFill>
                    <a:latin typeface="Arial"/>
                  </a:rPr>
                  <a:t>Beispiele zu Unterrichts-</a:t>
                </a:r>
                <a:br>
                  <a:rPr sz="1400"/>
                </a:br>
                <a:r>
                  <a:rPr b="1" lang="de-DE" sz="1400" spc="-1" strike="noStrike">
                    <a:solidFill>
                      <a:srgbClr val="000000"/>
                    </a:solidFill>
                    <a:latin typeface="Arial"/>
                  </a:rPr>
                  <a:t>     vorhabe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6" name="Textfeld 37"/>
          <p:cNvSpPr/>
          <p:nvPr/>
        </p:nvSpPr>
        <p:spPr>
          <a:xfrm>
            <a:off x="434880" y="1295280"/>
            <a:ext cx="241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Arial"/>
                <a:ea typeface="ヒラギノ角ゴ Pro W3"/>
              </a:rPr>
              <a:t>Unterstützung: Lehrplannavig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feld 38"/>
          <p:cNvSpPr/>
          <p:nvPr/>
        </p:nvSpPr>
        <p:spPr>
          <a:xfrm>
            <a:off x="133200" y="6364440"/>
            <a:ext cx="818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2060"/>
                </a:solidFill>
                <a:latin typeface="Arial"/>
              </a:rPr>
              <a:t>http://www.standardsicherung.schulministerium.nrw.de/lehrplaene/lehrplannavig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Group 52"/>
          <p:cNvGrpSpPr/>
          <p:nvPr/>
        </p:nvGrpSpPr>
        <p:grpSpPr>
          <a:xfrm>
            <a:off x="2484000" y="1068480"/>
            <a:ext cx="4114800" cy="3345840"/>
            <a:chOff x="2484000" y="1068480"/>
            <a:chExt cx="4114800" cy="3345840"/>
          </a:xfrm>
        </p:grpSpPr>
        <p:sp>
          <p:nvSpPr>
            <p:cNvPr id="369" name="Line 38"/>
            <p:cNvSpPr/>
            <p:nvPr/>
          </p:nvSpPr>
          <p:spPr>
            <a:xfrm flipH="1">
              <a:off x="5076720" y="1068480"/>
              <a:ext cx="905040" cy="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0" name="Group 39"/>
            <p:cNvGrpSpPr/>
            <p:nvPr/>
          </p:nvGrpSpPr>
          <p:grpSpPr>
            <a:xfrm>
              <a:off x="2484000" y="3395520"/>
              <a:ext cx="4114800" cy="1018800"/>
              <a:chOff x="2484000" y="3395520"/>
              <a:chExt cx="4114800" cy="1018800"/>
            </a:xfrm>
          </p:grpSpPr>
          <p:sp>
            <p:nvSpPr>
              <p:cNvPr id="371" name="Line 40"/>
              <p:cNvSpPr/>
              <p:nvPr/>
            </p:nvSpPr>
            <p:spPr>
              <a:xfrm flipH="1">
                <a:off x="6589080" y="3395520"/>
                <a:ext cx="9720" cy="10188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Line 41"/>
              <p:cNvSpPr/>
              <p:nvPr/>
            </p:nvSpPr>
            <p:spPr>
              <a:xfrm flipH="1">
                <a:off x="2484000" y="3888720"/>
                <a:ext cx="4095720" cy="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3" name="Group 53"/>
          <p:cNvGrpSpPr/>
          <p:nvPr/>
        </p:nvGrpSpPr>
        <p:grpSpPr>
          <a:xfrm>
            <a:off x="2266920" y="3538440"/>
            <a:ext cx="4851360" cy="325440"/>
            <a:chOff x="2266920" y="3538440"/>
            <a:chExt cx="4851360" cy="325440"/>
          </a:xfrm>
        </p:grpSpPr>
        <p:sp>
          <p:nvSpPr>
            <p:cNvPr id="374" name="Line 34"/>
            <p:cNvSpPr/>
            <p:nvPr/>
          </p:nvSpPr>
          <p:spPr>
            <a:xfrm flipV="1">
              <a:off x="4241880" y="3538440"/>
              <a:ext cx="0" cy="200160"/>
            </a:xfrm>
            <a:prstGeom prst="line">
              <a:avLst/>
            </a:prstGeom>
            <a:ln w="414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35"/>
            <p:cNvSpPr/>
            <p:nvPr/>
          </p:nvSpPr>
          <p:spPr>
            <a:xfrm flipV="1">
              <a:off x="7093080" y="3538440"/>
              <a:ext cx="0" cy="200160"/>
            </a:xfrm>
            <a:prstGeom prst="line">
              <a:avLst/>
            </a:prstGeom>
            <a:ln w="414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36"/>
            <p:cNvSpPr/>
            <p:nvPr/>
          </p:nvSpPr>
          <p:spPr>
            <a:xfrm flipH="1" flipV="1">
              <a:off x="2266920" y="3735000"/>
              <a:ext cx="4851360" cy="19080"/>
            </a:xfrm>
            <a:prstGeom prst="line">
              <a:avLst/>
            </a:prstGeom>
            <a:ln w="414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37"/>
            <p:cNvSpPr/>
            <p:nvPr/>
          </p:nvSpPr>
          <p:spPr>
            <a:xfrm flipV="1">
              <a:off x="2268360" y="3754440"/>
              <a:ext cx="0" cy="109440"/>
            </a:xfrm>
            <a:prstGeom prst="line">
              <a:avLst/>
            </a:prstGeom>
            <a:ln w="414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CB89F-3E43-47F2-B896-53ED2C6CA1DA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20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B13D6-5FF6-4EBC-8D60-E1E4CB2E3442}" type="slidenum"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2475F-046A-401C-A477-137AE2C9E26A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366840" y="1495440"/>
            <a:ext cx="8424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9960" indent="-223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Arial"/>
                <a:ea typeface="ヒラギノ角ゴ Pro W3"/>
              </a:rPr>
              <a:t>Zeitplan zur Entwicklung der schulinternen Lehrplä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582480" y="2373480"/>
          <a:ext cx="7967880" cy="2944800"/>
        </p:xfrm>
        <a:graphic>
          <a:graphicData uri="http://schemas.openxmlformats.org/drawingml/2006/table">
            <a:tbl>
              <a:tblPr/>
              <a:tblGrid>
                <a:gridCol w="6012000"/>
                <a:gridCol w="1955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hrplanelem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rtiggestellt b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Übersichtsraster Unterrichtsvorhaben E-phase + Grundsätze der Beurteilung in der E-ph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uar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Übersichtsraster Unterrichtsvorhaben Q-phase + Grundsätze der Beurteilung in der Q-ph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li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ntinuierliche Konkretisierung und Verbesserung der geplanten und durchgeführten Unterrichtsvorhaben sowie der weiteren Lehrplanelemente bis hin zu einem komplett ausgearbeitetem schulinternen Lehrpl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gust 2014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i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uar 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3" name="Rectangle 3"/>
          <p:cNvSpPr/>
          <p:nvPr/>
        </p:nvSpPr>
        <p:spPr>
          <a:xfrm>
            <a:off x="352440" y="1914480"/>
            <a:ext cx="842472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9960" indent="-223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Lehrplanentwicklung Schritt für Schri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Foliennummernplatzhalter 4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4CB47-9158-4D4A-B15E-5C35096D1D7C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60200" y="2109960"/>
            <a:ext cx="8475840" cy="132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66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Abschlus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9036"/>
                </a:solidFill>
                <a:latin typeface="Arial"/>
              </a:rPr>
              <a:t>offene Fragen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9036"/>
                </a:solidFill>
                <a:latin typeface="Arial"/>
              </a:rPr>
              <a:t>Tagesrückbl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4"/>
          <p:cNvSpPr/>
          <p:nvPr/>
        </p:nvSpPr>
        <p:spPr>
          <a:xfrm>
            <a:off x="0" y="1433520"/>
            <a:ext cx="9144000" cy="504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2" descr="NRW_Guillochen_PowerPoint-Titel"/>
          <p:cNvPicPr/>
          <p:nvPr/>
        </p:nvPicPr>
        <p:blipFill>
          <a:blip r:embed="rId1"/>
          <a:stretch/>
        </p:blipFill>
        <p:spPr>
          <a:xfrm>
            <a:off x="11160" y="3019320"/>
            <a:ext cx="9144000" cy="191448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3"/>
          <p:cNvSpPr/>
          <p:nvPr/>
        </p:nvSpPr>
        <p:spPr>
          <a:xfrm>
            <a:off x="0" y="2928960"/>
            <a:ext cx="8989920" cy="31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3366"/>
                </a:solidFill>
                <a:latin typeface="Arial"/>
              </a:rPr>
              <a:t>Herzlichen Dank fü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3366"/>
                </a:solidFill>
                <a:latin typeface="Arial"/>
              </a:rPr>
              <a:t>Ihre Aufmerksamkeit und Mitarbei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hteck 1"/>
          <p:cNvSpPr/>
          <p:nvPr/>
        </p:nvSpPr>
        <p:spPr>
          <a:xfrm>
            <a:off x="522360" y="1646280"/>
            <a:ext cx="825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-BoldMT"/>
              </a:rPr>
              <a:t>Wir wünschen: Erfolg und Freude bei der Umsetzung neuen KLP, 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Arial-BoldMT"/>
              </a:rPr>
              <a:t>und am kompetenzorientierten Unterricht</a:t>
            </a:r>
            <a:r>
              <a:rPr b="0" lang="en-US" sz="2000" spc="-1" strike="noStrike">
                <a:solidFill>
                  <a:srgbClr val="000099"/>
                </a:solidFill>
                <a:latin typeface="Arial-BoldMT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DD9FC-0D02-4B80-9D24-DD5A44D656F2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539640" y="2373480"/>
            <a:ext cx="8064720" cy="24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47C3C-F991-4C86-AED0-464277F3701E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539640" y="1444680"/>
            <a:ext cx="661824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Einlei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wissen-kompetenz"/>
          <p:cNvPicPr/>
          <p:nvPr/>
        </p:nvPicPr>
        <p:blipFill>
          <a:blip r:embed="rId1"/>
          <a:stretch/>
        </p:blipFill>
        <p:spPr>
          <a:xfrm>
            <a:off x="541440" y="1847880"/>
            <a:ext cx="6896160" cy="4275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8"/>
          <p:cNvSpPr/>
          <p:nvPr/>
        </p:nvSpPr>
        <p:spPr>
          <a:xfrm>
            <a:off x="4068000" y="6453360"/>
            <a:ext cx="48196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eichnung: Peter Meyer, Quelle: http://lehrerfortbildung-bw.de/faecher/bio/gym/fb3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59E5F-23AB-4DF2-BAF1-D2802E1336B0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2"/>
          <p:cNvSpPr/>
          <p:nvPr/>
        </p:nvSpPr>
        <p:spPr>
          <a:xfrm>
            <a:off x="484200" y="3197160"/>
            <a:ext cx="7910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2761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374760"/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erden in einem 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ea typeface="ヒラギノ角ゴ Pro W3"/>
              </a:rPr>
              <a:t>längeren Entwicklungsproz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(kumulativ) erworbe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sind also nicht identisch mit Stundenziel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4"/>
          <p:cNvSpPr/>
          <p:nvPr/>
        </p:nvSpPr>
        <p:spPr>
          <a:xfrm>
            <a:off x="374760" y="4859280"/>
            <a:ext cx="6931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26064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ind 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ea typeface="ヒラギノ角ゴ Pro W3"/>
              </a:rPr>
              <a:t>stärkenorienti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nicht defizitorientie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8BBBF-66AE-4DD3-988A-155E37889542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490680" y="2262240"/>
            <a:ext cx="814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279360">
              <a:buClr>
                <a:srgbClr val="000000"/>
              </a:buClr>
              <a:buFont typeface="Arial"/>
              <a:buChar char="•"/>
              <a:tabLst>
                <a:tab algn="l" pos="406440"/>
                <a:tab algn="l" pos="609480"/>
                <a:tab algn="l" pos="812880"/>
                <a:tab algn="l" pos="1015920"/>
                <a:tab algn="l" pos="1219320"/>
                <a:tab algn="l" pos="1422360"/>
                <a:tab algn="l" pos="1625760"/>
                <a:tab algn="l" pos="1828800"/>
                <a:tab algn="l" pos="2031840"/>
                <a:tab algn="l" pos="2235240"/>
                <a:tab algn="l" pos="2438280"/>
                <a:tab algn="l" pos="2641680"/>
                <a:tab algn="l" pos="2844720"/>
                <a:tab algn="l" pos="3048120"/>
                <a:tab algn="l" pos="3251160"/>
                <a:tab algn="l" pos="3454560"/>
                <a:tab algn="l" pos="3657600"/>
                <a:tab algn="l" pos="3860640"/>
                <a:tab algn="l" pos="4064040"/>
                <a:tab algn="l" pos="42670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enennen </a:t>
            </a:r>
            <a:r>
              <a:rPr b="0" lang="de-DE" sz="1800" spc="-1" strike="noStrike" u="sng">
                <a:solidFill>
                  <a:srgbClr val="003366"/>
                </a:solidFill>
                <a:uFillTx/>
                <a:latin typeface="Arial"/>
                <a:ea typeface="ヒラギノ角ゴ Pro W3"/>
              </a:rPr>
              <a:t>individuelle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  <a:ea typeface="ヒラギノ角ゴ Pro W3"/>
              </a:rPr>
              <a:t> </a:t>
            </a:r>
            <a:r>
              <a:rPr b="0" lang="de-DE" sz="1800" spc="-1" strike="noStrike" u="sng">
                <a:solidFill>
                  <a:srgbClr val="003366"/>
                </a:solidFill>
                <a:uFillTx/>
                <a:latin typeface="Arial"/>
                <a:ea typeface="ヒラギノ角ゴ Pro W3"/>
              </a:rPr>
              <a:t>fachspezifische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  <a:ea typeface="ヒラギノ角ゴ Pro W3"/>
              </a:rPr>
              <a:t> </a:t>
            </a:r>
            <a:r>
              <a:rPr b="0" lang="de-DE" sz="1800" spc="-1" strike="noStrike" u="sng">
                <a:solidFill>
                  <a:srgbClr val="003366"/>
                </a:solidFill>
                <a:uFillTx/>
                <a:latin typeface="Arial"/>
                <a:ea typeface="ヒラギノ角ゴ Pro W3"/>
              </a:rPr>
              <a:t>Fähigkeiten und Fertigkeite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sind also keine reinen Unterrichtsinhal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3"/>
          <p:cNvSpPr/>
          <p:nvPr/>
        </p:nvSpPr>
        <p:spPr>
          <a:xfrm>
            <a:off x="374760" y="4035600"/>
            <a:ext cx="8229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26064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ind 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ea typeface="ヒラギノ角ゴ Pro W3"/>
              </a:rPr>
              <a:t>Grundlage für das selbstständige Lös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von Problemen und für das Hervorbringen von Neu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539640" y="1474920"/>
            <a:ext cx="661824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Kompetenz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0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71914-4E8B-4518-B811-94D85AF7D499}" type="slidenum"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6875D-9507-401D-8A4C-7CCEED15B5D0}" type="slidenum"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608040" y="2790720"/>
            <a:ext cx="7723080" cy="1313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ine Kompetenz ist eine Disposition, die dazu befähigt,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variable Anforderungssituationen in einem bestimmten Lern- oder Handlungsbereich erfolgreich und verantwortlich zu bewältigen (Problemlösefähigkeit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F7BC2-6FC8-4AF0-888B-C81876E507BB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539640" y="1474920"/>
            <a:ext cx="661824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Kompetenz – eine 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E2DE9-73ED-4218-A363-75C8F7B0820D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8"/>
          <p:cNvSpPr/>
          <p:nvPr/>
        </p:nvSpPr>
        <p:spPr>
          <a:xfrm>
            <a:off x="531720" y="1392120"/>
            <a:ext cx="824724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Kompetenzorientiertes Lernen ermöglichen: Unterrichtsskrip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9"/>
          <p:cNvSpPr/>
          <p:nvPr/>
        </p:nvSpPr>
        <p:spPr>
          <a:xfrm>
            <a:off x="539640" y="5817600"/>
            <a:ext cx="78472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2001a"/>
                </a:solidFill>
                <a:latin typeface="Arial"/>
              </a:rPr>
              <a:t>pointierte Veränderung bislang dominierender Unterrichtsskrip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4"/>
          <p:cNvSpPr/>
          <p:nvPr/>
        </p:nvSpPr>
        <p:spPr>
          <a:xfrm>
            <a:off x="493560" y="3222720"/>
            <a:ext cx="8478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2001a"/>
                </a:solidFill>
                <a:latin typeface="Arial"/>
              </a:rPr>
              <a:t>„</a:t>
            </a:r>
            <a:r>
              <a:rPr b="1" lang="en-US" sz="1800" spc="-1" strike="noStrike">
                <a:solidFill>
                  <a:srgbClr val="e2001a"/>
                </a:solidFill>
                <a:latin typeface="Arial"/>
              </a:rPr>
              <a:t>neu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5"/>
          <p:cNvSpPr/>
          <p:nvPr/>
        </p:nvSpPr>
        <p:spPr>
          <a:xfrm>
            <a:off x="493560" y="4043520"/>
            <a:ext cx="6890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t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26"/>
          <p:cNvSpPr/>
          <p:nvPr/>
        </p:nvSpPr>
        <p:spPr>
          <a:xfrm>
            <a:off x="2327400" y="4768920"/>
            <a:ext cx="88920" cy="326880"/>
          </a:xfrm>
          <a:prstGeom prst="upArrow">
            <a:avLst>
              <a:gd name="adj1" fmla="val 50000"/>
              <a:gd name="adj2" fmla="val 91903"/>
            </a:avLst>
          </a:prstGeom>
          <a:solidFill>
            <a:srgbClr val="acacac"/>
          </a:solidFill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27"/>
          <p:cNvSpPr/>
          <p:nvPr/>
        </p:nvSpPr>
        <p:spPr>
          <a:xfrm>
            <a:off x="2327400" y="2587680"/>
            <a:ext cx="88920" cy="26676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acacac"/>
          </a:solidFill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8"/>
          <p:cNvSpPr/>
          <p:nvPr/>
        </p:nvSpPr>
        <p:spPr>
          <a:xfrm>
            <a:off x="1341360" y="2160720"/>
            <a:ext cx="2078280" cy="45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ompetenzen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Bildungsstandar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9"/>
          <p:cNvSpPr/>
          <p:nvPr/>
        </p:nvSpPr>
        <p:spPr>
          <a:xfrm>
            <a:off x="1432080" y="5095800"/>
            <a:ext cx="1865160" cy="45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m Inhalt orientierte 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hrplä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33"/>
          <p:cNvSpPr/>
          <p:nvPr/>
        </p:nvSpPr>
        <p:spPr>
          <a:xfrm>
            <a:off x="3438360" y="2000160"/>
            <a:ext cx="1925640" cy="663840"/>
          </a:xfrm>
          <a:prstGeom prst="wedgeEllipseCallout">
            <a:avLst>
              <a:gd name="adj1" fmla="val -67888"/>
              <a:gd name="adj2" fmla="val 2393"/>
            </a:avLst>
          </a:prstGeom>
          <a:blipFill rotWithShape="0">
            <a:blip r:embed="rId1">
              <a:alphaModFix amt="52000"/>
            </a:blip>
            <a:srcRect/>
            <a:stretch/>
          </a:blipFill>
          <a:ln w="0">
            <a:noFill/>
          </a:ln>
          <a:effectLst>
            <a:outerShdw dist="17819" dir="2700000" blurRad="0" rotWithShape="0">
              <a:srgbClr val="9999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rwartungen an das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Ergebn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35"/>
          <p:cNvSpPr/>
          <p:nvPr/>
        </p:nvSpPr>
        <p:spPr>
          <a:xfrm rot="21233400">
            <a:off x="3294000" y="3222360"/>
            <a:ext cx="1279440" cy="166680"/>
          </a:xfrm>
          <a:prstGeom prst="rightArrow">
            <a:avLst>
              <a:gd name="adj1" fmla="val 50000"/>
              <a:gd name="adj2" fmla="val 537926"/>
            </a:avLst>
          </a:prstGeom>
          <a:solidFill>
            <a:srgbClr val="acacac"/>
          </a:solidFill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36"/>
          <p:cNvSpPr/>
          <p:nvPr/>
        </p:nvSpPr>
        <p:spPr>
          <a:xfrm rot="489600">
            <a:off x="3303360" y="4133880"/>
            <a:ext cx="1258920" cy="154080"/>
          </a:xfrm>
          <a:prstGeom prst="rightArrow">
            <a:avLst>
              <a:gd name="adj1" fmla="val 50000"/>
              <a:gd name="adj2" fmla="val 537630"/>
            </a:avLst>
          </a:prstGeom>
          <a:solidFill>
            <a:srgbClr val="acacac"/>
          </a:solidFill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7"/>
          <p:cNvSpPr/>
          <p:nvPr/>
        </p:nvSpPr>
        <p:spPr>
          <a:xfrm>
            <a:off x="7500960" y="3575160"/>
            <a:ext cx="1285920" cy="45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istungen der Studieren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8"/>
          <p:cNvSpPr/>
          <p:nvPr/>
        </p:nvSpPr>
        <p:spPr>
          <a:xfrm>
            <a:off x="4735440" y="2770200"/>
            <a:ext cx="30751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ewältigung von Anwendungs-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ituationen mit fachlichen und 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überfachlichen Anforderunge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1"/>
          <p:cNvSpPr/>
          <p:nvPr/>
        </p:nvSpPr>
        <p:spPr>
          <a:xfrm>
            <a:off x="4754520" y="4091040"/>
            <a:ext cx="30751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Reproduzieren von und Ausein-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ndersetzung mit meist fach-lichen Anforderun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33"/>
          <p:cNvSpPr/>
          <p:nvPr/>
        </p:nvSpPr>
        <p:spPr>
          <a:xfrm>
            <a:off x="3473280" y="4889520"/>
            <a:ext cx="1925640" cy="663480"/>
          </a:xfrm>
          <a:prstGeom prst="wedgeEllipseCallout">
            <a:avLst>
              <a:gd name="adj1" fmla="val -68712"/>
              <a:gd name="adj2" fmla="val 3347"/>
            </a:avLst>
          </a:prstGeom>
          <a:blipFill rotWithShape="0">
            <a:blip r:embed="rId2">
              <a:alphaModFix amt="52000"/>
            </a:blip>
            <a:srcRect/>
            <a:stretch/>
          </a:blipFill>
          <a:ln w="0">
            <a:noFill/>
          </a:ln>
          <a:effectLst>
            <a:outerShdw dist="17819" dir="2700000" blurRad="0" rotWithShape="0">
              <a:srgbClr val="9999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orgaben für die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Inhal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1"/>
          <p:cNvSpPr/>
          <p:nvPr/>
        </p:nvSpPr>
        <p:spPr>
          <a:xfrm>
            <a:off x="1668600" y="3025800"/>
            <a:ext cx="1469880" cy="73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2001a"/>
                </a:solidFill>
                <a:latin typeface="Arial"/>
              </a:rPr>
              <a:t>Entwicklung </a:t>
            </a:r>
            <a:br>
              <a:rPr sz="1400"/>
            </a:br>
            <a:r>
              <a:rPr b="1" lang="en-US" sz="1400" spc="-1" strike="noStrike">
                <a:solidFill>
                  <a:srgbClr val="e2001a"/>
                </a:solidFill>
                <a:latin typeface="Arial"/>
              </a:rPr>
              <a:t>von </a:t>
            </a:r>
            <a:br>
              <a:rPr sz="1400"/>
            </a:br>
            <a:r>
              <a:rPr b="1" lang="en-US" sz="1400" spc="-1" strike="noStrike">
                <a:solidFill>
                  <a:srgbClr val="e2001a"/>
                </a:solidFill>
                <a:latin typeface="Arial"/>
              </a:rPr>
              <a:t>Fähigkei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3"/>
          <p:cNvSpPr/>
          <p:nvPr/>
        </p:nvSpPr>
        <p:spPr>
          <a:xfrm>
            <a:off x="1668600" y="3841920"/>
            <a:ext cx="1469880" cy="73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rmittlung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on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hal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8"/>
          <p:cNvSpPr/>
          <p:nvPr/>
        </p:nvSpPr>
        <p:spPr>
          <a:xfrm>
            <a:off x="4235400" y="3645000"/>
            <a:ext cx="30751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Wisse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Könne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6666"/>
                </a:solidFill>
                <a:latin typeface="Arial"/>
              </a:rPr>
              <a:t>Kompetenz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9"/>
          <p:cNvSpPr/>
          <p:nvPr/>
        </p:nvSpPr>
        <p:spPr>
          <a:xfrm flipH="1">
            <a:off x="2927160" y="3801960"/>
            <a:ext cx="1307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Ellipse 9"/>
          <p:cNvSpPr/>
          <p:nvPr/>
        </p:nvSpPr>
        <p:spPr>
          <a:xfrm>
            <a:off x="1441440" y="2854440"/>
            <a:ext cx="1862280" cy="1268280"/>
          </a:xfrm>
          <a:prstGeom prst="ellipse">
            <a:avLst/>
          </a:prstGeom>
          <a:solidFill>
            <a:srgbClr val="0000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Ellipse 9"/>
          <p:cNvSpPr/>
          <p:nvPr/>
        </p:nvSpPr>
        <p:spPr>
          <a:xfrm>
            <a:off x="1476360" y="3500280"/>
            <a:ext cx="1862280" cy="1258920"/>
          </a:xfrm>
          <a:prstGeom prst="ellipse">
            <a:avLst/>
          </a:prstGeom>
          <a:solidFill>
            <a:srgbClr val="008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2"/>
          <p:cNvSpPr/>
          <p:nvPr/>
        </p:nvSpPr>
        <p:spPr>
          <a:xfrm>
            <a:off x="6097680" y="6453360"/>
            <a:ext cx="277452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ach Prof. Dr. Rainer Lersch, Düsseldorf 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39"/>
          <p:cNvSpPr/>
          <p:nvPr/>
        </p:nvSpPr>
        <p:spPr>
          <a:xfrm rot="19947000">
            <a:off x="181080" y="3084480"/>
            <a:ext cx="7904160" cy="2641680"/>
          </a:xfrm>
          <a:prstGeom prst="rightArrow">
            <a:avLst>
              <a:gd name="adj1" fmla="val 50000"/>
              <a:gd name="adj2" fmla="val 74802"/>
            </a:avLst>
          </a:prstGeom>
          <a:solidFill>
            <a:srgbClr val="33ccff">
              <a:alpha val="43000"/>
            </a:srgbClr>
          </a:solidFill>
          <a:ln w="0">
            <a:noFill/>
          </a:ln>
          <a:effectLst>
            <a:outerShdw dist="17819" dir="2700000" blurRad="0" rotWithShape="0">
              <a:srgbClr val="1f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DB6F7-F192-4986-AEF1-6251D817E4AC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8"/>
          <p:cNvSpPr/>
          <p:nvPr/>
        </p:nvSpPr>
        <p:spPr>
          <a:xfrm>
            <a:off x="522360" y="1400040"/>
            <a:ext cx="7591320" cy="61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Kompetenzorientiertes Lernen ermöglichen: Lerngelegenheiten arrangi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26"/>
          <p:cNvSpPr/>
          <p:nvPr/>
        </p:nvSpPr>
        <p:spPr>
          <a:xfrm>
            <a:off x="655560" y="5567400"/>
            <a:ext cx="7958160" cy="488880"/>
          </a:xfrm>
          <a:prstGeom prst="rightArrow">
            <a:avLst>
              <a:gd name="adj1" fmla="val 59019"/>
              <a:gd name="adj2" fmla="val 73705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27"/>
          <p:cNvSpPr/>
          <p:nvPr/>
        </p:nvSpPr>
        <p:spPr>
          <a:xfrm rot="16200000">
            <a:off x="-897480" y="4014000"/>
            <a:ext cx="3942000" cy="488880"/>
          </a:xfrm>
          <a:prstGeom prst="rightArrow">
            <a:avLst>
              <a:gd name="adj1" fmla="val 59019"/>
              <a:gd name="adj2" fmla="val 36509"/>
            </a:avLst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9"/>
          <p:cNvSpPr/>
          <p:nvPr/>
        </p:nvSpPr>
        <p:spPr>
          <a:xfrm>
            <a:off x="1317600" y="5275440"/>
            <a:ext cx="1127160" cy="276480"/>
          </a:xfrm>
          <a:prstGeom prst="rect">
            <a:avLst/>
          </a:prstGeom>
          <a:solidFill>
            <a:srgbClr val="ccffcc">
              <a:alpha val="82000"/>
            </a:srgbClr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hal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30"/>
          <p:cNvSpPr/>
          <p:nvPr/>
        </p:nvSpPr>
        <p:spPr>
          <a:xfrm>
            <a:off x="1317600" y="4695840"/>
            <a:ext cx="2284560" cy="571320"/>
          </a:xfrm>
          <a:prstGeom prst="parallelogram">
            <a:avLst>
              <a:gd name="adj" fmla="val 205916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1"/>
          <p:cNvSpPr/>
          <p:nvPr/>
        </p:nvSpPr>
        <p:spPr>
          <a:xfrm rot="20043000">
            <a:off x="1790640" y="4766760"/>
            <a:ext cx="1195560" cy="45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terrichts-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vorhabe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34"/>
          <p:cNvSpPr/>
          <p:nvPr/>
        </p:nvSpPr>
        <p:spPr>
          <a:xfrm flipV="1">
            <a:off x="2444760" y="5018040"/>
            <a:ext cx="1157400" cy="54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35"/>
          <p:cNvSpPr/>
          <p:nvPr/>
        </p:nvSpPr>
        <p:spPr>
          <a:xfrm>
            <a:off x="3602160" y="4703760"/>
            <a:ext cx="0" cy="31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3"/>
          <p:cNvSpPr/>
          <p:nvPr/>
        </p:nvSpPr>
        <p:spPr>
          <a:xfrm rot="16200000">
            <a:off x="-847080" y="4173120"/>
            <a:ext cx="38052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chliche Kenntnisse, Fertigkeite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400" spc="-1" strike="noStrike" u="sng">
                <a:solidFill>
                  <a:srgbClr val="008232"/>
                </a:solidFill>
                <a:uFillTx/>
                <a:latin typeface="Arial"/>
              </a:rPr>
              <a:t>Wiss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5"/>
          <p:cNvSpPr/>
          <p:nvPr/>
        </p:nvSpPr>
        <p:spPr>
          <a:xfrm>
            <a:off x="1948320" y="5646600"/>
            <a:ext cx="63496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mit dem Wissen in variablen Anwendungssituationen etwas anfangen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 könn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8"/>
          <p:cNvSpPr/>
          <p:nvPr/>
        </p:nvSpPr>
        <p:spPr>
          <a:xfrm>
            <a:off x="7540560" y="2084400"/>
            <a:ext cx="1476360" cy="106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8232"/>
                </a:solidFill>
                <a:latin typeface="Arial"/>
              </a:rPr>
              <a:t>Wisse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Können</a:t>
            </a:r>
            <a:br>
              <a:rPr sz="1600"/>
            </a:b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-------------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6666"/>
                </a:solidFill>
                <a:latin typeface="Arial"/>
              </a:rPr>
              <a:t>Kompeten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0"/>
          <p:cNvSpPr/>
          <p:nvPr/>
        </p:nvSpPr>
        <p:spPr>
          <a:xfrm rot="20043000">
            <a:off x="2443320" y="4994280"/>
            <a:ext cx="1098000" cy="26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Kompetenz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42"/>
          <p:cNvSpPr/>
          <p:nvPr/>
        </p:nvSpPr>
        <p:spPr>
          <a:xfrm>
            <a:off x="3300480" y="3840120"/>
            <a:ext cx="2284200" cy="571680"/>
          </a:xfrm>
          <a:prstGeom prst="parallelogram">
            <a:avLst>
              <a:gd name="adj" fmla="val 205754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44"/>
          <p:cNvSpPr/>
          <p:nvPr/>
        </p:nvSpPr>
        <p:spPr>
          <a:xfrm flipV="1">
            <a:off x="4427640" y="4154400"/>
            <a:ext cx="1157040" cy="54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45"/>
          <p:cNvSpPr/>
          <p:nvPr/>
        </p:nvSpPr>
        <p:spPr>
          <a:xfrm>
            <a:off x="5584680" y="3840120"/>
            <a:ext cx="0" cy="31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7"/>
          <p:cNvSpPr/>
          <p:nvPr/>
        </p:nvSpPr>
        <p:spPr>
          <a:xfrm>
            <a:off x="4921200" y="3565440"/>
            <a:ext cx="1127160" cy="276480"/>
          </a:xfrm>
          <a:prstGeom prst="rect">
            <a:avLst/>
          </a:prstGeom>
          <a:solidFill>
            <a:srgbClr val="ccffcc">
              <a:alpha val="82000"/>
            </a:srgbClr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hal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48"/>
          <p:cNvSpPr/>
          <p:nvPr/>
        </p:nvSpPr>
        <p:spPr>
          <a:xfrm>
            <a:off x="4944960" y="2976480"/>
            <a:ext cx="2284560" cy="571680"/>
          </a:xfrm>
          <a:prstGeom prst="parallelogram">
            <a:avLst>
              <a:gd name="adj" fmla="val 205787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50"/>
          <p:cNvSpPr/>
          <p:nvPr/>
        </p:nvSpPr>
        <p:spPr>
          <a:xfrm flipV="1">
            <a:off x="6072120" y="3290760"/>
            <a:ext cx="1157400" cy="54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51"/>
          <p:cNvSpPr/>
          <p:nvPr/>
        </p:nvSpPr>
        <p:spPr>
          <a:xfrm>
            <a:off x="7229520" y="2976480"/>
            <a:ext cx="0" cy="31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3"/>
          <p:cNvSpPr/>
          <p:nvPr/>
        </p:nvSpPr>
        <p:spPr>
          <a:xfrm rot="20043000">
            <a:off x="4437360" y="4141800"/>
            <a:ext cx="1098000" cy="26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Kompetenz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5"/>
          <p:cNvSpPr/>
          <p:nvPr/>
        </p:nvSpPr>
        <p:spPr>
          <a:xfrm rot="20043000">
            <a:off x="3742200" y="3870000"/>
            <a:ext cx="1305000" cy="45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terrichts-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vorhabe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6"/>
          <p:cNvSpPr/>
          <p:nvPr/>
        </p:nvSpPr>
        <p:spPr>
          <a:xfrm rot="20043000">
            <a:off x="6110640" y="3267000"/>
            <a:ext cx="1098000" cy="26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Kompetenz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7"/>
          <p:cNvSpPr/>
          <p:nvPr/>
        </p:nvSpPr>
        <p:spPr>
          <a:xfrm rot="20043000">
            <a:off x="5440320" y="3015720"/>
            <a:ext cx="1344600" cy="45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terrichts-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vorhaben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1"/>
          <p:cNvSpPr/>
          <p:nvPr/>
        </p:nvSpPr>
        <p:spPr>
          <a:xfrm>
            <a:off x="3300480" y="4411800"/>
            <a:ext cx="1127160" cy="276480"/>
          </a:xfrm>
          <a:prstGeom prst="rect">
            <a:avLst/>
          </a:prstGeom>
          <a:solidFill>
            <a:srgbClr val="ccffcc">
              <a:alpha val="82000"/>
            </a:srgbClr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hal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2"/>
          <p:cNvSpPr/>
          <p:nvPr/>
        </p:nvSpPr>
        <p:spPr>
          <a:xfrm>
            <a:off x="2441520" y="3473280"/>
            <a:ext cx="3240" cy="128448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63"/>
          <p:cNvSpPr/>
          <p:nvPr/>
        </p:nvSpPr>
        <p:spPr>
          <a:xfrm>
            <a:off x="2441520" y="3290760"/>
            <a:ext cx="1465200" cy="71784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64"/>
          <p:cNvSpPr/>
          <p:nvPr/>
        </p:nvSpPr>
        <p:spPr>
          <a:xfrm>
            <a:off x="2441520" y="3290760"/>
            <a:ext cx="314316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9"/>
          <p:cNvSpPr/>
          <p:nvPr/>
        </p:nvSpPr>
        <p:spPr>
          <a:xfrm>
            <a:off x="1476360" y="2878200"/>
            <a:ext cx="2430360" cy="82404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9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ehrmethod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mittlung von Wissen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d dessen Situieru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65"/>
          <p:cNvSpPr/>
          <p:nvPr/>
        </p:nvSpPr>
        <p:spPr>
          <a:xfrm flipH="1">
            <a:off x="2943000" y="4976640"/>
            <a:ext cx="294156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66"/>
          <p:cNvSpPr/>
          <p:nvPr/>
        </p:nvSpPr>
        <p:spPr>
          <a:xfrm flipH="1" flipV="1">
            <a:off x="4427640" y="4292280"/>
            <a:ext cx="1457280" cy="70164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67"/>
          <p:cNvSpPr/>
          <p:nvPr/>
        </p:nvSpPr>
        <p:spPr>
          <a:xfrm flipV="1">
            <a:off x="5892840" y="3565080"/>
            <a:ext cx="0" cy="14526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0"/>
          <p:cNvSpPr/>
          <p:nvPr/>
        </p:nvSpPr>
        <p:spPr>
          <a:xfrm>
            <a:off x="5303880" y="4695840"/>
            <a:ext cx="1608120" cy="82404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9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ernmethod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ktivitäten d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ierend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8"/>
          <p:cNvSpPr/>
          <p:nvPr/>
        </p:nvSpPr>
        <p:spPr>
          <a:xfrm>
            <a:off x="6097680" y="6453360"/>
            <a:ext cx="277452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ach Prof. Dr. Rainer Lersch, Düsseldorf 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5T06:56:38Z</dcterms:created>
  <dc:creator>Musiol</dc:creator>
  <dc:description/>
  <dc:language>en-US</dc:language>
  <cp:lastModifiedBy>Chef</cp:lastModifiedBy>
  <cp:lastPrinted>2013-05-14T13:09:49Z</cp:lastPrinted>
  <dcterms:modified xsi:type="dcterms:W3CDTF">2014-06-18T11:13:32Z</dcterms:modified>
  <cp:revision>561</cp:revision>
  <dc:subject/>
  <dc:title>Folie 1</dc:title>
</cp:coreProperties>
</file>