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18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ftr" idx="19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 type="sldNum" idx="20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4949A46-9228-4AC6-A227-3E52FFFA188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951BB61-BB67-4B35-8C4B-506E48CAC67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A061B8B-3DA9-448B-8F11-4D390BB8AE6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A11FA3C0-D733-4DD6-85CF-CA60A789478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EE88555-9FBA-4AC6-A8DD-A90E102743D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071372D-2D10-4F8B-B8F1-9BDD9AB212A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CB02D99-B3A2-4E64-B466-4016E1FB9C6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78BBB8B-B02E-47DC-8D3F-2448C9255E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BDD3424-1CF0-41CB-8F7A-91EB669D1AA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43C2026-3524-4E3D-BE35-E5E492604F7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DE73C50-BA74-43A3-BBAE-C76140DD80E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D23804D-31DC-4DDA-BB9B-6BCE6E6B61D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017E2C8-71C3-4B14-9C89-902E85EF86B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5B6295C-3BCE-4F72-B97B-ED65F7C3A29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19E22B9-D942-4F11-85A6-CB45A8F600D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153FA79-9186-43B0-85E8-72217FE897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152C84B-5372-41DD-A4DC-181E4E291FA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8AE5407-985F-49CB-B75B-E3D1E5E9BA0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F6C0B53-F360-4274-9B0F-33301C08E40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A75F141-357D-4A6A-8C35-524B2A27DA5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798D6F4-B57F-4886-945C-A88E77DDDEB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2E84550-C499-4287-B528-667B1BA9D46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372AB97-8123-4AF0-B6CA-6B8B0E75460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9B302C5-69E7-47BE-8874-29F01DE9533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DEFDBFF-3889-4BAF-A342-BFCAD11F4E9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CE4F385-49AB-45B8-8472-6A81C178791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1CDF3FF-0E08-414E-9099-81D1DB13726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14DF9F4-7CA3-419E-B16D-E2A22CB4D0E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9EEE9C2-6165-4004-B154-25DA11BF690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F356B9C-18F6-445F-BD60-659A461178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E7FDA3B-3EA2-4986-86D7-71B85BAA78E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CB18AC3F-D7DE-4EDC-BC2C-83B6BAEAE44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89EB73D-4E40-4580-9179-AE7C1EC275E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E6F1916-FE04-4CCE-AF98-1FA49D05B4A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4183C87-63C6-40E2-B982-002CD126698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FA92462-6E90-48B1-8244-25F4D7F9AFE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09187-9EB5-419C-8475-A007372FC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6D62-08DC-4816-99D8-932ADC6540C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2D1417-B0AD-43F1-87BC-C9614175740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F4457D-0121-46EA-BB23-B545A60720A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35A233-6475-424B-B04A-8E8A180BD80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329EB2-7CA2-4042-8D27-C260AAE7A1B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62C0A8-EB71-44C2-8040-6ECC99C31F6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97823E-9C43-468A-8EDB-3CC9A5DF6A8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C1A6E9-8DA9-40F2-9F45-A13D86F343D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AE899-B8B5-40BC-87E4-309A2E56597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2692FA-05AE-4D59-87D5-3E2CB84ED17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E58339-BF5A-460D-820B-CC7088127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23959-25DC-4366-B77B-FCB1178A2D1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783AB9-00AD-4802-BE04-D39BB7642DE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6D7FFB-9B7C-42A4-A342-8CC55F8F688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059264-83A1-4B41-95E9-AC661AA9BFD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E6091A-544F-45C2-A972-1EEDFE4E192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6796F2-5AFA-4D07-8CEA-7EA864BF7F4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8B7F7B-6DD7-4BBA-8823-DC7D6952D2E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53FE04-8E2D-423C-B7C1-D5FB11D49F6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F7491E-6201-4C7D-94BB-7606FCBAB8D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9BAB51-D8B3-4B7D-985F-86477BF440D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2FF850-F597-48F8-8A00-B7E61E6A3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9F4C2-9E31-49EF-A53A-678C55AA94D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7A1C15-FB01-470D-8573-E375D3E6797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51180-A855-4B0A-B49D-209AC3C74E2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5603A-1423-4639-B9DA-6B11B8563C3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3B13F-F099-40FA-814F-C5D8CAF497C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2B26F-BDC4-4610-B0DB-A3AF78B6E8A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FFD46-2242-4362-9707-B94627E3FFD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27F21-D77D-4EB5-902B-21568654085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2F8DA-A90A-4BA1-B9B0-073FE8D3531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01236-78CB-43F2-9FC7-5B3B132CB1F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0E3D2-0C24-4D84-B406-B2E41BB2A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080-3640-4492-98D9-0621BE3FE9D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902D1-07DD-4E33-AA47-3709F9ECFBA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23791-0290-4F59-8EB7-54F40DCACA5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DF5EA-A80B-438A-95E3-DF1FF2F0E91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5C5F5C-D841-437A-9044-EF96FDC172A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0E27EC-9B83-4C35-B97C-DDD8D09B482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D25DAD-BA12-4397-A79E-C1FD94A7811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EEB60F-514D-49FC-8F21-607F0172B74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504148-68E0-4265-BF8C-7D5F08EBC1D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059EF7-1FE6-4088-A6B8-30E20C7775A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7E27C1-2482-4C8B-AB5D-FD28C161B3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155-2C78-423A-8FCF-9196280D4E0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F4FC68-6D8B-40EB-9E73-BDAAC109473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7FCD0B-0447-432A-94EF-77FFE02636D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D3695B-570C-4D0A-BCF0-1F802FA19CE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9A095F-DEC5-429D-8110-470AA1B2408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DF7EDB-CEAE-46BF-918A-ED8D7801D9B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3D75F-B15C-4DBD-ADCE-746E1903362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D6AFF-6C82-462C-9DAF-33585C5B0E7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A5C8B-5BF7-4F92-BE0A-D633839F10E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D1026B-7C26-446C-88CD-32C5822C3F2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614EA9-6C51-4F30-B153-B8BF598858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FA9-A54A-436E-A50A-0B2A778F672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E7FC5C-F226-4B12-BD1D-3D9F806501D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E3EDC4-2899-4C07-A0F0-B778D914563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BC6A74-E664-4FE4-A31F-7EDC599A916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9EEBDD-709D-43DA-BA53-7A0C4863C28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D22681-FA86-4619-84BC-25BD01BFFEB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E89915-9138-4131-BD5D-E67628C726A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36B65E-9CFE-4FC9-BD36-89EC9A60D7D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75BB78-1F90-4B60-98F0-BA219DC4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E7D2B0-CA27-4BE7-8571-88C580FD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031B6F-4440-43C6-8AFF-9CEF7F00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25FA-5118-4314-875F-4AD22F5D77D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51D3D9-92D7-430F-AF4E-54C1610C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312736-680D-4F04-B883-FBD10866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DC84A3-9743-4B3F-BF13-7E1D7652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17F0D7-88ED-4624-B17F-15B31F71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AA043A-8F25-4A43-A35A-8CD0A882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97A3CA-67FE-48E6-933F-DEB20114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3E5CB-3C46-4ACF-A21E-0260D7BF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6E8702-294D-435F-8909-A2163332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41517D-113F-4611-869E-D6E0F58A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0AA-A7B4-45A3-99C8-A9DCBCD568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C28-B296-4D20-9AA8-5F3D9DD394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667-2DBE-4444-A604-61B7FDC523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52F5A-C9D2-4E8C-AA97-AA9A69AEB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B86-1D9F-46E8-9A07-B405E1F43E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178-9283-43C0-B0CA-1D30B1AB86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D45-E1F8-4F2C-ABB3-7756DB93AB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2A0-D4BF-4ECF-B5F0-3F8A80FCBD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34A-3D97-4C18-A599-13340A95E87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D857B-C979-4356-AB22-D5FD06644E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DE052-C756-483A-80D9-6CAB172489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073A7-FDF7-4EBB-A04A-0988E27649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2CEC4-128E-42A0-B4ED-2BE290F9FE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B65F9-507A-4592-83F4-0AEA63F430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4B173-2360-49E7-996B-BD4CBAFEE2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59E03-FCDC-40F8-A46B-5ED1B5BB8D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8DC83-B257-4502-B495-B17375E6C9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90FCF-4BCF-4C21-B7B8-AE14719F08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976DB-0B6B-420D-8335-1E0689DA19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84BA3-2EDC-436F-819E-BE36F8CFBE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555D9-5B04-4982-9466-603DD8677D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3394D-9F71-487C-A923-4AD2F0B0E0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16A6B-9EB4-44EB-9837-24911EDFCA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C37E5-6166-4CBD-B521-6000B9E49D0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4BA11-FE6F-4C10-B136-3E636E162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20EB6-89E0-4F38-89C8-4BF37ADF22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E10A8-13A4-47A5-AF47-5E5E309A88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1B039-606C-4FD1-96E3-6999C8197B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B0C2A-4DFD-4025-A9EF-539F54663F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1962A-AB41-4E3E-9680-9E47C2ACE4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4A819-E721-40A8-BDC3-8856F027CF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B7DCC-16C3-47EB-8838-2554A730F5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471BD-1DFE-4C86-8C2A-E9F64AB0DF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75B29-373F-47DC-9488-95CCFC2CDA3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8BD43-80F0-4207-BF9E-D198A106D96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A423-F270-47BC-83F5-7024B75E5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252E3-A642-46DC-AF8B-196D73DA20E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86B6-7EF6-43BD-A99D-65C328F96E0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0BF7-A5A0-44D6-9457-E7A94A73B12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3C45-4073-4547-96EA-BF756AA3E99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EED7-7585-4661-812E-8D8A8B09EDC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FACB-25DD-401A-9992-E119AA1D897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7514-8F2E-4F30-83D4-D7DBA0A3818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F191-D235-4FCE-A7CB-06638CABAAE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53BA-9053-46E1-AA36-496F99EA1A9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B451-A0DC-46D7-9EB8-BF6DA70D158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4BD6-D6C9-4DFA-8476-704D1278D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8AE72-C9ED-4EB3-9778-0936B362920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9CD6-7047-4DD7-8B0F-BD8D7821EA7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71C634-A114-4BF4-8406-DF91B9C1C09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3E1344-A7F8-4135-BE1D-1AC0A4A3C75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126789-5D25-4961-AB16-38050C06FA0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A02F65-7564-4042-8C69-FFA7A111E1B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AD9D31-CDF6-4231-8693-B3D374FE976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5A6049-2F66-40AF-84B0-1C1B5096835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D7BB5C-D585-45B4-B0C9-DE81AD12261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759765-93DA-4E26-B25C-21E1E6091E4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93FB08-FF09-4379-B5DC-9233B5D7B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C3A73-D276-49BC-B6CE-10E0840D480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768564-DA0E-4528-8CC0-1392020DA68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98DA2F-A0C3-4935-A300-46D8BD60F36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4B02C1-D8F8-48D5-8E32-DC4DB7BD2D5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2D693-2D68-4597-B6CC-383DE94630D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20250-04F3-4C52-BDEA-B0AE69014D9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F2C01-1554-4E38-86AB-962635D080B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EEAD7-8ADA-4440-A2EF-9D77BB9B9E3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F094C-901A-4B09-89A3-707F0AE61AB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4E888-C914-4823-9F53-B90D5B62180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38159-54BE-48A9-92C9-EAF3BB7EC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0646-101F-4781-B45E-A3F61AA37E0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1B808-EA82-4786-A216-00BD912D3C9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73A06-5195-404D-A843-4E925FE8378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1AAE1-72CA-4E62-9B7D-EAA9F17F8FB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79C9A-1273-483B-9864-CAF3DF826A3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158A7-3198-4491-8C28-57BF18AFBFF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312CC-C306-4CED-A278-556322F971E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46965-AF96-42C0-8E48-279F79D284E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9BADE-978A-4B8E-B2E5-76F016540AD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77050-D3DA-4FCC-837D-EBFA4456B5F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2165F-AC34-442A-8E65-BF87AE73F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B5992-817C-4813-841D-E7294996452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443B0-FEF5-476A-9B09-CEB56007107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5C8CF-9AF9-421C-BD2D-4B81FD05372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6783F-8D15-404E-A0C5-57FF7013044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7A3ED-D244-48F0-A570-49D68999F68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39640" y="4701960"/>
            <a:ext cx="80647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E213B-18F6-4957-9699-8DAE3512B39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2440" y="35733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96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2440" y="4701960"/>
            <a:ext cx="393552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99FC1-CEAB-40E6-8E2C-AB7F42CFAD2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6664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93280" y="35733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39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6664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93280" y="4701960"/>
            <a:ext cx="259668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5B40E-4D69-4BED-B3CF-525B1C5559C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B1A8D2-3C3B-4E9E-B52D-7CA9E8BF8F2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A8E686-74BA-4942-86D6-5D4F8DF5E1E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EDE0FF-BD0C-4CA1-9CF7-9264F5CDC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99640" y="6453360"/>
            <a:ext cx="77504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7F1D-184A-44EB-B0EF-0AF321AD2858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0" descr="NRW_MSW_RGB"/>
          <p:cNvPicPr/>
          <p:nvPr/>
        </p:nvPicPr>
        <p:blipFill>
          <a:blip r:embed="rId2"/>
          <a:stretch/>
        </p:blipFill>
        <p:spPr>
          <a:xfrm>
            <a:off x="5789520" y="276120"/>
            <a:ext cx="2814840" cy="576360"/>
          </a:xfrm>
          <a:prstGeom prst="rect">
            <a:avLst/>
          </a:prstGeom>
          <a:ln w="0">
            <a:noFill/>
          </a:ln>
        </p:spPr>
      </p:pic>
      <p:sp>
        <p:nvSpPr>
          <p:cNvPr id="4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feld 9"/>
          <p:cNvSpPr/>
          <p:nvPr/>
        </p:nvSpPr>
        <p:spPr>
          <a:xfrm>
            <a:off x="5275440" y="27612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0" y="1467000"/>
            <a:ext cx="9144000" cy="492588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10" descr="NRW_MSW_RGB"/>
          <p:cNvPicPr/>
          <p:nvPr/>
        </p:nvPicPr>
        <p:blipFill>
          <a:blip r:embed="rId2"/>
          <a:stretch/>
        </p:blipFill>
        <p:spPr>
          <a:xfrm>
            <a:off x="5789520" y="276120"/>
            <a:ext cx="2814840" cy="576360"/>
          </a:xfrm>
          <a:prstGeom prst="rect">
            <a:avLst/>
          </a:prstGeom>
          <a:ln w="0">
            <a:noFill/>
          </a:ln>
        </p:spPr>
      </p:pic>
      <p:sp>
        <p:nvSpPr>
          <p:cNvPr id="381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feld 9"/>
          <p:cNvSpPr/>
          <p:nvPr/>
        </p:nvSpPr>
        <p:spPr>
          <a:xfrm>
            <a:off x="5275440" y="27612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1467000"/>
            <a:ext cx="9144000" cy="492588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Num" idx="11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BC93-622F-4598-AC0A-1EF054FCDEF3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10" descr="NRW_MSW_RGB"/>
          <p:cNvPicPr/>
          <p:nvPr/>
        </p:nvPicPr>
        <p:blipFill>
          <a:blip r:embed="rId2"/>
          <a:stretch/>
        </p:blipFill>
        <p:spPr>
          <a:xfrm>
            <a:off x="5789520" y="276120"/>
            <a:ext cx="2814840" cy="57636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feld 9"/>
          <p:cNvSpPr/>
          <p:nvPr/>
        </p:nvSpPr>
        <p:spPr>
          <a:xfrm>
            <a:off x="5275440" y="27612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0" y="1467000"/>
            <a:ext cx="9144000" cy="492588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ldNum" idx="1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29C4-CD6D-4E85-AACA-9C172CABFFA0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NRW_MSW_RGB"/>
          <p:cNvPicPr/>
          <p:nvPr/>
        </p:nvPicPr>
        <p:blipFill>
          <a:blip r:embed="rId2"/>
          <a:stretch/>
        </p:blipFill>
        <p:spPr>
          <a:xfrm>
            <a:off x="5789520" y="276120"/>
            <a:ext cx="2814840" cy="57636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feld 9"/>
          <p:cNvSpPr/>
          <p:nvPr/>
        </p:nvSpPr>
        <p:spPr>
          <a:xfrm>
            <a:off x="5275440" y="27612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1467000"/>
            <a:ext cx="9144000" cy="492588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ldNum" idx="13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47EF-FA54-405A-A0E1-C42420D85A9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0" descr="NRW_MSW_RGB"/>
          <p:cNvPicPr/>
          <p:nvPr/>
        </p:nvPicPr>
        <p:blipFill>
          <a:blip r:embed="rId2"/>
          <a:stretch/>
        </p:blipFill>
        <p:spPr>
          <a:xfrm>
            <a:off x="5789520" y="276120"/>
            <a:ext cx="2814840" cy="576360"/>
          </a:xfrm>
          <a:prstGeom prst="rect">
            <a:avLst/>
          </a:prstGeom>
          <a:ln w="0">
            <a:noFill/>
          </a:ln>
        </p:spPr>
      </p:pic>
      <p:sp>
        <p:nvSpPr>
          <p:cNvPr id="507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feld 9"/>
          <p:cNvSpPr/>
          <p:nvPr/>
        </p:nvSpPr>
        <p:spPr>
          <a:xfrm>
            <a:off x="5275440" y="27612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1467000"/>
            <a:ext cx="9144000" cy="492588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ldNum" idx="14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ADD6-C900-4298-9C25-D909652392A0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0" descr="NRW_MSW_RGB"/>
          <p:cNvPicPr/>
          <p:nvPr/>
        </p:nvPicPr>
        <p:blipFill>
          <a:blip r:embed="rId2"/>
          <a:stretch/>
        </p:blipFill>
        <p:spPr>
          <a:xfrm>
            <a:off x="5789520" y="276120"/>
            <a:ext cx="2814840" cy="576360"/>
          </a:xfrm>
          <a:prstGeom prst="rect">
            <a:avLst/>
          </a:prstGeom>
          <a:ln w="0">
            <a:noFill/>
          </a:ln>
        </p:spPr>
      </p:pic>
      <p:sp>
        <p:nvSpPr>
          <p:cNvPr id="549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feld 9"/>
          <p:cNvSpPr/>
          <p:nvPr/>
        </p:nvSpPr>
        <p:spPr>
          <a:xfrm>
            <a:off x="5275440" y="27612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0" y="1467000"/>
            <a:ext cx="9144000" cy="492588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ftr" idx="16"/>
          </p:nvPr>
        </p:nvSpPr>
        <p:spPr>
          <a:xfrm>
            <a:off x="899640" y="6453360"/>
            <a:ext cx="77504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sldNum" idx="17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0D4E-BB70-4542-9574-79EB60A276FA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NRW_MSW_RGB"/>
          <p:cNvPicPr/>
          <p:nvPr/>
        </p:nvPicPr>
        <p:blipFill>
          <a:blip r:embed="rId2"/>
          <a:stretch/>
        </p:blipFill>
        <p:spPr>
          <a:xfrm>
            <a:off x="5789520" y="276120"/>
            <a:ext cx="281484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9"/>
          <p:cNvSpPr/>
          <p:nvPr/>
        </p:nvSpPr>
        <p:spPr>
          <a:xfrm>
            <a:off x="5275440" y="27612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467000"/>
            <a:ext cx="9144000" cy="492588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3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417D-8A3B-4196-9FF4-B84AE3AA14D8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NRW_MSW_RGB"/>
          <p:cNvPicPr/>
          <p:nvPr/>
        </p:nvPicPr>
        <p:blipFill>
          <a:blip r:embed="rId2"/>
          <a:stretch/>
        </p:blipFill>
        <p:spPr>
          <a:xfrm>
            <a:off x="5789520" y="276120"/>
            <a:ext cx="2814840" cy="5763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feld 9"/>
          <p:cNvSpPr/>
          <p:nvPr/>
        </p:nvSpPr>
        <p:spPr>
          <a:xfrm>
            <a:off x="5275440" y="27612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1467000"/>
            <a:ext cx="9144000" cy="492588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Num" idx="4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F35F-BBF0-40D0-B6CB-8D6DFE538F1B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NRW_MSW_RGB"/>
          <p:cNvPicPr/>
          <p:nvPr/>
        </p:nvPicPr>
        <p:blipFill>
          <a:blip r:embed="rId2"/>
          <a:stretch/>
        </p:blipFill>
        <p:spPr>
          <a:xfrm>
            <a:off x="5789520" y="276120"/>
            <a:ext cx="2814840" cy="5763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feld 9"/>
          <p:cNvSpPr/>
          <p:nvPr/>
        </p:nvSpPr>
        <p:spPr>
          <a:xfrm>
            <a:off x="5275440" y="27612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1467000"/>
            <a:ext cx="9144000" cy="492588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Num" idx="5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C90A-7F91-4947-ABF4-EBE128FD1DFE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NRW_MSW_RGB"/>
          <p:cNvPicPr/>
          <p:nvPr/>
        </p:nvPicPr>
        <p:blipFill>
          <a:blip r:embed="rId2"/>
          <a:stretch/>
        </p:blipFill>
        <p:spPr>
          <a:xfrm>
            <a:off x="5789520" y="276120"/>
            <a:ext cx="2814840" cy="57636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feld 9"/>
          <p:cNvSpPr/>
          <p:nvPr/>
        </p:nvSpPr>
        <p:spPr>
          <a:xfrm>
            <a:off x="5275440" y="27612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1467000"/>
            <a:ext cx="9144000" cy="492588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Num" idx="6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D405-F65E-4A6F-8DFB-5953E3317432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0" descr="NRW_MSW_RGB"/>
          <p:cNvPicPr/>
          <p:nvPr/>
        </p:nvPicPr>
        <p:blipFill>
          <a:blip r:embed="rId2"/>
          <a:stretch/>
        </p:blipFill>
        <p:spPr>
          <a:xfrm>
            <a:off x="5789520" y="276120"/>
            <a:ext cx="2814840" cy="57636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feld 9"/>
          <p:cNvSpPr/>
          <p:nvPr/>
        </p:nvSpPr>
        <p:spPr>
          <a:xfrm>
            <a:off x="5275440" y="27612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1467000"/>
            <a:ext cx="9144000" cy="492588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ldNum" idx="7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3DF9-F041-4063-A2F4-381EA486EEBE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0" descr="NRW_MSW_RGB"/>
          <p:cNvPicPr/>
          <p:nvPr/>
        </p:nvPicPr>
        <p:blipFill>
          <a:blip r:embed="rId2"/>
          <a:stretch/>
        </p:blipFill>
        <p:spPr>
          <a:xfrm>
            <a:off x="5789520" y="276120"/>
            <a:ext cx="2814840" cy="57636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9"/>
          <p:cNvSpPr/>
          <p:nvPr/>
        </p:nvSpPr>
        <p:spPr>
          <a:xfrm>
            <a:off x="5275440" y="27612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1467000"/>
            <a:ext cx="9144000" cy="492588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Num" idx="8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F7A2-C86B-462E-B718-3D98CFC789D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0" descr="NRW_MSW_RGB"/>
          <p:cNvPicPr/>
          <p:nvPr/>
        </p:nvPicPr>
        <p:blipFill>
          <a:blip r:embed="rId2"/>
          <a:stretch/>
        </p:blipFill>
        <p:spPr>
          <a:xfrm>
            <a:off x="5789520" y="276120"/>
            <a:ext cx="2814840" cy="57636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feld 9"/>
          <p:cNvSpPr/>
          <p:nvPr/>
        </p:nvSpPr>
        <p:spPr>
          <a:xfrm>
            <a:off x="5275440" y="27612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1467000"/>
            <a:ext cx="9144000" cy="492588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ldNum" idx="9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4578-C014-48BE-B213-FF53DCCA4D57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0" descr="NRW_MSW_RGB"/>
          <p:cNvPicPr/>
          <p:nvPr/>
        </p:nvPicPr>
        <p:blipFill>
          <a:blip r:embed="rId2"/>
          <a:stretch/>
        </p:blipFill>
        <p:spPr>
          <a:xfrm>
            <a:off x="5789520" y="276120"/>
            <a:ext cx="2814840" cy="57636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12"/>
          <p:cNvSpPr/>
          <p:nvPr/>
        </p:nvSpPr>
        <p:spPr>
          <a:xfrm>
            <a:off x="1509840" y="2805120"/>
            <a:ext cx="6124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feld 9"/>
          <p:cNvSpPr/>
          <p:nvPr/>
        </p:nvSpPr>
        <p:spPr>
          <a:xfrm>
            <a:off x="5275440" y="27612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Q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ualitäts- und 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U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terstützungs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A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L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andes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i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nstitut für 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S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</a:t>
            </a:r>
            <a:r>
              <a:rPr b="1" lang="de-DE" sz="1100" spc="-1" strike="noStrike">
                <a:solidFill>
                  <a:srgbClr val="009036"/>
                </a:solidFill>
                <a:latin typeface="Arial"/>
                <a:ea typeface="Calibri"/>
              </a:rPr>
              <a:t>N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ord</a:t>
            </a:r>
            <a:r>
              <a:rPr b="1" lang="de-DE" sz="1100" spc="-1" strike="noStrike">
                <a:solidFill>
                  <a:srgbClr val="7f7f7f"/>
                </a:solidFill>
                <a:latin typeface="Arial"/>
                <a:ea typeface="Calibri"/>
              </a:rPr>
              <a:t>r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hein-</a:t>
            </a:r>
            <a:r>
              <a:rPr b="1" lang="de-DE" sz="1100" spc="-1" strike="noStrike">
                <a:solidFill>
                  <a:srgbClr val="c00000"/>
                </a:solidFill>
                <a:latin typeface="Arial"/>
                <a:ea typeface="Calibri"/>
              </a:rPr>
              <a:t>W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0" y="1467000"/>
            <a:ext cx="9144000" cy="492588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539640" y="3573360"/>
            <a:ext cx="806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Num" idx="10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F5C8-755A-4D63-8DDB-234DBC793F98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4"/>
          <p:cNvSpPr/>
          <p:nvPr/>
        </p:nvSpPr>
        <p:spPr>
          <a:xfrm>
            <a:off x="0" y="1305000"/>
            <a:ext cx="9144000" cy="50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NRW_Guillochen_PowerPoint-Titel"/>
          <p:cNvPicPr/>
          <p:nvPr/>
        </p:nvPicPr>
        <p:blipFill>
          <a:blip r:embed="rId1"/>
          <a:stretch/>
        </p:blipFill>
        <p:spPr>
          <a:xfrm>
            <a:off x="11160" y="301932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3"/>
          <p:cNvSpPr/>
          <p:nvPr/>
        </p:nvSpPr>
        <p:spPr>
          <a:xfrm>
            <a:off x="68400" y="2846520"/>
            <a:ext cx="898992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Neue Kernlehrpläne </a:t>
            </a:r>
            <a:br>
              <a:rPr sz="2800"/>
            </a:b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für das Abendgymnasium und das Kolle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Kernlehrplan Psych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hteck 1"/>
          <p:cNvSpPr/>
          <p:nvPr/>
        </p:nvSpPr>
        <p:spPr>
          <a:xfrm>
            <a:off x="2286000" y="113976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2060"/>
                </a:solidFill>
                <a:latin typeface="Arial-BoldMT"/>
              </a:rPr>
              <a:t>HERZLICH WILLKOMM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4056-E0C9-44B7-B09A-EE64606F8AA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AC5F-1A37-43B2-931F-BB504DA601B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FD06-B187-4358-93D3-A5FD5962A514}" type="slidenum">
              <a:rPr b="0" lang="de-DE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457200" y="2271600"/>
            <a:ext cx="814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9360"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nennen individuelle fachspezifische Fähigkeiten und Fertigkeiten einer Person (keine reinen Unterrichtsinhalt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514440" y="1811160"/>
            <a:ext cx="6791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457200" y="3057480"/>
            <a:ext cx="7910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rden in einem längeren Entwicklungsprozess erworben (sind nicht identisch mit Stundenzielen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3"/>
          <p:cNvSpPr/>
          <p:nvPr/>
        </p:nvSpPr>
        <p:spPr>
          <a:xfrm>
            <a:off x="374760" y="3838680"/>
            <a:ext cx="8229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2606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nd Grundlage für das selbstständige Lösen von Problemen und für das Hervorbringen von Neue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4"/>
          <p:cNvSpPr/>
          <p:nvPr/>
        </p:nvSpPr>
        <p:spPr>
          <a:xfrm>
            <a:off x="374760" y="4676760"/>
            <a:ext cx="693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2606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ind stärkenorientiert (nicht defizitorientie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feld 15"/>
          <p:cNvSpPr/>
          <p:nvPr/>
        </p:nvSpPr>
        <p:spPr>
          <a:xfrm>
            <a:off x="454824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ußzeile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1384-EC69-4734-8C6B-7BF2DB84029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1042920" y="1847880"/>
            <a:ext cx="777708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 Kompet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sollen bis zum Ende des Bildungsabschnitts entwickelt werden (KLP-Vorgabe, schulinterner Lehrplan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orauf konzentrieren wir uns zunäch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r Inhalt / welche Sache ist geeigne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um dieses Können (diese Kompetenzen) zu entwickeln? + In wel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wendungs- und Handlungssituatio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ist die Kompetenz relevan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e muss auf dieser Grundlage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werbs- bzw. Lernsitu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gestaltet sein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133200" y="1455840"/>
            <a:ext cx="89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Kompetenz(erwartungen) als Ausgangspunkt für die 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1324080" y="5454720"/>
            <a:ext cx="6981840" cy="8427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„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Nach ___Stunden zum Thema ____ erwarte ich, dass 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Studierenden …, …., …. und … können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feld 8"/>
          <p:cNvSpPr/>
          <p:nvPr/>
        </p:nvSpPr>
        <p:spPr>
          <a:xfrm>
            <a:off x="4560840" y="99360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ußzeile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82320" y="2693880"/>
            <a:ext cx="8064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Kompetenzorientierte Kernlehrpläne</a:t>
            </a:r>
            <a:endParaRPr b="1" lang="en-US" sz="32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74" name="Fußzeile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4560" y="1490760"/>
            <a:ext cx="80643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</a:rPr>
              <a:t>  </a:t>
            </a:r>
            <a:r>
              <a:rPr b="1" lang="de-DE" sz="2400" spc="-1" strike="noStrike">
                <a:solidFill>
                  <a:srgbClr val="002060"/>
                </a:solidFill>
                <a:latin typeface="Arial-BoldMT"/>
              </a:rPr>
              <a:t>Struktur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76" name="Line 7"/>
          <p:cNvSpPr/>
          <p:nvPr/>
        </p:nvSpPr>
        <p:spPr>
          <a:xfrm>
            <a:off x="4427640" y="25653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3348000" y="4581360"/>
            <a:ext cx="2286000" cy="486000"/>
          </a:xfrm>
          <a:prstGeom prst="rect">
            <a:avLst/>
          </a:prstGeom>
          <a:gradFill rotWithShape="0">
            <a:gsLst>
              <a:gs pos="0">
                <a:srgbClr val="ffcc00">
                  <a:alpha val="56078"/>
                </a:srgbClr>
              </a:gs>
              <a:gs pos="100000">
                <a:srgbClr val="cc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9"/>
          <p:cNvSpPr/>
          <p:nvPr/>
        </p:nvSpPr>
        <p:spPr>
          <a:xfrm>
            <a:off x="1476360" y="5392800"/>
            <a:ext cx="5977080" cy="83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udierenden </a:t>
            </a:r>
            <a:r>
              <a:rPr b="0" lang="de-DE" sz="1600" spc="-1" strike="noStrike">
                <a:solidFill>
                  <a:srgbClr val="ff9900"/>
                </a:solidFill>
                <a:latin typeface="Arial"/>
              </a:rPr>
              <a:t>erläutern </a:t>
            </a:r>
            <a:r>
              <a:rPr b="0" lang="de-DE" sz="1600" spc="-1" strike="noStrike">
                <a:solidFill>
                  <a:srgbClr val="00b050"/>
                </a:solidFill>
                <a:latin typeface="Arial"/>
              </a:rPr>
              <a:t>die Grundprinzipien der ganzheitlichen Psychologie und die Gestaltgesetze im Kontext der Personenwahrnehm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1042920" y="3068640"/>
            <a:ext cx="23050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Kompetenzbereich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(Prozess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1"/>
          <p:cNvSpPr/>
          <p:nvPr/>
        </p:nvSpPr>
        <p:spPr>
          <a:xfrm>
            <a:off x="2340000" y="1773360"/>
            <a:ext cx="4176720" cy="792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Übergreifende fachliche Kompetenz (Kap.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(z.B. reflektierte psychologische Kompetenz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2"/>
          <p:cNvSpPr/>
          <p:nvPr/>
        </p:nvSpPr>
        <p:spPr>
          <a:xfrm flipH="1">
            <a:off x="2268000" y="2852640"/>
            <a:ext cx="216252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3"/>
          <p:cNvSpPr/>
          <p:nvPr/>
        </p:nvSpPr>
        <p:spPr>
          <a:xfrm>
            <a:off x="4427640" y="2852640"/>
            <a:ext cx="2232000" cy="0"/>
          </a:xfrm>
          <a:prstGeom prst="line">
            <a:avLst/>
          </a:prstGeom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4"/>
          <p:cNvSpPr/>
          <p:nvPr/>
        </p:nvSpPr>
        <p:spPr>
          <a:xfrm>
            <a:off x="2268360" y="2852640"/>
            <a:ext cx="0" cy="2160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5"/>
          <p:cNvSpPr/>
          <p:nvPr/>
        </p:nvSpPr>
        <p:spPr>
          <a:xfrm flipH="1">
            <a:off x="6659280" y="2852640"/>
            <a:ext cx="11160" cy="216000"/>
          </a:xfrm>
          <a:prstGeom prst="line">
            <a:avLst/>
          </a:prstGeom>
          <a:ln w="255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6"/>
          <p:cNvSpPr/>
          <p:nvPr/>
        </p:nvSpPr>
        <p:spPr>
          <a:xfrm>
            <a:off x="2268360" y="3645000"/>
            <a:ext cx="0" cy="115236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7"/>
          <p:cNvSpPr/>
          <p:nvPr/>
        </p:nvSpPr>
        <p:spPr>
          <a:xfrm>
            <a:off x="6659640" y="3645000"/>
            <a:ext cx="0" cy="1152360"/>
          </a:xfrm>
          <a:prstGeom prst="line">
            <a:avLst/>
          </a:prstGeom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8"/>
          <p:cNvSpPr/>
          <p:nvPr/>
        </p:nvSpPr>
        <p:spPr>
          <a:xfrm>
            <a:off x="2268360" y="4797360"/>
            <a:ext cx="107964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9"/>
          <p:cNvSpPr/>
          <p:nvPr/>
        </p:nvSpPr>
        <p:spPr>
          <a:xfrm flipH="1">
            <a:off x="5651640" y="4797360"/>
            <a:ext cx="1008000" cy="0"/>
          </a:xfrm>
          <a:prstGeom prst="line">
            <a:avLst/>
          </a:prstGeom>
          <a:ln w="255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5508720" y="3068640"/>
            <a:ext cx="2286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Inhaltsfeld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(Gegenständ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feld 19"/>
          <p:cNvSpPr/>
          <p:nvPr/>
        </p:nvSpPr>
        <p:spPr>
          <a:xfrm>
            <a:off x="3238560" y="90792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7"/>
          <p:cNvSpPr/>
          <p:nvPr/>
        </p:nvSpPr>
        <p:spPr>
          <a:xfrm>
            <a:off x="4502160" y="50673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ußzeile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0643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-BoldMT"/>
                <a:ea typeface="ヒラギノ角ゴ Pro W3"/>
              </a:rPr>
              <a:t>Kompetenzorientierte Kernlehrplän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420840" y="1733400"/>
            <a:ext cx="85597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entrale Begriffe und Ebenen im Kernlehrplan (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Kompetenzbereiche: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Systematisieren die kognitiven Prozesse –Sach-, Methoden-, Urteils- und Handlungskompeten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Inhaltsfelder: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Systematisieren die Gegenstände, sind nicht mit Unterrichtsvorhaben gleichzusetzen – Beispie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Das Individuum in Interaktion mit and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Die menschliche Persönlichkeit und ihre Entwick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Inhaltliche Schwerpunkte: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Untergliederungselemente der Inhaltsfelder – Beispiele zu Inhaltsfeld 2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ttributionsgeset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sychologie der Gru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soziales Verhalten und Altruis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tellung und Einstellungsänd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ußzeile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539640" y="1574640"/>
            <a:ext cx="8064720" cy="41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Zentrale Begriffe und Ebenen im Kernlehrplan (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Übergeordnete Kompetenzerwartungen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: Inhaltsfeldübergreifende Kompetenzerwartungen aus allen Kompetenzbereichen, mit Progres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Konkretisierte Kompetenzerwartungen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: Inhaltsfeldbezogene Kompetenzerwartungen als heruntergebrochene Zusammenführung von Prozessen und Gegenständen (Sach- und Urteilskompetenze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3"/>
          <p:cNvSpPr/>
          <p:nvPr/>
        </p:nvSpPr>
        <p:spPr>
          <a:xfrm>
            <a:off x="395280" y="981000"/>
            <a:ext cx="80643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ußzeile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4"/>
          <p:cNvSpPr/>
          <p:nvPr/>
        </p:nvSpPr>
        <p:spPr>
          <a:xfrm>
            <a:off x="558720" y="2138400"/>
            <a:ext cx="8064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ch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5"/>
          <p:cNvSpPr/>
          <p:nvPr/>
        </p:nvSpPr>
        <p:spPr>
          <a:xfrm>
            <a:off x="558720" y="2562120"/>
            <a:ext cx="404676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ergeordnete Kompetenzerwartung:</a:t>
            </a:r>
            <a:br>
              <a:rPr sz="1600"/>
            </a:br>
            <a:br>
              <a:rPr sz="8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Schülerinnen und Schüler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klären ausgewählte psychologische Phänomene aus der Perspektive verschiedener Paradigmen und im Kontext entsprechender psychologischer Fachdisziplinen (QPH GK SK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6"/>
          <p:cNvSpPr/>
          <p:nvPr/>
        </p:nvSpPr>
        <p:spPr>
          <a:xfrm>
            <a:off x="4756320" y="2562120"/>
            <a:ext cx="386712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4960"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nkretisierte Kompetenzerwartung:</a:t>
            </a:r>
            <a:br>
              <a:rPr sz="16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8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Schülerinnen und Schüler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klären die Entstehung und Änderung von Einstellungen aus unterschiedlichen paradigmatischen Sichtweisen (QPH IF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568440" y="4329000"/>
            <a:ext cx="8064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rteils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8"/>
          <p:cNvSpPr/>
          <p:nvPr/>
        </p:nvSpPr>
        <p:spPr>
          <a:xfrm>
            <a:off x="544680" y="4764240"/>
            <a:ext cx="404640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ergeordnete Kompetenzerwartung:</a:t>
            </a:r>
            <a:br>
              <a:rPr sz="1600"/>
            </a:br>
            <a:br>
              <a:rPr sz="8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Schülerinnen und Schüler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urteilen ethische Implikationen psychologischer Forschung und Intervention (QPH GK UK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9"/>
          <p:cNvSpPr/>
          <p:nvPr/>
        </p:nvSpPr>
        <p:spPr>
          <a:xfrm>
            <a:off x="4756320" y="4826160"/>
            <a:ext cx="386712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4960"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nkretisierte Kompetenzerwartung:</a:t>
            </a:r>
            <a:br>
              <a:rPr sz="1600"/>
            </a:b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8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Schülerinnen und Schüler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werten aus ethischer Sicht den Einsatz persönlichkeitsdiagnostischer Verfah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feld 12"/>
          <p:cNvSpPr/>
          <p:nvPr/>
        </p:nvSpPr>
        <p:spPr>
          <a:xfrm>
            <a:off x="2854440" y="1014480"/>
            <a:ext cx="58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te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"/>
          <p:cNvSpPr/>
          <p:nvPr/>
        </p:nvSpPr>
        <p:spPr>
          <a:xfrm>
            <a:off x="568440" y="1476360"/>
            <a:ext cx="2286000" cy="485640"/>
          </a:xfrm>
          <a:prstGeom prst="rect">
            <a:avLst/>
          </a:prstGeom>
          <a:gradFill rotWithShape="0">
            <a:gsLst>
              <a:gs pos="0">
                <a:srgbClr val="ffcc00">
                  <a:alpha val="56078"/>
                </a:srgbClr>
              </a:gs>
              <a:gs pos="100000">
                <a:srgbClr val="cc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ußzeile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84160" y="911160"/>
            <a:ext cx="8064720" cy="4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-BoldMT"/>
                <a:ea typeface="ヒラギノ角ゴ Pro W3"/>
              </a:rPr>
              <a:t>Kompetenzorientierte Kernlehrpläne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22000" y="1645920"/>
            <a:ext cx="80643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gression einer übergeordneten Urteilskompeten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ie Schülerinnen und Schül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beurteilen auf basalem Niveau den Erklärungswert von Forschungsmethoden, insbesondere Experimenten (EPH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beurteilen den Erklärungswert von Forschungsmethoden und weisen die jeweils unterschiedlichen Aussageweiten und Aussagesicherheiten nach (QPH LK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feil nach unten 3"/>
          <p:cNvSpPr/>
          <p:nvPr/>
        </p:nvSpPr>
        <p:spPr>
          <a:xfrm>
            <a:off x="3691080" y="3981600"/>
            <a:ext cx="952200" cy="74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cacac"/>
          </a:solidFill>
          <a:ln w="2556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ußzeile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07E8-E975-42B1-8436-E964A8C29A6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82320" y="2976120"/>
            <a:ext cx="806436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e2001a"/>
                </a:solidFill>
                <a:latin typeface="Arial-BoldMT"/>
              </a:rPr>
              <a:t>II. Schulinterne Lehrpläne und Unterstützungsangebote</a:t>
            </a: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19" name="Fußzeile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7D40-9C55-4CB7-ADAB-4499790E51A2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395280" y="1601640"/>
            <a:ext cx="84247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9996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Anforderungen an die Schulen angesichts  </a:t>
            </a:r>
            <a:br>
              <a:rPr sz="2000"/>
            </a:b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kompetenzorientierter Kernlehr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feld 7"/>
          <p:cNvSpPr/>
          <p:nvPr/>
        </p:nvSpPr>
        <p:spPr>
          <a:xfrm>
            <a:off x="3421080" y="97776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Arial"/>
              </a:rPr>
              <a:t>Schulinterne 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94920" y="257472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rnlehr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orgabe zu erreichender Kompetenze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eschränkung auf den Kernbereich fachlicher Anforderunge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ormulierung von Kompetenzerwartungen und inhaltlichen Schwerpunkten zu einem bestimmten Zeitpunkt eines Bildungsgang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617720" y="25891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chu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idaktisch-pädagogische Prozesse in der Verantwortung der 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Gestaltungsräume der Schu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nkretisierung in unterrichtlichen Kontexten und Umsetzung in aufeinander abgestimmte Unterrichtsvorhaben (Progression, Kumulativitä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ußzeile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77920" y="98568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sauftakt WBK Psychologie 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100" spc="-1" strike="noStrike">
              <a:solidFill>
                <a:srgbClr val="898989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263520" y="1455840"/>
          <a:ext cx="8569440" cy="5232240"/>
        </p:xfrm>
        <a:graphic>
          <a:graphicData uri="http://schemas.openxmlformats.org/drawingml/2006/table">
            <a:tbl>
              <a:tblPr/>
              <a:tblGrid>
                <a:gridCol w="2087640"/>
                <a:gridCol w="2520720"/>
                <a:gridCol w="396108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aca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aca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hal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aca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. 10.00 – 10.10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rüß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ärung des Tagungsablaufs, Organisatorisc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e3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. 10.10 – 11.10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äsentation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il I und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petenzen, Kernlehrplan, Schulinterner Lehr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. 11.10 – 11.25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ffeep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e3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. 11.25 – 11.55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äsentation Teil 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P und SILP Psych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. 11.55 – 12.30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ephase, Einzelarbe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P Psychologie, konkretisiertes Unterrichtsvorhab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e3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. 12.30 – 13.30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tagsp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. 13.30 – 14.15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penarbeits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struktionsprinzipien konkretisierter Unterrichtsvorhaben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ächste Schritte der Fachkonferenzarbe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3e3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. 14.15 – 16.00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gleich der Ergebnisse, offene Fra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550A-343C-4A21-949A-C7EA2B7D111F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357120" y="1773360"/>
            <a:ext cx="842508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9996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	</a:t>
            </a: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Anforderungen an die Schulen angesichts  </a:t>
            </a:r>
            <a:br>
              <a:rPr sz="2000"/>
            </a:b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kompetenzorientierter Kernlehr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feld 7"/>
          <p:cNvSpPr/>
          <p:nvPr/>
        </p:nvSpPr>
        <p:spPr>
          <a:xfrm>
            <a:off x="3408480" y="10778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Arial"/>
              </a:rPr>
              <a:t>Schulinterne 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64760" y="27669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rnlehr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estlegung des Umfangs von Kompetenzerwartungen und damit verbundener Fachkenntnis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ssagen zur Leistungserfassung und -bewertung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6120" y="277632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chu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gruppen-adäquate Umsetzung und Konkretisier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einbarungen und Absprachen über Kriter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pflichtung der Schulen schuleigene Curricula (Lehrpläne/ Arbeitspläne) zu erstellen laut Schulges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ußzeile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EB5A-68B6-478C-B82C-55B22B4D690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064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Struktur eines schulinternen Lehrplans – Gliederung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539640" y="2084400"/>
          <a:ext cx="8064720" cy="3956040"/>
        </p:xfrm>
        <a:graphic>
          <a:graphicData uri="http://schemas.openxmlformats.org/drawingml/2006/table">
            <a:tbl>
              <a:tblPr/>
              <a:tblGrid>
                <a:gridCol w="863640"/>
                <a:gridCol w="7201080"/>
              </a:tblGrid>
              <a:tr h="35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i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ederungspunk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Fachgruppe X in der Y-Sch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ntscheidungen zum Unterricht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Unterrichtsvorhaben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Übersichtsraster Unterrichtsvorhaben</a:t>
                      </a: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nkretisierte Unterrichtsvorhaben</a:t>
                      </a: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ndsätze der fachmethodische und fachdidaktischen Arbe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ndsätze der Leistungsbewertung und Leistungsrückmeld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hr- und Lernmit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Entscheidungen zu fach- und unterrichtsübergreifenden Fragen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Qualitätssicherung und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5" name="Fußzeile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9940-7AC2-4DBA-A99E-62919591129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A16D-F5FA-46FD-B728-D33B486031B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3"/>
          <p:cNvSpPr/>
          <p:nvPr/>
        </p:nvSpPr>
        <p:spPr>
          <a:xfrm>
            <a:off x="1311120" y="2935440"/>
            <a:ext cx="726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351000" y="941400"/>
            <a:ext cx="83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Beispiel: Übersichtsraster für die Sekundarstuf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50760" y="1547640"/>
          <a:ext cx="9093240" cy="4837320"/>
        </p:xfrm>
        <a:graphic>
          <a:graphicData uri="http://schemas.openxmlformats.org/drawingml/2006/table">
            <a:tbl>
              <a:tblPr/>
              <a:tblGrid>
                <a:gridCol w="3013200"/>
                <a:gridCol w="3038400"/>
                <a:gridCol w="3041640"/>
              </a:tblGrid>
              <a:tr h="48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mpetenzen (MKs, HKs)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mpetenzen (MKs, HKs)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Q1, 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mpetenzen (MKs, HKs)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mpetenzen (MKs, HKs)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Q2, G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mpetenzen (MKs, HKs)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mpetenzen (MKs, HKs)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Q1, 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mpetenzen (MKs, HKs)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mpetenzen (MKs, HKs)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Q2, 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mpetenzen (MKs, HKs)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nterrichtsvorhaben II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a, Kompetenzen (MKs, HKs), Inhaltsfelder, inhaltliche Schwerpunk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</a:tbl>
          </a:graphicData>
        </a:graphic>
      </p:graphicFrame>
      <p:sp>
        <p:nvSpPr>
          <p:cNvPr id="741" name="Fußzeile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2CA9-0AF2-404F-8236-EF5C1CBC277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feld 2"/>
          <p:cNvSpPr/>
          <p:nvPr/>
        </p:nvSpPr>
        <p:spPr>
          <a:xfrm>
            <a:off x="304920" y="903240"/>
            <a:ext cx="85820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kretisierte Unterrichtsvorh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.B.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 Unterrichtsvorhaben II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 (LK Q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hem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Der Mensch – edel, hilfreich und gut?</a:t>
            </a: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Die tiefenpsychologische Sicht der Psychologie im Vergleich zu anderen Paradig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4" descr=""/>
          <p:cNvPicPr/>
          <p:nvPr/>
        </p:nvPicPr>
        <p:blipFill>
          <a:blip r:embed="rId1"/>
          <a:stretch/>
        </p:blipFill>
        <p:spPr>
          <a:xfrm>
            <a:off x="176040" y="1830240"/>
            <a:ext cx="8649000" cy="47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263A-FDDC-4293-86E4-BBFB80EA68B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7"/>
          <p:cNvSpPr/>
          <p:nvPr/>
        </p:nvSpPr>
        <p:spPr>
          <a:xfrm>
            <a:off x="5246640" y="0"/>
            <a:ext cx="389736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2"/>
          <p:cNvGrpSpPr/>
          <p:nvPr/>
        </p:nvGrpSpPr>
        <p:grpSpPr>
          <a:xfrm>
            <a:off x="5473800" y="777960"/>
            <a:ext cx="3051000" cy="2890800"/>
            <a:chOff x="5473800" y="777960"/>
            <a:chExt cx="3051000" cy="2890800"/>
          </a:xfrm>
        </p:grpSpPr>
        <p:sp>
          <p:nvSpPr>
            <p:cNvPr id="748" name="Document"/>
            <p:cNvSpPr/>
            <p:nvPr/>
          </p:nvSpPr>
          <p:spPr>
            <a:xfrm>
              <a:off x="5473800" y="777960"/>
              <a:ext cx="2928960" cy="26859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de-DE" sz="2000" spc="-1" strike="noStrike">
                  <a:solidFill>
                    <a:srgbClr val="000099"/>
                  </a:solidFill>
                  <a:latin typeface="Arial"/>
                </a:rPr>
                <a:t>Schulintern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de-DE" sz="2000" spc="-1" strike="noStrike">
                  <a:solidFill>
                    <a:srgbClr val="000099"/>
                  </a:solidFill>
                  <a:latin typeface="Arial"/>
                </a:rPr>
                <a:t>Lehrplan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 HTML-Form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4"/>
            <p:cNvSpPr/>
            <p:nvPr/>
          </p:nvSpPr>
          <p:spPr>
            <a:xfrm>
              <a:off x="5673600" y="1758960"/>
              <a:ext cx="28512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Vorgabe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Grundmuster,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estandteile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, Konstruktionshinweise, „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lgorithme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 indent="-181080">
                <a:spcBef>
                  <a:spcPts val="43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Musterbeispiel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eines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 schulinternen Fachlehrplans 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 und einer Jahrgangspartit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5"/>
          <p:cNvGrpSpPr/>
          <p:nvPr/>
        </p:nvGrpSpPr>
        <p:grpSpPr>
          <a:xfrm>
            <a:off x="2771640" y="733320"/>
            <a:ext cx="3029040" cy="2914560"/>
            <a:chOff x="2771640" y="733320"/>
            <a:chExt cx="3029040" cy="2914560"/>
          </a:xfrm>
        </p:grpSpPr>
        <p:sp>
          <p:nvSpPr>
            <p:cNvPr id="751" name="Document"/>
            <p:cNvSpPr/>
            <p:nvPr/>
          </p:nvSpPr>
          <p:spPr>
            <a:xfrm>
              <a:off x="2771640" y="733320"/>
              <a:ext cx="2895840" cy="291456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1" lang="de-DE" sz="2000" spc="-1" strike="noStrike">
                  <a:solidFill>
                    <a:srgbClr val="000099"/>
                  </a:solidFill>
                  <a:latin typeface="Arial"/>
                </a:rPr>
                <a:t>Kernlehrpla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TML-Form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42880"/>
                  <a:tab algn="l" pos="1085760"/>
                  <a:tab algn="l" pos="1628640"/>
                  <a:tab algn="l" pos="2171880"/>
                  <a:tab algn="l" pos="2714760"/>
                  <a:tab algn="l" pos="3257640"/>
                  <a:tab algn="l" pos="3800520"/>
                  <a:tab algn="l" pos="4343400"/>
                  <a:tab algn="l" pos="4886280"/>
                  <a:tab algn="l" pos="5429160"/>
                  <a:tab algn="l" pos="5972040"/>
                  <a:tab algn="l" pos="6515280"/>
                  <a:tab algn="l" pos="7058160"/>
                  <a:tab algn="l" pos="7601040"/>
                  <a:tab algn="l" pos="8143920"/>
                  <a:tab algn="l" pos="8686800"/>
                  <a:tab algn="l" pos="9229680"/>
                  <a:tab algn="l" pos="9772560"/>
                  <a:tab algn="l" pos="10315440"/>
                  <a:tab algn="l" pos="1085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7"/>
            <p:cNvSpPr/>
            <p:nvPr/>
          </p:nvSpPr>
          <p:spPr>
            <a:xfrm>
              <a:off x="2847960" y="1876320"/>
              <a:ext cx="2581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1080" indent="-181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erbindliche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Kompetenz-erwartunge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am Ende bestimmter Phasen des Bildungsgan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 Box 8"/>
            <p:cNvSpPr/>
            <p:nvPr/>
          </p:nvSpPr>
          <p:spPr>
            <a:xfrm>
              <a:off x="3390840" y="3066840"/>
              <a:ext cx="2409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bligatorische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haltliche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Schwerpunk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9"/>
          <p:cNvGrpSpPr/>
          <p:nvPr/>
        </p:nvGrpSpPr>
        <p:grpSpPr>
          <a:xfrm>
            <a:off x="1865160" y="1216080"/>
            <a:ext cx="4267080" cy="2276280"/>
            <a:chOff x="1865160" y="1216080"/>
            <a:chExt cx="4267080" cy="2276280"/>
          </a:xfrm>
        </p:grpSpPr>
        <p:sp>
          <p:nvSpPr>
            <p:cNvPr id="755" name="Line 10"/>
            <p:cNvSpPr/>
            <p:nvPr/>
          </p:nvSpPr>
          <p:spPr>
            <a:xfrm>
              <a:off x="5170320" y="1257480"/>
              <a:ext cx="961920" cy="9360"/>
            </a:xfrm>
            <a:prstGeom prst="line">
              <a:avLst/>
            </a:prstGeom>
            <a:ln w="4140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1"/>
            <p:cNvSpPr/>
            <p:nvPr/>
          </p:nvSpPr>
          <p:spPr>
            <a:xfrm>
              <a:off x="1871640" y="1216080"/>
              <a:ext cx="9360" cy="2276280"/>
            </a:xfrm>
            <a:prstGeom prst="line">
              <a:avLst/>
            </a:prstGeom>
            <a:ln w="4140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2"/>
            <p:cNvSpPr/>
            <p:nvPr/>
          </p:nvSpPr>
          <p:spPr>
            <a:xfrm>
              <a:off x="1865160" y="1228680"/>
              <a:ext cx="1628640" cy="0"/>
            </a:xfrm>
            <a:prstGeom prst="line">
              <a:avLst/>
            </a:prstGeom>
            <a:ln w="41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Group 14"/>
          <p:cNvGrpSpPr/>
          <p:nvPr/>
        </p:nvGrpSpPr>
        <p:grpSpPr>
          <a:xfrm>
            <a:off x="0" y="3666960"/>
            <a:ext cx="8991720" cy="2457720"/>
            <a:chOff x="0" y="3666960"/>
            <a:chExt cx="8991720" cy="2457720"/>
          </a:xfrm>
        </p:grpSpPr>
        <p:sp>
          <p:nvSpPr>
            <p:cNvPr id="759" name="File"/>
            <p:cNvSpPr/>
            <p:nvPr/>
          </p:nvSpPr>
          <p:spPr>
            <a:xfrm>
              <a:off x="86040" y="3695760"/>
              <a:ext cx="8905680" cy="2428920"/>
            </a:xfrm>
            <a:custGeom>
              <a:avLst/>
              <a:gdLst>
                <a:gd name="textAreaLeft" fmla="*/ 447480 w 8905680"/>
                <a:gd name="textAreaRight" fmla="*/ 8507520 w 8905680"/>
                <a:gd name="textAreaTop" fmla="*/ 520560 h 2428920"/>
                <a:gd name="textAreaBottom" fmla="*/ 2281320 h 24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790" y="3240"/>
                  </a:moveTo>
                  <a:cubicBezTo>
                    <a:pt x="10981" y="3240"/>
                    <a:pt x="9171" y="3240"/>
                    <a:pt x="9050" y="3086"/>
                  </a:cubicBezTo>
                  <a:cubicBezTo>
                    <a:pt x="9050" y="2931"/>
                    <a:pt x="8930" y="2777"/>
                    <a:pt x="8930" y="2469"/>
                  </a:cubicBezTo>
                  <a:cubicBezTo>
                    <a:pt x="8930" y="2160"/>
                    <a:pt x="8809" y="1851"/>
                    <a:pt x="8688" y="1389"/>
                  </a:cubicBezTo>
                  <a:cubicBezTo>
                    <a:pt x="8568" y="1080"/>
                    <a:pt x="8326" y="771"/>
                    <a:pt x="8085" y="463"/>
                  </a:cubicBezTo>
                  <a:cubicBezTo>
                    <a:pt x="7723" y="154"/>
                    <a:pt x="7361" y="0"/>
                    <a:pt x="7361" y="0"/>
                  </a:cubicBezTo>
                  <a:cubicBezTo>
                    <a:pt x="7361" y="0"/>
                    <a:pt x="2293" y="0"/>
                    <a:pt x="2051" y="154"/>
                  </a:cubicBezTo>
                  <a:cubicBezTo>
                    <a:pt x="1689" y="309"/>
                    <a:pt x="1448" y="463"/>
                    <a:pt x="1327" y="771"/>
                  </a:cubicBezTo>
                  <a:cubicBezTo>
                    <a:pt x="1207" y="1080"/>
                    <a:pt x="1086" y="1389"/>
                    <a:pt x="965" y="1697"/>
                  </a:cubicBezTo>
                  <a:cubicBezTo>
                    <a:pt x="845" y="2160"/>
                    <a:pt x="724" y="2314"/>
                    <a:pt x="724" y="2469"/>
                  </a:cubicBezTo>
                  <a:cubicBezTo>
                    <a:pt x="603" y="2623"/>
                    <a:pt x="603" y="2777"/>
                    <a:pt x="483" y="2931"/>
                  </a:cubicBezTo>
                  <a:cubicBezTo>
                    <a:pt x="483" y="3086"/>
                    <a:pt x="362" y="3240"/>
                    <a:pt x="241" y="3240"/>
                  </a:cubicBezTo>
                  <a:lnTo>
                    <a:pt x="0" y="3394"/>
                  </a:lnTo>
                  <a:lnTo>
                    <a:pt x="0" y="3703"/>
                  </a:lnTo>
                  <a:lnTo>
                    <a:pt x="0" y="10800"/>
                  </a:lnTo>
                  <a:lnTo>
                    <a:pt x="0" y="21600"/>
                  </a:lnTo>
                  <a:lnTo>
                    <a:pt x="10981" y="21600"/>
                  </a:lnTo>
                  <a:lnTo>
                    <a:pt x="21600" y="21600"/>
                  </a:lnTo>
                  <a:lnTo>
                    <a:pt x="21600" y="10800"/>
                  </a:lnTo>
                  <a:lnTo>
                    <a:pt x="21600" y="5246"/>
                  </a:lnTo>
                  <a:lnTo>
                    <a:pt x="21600" y="4783"/>
                  </a:lnTo>
                  <a:cubicBezTo>
                    <a:pt x="21479" y="4320"/>
                    <a:pt x="21359" y="4011"/>
                    <a:pt x="21117" y="3703"/>
                  </a:cubicBezTo>
                  <a:cubicBezTo>
                    <a:pt x="20876" y="3549"/>
                    <a:pt x="20514" y="3394"/>
                    <a:pt x="20152" y="3240"/>
                  </a:cubicBezTo>
                  <a:lnTo>
                    <a:pt x="19790" y="324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" name="Group 16"/>
            <p:cNvGrpSpPr/>
            <p:nvPr/>
          </p:nvGrpSpPr>
          <p:grpSpPr>
            <a:xfrm>
              <a:off x="0" y="3666960"/>
              <a:ext cx="8909280" cy="2311560"/>
              <a:chOff x="0" y="3666960"/>
              <a:chExt cx="8909280" cy="2311560"/>
            </a:xfrm>
          </p:grpSpPr>
          <p:sp>
            <p:nvSpPr>
              <p:cNvPr id="761" name="Text Box 17"/>
              <p:cNvSpPr/>
              <p:nvPr/>
            </p:nvSpPr>
            <p:spPr>
              <a:xfrm>
                <a:off x="1095480" y="3666960"/>
                <a:ext cx="14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99"/>
                    </a:solidFill>
                    <a:latin typeface="Arial"/>
                  </a:rPr>
                  <a:t>Datenban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2" name="Group 18"/>
              <p:cNvGrpSpPr/>
              <p:nvPr/>
            </p:nvGrpSpPr>
            <p:grpSpPr>
              <a:xfrm>
                <a:off x="7442280" y="4137120"/>
                <a:ext cx="1467000" cy="1809720"/>
                <a:chOff x="7442280" y="4137120"/>
                <a:chExt cx="1467000" cy="1809720"/>
              </a:xfrm>
            </p:grpSpPr>
            <p:sp>
              <p:nvSpPr>
                <p:cNvPr id="763" name="Documents"/>
                <p:cNvSpPr/>
                <p:nvPr/>
              </p:nvSpPr>
              <p:spPr>
                <a:xfrm>
                  <a:off x="7452000" y="4137120"/>
                  <a:ext cx="1457280" cy="1809720"/>
                </a:xfrm>
                <a:custGeom>
                  <a:avLst/>
                  <a:gdLst>
                    <a:gd name="textAreaLeft" fmla="*/ 110880 w 1457280"/>
                    <a:gd name="textAreaRight" fmla="*/ 1114560 w 145728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Text Box 20"/>
                <p:cNvSpPr/>
                <p:nvPr/>
              </p:nvSpPr>
              <p:spPr>
                <a:xfrm>
                  <a:off x="7442280" y="4365720"/>
                  <a:ext cx="144792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Hintergrund-materialien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, „Tools“,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Unterstützungs-materia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5" name="Documents"/>
              <p:cNvSpPr/>
              <p:nvPr/>
            </p:nvSpPr>
            <p:spPr>
              <a:xfrm>
                <a:off x="6016680" y="4168800"/>
                <a:ext cx="1457280" cy="1809720"/>
              </a:xfrm>
              <a:custGeom>
                <a:avLst/>
                <a:gdLst>
                  <a:gd name="textAreaLeft" fmla="*/ 110880 w 1457280"/>
                  <a:gd name="textAreaRight" fmla="*/ 1114560 w 1457280"/>
                  <a:gd name="textAreaTop" fmla="*/ 349200 h 1809720"/>
                  <a:gd name="textAreaBottom" fmla="*/ 1451160 h 180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8014"/>
                    </a:moveTo>
                    <a:lnTo>
                      <a:pt x="0" y="2800"/>
                    </a:lnTo>
                    <a:lnTo>
                      <a:pt x="1645" y="2800"/>
                    </a:lnTo>
                    <a:lnTo>
                      <a:pt x="1645" y="1428"/>
                    </a:lnTo>
                    <a:lnTo>
                      <a:pt x="3468" y="1428"/>
                    </a:lnTo>
                    <a:lnTo>
                      <a:pt x="3468" y="0"/>
                    </a:lnTo>
                    <a:lnTo>
                      <a:pt x="21653" y="0"/>
                    </a:lnTo>
                    <a:lnTo>
                      <a:pt x="21653" y="18828"/>
                    </a:lnTo>
                    <a:lnTo>
                      <a:pt x="19954" y="18828"/>
                    </a:lnTo>
                    <a:lnTo>
                      <a:pt x="19954" y="20214"/>
                    </a:lnTo>
                    <a:lnTo>
                      <a:pt x="18256" y="20214"/>
                    </a:lnTo>
                    <a:lnTo>
                      <a:pt x="18256" y="21600"/>
                    </a:lnTo>
                    <a:lnTo>
                      <a:pt x="4434" y="21600"/>
                    </a:lnTo>
                    <a:lnTo>
                      <a:pt x="0" y="18014"/>
                    </a:lnTo>
                    <a:close/>
                  </a:path>
                  <a:path w="21600" h="21600">
                    <a:moveTo>
                      <a:pt x="3486" y="1428"/>
                    </a:moveTo>
                    <a:lnTo>
                      <a:pt x="19954" y="1428"/>
                    </a:lnTo>
                    <a:lnTo>
                      <a:pt x="19954" y="20214"/>
                    </a:lnTo>
                    <a:lnTo>
                      <a:pt x="18256" y="20214"/>
                    </a:lnTo>
                    <a:lnTo>
                      <a:pt x="18256" y="2800"/>
                    </a:lnTo>
                    <a:lnTo>
                      <a:pt x="1645" y="2800"/>
                    </a:lnTo>
                    <a:lnTo>
                      <a:pt x="1645" y="1428"/>
                    </a:lnTo>
                    <a:lnTo>
                      <a:pt x="3486" y="1428"/>
                    </a:lnTo>
                    <a:close/>
                  </a:path>
                  <a:path w="21600" h="21600">
                    <a:moveTo>
                      <a:pt x="0" y="18014"/>
                    </a:moveTo>
                    <a:lnTo>
                      <a:pt x="4434" y="18000"/>
                    </a:lnTo>
                    <a:lnTo>
                      <a:pt x="4434" y="21600"/>
                    </a:lnTo>
                    <a:lnTo>
                      <a:pt x="0" y="18014"/>
                    </a:lnTo>
                    <a:close/>
                  </a:path>
                </a:pathLst>
              </a:cu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6" name="Group 22"/>
              <p:cNvGrpSpPr/>
              <p:nvPr/>
            </p:nvGrpSpPr>
            <p:grpSpPr>
              <a:xfrm>
                <a:off x="4499280" y="4156200"/>
                <a:ext cx="1476360" cy="1809720"/>
                <a:chOff x="4499280" y="4156200"/>
                <a:chExt cx="1476360" cy="1809720"/>
              </a:xfrm>
            </p:grpSpPr>
            <p:sp>
              <p:nvSpPr>
                <p:cNvPr id="767" name="Documents"/>
                <p:cNvSpPr/>
                <p:nvPr/>
              </p:nvSpPr>
              <p:spPr>
                <a:xfrm>
                  <a:off x="4518360" y="4156200"/>
                  <a:ext cx="1457280" cy="1809720"/>
                </a:xfrm>
                <a:custGeom>
                  <a:avLst/>
                  <a:gdLst>
                    <a:gd name="textAreaLeft" fmla="*/ 110880 w 1457280"/>
                    <a:gd name="textAreaRight" fmla="*/ 1114560 w 145728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24"/>
                <p:cNvSpPr/>
                <p:nvPr/>
              </p:nvSpPr>
              <p:spPr>
                <a:xfrm>
                  <a:off x="4499280" y="4384800"/>
                  <a:ext cx="1371600" cy="11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Diagnose-bögen</a:t>
                  </a:r>
                  <a:br>
                    <a:rPr sz="14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und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Evaluations-instrum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9" name="Group 25"/>
              <p:cNvGrpSpPr/>
              <p:nvPr/>
            </p:nvGrpSpPr>
            <p:grpSpPr>
              <a:xfrm>
                <a:off x="2975040" y="4156200"/>
                <a:ext cx="1533600" cy="1809720"/>
                <a:chOff x="2975040" y="4156200"/>
                <a:chExt cx="1533600" cy="1809720"/>
              </a:xfrm>
            </p:grpSpPr>
            <p:sp>
              <p:nvSpPr>
                <p:cNvPr id="770" name="Documents"/>
                <p:cNvSpPr/>
                <p:nvPr/>
              </p:nvSpPr>
              <p:spPr>
                <a:xfrm>
                  <a:off x="3051360" y="4156200"/>
                  <a:ext cx="1457280" cy="1809720"/>
                </a:xfrm>
                <a:custGeom>
                  <a:avLst/>
                  <a:gdLst>
                    <a:gd name="textAreaLeft" fmla="*/ 110880 w 1457280"/>
                    <a:gd name="textAreaRight" fmla="*/ 1114560 w 145728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27"/>
                <p:cNvSpPr/>
                <p:nvPr/>
              </p:nvSpPr>
              <p:spPr>
                <a:xfrm>
                  <a:off x="2975040" y="4384800"/>
                  <a:ext cx="1381320" cy="14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schülerver-ständliche Ausformulie-rungen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br>
                    <a:rPr sz="14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von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Kompetenz-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      erwartun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28"/>
              <p:cNvGrpSpPr/>
              <p:nvPr/>
            </p:nvGrpSpPr>
            <p:grpSpPr>
              <a:xfrm>
                <a:off x="1587600" y="4149720"/>
                <a:ext cx="1457280" cy="1809720"/>
                <a:chOff x="1587600" y="4149720"/>
                <a:chExt cx="1457280" cy="1809720"/>
              </a:xfrm>
            </p:grpSpPr>
            <p:sp>
              <p:nvSpPr>
                <p:cNvPr id="773" name="Documents"/>
                <p:cNvSpPr/>
                <p:nvPr/>
              </p:nvSpPr>
              <p:spPr>
                <a:xfrm>
                  <a:off x="1587600" y="4149720"/>
                  <a:ext cx="1457280" cy="1809720"/>
                </a:xfrm>
                <a:custGeom>
                  <a:avLst/>
                  <a:gdLst>
                    <a:gd name="textAreaLeft" fmla="*/ 110880 w 1457280"/>
                    <a:gd name="textAreaRight" fmla="*/ 1114560 w 145728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30"/>
                <p:cNvSpPr/>
                <p:nvPr/>
              </p:nvSpPr>
              <p:spPr>
                <a:xfrm>
                  <a:off x="1616400" y="4378320"/>
                  <a:ext cx="1276200" cy="14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Unterrichts- und Lernarran-gements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br>
                    <a:rPr sz="14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zu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Kompetenz-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    erwartun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Group 31"/>
              <p:cNvGrpSpPr/>
              <p:nvPr/>
            </p:nvGrpSpPr>
            <p:grpSpPr>
              <a:xfrm>
                <a:off x="0" y="4152960"/>
                <a:ext cx="1571760" cy="1809720"/>
                <a:chOff x="0" y="4152960"/>
                <a:chExt cx="1571760" cy="1809720"/>
              </a:xfrm>
            </p:grpSpPr>
            <p:sp>
              <p:nvSpPr>
                <p:cNvPr id="776" name="Documents"/>
                <p:cNvSpPr/>
                <p:nvPr/>
              </p:nvSpPr>
              <p:spPr>
                <a:xfrm>
                  <a:off x="114120" y="4152960"/>
                  <a:ext cx="1457640" cy="1809720"/>
                </a:xfrm>
                <a:custGeom>
                  <a:avLst/>
                  <a:gdLst>
                    <a:gd name="textAreaLeft" fmla="*/ 110880 w 1457640"/>
                    <a:gd name="textAreaRight" fmla="*/ 1114920 w 1457640"/>
                    <a:gd name="textAreaTop" fmla="*/ 349200 h 1809720"/>
                    <a:gd name="textAreaBottom" fmla="*/ 1451160 h 180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8014"/>
                      </a:moveTo>
                      <a:lnTo>
                        <a:pt x="0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68" y="1428"/>
                      </a:lnTo>
                      <a:lnTo>
                        <a:pt x="3468" y="0"/>
                      </a:lnTo>
                      <a:lnTo>
                        <a:pt x="21653" y="0"/>
                      </a:lnTo>
                      <a:lnTo>
                        <a:pt x="21653" y="18828"/>
                      </a:lnTo>
                      <a:lnTo>
                        <a:pt x="19954" y="188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16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  <a:path w="21600" h="21600">
                      <a:moveTo>
                        <a:pt x="3486" y="1428"/>
                      </a:moveTo>
                      <a:lnTo>
                        <a:pt x="19954" y="1428"/>
                      </a:lnTo>
                      <a:lnTo>
                        <a:pt x="19954" y="20214"/>
                      </a:lnTo>
                      <a:lnTo>
                        <a:pt x="18256" y="20214"/>
                      </a:lnTo>
                      <a:lnTo>
                        <a:pt x="18256" y="2800"/>
                      </a:lnTo>
                      <a:lnTo>
                        <a:pt x="1645" y="2800"/>
                      </a:lnTo>
                      <a:lnTo>
                        <a:pt x="1645" y="1428"/>
                      </a:lnTo>
                      <a:lnTo>
                        <a:pt x="3486" y="1428"/>
                      </a:lnTo>
                      <a:close/>
                    </a:path>
                    <a:path w="21600" h="21600">
                      <a:moveTo>
                        <a:pt x="0" y="18014"/>
                      </a:moveTo>
                      <a:lnTo>
                        <a:pt x="4434" y="18000"/>
                      </a:lnTo>
                      <a:lnTo>
                        <a:pt x="4434" y="21600"/>
                      </a:lnTo>
                      <a:lnTo>
                        <a:pt x="0" y="18014"/>
                      </a:lnTo>
                      <a:close/>
                    </a:path>
                  </a:pathLst>
                </a:cu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Text Box 33"/>
                <p:cNvSpPr/>
                <p:nvPr/>
              </p:nvSpPr>
              <p:spPr>
                <a:xfrm>
                  <a:off x="0" y="4400640"/>
                  <a:ext cx="1467000" cy="148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Beispiel-aufgaben</a:t>
                  </a: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(Lernaufgaben / Testaufgaben) zu konkreten Kompetenz-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      erwartung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8" name="Text Box 34"/>
              <p:cNvSpPr/>
              <p:nvPr/>
            </p:nvSpPr>
            <p:spPr>
              <a:xfrm>
                <a:off x="5981760" y="4362480"/>
                <a:ext cx="135252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Konkretisie-rungen zum Schulinternen Lehrplan: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Beispiele zu Unterrichts-</a:t>
                </a:r>
                <a:br>
                  <a:rPr sz="1400"/>
                </a:b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     vorhabe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Textfeld 37"/>
          <p:cNvSpPr/>
          <p:nvPr/>
        </p:nvSpPr>
        <p:spPr>
          <a:xfrm>
            <a:off x="2557440" y="276120"/>
            <a:ext cx="63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Unterstützungsangebot </a:t>
            </a:r>
            <a:r>
              <a:rPr b="0" lang="de-DE" sz="2000" spc="-1" strike="noStrike">
                <a:solidFill>
                  <a:srgbClr val="002060"/>
                </a:solidFill>
                <a:latin typeface="Arial"/>
                <a:ea typeface="ヒラギノ角ゴ Pro W3"/>
              </a:rPr>
              <a:t>Lehrplannavig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feld 38"/>
          <p:cNvSpPr/>
          <p:nvPr/>
        </p:nvSpPr>
        <p:spPr>
          <a:xfrm>
            <a:off x="133200" y="6364440"/>
            <a:ext cx="818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060"/>
                </a:solidFill>
                <a:latin typeface="Arial"/>
              </a:rPr>
              <a:t>http://www.standardsicherung.schulministerium.nrw.de/lehrplaene/lehrplannavig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Group 52"/>
          <p:cNvGrpSpPr/>
          <p:nvPr/>
        </p:nvGrpSpPr>
        <p:grpSpPr>
          <a:xfrm>
            <a:off x="2484000" y="1068480"/>
            <a:ext cx="4114800" cy="3345840"/>
            <a:chOff x="2484000" y="1068480"/>
            <a:chExt cx="4114800" cy="3345840"/>
          </a:xfrm>
        </p:grpSpPr>
        <p:sp>
          <p:nvSpPr>
            <p:cNvPr id="782" name="Line 38"/>
            <p:cNvSpPr/>
            <p:nvPr/>
          </p:nvSpPr>
          <p:spPr>
            <a:xfrm flipH="1">
              <a:off x="5076720" y="1068480"/>
              <a:ext cx="9050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Group 39"/>
            <p:cNvGrpSpPr/>
            <p:nvPr/>
          </p:nvGrpSpPr>
          <p:grpSpPr>
            <a:xfrm>
              <a:off x="2484000" y="3395520"/>
              <a:ext cx="4114800" cy="1018800"/>
              <a:chOff x="2484000" y="3395520"/>
              <a:chExt cx="4114800" cy="1018800"/>
            </a:xfrm>
          </p:grpSpPr>
          <p:sp>
            <p:nvSpPr>
              <p:cNvPr id="784" name="Line 40"/>
              <p:cNvSpPr/>
              <p:nvPr/>
            </p:nvSpPr>
            <p:spPr>
              <a:xfrm flipH="1">
                <a:off x="6589080" y="3395520"/>
                <a:ext cx="9720" cy="10188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Line 41"/>
              <p:cNvSpPr/>
              <p:nvPr/>
            </p:nvSpPr>
            <p:spPr>
              <a:xfrm flipH="1">
                <a:off x="2484000" y="3888720"/>
                <a:ext cx="4095720" cy="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6" name="Group 53"/>
          <p:cNvGrpSpPr/>
          <p:nvPr/>
        </p:nvGrpSpPr>
        <p:grpSpPr>
          <a:xfrm>
            <a:off x="2266920" y="3538440"/>
            <a:ext cx="4851360" cy="325440"/>
            <a:chOff x="2266920" y="3538440"/>
            <a:chExt cx="4851360" cy="325440"/>
          </a:xfrm>
        </p:grpSpPr>
        <p:sp>
          <p:nvSpPr>
            <p:cNvPr id="787" name="Line 34"/>
            <p:cNvSpPr/>
            <p:nvPr/>
          </p:nvSpPr>
          <p:spPr>
            <a:xfrm flipV="1">
              <a:off x="4241880" y="3538440"/>
              <a:ext cx="0" cy="200160"/>
            </a:xfrm>
            <a:prstGeom prst="line">
              <a:avLst/>
            </a:prstGeom>
            <a:ln w="414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5"/>
            <p:cNvSpPr/>
            <p:nvPr/>
          </p:nvSpPr>
          <p:spPr>
            <a:xfrm flipV="1">
              <a:off x="7093080" y="3538440"/>
              <a:ext cx="0" cy="200160"/>
            </a:xfrm>
            <a:prstGeom prst="line">
              <a:avLst/>
            </a:prstGeom>
            <a:ln w="414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36"/>
            <p:cNvSpPr/>
            <p:nvPr/>
          </p:nvSpPr>
          <p:spPr>
            <a:xfrm flipH="1" flipV="1">
              <a:off x="2266920" y="3735000"/>
              <a:ext cx="4851360" cy="19080"/>
            </a:xfrm>
            <a:prstGeom prst="line">
              <a:avLst/>
            </a:prstGeom>
            <a:ln w="414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37"/>
            <p:cNvSpPr/>
            <p:nvPr/>
          </p:nvSpPr>
          <p:spPr>
            <a:xfrm flipV="1">
              <a:off x="2268360" y="3754440"/>
              <a:ext cx="0" cy="109440"/>
            </a:xfrm>
            <a:prstGeom prst="line">
              <a:avLst/>
            </a:prstGeom>
            <a:ln w="414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Foliennummernplatzhalter 1"/>
          <p:cNvSpPr/>
          <p:nvPr/>
        </p:nvSpPr>
        <p:spPr>
          <a:xfrm>
            <a:off x="900000" y="6453360"/>
            <a:ext cx="7750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29840" y="2541240"/>
            <a:ext cx="8064360" cy="23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e2001a"/>
                </a:solidFill>
                <a:latin typeface="Arial-BoldMT"/>
              </a:rPr>
              <a:t>III. Fachspezifische Erläuterungen zum neuen KLP Psychologie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9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057A-8B00-4102-9D50-9849C27EDCD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15720" y="1906560"/>
            <a:ext cx="806436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-BoldMT"/>
              </a:rPr>
              <a:t>1. </a:t>
            </a:r>
            <a:r>
              <a:rPr b="0" lang="de-DE" sz="2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-BoldMT"/>
              </a:rPr>
              <a:t>Der neue Kernlehrplan Psychologie im Überblick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-BoldMT"/>
              </a:rPr>
              <a:t>2. </a:t>
            </a:r>
            <a:r>
              <a:rPr b="0" lang="de-DE" sz="2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-BoldMT"/>
              </a:rPr>
              <a:t>Lernerfolgsüberprüfung, Leistungsbewertung und </a:t>
            </a:r>
            <a:r>
              <a:rPr b="0" lang="de-DE" sz="24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-BoldMT"/>
              </a:rPr>
              <a:t>Abiturprüfung</a:t>
            </a:r>
            <a:br>
              <a:rPr sz="24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9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9E18-CCA5-4089-8A87-980B187BAD1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2001a"/>
                </a:solidFill>
                <a:latin typeface="Arial-BoldMT"/>
              </a:rPr>
              <a:t>Die wichtigsten Neuerungen (I)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</a:t>
            </a: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Durchgängige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 Kompetenzorientierung in vier Kompetenzbereichen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  Sach-, Methoden-, Urteils- und Handlungskompetenz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Lehrplannavigator als „Pool“ für Unterrichtsmaterialien un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  Unterrichtsvorhaben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Anforderungen sind progressionsorientiert für den GK und LK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  (inhaltliche Schwerpunkte, konkretisierte Kompetenzerwartungen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  <a:ea typeface="MS PGothic"/>
              </a:rPr>
              <a:t>  übergeordnete Kompetenzerwartungen)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9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358C-2AA3-4C38-B0E2-5C430D764C1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e2001a"/>
                </a:solidFill>
                <a:latin typeface="Arial-BoldMT"/>
              </a:rPr>
              <a:t>Der neue Kernlehrplan Psychologie im Überblick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9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5EB4-8438-41C5-8D95-9603FE60626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0720" y="16664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2001a"/>
                </a:solidFill>
                <a:latin typeface="Arial-BoldMT"/>
              </a:rPr>
              <a:t>2. Der neue Kernlehrplan Psychologie im Überblick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Aufgaben und Ziele des Faches Psychologie (I)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rwerb grundlegender Einsichten in individuelle und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interindividuelle Prozesse menschlichen Erlebens und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Verhaltens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Erwerb von Pluralitätskompetenz: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Einnahme  verschiedener Perspektiven (paradigmatische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Sichtweisen) 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Verknüpfung von Wissenschaftsorientierung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und Lebensorientierun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0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7C90-6B7F-400D-A2AB-2ED656E698B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539280" y="1974600"/>
            <a:ext cx="844092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. Informationen zum Konzept und zur Gestaltung von </a:t>
            </a:r>
            <a:br>
              <a:rPr sz="2000"/>
            </a:b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   kompetenzorientierten Kernlehrplä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- Orientierungswechsel – von der Stoff- zur Ergebnisorient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- Kompetenzorient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- Kompetenzorientierte Kernlehr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. Schulinterne Lehrpläne und Unterstützungsange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de-DE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III. Fachspezifische Erläuterungen zum neuen KLP Psych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522000" y="1397160"/>
            <a:ext cx="8064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2060"/>
                </a:solidFill>
                <a:latin typeface="Arial"/>
              </a:rPr>
              <a:t>Überblick</a:t>
            </a: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0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A1A5-B412-4A19-8A1A-8FD8909F384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48920" y="164916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2001a"/>
                </a:solidFill>
                <a:latin typeface="Arial-BoldMT"/>
              </a:rPr>
              <a:t>2. Der neue Kernlehrplan Psychologie im Überblick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Aufgaben und Ziele des Faches Psychologie (II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Aufbau durch die Auseinandersetzung mit Inhalten, die in zwei Dimensionen systematisiert werden und die zueinander in Beziehung gesetzt werden müssen.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Dimension I: Psychologische Fachdisziplinen (Grundlagen- und Anwendungsdisziplinen)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Dimension II: Psychologische Hauptströmungen/Paradigmen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03" name="Pfeil nach rechts 1"/>
          <p:cNvSpPr/>
          <p:nvPr/>
        </p:nvSpPr>
        <p:spPr>
          <a:xfrm>
            <a:off x="630360" y="5748480"/>
            <a:ext cx="968400" cy="2379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acacac"/>
          </a:solidFill>
          <a:ln w="2556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feld 2"/>
          <p:cNvSpPr/>
          <p:nvPr/>
        </p:nvSpPr>
        <p:spPr>
          <a:xfrm>
            <a:off x="2098800" y="5545080"/>
            <a:ext cx="64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MS PGothic"/>
              </a:rPr>
              <a:t>Berücksichtigung beider Dimensionen bei der Auswahl von Inhaltsfel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979B-733E-4B7E-BF93-88EE2D70B12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85640" y="173628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2001a"/>
                </a:solidFill>
                <a:latin typeface="Arial-BoldMT"/>
              </a:rPr>
              <a:t>2. Der neue Kernlehrplan Psychologie im Überblick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Kompetenzbereiche: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1. Sachkompetenz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2. Methodenkompetenz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3. Urteilskompetenz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4. Handlungskompetenz</a:t>
            </a:r>
            <a:endParaRPr b="1" lang="en-US" sz="1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0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DBBB-5CD8-48CC-814A-7AD1C021B78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118" descr=""/>
          <p:cNvPicPr/>
          <p:nvPr/>
        </p:nvPicPr>
        <p:blipFill>
          <a:blip r:embed="rId1"/>
          <a:stretch/>
        </p:blipFill>
        <p:spPr>
          <a:xfrm>
            <a:off x="879480" y="2478240"/>
            <a:ext cx="7270920" cy="3614760"/>
          </a:xfrm>
          <a:prstGeom prst="rect">
            <a:avLst/>
          </a:prstGeom>
          <a:ln w="0">
            <a:noFill/>
          </a:ln>
        </p:spPr>
      </p:pic>
      <p:sp>
        <p:nvSpPr>
          <p:cNvPr id="809" name="Rechteck 124"/>
          <p:cNvSpPr/>
          <p:nvPr/>
        </p:nvSpPr>
        <p:spPr>
          <a:xfrm>
            <a:off x="1328760" y="1654200"/>
            <a:ext cx="62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2001a"/>
                </a:solidFill>
                <a:latin typeface="Arial"/>
              </a:rPr>
              <a:t>2. Der neue Kernlehrplan Psychologie im Überb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2DE5-D823-47E7-85FA-F61D4DEAAAB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93560" y="170136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2001a"/>
                </a:solidFill>
                <a:latin typeface="Arial-BoldMT"/>
              </a:rPr>
              <a:t>2. Der neue Kernlehrplan Psychologie im Überblick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Inhaltsfelder: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1. Menschliches Erleben und Verhalten 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2. Das Individuum in Interaktion mit anderen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3. Die menschliche Persönlichkeit und ihre Entwicklung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4. Psychische Störungen und Psychotherapi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5. Personalmanagement</a:t>
            </a:r>
            <a:endParaRPr b="1" lang="en-US" sz="1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1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960F-C198-42ED-BAA0-A8B0D71C048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e2001a"/>
                </a:solidFill>
                <a:latin typeface="Arial-BoldMT"/>
              </a:rPr>
              <a:t>Lernerfolgsüberprüfung, Leistungsbewertung und Abiturprüfung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de-DE" sz="2000" spc="-1" strike="noStrike">
                <a:solidFill>
                  <a:srgbClr val="000000"/>
                </a:solidFill>
                <a:latin typeface="Arial-BoldMT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14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8D29-4BEA-4DEC-9FC6-53A6AAAD8F0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68000" y="17110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2001a"/>
                </a:solidFill>
                <a:latin typeface="Arial-BoldMT"/>
              </a:rPr>
              <a:t>3. Lernerfolgsüberprüfung und Leistungsbewertung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Überprüfungsformen: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Experimentalaufgab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Empirische Aufgab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Aufgabe zu Fallbeispielen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Aufgabe zu kontinuierlichen und diskontinuierlichen Texten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1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202B-E02C-426D-A4BA-4467FA221FE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60080" y="165852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44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e2001a"/>
                </a:solidFill>
                <a:latin typeface="Arial-BoldMT"/>
              </a:rPr>
              <a:t>3. Abiturprüfung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-BoldMT"/>
              </a:rPr>
              <a:t>Aufgabentypen bzw. -kombinationen im Zentralabitur: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e2001a"/>
                </a:solidFill>
                <a:latin typeface="Arial-BoldM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</a:t>
            </a:r>
            <a:r>
              <a:rPr b="1" lang="de-DE" sz="1800" spc="-1" strike="noStrike">
                <a:solidFill>
                  <a:srgbClr val="e2001a"/>
                </a:solidFill>
                <a:latin typeface="Arial-BoldMT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Materialgebundene Aufgaben mit untergliederter Aufgabenstellung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Mindestens zwei Paradigmen und zwei Disziplinen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- Jede der Überprüfungsformen einzel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-BoldMT"/>
              </a:rPr>
              <a:t>   oder in Kombination mit anderen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1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8CD4-DDC5-431B-816A-BF358E35624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4"/>
          <p:cNvSpPr/>
          <p:nvPr/>
        </p:nvSpPr>
        <p:spPr>
          <a:xfrm>
            <a:off x="68400" y="1809720"/>
            <a:ext cx="9144000" cy="50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2" descr="NRW_Guillochen_PowerPoint-Titel"/>
          <p:cNvPicPr/>
          <p:nvPr/>
        </p:nvPicPr>
        <p:blipFill>
          <a:blip r:embed="rId1"/>
          <a:stretch/>
        </p:blipFill>
        <p:spPr>
          <a:xfrm>
            <a:off x="11160" y="301932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3"/>
          <p:cNvSpPr/>
          <p:nvPr/>
        </p:nvSpPr>
        <p:spPr>
          <a:xfrm>
            <a:off x="0" y="2227320"/>
            <a:ext cx="898992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2060"/>
                </a:solidFill>
                <a:latin typeface="Arial"/>
              </a:rPr>
              <a:t>fü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2060"/>
                </a:solidFill>
                <a:latin typeface="Arial"/>
              </a:rPr>
              <a:t>Ihre Aufmerksamke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2060"/>
                </a:solidFill>
                <a:latin typeface="Arial"/>
              </a:rPr>
              <a:t>Frag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hteck 1"/>
          <p:cNvSpPr/>
          <p:nvPr/>
        </p:nvSpPr>
        <p:spPr>
          <a:xfrm>
            <a:off x="2286000" y="113976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2060"/>
                </a:solidFill>
                <a:latin typeface="Arial-BoldMT"/>
              </a:rPr>
              <a:t>VIELEN D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8E9E-7C16-4BC1-BC59-8345C1D413B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Wolkenförmige Legende 2"/>
          <p:cNvSpPr/>
          <p:nvPr/>
        </p:nvSpPr>
        <p:spPr>
          <a:xfrm>
            <a:off x="5357880" y="4803840"/>
            <a:ext cx="914400" cy="6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acacac"/>
          </a:solidFill>
          <a:ln w="25560">
            <a:solidFill>
              <a:srgbClr val="7d7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722160" y="265068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I. Informationen zum Konzept und zur Gestaltung von kompetenzorientierten Kernlehrplä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0C5B-94C2-461F-9D86-0B92ED56152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CE31-2B5E-4F25-84AC-8DBAA33D602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C2FC-5E9C-4F1D-B0AF-024E9DFEF88C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1276200" y="1509840"/>
            <a:ext cx="6400800" cy="450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Von der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Input-Steuerung und „Stofforientie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 am Ende dieses Bildungsabschnitt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urchgenom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und behandelt worden s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z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Ergebnis- bzw. „Output-Steuerung“ und </a:t>
            </a:r>
            <a:br>
              <a:rPr sz="2000"/>
            </a:b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Kompetenzorient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en Studierende am Ende e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Bildungsabschnitt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ön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feld 7"/>
          <p:cNvSpPr/>
          <p:nvPr/>
        </p:nvSpPr>
        <p:spPr>
          <a:xfrm>
            <a:off x="470520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Orientierungswech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ußzeile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6056-177D-4E8D-AC1C-C9ED4DB5906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2" descr="grafik_transparent"/>
          <p:cNvPicPr/>
          <p:nvPr/>
        </p:nvPicPr>
        <p:blipFill>
          <a:blip r:embed="rId1"/>
          <a:srcRect l="-4997" t="8422" r="-606" b="54452"/>
          <a:stretch/>
        </p:blipFill>
        <p:spPr>
          <a:xfrm rot="9442800">
            <a:off x="1720800" y="1814040"/>
            <a:ext cx="5221440" cy="2041560"/>
          </a:xfrm>
          <a:prstGeom prst="rect">
            <a:avLst/>
          </a:prstGeom>
          <a:ln w="0">
            <a:noFill/>
          </a:ln>
        </p:spPr>
      </p:pic>
      <p:sp>
        <p:nvSpPr>
          <p:cNvPr id="620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7839-4EF5-4740-891D-3BBC4BF22DFB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1763640" y="4149720"/>
            <a:ext cx="2881440" cy="936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urchgenommener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off als unterrichtlich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geb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7"/>
          <p:cNvSpPr/>
          <p:nvPr/>
        </p:nvSpPr>
        <p:spPr>
          <a:xfrm>
            <a:off x="47520" y="1519200"/>
            <a:ext cx="26020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gebots-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utzungsmodell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Stofforientierung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8"/>
          <p:cNvSpPr/>
          <p:nvPr/>
        </p:nvSpPr>
        <p:spPr>
          <a:xfrm>
            <a:off x="1800360" y="2781360"/>
            <a:ext cx="273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terrichtsgestalt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d Arbeitsproz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9"/>
          <p:cNvGrpSpPr/>
          <p:nvPr/>
        </p:nvGrpSpPr>
        <p:grpSpPr>
          <a:xfrm>
            <a:off x="1692360" y="2698920"/>
            <a:ext cx="3024000" cy="3683520"/>
            <a:chOff x="1692360" y="2698920"/>
            <a:chExt cx="3024000" cy="3683520"/>
          </a:xfrm>
        </p:grpSpPr>
        <p:sp>
          <p:nvSpPr>
            <p:cNvPr id="625" name="Rectangle 10"/>
            <p:cNvSpPr/>
            <p:nvPr/>
          </p:nvSpPr>
          <p:spPr>
            <a:xfrm>
              <a:off x="1692360" y="2698920"/>
              <a:ext cx="3024000" cy="3477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1"/>
            <p:cNvSpPr/>
            <p:nvPr/>
          </p:nvSpPr>
          <p:spPr>
            <a:xfrm>
              <a:off x="1908000" y="5922720"/>
              <a:ext cx="252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cd0921"/>
                  </a:solidFill>
                  <a:latin typeface="Arial"/>
                  <a:ea typeface="ヒラギノ角ゴ Pro W3"/>
                </a:rPr>
                <a:t>Fokus der Verantwortung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Rectangle 12"/>
          <p:cNvSpPr/>
          <p:nvPr/>
        </p:nvSpPr>
        <p:spPr>
          <a:xfrm>
            <a:off x="5292720" y="2924280"/>
            <a:ext cx="2016000" cy="5032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gebnis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5619600" y="1692360"/>
            <a:ext cx="273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utzung des Angebot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itens der Studier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feld 14"/>
          <p:cNvSpPr/>
          <p:nvPr/>
        </p:nvSpPr>
        <p:spPr>
          <a:xfrm>
            <a:off x="4332240" y="88884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Orientierungswech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ußzeile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7943-D6D0-4ACE-B819-C1E853C5FE1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1624-FE25-4FA2-819A-B8353E843C57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538200" y="34034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als Steuerungsprinzip und als didaktisches Prin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539640" y="263700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Kompetenzorientierung</a:t>
            </a:r>
            <a:r>
              <a:rPr b="1" lang="de-DE" sz="2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feld 10"/>
          <p:cNvSpPr/>
          <p:nvPr/>
        </p:nvSpPr>
        <p:spPr>
          <a:xfrm>
            <a:off x="4375080" y="8380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Orientierungswechse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2" descr="grafik_transparent"/>
          <p:cNvPicPr/>
          <p:nvPr/>
        </p:nvPicPr>
        <p:blipFill>
          <a:blip r:embed="rId1"/>
          <a:srcRect l="-4997" t="8422" r="-606" b="54452"/>
          <a:stretch/>
        </p:blipFill>
        <p:spPr>
          <a:xfrm rot="19536600">
            <a:off x="2266560" y="3449520"/>
            <a:ext cx="5221440" cy="204156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2"/>
          <p:cNvSpPr/>
          <p:nvPr/>
        </p:nvSpPr>
        <p:spPr>
          <a:xfrm>
            <a:off x="2416320" y="2035080"/>
            <a:ext cx="5256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2b01"/>
                </a:solidFill>
                <a:latin typeface="Arial-BoldMT"/>
                <a:ea typeface="ヒラギノ角ゴ Pro W3"/>
              </a:rPr>
              <a:t>Denken vom Ergebnis her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ußzeile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09D6-C614-43E8-A947-EAA03B120BD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2" descr="grafik_transparent"/>
          <p:cNvPicPr/>
          <p:nvPr/>
        </p:nvPicPr>
        <p:blipFill>
          <a:blip r:embed="rId1"/>
          <a:srcRect l="-4997" t="8422" r="-606" b="54452"/>
          <a:stretch/>
        </p:blipFill>
        <p:spPr>
          <a:xfrm rot="20242800">
            <a:off x="2133360" y="3534840"/>
            <a:ext cx="5221080" cy="2041560"/>
          </a:xfrm>
          <a:prstGeom prst="rect">
            <a:avLst/>
          </a:prstGeom>
          <a:ln w="0">
            <a:noFill/>
          </a:ln>
        </p:spPr>
      </p:pic>
      <p:sp>
        <p:nvSpPr>
          <p:cNvPr id="641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F7E7-9909-4B54-8286-EE59B9ED652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826920" y="2571840"/>
            <a:ext cx="3529080" cy="20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terrichtlich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gebot i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haltlicher Schwerpunktsetzung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arrangem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blem-, Anwendungsorientier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tc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8"/>
          <p:cNvGrpSpPr/>
          <p:nvPr/>
        </p:nvGrpSpPr>
        <p:grpSpPr>
          <a:xfrm>
            <a:off x="4668840" y="1671480"/>
            <a:ext cx="3168360" cy="4427280"/>
            <a:chOff x="4668840" y="1671480"/>
            <a:chExt cx="3168360" cy="4427280"/>
          </a:xfrm>
        </p:grpSpPr>
        <p:sp>
          <p:nvSpPr>
            <p:cNvPr id="644" name="Rectangle 9"/>
            <p:cNvSpPr/>
            <p:nvPr/>
          </p:nvSpPr>
          <p:spPr>
            <a:xfrm>
              <a:off x="4668840" y="1671480"/>
              <a:ext cx="3168360" cy="4280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10"/>
            <p:cNvSpPr/>
            <p:nvPr/>
          </p:nvSpPr>
          <p:spPr>
            <a:xfrm>
              <a:off x="4894560" y="5639040"/>
              <a:ext cx="2641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cd0921"/>
                  </a:solidFill>
                  <a:latin typeface="Arial"/>
                  <a:ea typeface="ヒラギノ角ゴ Pro W3"/>
                </a:rPr>
                <a:t>Fokus der Verantwortung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11"/>
          <p:cNvSpPr/>
          <p:nvPr/>
        </p:nvSpPr>
        <p:spPr>
          <a:xfrm>
            <a:off x="5003640" y="1832040"/>
            <a:ext cx="2521080" cy="12970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gebnis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fol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(langfristig entwickelt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etenz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2"/>
          <p:cNvSpPr/>
          <p:nvPr/>
        </p:nvSpPr>
        <p:spPr>
          <a:xfrm>
            <a:off x="5219640" y="3919680"/>
            <a:ext cx="2737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utzung des Angebot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itens der Studier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7"/>
          <p:cNvSpPr/>
          <p:nvPr/>
        </p:nvSpPr>
        <p:spPr>
          <a:xfrm>
            <a:off x="125280" y="1542960"/>
            <a:ext cx="27054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gebots-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utzungsmodell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Kompetenzorientierung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feld 16"/>
          <p:cNvSpPr/>
          <p:nvPr/>
        </p:nvSpPr>
        <p:spPr>
          <a:xfrm>
            <a:off x="4576680" y="88884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ußzeile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0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FB6A-0DFA-4A0C-AAB9-4AACC15EC800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0D86-34C6-40AD-A597-33E24D1A4553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"/>
          <p:cNvSpPr/>
          <p:nvPr/>
        </p:nvSpPr>
        <p:spPr>
          <a:xfrm>
            <a:off x="504720" y="1936800"/>
            <a:ext cx="8137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  <a:ea typeface="ヒラギノ角ゴ Pro W3"/>
              </a:rPr>
              <a:t>Kompetenzbegriff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der Kernlehrplän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92120" y="2722680"/>
            <a:ext cx="8217000" cy="1008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Eine Kompetenz ist eine Disposition, die dazu befähigt, </a:t>
            </a:r>
            <a:br>
              <a:rPr sz="2000"/>
            </a:br>
            <a:r>
              <a:rPr b="1" lang="de-DE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variable Anforderungssituationen in einem bestimmten Lern- oder Handlungsbereich erfolgreich und verantwortlich zu bewält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feld 11"/>
          <p:cNvSpPr/>
          <p:nvPr/>
        </p:nvSpPr>
        <p:spPr>
          <a:xfrm>
            <a:off x="4594320" y="96840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Kompetenz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ußzeile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ctr" pos="3683160"/>
                <a:tab algn="r" pos="77090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06:56:38Z</dcterms:created>
  <dc:creator>Musiol</dc:creator>
  <dc:description/>
  <dc:language>en-US</dc:language>
  <cp:lastModifiedBy>Ulrich, Andrea</cp:lastModifiedBy>
  <cp:lastPrinted>2013-07-02T06:39:32Z</cp:lastPrinted>
  <dcterms:modified xsi:type="dcterms:W3CDTF">2014-07-01T11:13:21Z</dcterms:modified>
  <cp:revision>464</cp:revision>
  <dc:subject/>
  <dc:title>Folie 1</dc:title>
</cp:coreProperties>
</file>