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30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31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32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70EA-8339-4349-86F3-E8BE39736C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B4AD-BC0D-49C7-B7DA-A19999F06DC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88F0-F902-486D-A5A6-BB21D90F490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3B6-D9C9-43EF-9825-43867242748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74D4-50BD-49E4-B496-DCF0C3B1C52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0C96-E30C-49A1-AB19-A7392292B59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C48A-972C-43C6-B5E6-0D572EF16F2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7CE6-EBE9-41CB-A87E-436C9F6B820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A24C-0E0B-4E3E-ABA8-F413F8258DB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C934-2173-4164-A83B-B6B0F31636A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8A3C-3589-4697-AF9A-A4DED30805D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04E6-886B-4D35-9672-A7C018C281D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30FE009-7993-482B-8DF5-21D45AE8C2E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4DCF-E717-47C1-B197-B4DB877FB27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A2CF-0894-4405-AF5D-F1DFD4098D0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Ggf. ER abweichend formuliert – hält Struktur des KLP SI dur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K: Wahrnehmungs- und Deut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K: Dialog- und Gestalt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38D7-45B7-49E0-8F8A-3A0E4FC56C3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7C91-DF90-4DB2-9747-18DA0F64936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B3DC-4F45-4F73-860A-C81C09C6C43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B642-4006-471F-AADA-DC39F7E6D82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1738-FD09-47AE-9E06-34DC328E0AF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1EFB-6B3A-4CB3-B7EB-B2D5477C7D0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B477-9FD8-46BB-B88E-95669D7F78E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FC09-F65F-4F06-A217-FDC1CAC9244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8E97-D94B-4287-A30E-D1BE0EE6C1E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DB18-5388-42AE-8C7F-277A1D35001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B479-3F83-4B97-BBF1-1B8B9D66798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1EC8-C5F2-42BD-A444-BBA14C00BDF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D6F9-6BAB-4A59-AB40-142BC195716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927C-7B60-48BC-A8E1-D0311CA4BA3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5B81-1CF3-4657-BB2B-240B3F9499C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0FE2-FDE6-454A-A6C9-E6E0C274D44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23C7-8C3A-48E3-9520-B40DEA86CEC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745F-EB3A-4D86-9C19-A2C91A85F04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74BD-DE63-47AF-8587-56D657EF4FE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D7D8-9A9D-4853-A500-B13BC8BB252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019E-6765-4135-A99F-DE9E5935839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684F-8641-48DF-B214-F55F0754C67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5FB3-8FFF-4D2B-990B-A66CD7BCA9D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378E7EF-9F30-43EE-9382-6DD05D41E05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4EEB0CE-1B19-4118-9B8C-1B486231636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C84C-FC67-4AB2-B53D-04899A617C4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D0C4-CAEF-4A5D-A6C2-5E2B945F6DE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6A51-55CD-4B21-B65E-C954119E67F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67FB-B648-4867-8DE1-7DFAB89A98E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13CECDA-EC21-4D17-8BC2-93DBC1AC669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F061C69-057C-495A-9A54-29374F311E5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5D45F81-EE32-489B-93C1-FEF281849DF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5B0A67E-70F2-46FF-A7CD-E61BA464C8D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72B7-2519-49E9-8197-E490EB4AF26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C85BDCD-7D43-4AEE-8DC9-A95AEA932CF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7"/>
          <p:cNvSpPr/>
          <p:nvPr/>
        </p:nvSpPr>
        <p:spPr>
          <a:xfrm>
            <a:off x="3849840" y="937908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DAB69DC-7DF8-4BEE-884E-97C24216F0B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A587-60DA-4E29-9F4E-F04467D65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F9BE-262B-4962-A638-2A1202BC436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A1B7D3-99A4-4C66-B19A-723CC9D00EA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82FAEB-DAFB-43D7-982F-37376816C5C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2A11C5-0E5F-47C3-B574-6184B522EC6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A43B57-9F06-4118-AD9D-0527B49804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D3B390-1933-483E-BD1D-706CE1B1D8C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8F3A5-934C-4E74-9E18-A009A3B9A0F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F68C38-FA59-4949-9316-E99D2E93FFA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101C5A-F084-488C-965D-A179F52ECA6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66F0FA-0CA5-4E20-9985-CB65A26600A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E84AC-2001-4C8A-ADAF-57048B7F4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1E87-C4A5-4BBD-84C6-CD104603408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02FFB-3232-456B-9EE0-43165D1231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7978A-B014-4D34-B658-FE1F835897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C5C44-585E-4F53-BECD-74E6063EA1A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9FAC4-0117-4044-ACBA-8D4CCFB0CAF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83952-AF7E-4108-9CEE-2EFF9064959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F6262-E13B-4D51-8BDE-D315472B9D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03377-2467-416A-9736-BBACB0159B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22BE5-3C20-4709-BFCF-E86056A445A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13B8F-52A8-4FB8-AF82-5B78DFF0659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F1D1F-0826-43E1-A8BF-BB79DC309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1DCB-C371-4AC1-A542-AE42216DDF5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68B2D-96F7-4E23-9DA1-A1BFB32475A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B7D181-D545-4CB0-8DEC-E53F13F21DD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446AB-3A05-4F25-AE3D-F958CC7458C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F1E06-9E59-4FBD-8AB4-1DBB7093CF2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55EE0-3BD6-4672-850C-180EFC924B7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3938A-FE0D-4F4C-9D04-789676E435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92291-34A3-424F-ABFE-88D725FAE04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89417D-6974-4085-B2F6-EBE38AC8F29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83166E-2D33-49EB-843F-5DD82534706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1B2D9-E1AE-486E-BCC9-D3F5C1300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BE58C-B2B0-460E-B849-9A5DDDA2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8D736-D092-4C08-B243-249CB5FF9BE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B1F59-8FC6-4F8D-B739-5C9865393C7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7E5D1-4F47-4221-8928-670072D02E6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74C64D-A3EB-4F64-8917-69BB61777FA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66A37B-09DB-47BA-A035-A63011B6901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8F49B4-876B-4C57-84DE-C90B0D0B882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DB0421-6ED0-430D-93E9-9B7EC11BF86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343E0A-9A9B-4A38-99BA-1340E771640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087F2F-A6FC-4CB7-883D-A880A5A1E19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548464-9CBF-41FF-B7A1-09908EFC83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9F1B0-6019-4A3A-BC29-2098A0C2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5F359A-2D73-47D0-81D1-0ECF7C7F915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620D08-1E34-427A-B1A8-C5F168C14B3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BB1B4C-BE49-44CD-A3CA-8040BB8B42B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BB085B-85A8-4EBE-9916-039E0BB7A76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8E87C3-60DE-464D-A9F9-834DAE5F924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BCE82-CEA4-440C-929C-EE34F1332A6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1D755-F81B-4E3F-B45F-1CE3E5A0006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0D560-119B-4B4D-B5CC-C45C470BBB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F3A59-D97C-48DC-8ECF-990DA3D9D0B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899D9-A0B6-47E1-8B20-831B95EC9D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4A6E5-022B-4DF7-B0BC-A0AB91FF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57038-52CD-49AC-BFA3-4D0663A453A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37BB2-B104-49FB-BB59-67B670EFB13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A32A9-B1A5-4DA5-BDA0-2B18BA09A4C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47933-3874-4ED2-965A-DCDBCEF974B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B2B18-1F2D-4948-B595-B20B4F4A115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033CA-75BA-4D1A-9F64-28CBDD35AF6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7A689-5A5C-4D4D-873A-08EF0B1324C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01BC0-5C6B-483B-8FC0-E88D454356C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3E97CB-E67C-4F97-8D0D-CB18903F103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18C3CF-B9E5-4BF1-A872-E2B777FF9A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EC4AC-F874-492B-9D1F-9C8696AA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474C72-BA4F-4125-AC5C-9842AB98C6C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73C0FC-C863-47BF-9812-8B2347745FB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711E9-3434-4E1E-98A8-2824A3977D9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931175-5928-41A3-9465-8F8529736BE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8230C9-9ECA-4421-852E-127C53B2371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1666F5-B1FF-41DE-A923-7936D725E94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56BDA4-35B2-4722-AF84-21D5678AE45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2B624F-7B55-4486-AE86-5C108C0DF50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45B5A6-3144-4CA9-83A5-63698AF2FC5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C0E5DA-8C7F-4BD6-8891-2F3C2800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CBCE3-CEB2-4754-88CD-0E78C33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7C5D44-7D01-40CE-9D5D-EB5BEC37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443738-716E-4AC8-BD78-F1570AFC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E0164F-2D6B-4A6F-8BBF-558546A0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8F3557-C636-45C9-A091-67B67F38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21BC81-6E23-467D-8E91-BC705702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01E949-C286-4DA4-BE1A-4852866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9F25A9-3F5D-4FC2-9E8E-2BB5A440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1B1781-B604-447D-ACFB-F2ED8E98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C61393-4E2C-412C-93D2-0C067637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9B771D-C885-42E2-A5B8-18EB9090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3E486-8BCF-44CB-9152-F5086BDD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7FDB00-8400-414B-84C1-1E366B07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15AEF-3841-4EA2-99D6-E0F2A99B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9633-202D-4981-B125-B1377F500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13787-E2F8-486A-BAF1-DB063651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ED5C4-9175-4CFE-A3A1-E3AC261E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4BF3A-D443-4EA7-AF83-8D8E1CFA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554B5-522F-4FB9-886A-DC7815C1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0BEA6-E5CA-4B21-83AA-3A9F2EA8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76EC-E756-432E-A921-8DED80F70A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F3F5-CE7C-4AEA-9B96-769B280F0C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EDA0-99A2-4C4A-9B5F-DCCF99E30D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BDA4-CD83-4213-8D0D-724ADE429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54F7-0B93-4643-B8E0-2E10253223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346C-6725-4638-A5C8-49031E5A29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C048-5ADC-4EB0-B800-884D2A22F8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81F7-D2ED-4821-B149-5517F2B271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DF23-250C-4B98-9BD5-E8D83EBBB3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EC48-AAA1-4E6C-9964-C0ADF5498C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D903-4C58-41BA-9BAF-F7B07EB49E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1E83-5305-4260-A85E-CF9753FD54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1AC5-EEBE-4749-94CD-56D506F614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8A9F-52D1-4AEE-B2B9-597859702C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8E61D-9A5D-480D-8418-D8538D5A4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B1CC-A6E5-4A4D-916B-6E09869D7B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D02E0-79E2-41B7-922A-B14539B1E1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7D1C9-FF15-429B-B03C-07DF3DBCDF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FC028-8FB5-455F-9A2E-9DED88AB48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50CF2-8ED4-4223-8931-BB44EC5149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6D1A1-C627-4E50-AB30-E00885CE68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EB90A-D3AB-44DE-8897-301B85D31F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B0A00-4F95-45E2-AF6C-68B0AD7CC0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E3DB8-6AC4-425D-9908-2BC4FF1E02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A4655-FAD0-4C8F-8394-9211DFCF5EC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99CCD-131E-4AB5-B449-E3614CC18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5884-81FA-4633-8AF1-E92B47BDDB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C6403-4374-4D2D-A2C6-2EBD5816029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79378-6406-42F3-9EBB-A1F6F3EC629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F5011-C27E-49C4-BB0E-2B61412E27E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34ECF-38D2-4A0D-B626-9985E29B9ED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49000-2F85-4CB3-BAC9-0BA58E81BB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87009-9DE6-4F1B-8D13-2BD5EA26A9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DEB66-5AB4-48F2-B6F1-C7EC0215E01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41F39-DAA9-46EC-89CE-0CD96948F6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FDFBCD-D38D-4A44-8C01-ECBE1CB20DC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D3BBD-9800-4956-A814-C2B40BA4F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50BD-7118-47D4-BF89-468FB6F942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3FF038-4041-4EB1-BAFA-F595F2A3FBE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E5F697-BD61-40F6-85A6-709409BB72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81CEA-DBAD-4DFF-ACBB-17DCC51155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937F-E97F-4F72-823C-060A3B6430B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41DD6-1544-4C03-8B35-CEE02D1E2EA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462C8-5374-47A6-8720-04CF24289E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D558-8EEB-463E-8845-290C8961398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5EA78-568B-4D7F-A150-61D0566DA06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96CEA-F5B7-4178-B764-D570FCC3247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EC91-1771-44D3-AD90-ACC91B2C2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0B1E-2146-421A-892C-6E2A8B21BC0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BA75-54E5-4F78-BF99-CBEDAA208D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339ED-BDC9-434D-9B18-0C30F67B365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B680-26A6-40CF-AE70-BBF05125AC6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6F66D-E690-41F6-A348-7CDA1B3B64E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A571A-6F5A-4D36-B8D5-59276B02741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E43D3-00FA-4237-832C-8147B9395A1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5856E-0D14-4CD5-BD3A-961BEA46250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58DF6-49BC-452E-9C20-30039FC9D83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09183-C44D-4734-9E63-579A28FE475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0F1DE-2DDE-4D6D-9BD6-826DD303F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147D-D0A1-46EF-886C-FB51655CA89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105CA-8EAF-4A19-93EC-2FD356E1CA5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9510C-AF81-4C47-9E36-403C8D843A2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17D3D-AF7B-4AB3-BDF3-D801B5E0E23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78798-48D2-4D63-9FD1-75B3EE4A97F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A1477-8FA1-459E-A67B-1EDD370B51F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9451B-2AFC-414F-A915-71DEEB1425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1715B-8A1C-4A10-A7BD-75436CE6763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2C37D-4014-4DB7-9DA3-8DCD1B737BC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E01430-5D6E-474F-8094-102C70B7111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0C6D4F-6F07-4E8B-9A39-8A49B7DC7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416C-1A6C-4983-A83C-EE3AB582424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87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feld 7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5574-0657-4C39-9BAD-8D9C32B59290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19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30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25FD-CE5F-43D7-B2B8-47092551396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1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74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D980-4610-4AF6-A340-ADD3D26E755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3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17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feld 8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Num" idx="2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6330-852D-4A7C-A1D9-709E73E98E3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5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61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2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26FD-DB86-45E2-A2EB-F6C987ABFB4F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602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B654-749F-4979-912E-3D72D6A692B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BC8D-1D6D-4ABF-8E5C-C4EEA6F8B84A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NRW_SK_CMYK"/>
          <p:cNvPicPr/>
          <p:nvPr/>
        </p:nvPicPr>
        <p:blipFill>
          <a:blip r:embed="rId2"/>
          <a:stretch/>
        </p:blipFill>
        <p:spPr>
          <a:xfrm>
            <a:off x="5769000" y="404640"/>
            <a:ext cx="2835360" cy="579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3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85" name="Textfeld 2"/>
          <p:cNvSpPr/>
          <p:nvPr/>
        </p:nvSpPr>
        <p:spPr>
          <a:xfrm>
            <a:off x="529920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C7C2-5059-43E5-88A2-0147169E902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170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915E-57B9-4878-808C-5C498D30FC3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9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13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E066-BAAC-4900-9BB5-3D4FF19A7BA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56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F0F8-3569-44B4-A1BB-FDC335021A2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39BC-EF35-487C-87C6-17F9449A586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43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1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EBA0-5C4C-4E0C-A0E8-D8D629A8B71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schulentwicklung.nrw.de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mailto:cordula.hartwig@qua-lis.nrw.de" TargetMode="External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4"/>
          <p:cNvSpPr/>
          <p:nvPr/>
        </p:nvSpPr>
        <p:spPr>
          <a:xfrm>
            <a:off x="539640" y="3573360"/>
            <a:ext cx="8064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NRW_Guillochen_PowerPoint-Titel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4680" y="2565000"/>
            <a:ext cx="9144000" cy="11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ernlehrplan Abendgymnasium und Kolleg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atholische Religionslehre</a:t>
            </a:r>
            <a:br>
              <a:rPr sz="2400"/>
            </a:b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54" name="Foliennummernplatzhalter 4"/>
          <p:cNvSpPr/>
          <p:nvPr/>
        </p:nvSpPr>
        <p:spPr>
          <a:xfrm>
            <a:off x="444600" y="6415200"/>
            <a:ext cx="288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feld 1"/>
          <p:cNvSpPr/>
          <p:nvPr/>
        </p:nvSpPr>
        <p:spPr>
          <a:xfrm>
            <a:off x="2627280" y="35830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veranstaltung am 22.10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8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093D-E738-4AB2-83D8-F169AD9FC7C2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681120" y="5229360"/>
            <a:ext cx="7723080" cy="1022040"/>
          </a:xfrm>
          <a:prstGeom prst="rect">
            <a:avLst/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d2d8a"/>
                </a:solidFill>
                <a:latin typeface="Arial"/>
                <a:ea typeface="ヒラギノ角ゴ Pro W3"/>
              </a:rPr>
              <a:t>Eine Kompetenz ist eine Disposition, die dazu befähigt, </a:t>
            </a:r>
            <a:br>
              <a:rPr sz="2000"/>
            </a:br>
            <a:r>
              <a:rPr b="0" lang="de-DE" sz="2000" spc="-1" strike="noStrike">
                <a:solidFill>
                  <a:srgbClr val="2d2d8a"/>
                </a:solidFill>
                <a:latin typeface="Arial"/>
                <a:ea typeface="ヒラギノ角ゴ Pro W3"/>
              </a:rPr>
              <a:t>variable Anforderungssituationen in einem bestimmten Lern- oder Handlungsbereich erfolgreich und verantwortlich zu bewält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C4CF-EA49-40B2-B7A7-1B08CBD241F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4920" y="1322280"/>
            <a:ext cx="766908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-BoldMT"/>
                <a:ea typeface="MS PGothic"/>
              </a:rPr>
              <a:t>Kompetenzbegriff nach Weiner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250560" y="1843200"/>
            <a:ext cx="8064360" cy="38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Kompetenzen versteht man 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„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die bei Individuen verfügbaren oder durch sie erlernbaren </a:t>
            </a:r>
            <a:r>
              <a:rPr b="1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kognitiven Fähigkeiten und Fertigkeiten, um bestimmte Probleme zu lösen</a:t>
            </a:r>
            <a:r>
              <a:rPr b="0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, </a:t>
            </a:r>
            <a:r>
              <a:rPr b="1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sowie die damit verbundenen motivationalen, volitionalen und sozialen Bereitschaften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und Fähigkeiten, um die Problemlösungen in variablen Situationen erfolgreich und verantwortungsvoll nutzen zu können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 (Weinert 2001, S. 27f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BF07-9AB9-4139-9D4C-DBF41E68ECDC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9EDC-8D61-4121-B98B-D624CDAA74F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1928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Merkmale kompetenzorientierter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orientiert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definieren Standards (zu erreichende Zie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tehen aus fachbezogenen Kompetenzerwart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put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die erwarteten Lernergebn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indlich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eine landesweit verbindliche Obligatorik; sie formulieren klare Ergebniserwartungen und keine Wahl-möglichk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itgehend „entdidaktisiert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äne beschränken sich auf die Formulierung der zu erreichenden Ergebnisse und treffen keine Aussagen zu Wegen und Verfahren der Zielerreichung. Didaktische wie auch methodische   Entscheidungen werden in den Schulen – u. a. bei der Erstellung des schulinternen Lehrplans – getroffe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hteck 4"/>
          <p:cNvSpPr/>
          <p:nvPr/>
        </p:nvSpPr>
        <p:spPr>
          <a:xfrm>
            <a:off x="603360" y="2492280"/>
            <a:ext cx="3463920" cy="19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rnbere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rsprung und Auftrag von Kirche, ihre Erscheinungsformen und ihr Handeln in Geschichte und Gegenwart, in der Auseinandersetzung mit anderen Institutionen und geistigen Ström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hteck 3"/>
          <p:cNvSpPr/>
          <p:nvPr/>
        </p:nvSpPr>
        <p:spPr>
          <a:xfrm>
            <a:off x="932040" y="1488960"/>
            <a:ext cx="2663640" cy="792360"/>
          </a:xfrm>
          <a:prstGeom prst="rect">
            <a:avLst/>
          </a:prstGeom>
          <a:solidFill>
            <a:srgbClr val="eff4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d2d8a"/>
                </a:solidFill>
                <a:latin typeface="Arial"/>
              </a:rPr>
              <a:t>Der „alte“ LP AGy und Kol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hteck 5"/>
          <p:cNvSpPr/>
          <p:nvPr/>
        </p:nvSpPr>
        <p:spPr>
          <a:xfrm>
            <a:off x="5364000" y="1484280"/>
            <a:ext cx="2592720" cy="797040"/>
          </a:xfrm>
          <a:prstGeom prst="rect">
            <a:avLst/>
          </a:prstGeom>
          <a:solidFill>
            <a:srgbClr val="eff4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d2d8a"/>
                </a:solidFill>
                <a:latin typeface="Arial"/>
              </a:rPr>
              <a:t>Der neue KLP AGy und Kol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hteck 6"/>
          <p:cNvSpPr/>
          <p:nvPr/>
        </p:nvSpPr>
        <p:spPr>
          <a:xfrm>
            <a:off x="4464000" y="2457360"/>
            <a:ext cx="4356000" cy="193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haltsfeld 4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Aft>
                <a:spcPts val="601"/>
              </a:spcAft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irche in ihrem Anspruch und Auft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haltlicher Schwerpun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irche in ihrem Selbstverständnis vor den Herausforderungen der 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itel 5"/>
          <p:cNvSpPr/>
          <p:nvPr/>
        </p:nvSpPr>
        <p:spPr>
          <a:xfrm>
            <a:off x="174600" y="115920"/>
            <a:ext cx="500688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m „alten“ Lehrplan zum Kernlehrplan: Kontinuität und Fortschreibung   -  ein 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feld 1"/>
          <p:cNvSpPr/>
          <p:nvPr/>
        </p:nvSpPr>
        <p:spPr>
          <a:xfrm>
            <a:off x="611280" y="4890960"/>
            <a:ext cx="3463920" cy="1313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bligatorische Inhal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sprung der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 der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feld 2"/>
          <p:cNvSpPr/>
          <p:nvPr/>
        </p:nvSpPr>
        <p:spPr>
          <a:xfrm>
            <a:off x="4464000" y="4888080"/>
            <a:ext cx="4356000" cy="1008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kretisierte Sach- und Urteilskompet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und zwa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feil nach unten 8"/>
          <p:cNvSpPr/>
          <p:nvPr/>
        </p:nvSpPr>
        <p:spPr>
          <a:xfrm>
            <a:off x="2154240" y="4392720"/>
            <a:ext cx="363600" cy="4492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feil nach unten 11"/>
          <p:cNvSpPr/>
          <p:nvPr/>
        </p:nvSpPr>
        <p:spPr>
          <a:xfrm>
            <a:off x="6372360" y="4392720"/>
            <a:ext cx="363240" cy="44928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oliennummernplatzhalter 1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944D-0024-4DCE-93A0-D7D9BD3BC48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179280" y="47592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chkompetenz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in Auszü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udiere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en die Wahrnehmung und Bedeutung von Kirche in ihrer Lebenswirklichke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den Ursprung der Kirche im Wirken Jesu und als Werk des Heiligen Geist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den Auftrag der Kirche, Sachwalterin des Reiches Gottes zu se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an Beispielen die kirchlichen Vollzüge Diakonia, Martyria, Leiturgia sowie Koinonia als zeichenhafte Realisierung der Reich-Gottes-Botschaft Jesu Chri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die anthropologische und theologische Dimension eines Sakra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Kirchenbilder des II. Vatikanischen Konzils (u. a. Volk Gottes) als Perspektiven für eine Erneuerung der Ki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rteilskompetenz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Beispiel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örtern, ob und wie sich die katholische Kirche in ihrer konkreten Praxis am Anspruch der Reich-Gottes-Botschaft Jesu orient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6315-C51D-4C54-B24A-1720EB9C904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4C97-52D5-49F5-BEF0-980FA258F613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1042920" y="1725480"/>
            <a:ext cx="7777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-abschnitts entwickelt werden (KLP-Vorgabe, schulinterner Lehrplan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auf konzentrieren wir uns zunäch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Inhalt / welche Sache ist geeig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s Können (diese Kompetenzen) zu entwickeln? + In wel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ind die Kompetenzen relev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muss auf dieser Grundlage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werbs- bzw. Lernsitu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gestaltet sein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33200" y="1255680"/>
            <a:ext cx="893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Kompetenz(erwartungen) als Ausgangspunkt für die Unterricht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828720" y="5324400"/>
            <a:ext cx="7742160" cy="843120"/>
          </a:xfrm>
          <a:prstGeom prst="rect">
            <a:avLst/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„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Am Ende des Unterrichtsabschnittes____ erwarte ich, dass 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Studierenden …, …., …. und …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7A74-B0BC-4F1A-BCE6-3150BC98EAC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8000" y="1628280"/>
            <a:ext cx="892800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Umgang mit Kompetenzerwartungen („Vernetzung“)</a:t>
            </a: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3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D6AA-1B3E-4927-8545-E637112BBAA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1115640" y="1916280"/>
            <a:ext cx="3816360" cy="22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txBody>
          <a:bodyPr lIns="0" rIns="0" tIns="0" bIns="0" anchor="t">
            <a:normAutofit fontScale="99000"/>
          </a:bodyPr>
          <a:p>
            <a:pPr lvl="2" marL="59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Studierenden erörtern, ob und wie sich die katholische Kirche in ihrer konkreten Praxis am Anspruch der Reich-Gottes-Botschaft Jesu orientier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feld 2"/>
          <p:cNvSpPr/>
          <p:nvPr/>
        </p:nvSpPr>
        <p:spPr>
          <a:xfrm>
            <a:off x="2124000" y="4221000"/>
            <a:ext cx="65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as kann eine Studierende/ ein Studierender, die/der das k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Über welche konkreten Kenntnisse und Fähigkeiten muss eine Studierende/ ein Studierender verfü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elche Inhalte und Methoden bedienen diese Kompetenzerwartu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108000" y="608040"/>
            <a:ext cx="885672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Kompetenz(erwartungen) als Ausgangspunkt für die Unterrichtsplanu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24F0-F82F-4BED-96A1-F417EC31C6B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3548-85EE-47A5-B51C-3889DAA8ED4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egende mit Linie 2 5"/>
          <p:cNvSpPr/>
          <p:nvPr/>
        </p:nvSpPr>
        <p:spPr>
          <a:xfrm>
            <a:off x="250920" y="1727280"/>
            <a:ext cx="2334960" cy="649080"/>
          </a:xfrm>
          <a:prstGeom prst="borderCallout2">
            <a:avLst>
              <a:gd name="adj1" fmla="val 18750"/>
              <a:gd name="adj2" fmla="val -8333"/>
              <a:gd name="adj3" fmla="val 85300"/>
              <a:gd name="adj4" fmla="val 112999"/>
              <a:gd name="adj5" fmla="val 81273"/>
              <a:gd name="adj6" fmla="val 111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erato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forderungs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egende mit Linie 2 3"/>
          <p:cNvSpPr/>
          <p:nvPr/>
        </p:nvSpPr>
        <p:spPr>
          <a:xfrm>
            <a:off x="4237200" y="1346040"/>
            <a:ext cx="2496960" cy="468360"/>
          </a:xfrm>
          <a:prstGeom prst="borderCallout2">
            <a:avLst>
              <a:gd name="adj1" fmla="val 18750"/>
              <a:gd name="adj2" fmla="val -8333"/>
              <a:gd name="adj3" fmla="val 164481"/>
              <a:gd name="adj4" fmla="val 34851"/>
              <a:gd name="adj5" fmla="val 121740"/>
              <a:gd name="adj6" fmla="val 362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bjektorien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Inhaltsplatzhalter 1"/>
          <p:cNvSpPr/>
          <p:nvPr/>
        </p:nvSpPr>
        <p:spPr>
          <a:xfrm>
            <a:off x="2101680" y="2637000"/>
            <a:ext cx="491832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60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erörtern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ob und wie sich die katholische Kirche in ihrer konkreten Praxi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am Anspruch der Reich-Gottes-Botschaft Jesu orientier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egende mit Linie 1 7"/>
          <p:cNvSpPr/>
          <p:nvPr/>
        </p:nvSpPr>
        <p:spPr>
          <a:xfrm>
            <a:off x="7380360" y="2924280"/>
            <a:ext cx="1380960" cy="1144440"/>
          </a:xfrm>
          <a:prstGeom prst="borderCallout1">
            <a:avLst>
              <a:gd name="adj1" fmla="val 18750"/>
              <a:gd name="adj2" fmla="val -8333"/>
              <a:gd name="adj3" fmla="val 57328"/>
              <a:gd name="adj4" fmla="val -156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haltlich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egende mit Linie 1 12"/>
          <p:cNvSpPr/>
          <p:nvPr/>
        </p:nvSpPr>
        <p:spPr>
          <a:xfrm>
            <a:off x="6516720" y="5149800"/>
            <a:ext cx="1290600" cy="482760"/>
          </a:xfrm>
          <a:prstGeom prst="borderCallout1">
            <a:avLst>
              <a:gd name="adj1" fmla="val 18750"/>
              <a:gd name="adj2" fmla="val -8333"/>
              <a:gd name="adj3" fmla="val -20365"/>
              <a:gd name="adj4" fmla="val -2811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egende mit Linie 1 10"/>
          <p:cNvSpPr/>
          <p:nvPr/>
        </p:nvSpPr>
        <p:spPr>
          <a:xfrm>
            <a:off x="816120" y="5230800"/>
            <a:ext cx="3055680" cy="960480"/>
          </a:xfrm>
          <a:prstGeom prst="borderCallout1">
            <a:avLst>
              <a:gd name="adj1" fmla="val 18750"/>
              <a:gd name="adj2" fmla="val -8333"/>
              <a:gd name="adj3" fmla="val -15157"/>
              <a:gd name="adj4" fmla="val 763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netz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ch Gottes - Botschaft und ihr Anspru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Bild 2" descr="coloring page"/>
          <p:cNvPicPr/>
          <p:nvPr/>
        </p:nvPicPr>
        <p:blipFill>
          <a:blip r:embed="rId1"/>
          <a:srcRect l="5589" t="1249" r="55695" b="72780"/>
          <a:stretch/>
        </p:blipFill>
        <p:spPr>
          <a:xfrm>
            <a:off x="142920" y="1914480"/>
            <a:ext cx="5076720" cy="4319640"/>
          </a:xfrm>
          <a:prstGeom prst="rect">
            <a:avLst/>
          </a:prstGeom>
          <a:ln w="0">
            <a:noFill/>
          </a:ln>
        </p:spPr>
      </p:pic>
      <p:sp>
        <p:nvSpPr>
          <p:cNvPr id="752" name="Rechteck 1"/>
          <p:cNvSpPr/>
          <p:nvPr/>
        </p:nvSpPr>
        <p:spPr>
          <a:xfrm>
            <a:off x="971640" y="2205000"/>
            <a:ext cx="30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erörtern, ob und wie sich die katholische Kirche in ihrer konkreten Praxis am Anspruch der Reich-Gottes-Botschaft Jesu orient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feld 4"/>
          <p:cNvSpPr/>
          <p:nvPr/>
        </p:nvSpPr>
        <p:spPr>
          <a:xfrm>
            <a:off x="5364000" y="3179880"/>
            <a:ext cx="3168720" cy="1069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etenzen werden nicht isoliert, sondern im Verbund erworb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50920" y="603360"/>
            <a:ext cx="8611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Kompetenz(erwartungen) „auslegen“ und vern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7497-10A8-4908-9D09-6F37A00D762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Resim 2" descr=""/>
          <p:cNvPicPr/>
          <p:nvPr/>
        </p:nvPicPr>
        <p:blipFill>
          <a:blip r:embed="rId1"/>
          <a:srcRect l="1011" t="3537" r="608" b="5624"/>
          <a:stretch/>
        </p:blipFill>
        <p:spPr>
          <a:xfrm>
            <a:off x="52560" y="1268280"/>
            <a:ext cx="9001080" cy="4969080"/>
          </a:xfrm>
          <a:prstGeom prst="rect">
            <a:avLst/>
          </a:prstGeom>
          <a:ln w="0">
            <a:noFill/>
          </a:ln>
        </p:spPr>
      </p:pic>
      <p:sp>
        <p:nvSpPr>
          <p:cNvPr id="757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B00C-A356-4436-854D-70A3110AD65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hteck 1"/>
          <p:cNvSpPr/>
          <p:nvPr/>
        </p:nvSpPr>
        <p:spPr>
          <a:xfrm>
            <a:off x="216000" y="1370160"/>
            <a:ext cx="29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erörtern, ob und wie sich die katholische Kirche in ihrer konkreten Praxis am Anspruch der Reich-Gottes-Botschaft Jesu orientiert.            (IF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feld 3"/>
          <p:cNvSpPr/>
          <p:nvPr/>
        </p:nvSpPr>
        <p:spPr>
          <a:xfrm>
            <a:off x="3635280" y="1473120"/>
            <a:ext cx="244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läuter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den Auftrag der Kirche, Sachwalterin des Reiches Got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zu sein (I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feld 4"/>
          <p:cNvSpPr/>
          <p:nvPr/>
        </p:nvSpPr>
        <p:spPr>
          <a:xfrm>
            <a:off x="6443640" y="1473120"/>
            <a:ext cx="2232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läuter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an Beispielen die kirchlichen Vollzüge Diakonia, Martyria, Leiturgia sowie Koinonia als zeichen-hafte Realisierung der Reich-Gottes-Botschaft Jesu Chri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I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feld 5"/>
          <p:cNvSpPr/>
          <p:nvPr/>
        </p:nvSpPr>
        <p:spPr>
          <a:xfrm>
            <a:off x="3492360" y="3284640"/>
            <a:ext cx="27766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läuter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anthro-pologische und theologische Dimension eines Sakra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I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feld 6"/>
          <p:cNvSpPr/>
          <p:nvPr/>
        </p:nvSpPr>
        <p:spPr>
          <a:xfrm>
            <a:off x="922320" y="3978360"/>
            <a:ext cx="24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läuter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Zuspruch und Anspruch der Reich-Gottes-Botschaft J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dem Hintergrund des sozialen, politischen und religiösen Kontex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I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feld 7"/>
          <p:cNvSpPr/>
          <p:nvPr/>
        </p:nvSpPr>
        <p:spPr>
          <a:xfrm>
            <a:off x="4932360" y="4581360"/>
            <a:ext cx="26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el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den Zusammenhang von Tat und Wort in der Ver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kündigung Jesu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usgewählten biblischen Text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r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I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9EA3-98AB-45FA-BD1F-BAABBB2CE30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19280" y="1341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Was Sie heute erwartet – Schwerpunkte der Arbe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etenzorientierung – ein Orientierungswechsel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Umgang mit Kompetenzerwartungen („Vernetzung“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ie Struktur des neuen KLP Katholische Religionsleh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ufgaben der Fachkonferenz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Wie eine Fachkonferenz arbeiten kann (Übung und Beispiele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Überprüfungsformen und Abitu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er Lehrplannavigator: Unterstützungsangebot für 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 der Fachkonferenzen/ Lehrerinnen und Lehr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5C87-C199-46EE-9D93-11968EDE1AF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Die Struktur des Kernlehrplans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Katholische Religionslehr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oliennummernplatzhalter 4"/>
          <p:cNvSpPr/>
          <p:nvPr/>
        </p:nvSpPr>
        <p:spPr>
          <a:xfrm>
            <a:off x="539640" y="6453360"/>
            <a:ext cx="432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4950-62FD-4866-BFDB-750C2BBBCBB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539640" y="1254240"/>
          <a:ext cx="7777440" cy="5127480"/>
        </p:xfrm>
        <a:graphic>
          <a:graphicData uri="http://schemas.openxmlformats.org/drawingml/2006/table">
            <a:tbl>
              <a:tblPr/>
              <a:tblGrid>
                <a:gridCol w="911160"/>
                <a:gridCol w="6866280"/>
              </a:tblGrid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bemerk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ufgaben und Ziele des Faches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, Inhaltsfelder und Kompetenzerwartun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 und Inhaltsfelder des Faches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Einführung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Qualifikation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nd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istungs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ernerfolgsüberprüfung und Leistungsbewertung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turprüfu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h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14"/>
          <p:cNvSpPr/>
          <p:nvPr/>
        </p:nvSpPr>
        <p:spPr>
          <a:xfrm>
            <a:off x="179280" y="228600"/>
            <a:ext cx="49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2"/>
          <p:cNvSpPr/>
          <p:nvPr/>
        </p:nvSpPr>
        <p:spPr>
          <a:xfrm>
            <a:off x="457200" y="2514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3"/>
          <p:cNvSpPr/>
          <p:nvPr/>
        </p:nvSpPr>
        <p:spPr>
          <a:xfrm>
            <a:off x="5772240" y="2514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44"/>
          <p:cNvGrpSpPr/>
          <p:nvPr/>
        </p:nvGrpSpPr>
        <p:grpSpPr>
          <a:xfrm>
            <a:off x="250920" y="981000"/>
            <a:ext cx="8458200" cy="5435280"/>
            <a:chOff x="250920" y="981000"/>
            <a:chExt cx="8458200" cy="5435280"/>
          </a:xfrm>
        </p:grpSpPr>
        <p:cxnSp>
          <p:nvCxnSpPr>
            <p:cNvPr id="772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73" name="Text Box 46"/>
            <p:cNvSpPr/>
            <p:nvPr/>
          </p:nvSpPr>
          <p:spPr>
            <a:xfrm>
              <a:off x="2778120" y="5956560"/>
              <a:ext cx="3855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petenzerwartun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4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5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6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7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8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79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Text Box 54"/>
          <p:cNvSpPr/>
          <p:nvPr/>
        </p:nvSpPr>
        <p:spPr>
          <a:xfrm>
            <a:off x="1908000" y="981000"/>
            <a:ext cx="5400720" cy="45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greifende fachliche 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DC0A-F97E-4AC5-9270-B86F29E8EE4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feld 1"/>
          <p:cNvSpPr/>
          <p:nvPr/>
        </p:nvSpPr>
        <p:spPr>
          <a:xfrm>
            <a:off x="539640" y="1413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Kompeten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feld 1"/>
          <p:cNvSpPr/>
          <p:nvPr/>
        </p:nvSpPr>
        <p:spPr>
          <a:xfrm>
            <a:off x="684360" y="2708280"/>
            <a:ext cx="1726920" cy="14655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ligiöse 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feld 2"/>
          <p:cNvSpPr/>
          <p:nvPr/>
        </p:nvSpPr>
        <p:spPr>
          <a:xfrm>
            <a:off x="3635280" y="1405080"/>
            <a:ext cx="4824360" cy="47116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ähigkeit zu einem verantwortlichen Umga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m christlichen Glau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anderen Religionen und Weltanschau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eigenen Religiosität in der pluralen Welt sow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ähigkeit zu verantwortliche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   Handeln in Gesellschaft und Ki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gl. Kap.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ichtungspfeil 4"/>
          <p:cNvSpPr/>
          <p:nvPr/>
        </p:nvSpPr>
        <p:spPr>
          <a:xfrm>
            <a:off x="2604960" y="3349800"/>
            <a:ext cx="792360" cy="252360"/>
          </a:xfrm>
          <a:custGeom>
            <a:avLst/>
            <a:gdLst>
              <a:gd name="textAreaLeft" fmla="*/ 0 w 792360"/>
              <a:gd name="textAreaRight" fmla="*/ 792720 w 7923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9" y="0"/>
                </a:lnTo>
                <a:lnTo>
                  <a:pt x="21600" y="10800"/>
                </a:lnTo>
                <a:lnTo>
                  <a:pt x="18159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CD0-78EE-4853-B038-A7065D74636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14"/>
          <p:cNvSpPr/>
          <p:nvPr/>
        </p:nvSpPr>
        <p:spPr>
          <a:xfrm>
            <a:off x="276120" y="228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42"/>
          <p:cNvSpPr/>
          <p:nvPr/>
        </p:nvSpPr>
        <p:spPr>
          <a:xfrm>
            <a:off x="250920" y="2276640"/>
            <a:ext cx="3673440" cy="27781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ach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thoden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rteil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ndlung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Group 44"/>
          <p:cNvGrpSpPr/>
          <p:nvPr/>
        </p:nvGrpSpPr>
        <p:grpSpPr>
          <a:xfrm>
            <a:off x="250920" y="981000"/>
            <a:ext cx="8458200" cy="5437080"/>
            <a:chOff x="250920" y="981000"/>
            <a:chExt cx="8458200" cy="5437080"/>
          </a:xfrm>
        </p:grpSpPr>
        <p:cxnSp>
          <p:nvCxnSpPr>
            <p:cNvPr id="791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2" name="Text Box 46"/>
            <p:cNvSpPr/>
            <p:nvPr/>
          </p:nvSpPr>
          <p:spPr>
            <a:xfrm>
              <a:off x="2778120" y="595656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7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98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54"/>
          <p:cNvSpPr/>
          <p:nvPr/>
        </p:nvSpPr>
        <p:spPr>
          <a:xfrm>
            <a:off x="2195640" y="981000"/>
            <a:ext cx="46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7DBC-133F-49D9-BFB7-11286C8E447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4"/>
          <p:cNvSpPr/>
          <p:nvPr/>
        </p:nvSpPr>
        <p:spPr>
          <a:xfrm>
            <a:off x="250920" y="228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44"/>
          <p:cNvGrpSpPr/>
          <p:nvPr/>
        </p:nvGrpSpPr>
        <p:grpSpPr>
          <a:xfrm>
            <a:off x="250920" y="981000"/>
            <a:ext cx="8458200" cy="5437080"/>
            <a:chOff x="250920" y="981000"/>
            <a:chExt cx="8458200" cy="5437080"/>
          </a:xfrm>
        </p:grpSpPr>
        <p:cxnSp>
          <p:nvCxnSpPr>
            <p:cNvPr id="804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5" name="Text Box 46"/>
            <p:cNvSpPr/>
            <p:nvPr/>
          </p:nvSpPr>
          <p:spPr>
            <a:xfrm>
              <a:off x="2778120" y="595656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6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7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8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9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0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11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Text Box 54"/>
          <p:cNvSpPr/>
          <p:nvPr/>
        </p:nvSpPr>
        <p:spPr>
          <a:xfrm>
            <a:off x="2522520" y="10000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hteck 1"/>
          <p:cNvSpPr/>
          <p:nvPr/>
        </p:nvSpPr>
        <p:spPr>
          <a:xfrm>
            <a:off x="5127480" y="2276640"/>
            <a:ext cx="3581640" cy="2590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Mensch in christlicher Perspek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ristliche Antworten auf die Gottesf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Zeugnis vom Zuspruch und Anspruch Jesu Chr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irche in ihrem Anspruch und Auftr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ntwortliches Handeln aus christlicher Mo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christliche Hoffnung auf Vollendu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41DF-9575-4229-8271-EA1E6D5D812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14"/>
          <p:cNvSpPr/>
          <p:nvPr/>
        </p:nvSpPr>
        <p:spPr>
          <a:xfrm>
            <a:off x="160200" y="1778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2"/>
          <p:cNvSpPr/>
          <p:nvPr/>
        </p:nvSpPr>
        <p:spPr>
          <a:xfrm>
            <a:off x="422280" y="2298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Group 44"/>
          <p:cNvGrpSpPr/>
          <p:nvPr/>
        </p:nvGrpSpPr>
        <p:grpSpPr>
          <a:xfrm>
            <a:off x="250920" y="981000"/>
            <a:ext cx="8458200" cy="5437080"/>
            <a:chOff x="250920" y="981000"/>
            <a:chExt cx="8458200" cy="5437080"/>
          </a:xfrm>
        </p:grpSpPr>
        <p:cxnSp>
          <p:nvCxnSpPr>
            <p:cNvPr id="819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0" name="Text Box 46"/>
            <p:cNvSpPr/>
            <p:nvPr/>
          </p:nvSpPr>
          <p:spPr>
            <a:xfrm>
              <a:off x="2778120" y="595656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1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2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3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4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26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Text Box 54"/>
          <p:cNvSpPr/>
          <p:nvPr/>
        </p:nvSpPr>
        <p:spPr>
          <a:xfrm>
            <a:off x="2060640" y="1001880"/>
            <a:ext cx="51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hteck 1"/>
          <p:cNvSpPr/>
          <p:nvPr/>
        </p:nvSpPr>
        <p:spPr>
          <a:xfrm>
            <a:off x="5219640" y="2298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feld 1"/>
          <p:cNvSpPr/>
          <p:nvPr/>
        </p:nvSpPr>
        <p:spPr>
          <a:xfrm>
            <a:off x="2778120" y="5950080"/>
            <a:ext cx="3855960" cy="459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feld 2"/>
          <p:cNvSpPr/>
          <p:nvPr/>
        </p:nvSpPr>
        <p:spPr>
          <a:xfrm>
            <a:off x="422280" y="4527720"/>
            <a:ext cx="2681280" cy="642600"/>
          </a:xfrm>
          <a:prstGeom prst="rect">
            <a:avLst/>
          </a:prstGeom>
          <a:solidFill>
            <a:srgbClr val="99999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übergeordnete Kom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feld 17"/>
          <p:cNvSpPr/>
          <p:nvPr/>
        </p:nvSpPr>
        <p:spPr>
          <a:xfrm>
            <a:off x="6588000" y="5634000"/>
            <a:ext cx="2556000" cy="916920"/>
          </a:xfrm>
          <a:prstGeom prst="rect">
            <a:avLst/>
          </a:prstGeom>
          <a:solidFill>
            <a:srgbClr val="99999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onkretisierte Kom-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SK, 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AF5C-7556-4B0C-AD12-097B3A38E5A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14"/>
          <p:cNvSpPr/>
          <p:nvPr/>
        </p:nvSpPr>
        <p:spPr>
          <a:xfrm>
            <a:off x="169920" y="187200"/>
            <a:ext cx="49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42"/>
          <p:cNvSpPr/>
          <p:nvPr/>
        </p:nvSpPr>
        <p:spPr>
          <a:xfrm>
            <a:off x="422280" y="2421000"/>
            <a:ext cx="32767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ach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thoden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rteil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ndlung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44"/>
          <p:cNvGrpSpPr/>
          <p:nvPr/>
        </p:nvGrpSpPr>
        <p:grpSpPr>
          <a:xfrm>
            <a:off x="250920" y="981000"/>
            <a:ext cx="8458200" cy="5437080"/>
            <a:chOff x="250920" y="981000"/>
            <a:chExt cx="8458200" cy="5437080"/>
          </a:xfrm>
        </p:grpSpPr>
        <p:cxnSp>
          <p:nvCxnSpPr>
            <p:cNvPr id="837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8" name="Text Box 46"/>
            <p:cNvSpPr/>
            <p:nvPr/>
          </p:nvSpPr>
          <p:spPr>
            <a:xfrm>
              <a:off x="2778120" y="595656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9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0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1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2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3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44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Text Box 54"/>
          <p:cNvSpPr/>
          <p:nvPr/>
        </p:nvSpPr>
        <p:spPr>
          <a:xfrm>
            <a:off x="2340000" y="981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hteck 1"/>
          <p:cNvSpPr/>
          <p:nvPr/>
        </p:nvSpPr>
        <p:spPr>
          <a:xfrm>
            <a:off x="5219640" y="2298600"/>
            <a:ext cx="34894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Mensch in christlicher Perspek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ristliche Antworten auf die Gottesf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Zeugnis vom Zuspruch und Anspruch Jesu Chr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irche in ihrem Anspruch und Auftr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ntwortliches Handeln aus christlicher Mo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christliche Hoffnung auf Vollendu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feld 1"/>
          <p:cNvSpPr/>
          <p:nvPr/>
        </p:nvSpPr>
        <p:spPr>
          <a:xfrm>
            <a:off x="2903400" y="5999040"/>
            <a:ext cx="35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mpetenzerwar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06ED-4DC3-43E2-88F4-9989C10A885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0504-2EBA-4893-A588-7611CED5A1F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611280" y="1413000"/>
            <a:ext cx="827856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ind jeweils ausgewie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ür das Ende der Einführungsphase und – differenziert nach Gk und Lk – das Ende der Qualifikationspha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ls übergeordnete Kompetenzerwartungen für alle Kompetenzbere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ls konkretisierte, inhaltsfeldbezogene Kompetenzerwartungen für die Sach- und Urteilskompete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179280" y="2286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A3DC-EDA1-4C15-A365-63D17E06721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972720" y="1196640"/>
            <a:ext cx="81709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le 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im Wortlaut verbind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ken nicht das Ganze des Religionsunterrichts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feil nach oben und unten 2"/>
          <p:cNvSpPr/>
          <p:nvPr/>
        </p:nvSpPr>
        <p:spPr>
          <a:xfrm>
            <a:off x="1908000" y="2819520"/>
            <a:ext cx="287640" cy="753840"/>
          </a:xfrm>
          <a:prstGeom prst="upDownArrow">
            <a:avLst>
              <a:gd name="adj1" fmla="val 50000"/>
              <a:gd name="adj2" fmla="val 499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feld 4"/>
          <p:cNvSpPr/>
          <p:nvPr/>
        </p:nvSpPr>
        <p:spPr>
          <a:xfrm>
            <a:off x="2484360" y="2819520"/>
            <a:ext cx="431964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lance von Verbindlichkeit und Freirä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Kompetenzorientierung -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ein Orientierungswechsel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5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5DFC-3270-458C-9612-F2690ADF8A9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C95F-59F9-454D-9344-E49A5A4EA6F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079280" y="1773360"/>
            <a:ext cx="7956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lastung der Einführungsphase (IF 1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thik (IF 5: Verantwortliches Handeln aus christlicher Motivation) in der Q –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 Inhaltsfelder in 4 Semestern Q1/Q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K: ermöglicht intensivere  Bearbeitung, zusätzliche inhaltliche Schwerpunkte (z. B. Bergpredig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hteck 4"/>
          <p:cNvSpPr/>
          <p:nvPr/>
        </p:nvSpPr>
        <p:spPr>
          <a:xfrm>
            <a:off x="250920" y="476280"/>
            <a:ext cx="4752720" cy="64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70c0"/>
                </a:solidFill>
                <a:latin typeface="Arial"/>
              </a:rPr>
              <a:t>Grundsatzentscheid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B9FE-18FD-4704-BCEB-C84FCD2B27B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74560" y="1341360"/>
            <a:ext cx="85694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zeichen der E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uristische Funk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merksame Wahrnehmung der Studierenden in ihren Glaubenshaltungen und Denkprozessen, in der Entwicklung ihrer religiösen Sprach- und Urteilsfähigkeit und in ihren Interess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 des RU in der Qualifikationspha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seinen komplexeren Inhalten und Arbeitsweisen, seinem höheren Maß an Abstraktion und seiner anspruchsvolleren Reflexionseb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el 5"/>
          <p:cNvSpPr/>
          <p:nvPr/>
        </p:nvSpPr>
        <p:spPr>
          <a:xfrm>
            <a:off x="260280" y="262080"/>
            <a:ext cx="453564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Zur Gestaltung der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7DA8-655F-4390-BF43-2E61DB4C0CD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250560" y="1557000"/>
            <a:ext cx="88930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equenzen für die E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duzierte Anzahl von Kompetenzerwart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raum zur thematischen Ausgestaltung und Konkretisierung der Lernproz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raum für methodische Grundlegungen (z. B. Textarb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ücksichtigung der verschiedenen religiösen Haltungen der Studierenden, ihrer Interessen und ihrer F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itel 5"/>
          <p:cNvSpPr/>
          <p:nvPr/>
        </p:nvSpPr>
        <p:spPr>
          <a:xfrm>
            <a:off x="162000" y="271440"/>
            <a:ext cx="4626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Zur Gestaltung der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FF31-DB9D-415A-9DF7-AD3A0E8ABDD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24000" y="1125000"/>
            <a:ext cx="88200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felder und inhaltliche 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Diagramm 2" descr=""/>
          <p:cNvPicPr/>
          <p:nvPr/>
        </p:nvPicPr>
        <p:blipFill>
          <a:blip r:embed="rId1"/>
          <a:stretch/>
        </p:blipFill>
        <p:spPr>
          <a:xfrm>
            <a:off x="743040" y="1914480"/>
            <a:ext cx="7370640" cy="4449960"/>
          </a:xfrm>
          <a:prstGeom prst="rect">
            <a:avLst/>
          </a:prstGeom>
          <a:ln w="0">
            <a:noFill/>
          </a:ln>
        </p:spPr>
      </p:pic>
      <p:sp>
        <p:nvSpPr>
          <p:cNvPr id="869" name="Titel 5"/>
          <p:cNvSpPr/>
          <p:nvPr/>
        </p:nvSpPr>
        <p:spPr>
          <a:xfrm>
            <a:off x="179280" y="239760"/>
            <a:ext cx="4608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Zur Gestaltung der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B605-C92D-4983-8F23-8FAC30553E8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Aufgaben der Fachkonferenzen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A13E-4A9F-4218-BBE0-C89CD0E71D3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250920" y="144756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Grundlagen - SchulG § 70 (3 und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) Die Fachkonferenz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rä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über alle das Fach oder die Fachrichtung betreffenden Angelegenheiten einschließlich d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arbeit mit anderen Fächer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Sie trägt Verantwortung für die schulinterne Qualitätssicherung und -entwicklung der fachlichen Arbeit und berät üb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iele, Arbeitspläne, Evaluationsmaßnahm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-ergebnisse und Rechenschaftsleg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4) Die Fachkonferenz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ntscheide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 ihrem Fach insbesondere ü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undsätze zur fachmethodischen und fachdidaktischen Arbe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Grundsätze zur Leistungsbewertu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Vorschläge an die Lehrerkonferenz zur Einführung von Lernmitte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8592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Aufgaben der Fachkonferenzen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324000" y="1676520"/>
          <a:ext cx="8640720" cy="4144680"/>
        </p:xfrm>
        <a:graphic>
          <a:graphicData uri="http://schemas.openxmlformats.org/drawingml/2006/table">
            <a:tbl>
              <a:tblPr/>
              <a:tblGrid>
                <a:gridCol w="3625560"/>
                <a:gridCol w="5015160"/>
              </a:tblGrid>
              <a:tr h="41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17784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chulinterne Lehrplan ordnet den Semestern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sch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richtsvorhabe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u (Kumulativität, schulbezogene Schwerpunktsetzungen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60360" indent="-268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richtsvorhabe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eisen au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etenzerwartungen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erreicht werden so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liche und methodische Akz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nüpfungen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t anderen Fäch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gf. außerschulische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r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öglichkeiten der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etenzüberprüf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12"/>
          <p:cNvSpPr/>
          <p:nvPr/>
        </p:nvSpPr>
        <p:spPr>
          <a:xfrm>
            <a:off x="150840" y="4046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itel 5"/>
          <p:cNvSpPr/>
          <p:nvPr/>
        </p:nvSpPr>
        <p:spPr>
          <a:xfrm>
            <a:off x="250920" y="422280"/>
            <a:ext cx="48974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Aufgaben der Fachkonfer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feld 6"/>
          <p:cNvSpPr/>
          <p:nvPr/>
        </p:nvSpPr>
        <p:spPr>
          <a:xfrm>
            <a:off x="6875640" y="6093000"/>
            <a:ext cx="1657080" cy="580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Formular U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95CF-700C-4217-8D0A-FD4B79B6792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14400" y="1341360"/>
            <a:ext cx="8229600" cy="29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Wie eine Fachkonferenz arbeiten kann (Übung und Beispiele)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CC2B-E974-4C24-B950-532615D98E1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250560" y="2492280"/>
            <a:ext cx="797868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ichten Sie die (konkretisierten) Kompetenzerwartungen der Einführungsphase und notieren Sie sich Ideen zu einer möglichen inhaltlichen und  methodischen Füllun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Plenum: Gelegenheit zur Klärung von Fragen zu Kompetenzerwartu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100" spc="-1" strike="noStrike">
                <a:solidFill>
                  <a:srgbClr val="000000"/>
                </a:solidFill>
                <a:latin typeface="Arial"/>
              </a:rPr>
              <a:t>Austausch: </a:t>
            </a:r>
            <a:r>
              <a:rPr b="0" i="1" lang="de-DE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de-DE" sz="2100" spc="-1" strike="noStrike">
                <a:solidFill>
                  <a:srgbClr val="000000"/>
                </a:solidFill>
                <a:latin typeface="Arial"/>
              </a:rPr>
              <a:t> in 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761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Wie kommen wir von den Kompetenzerwartungen und Inhaltsfeldern des KLP zu Unterrichtsvorhaben?</a:t>
            </a:r>
            <a:br>
              <a:rPr sz="2400"/>
            </a:br>
            <a:br>
              <a:rPr sz="2800"/>
            </a:b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87" name="Textfeld 4"/>
          <p:cNvSpPr/>
          <p:nvPr/>
        </p:nvSpPr>
        <p:spPr>
          <a:xfrm>
            <a:off x="5386320" y="5877000"/>
            <a:ext cx="3240000" cy="580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konkretisierte Komp.erw. Einführungs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8"/>
          <p:cNvSpPr/>
          <p:nvPr/>
        </p:nvSpPr>
        <p:spPr>
          <a:xfrm>
            <a:off x="250920" y="1141920"/>
            <a:ext cx="827064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ulinterner Lehrplan Katholische Religionslehre  (Beispi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terrichtsvorhaben 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„Wie hältst du’s mit der Religion?“ – Wahrnehmung von Religion in unserer Zeit und Welt und Auseinandersetzung mit ihrer Relev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itel 5"/>
          <p:cNvSpPr/>
          <p:nvPr/>
        </p:nvSpPr>
        <p:spPr>
          <a:xfrm>
            <a:off x="0" y="458640"/>
            <a:ext cx="5184720" cy="63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Unterrichtsvorhaben für die EF – Bsp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feld 4"/>
          <p:cNvSpPr/>
          <p:nvPr/>
        </p:nvSpPr>
        <p:spPr>
          <a:xfrm>
            <a:off x="6084720" y="4908600"/>
            <a:ext cx="2880000" cy="580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ikarte“ U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0F5F-5A81-4B65-B758-B95F14FFC5B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108D-5112-40EF-AEB4-2F411928593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17928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082520" y="13413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Typisches aus der traditionellen Stoff- bzw. Inhaltsorientierung  </a:t>
            </a:r>
            <a:r>
              <a:rPr b="1" i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(etwas überspitzt formuliert</a:t>
            </a:r>
            <a:r>
              <a:rPr b="0" i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)</a:t>
            </a:r>
            <a:r>
              <a:rPr b="0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5"/>
          <p:cNvSpPr/>
          <p:nvPr/>
        </p:nvSpPr>
        <p:spPr>
          <a:xfrm>
            <a:off x="5724360" y="2192400"/>
            <a:ext cx="3097440" cy="1368360"/>
          </a:xfrm>
          <a:prstGeom prst="wedgeRoundRectCallout">
            <a:avLst>
              <a:gd name="adj1" fmla="val -99509"/>
              <a:gd name="adj2" fmla="val -54870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under“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habe 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on gema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6"/>
          <p:cNvSpPr/>
          <p:nvPr/>
        </p:nvSpPr>
        <p:spPr>
          <a:xfrm>
            <a:off x="395280" y="2708280"/>
            <a:ext cx="2376360" cy="1441440"/>
          </a:xfrm>
          <a:prstGeom prst="wedgeRoundRectCallout">
            <a:avLst>
              <a:gd name="adj1" fmla="val 100768"/>
              <a:gd name="adj2" fmla="val -86231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attest Du sch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Auf-erstehung‘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7"/>
          <p:cNvSpPr/>
          <p:nvPr/>
        </p:nvSpPr>
        <p:spPr>
          <a:xfrm>
            <a:off x="5076720" y="4221000"/>
            <a:ext cx="3745080" cy="1368720"/>
          </a:xfrm>
          <a:prstGeom prst="wedgeRoundRectCallout">
            <a:avLst>
              <a:gd name="adj1" fmla="val -73972"/>
              <a:gd name="adj2" fmla="val -195824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ch mache im 5. Semester gerade 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irche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fert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8"/>
          <p:cNvSpPr/>
          <p:nvPr/>
        </p:nvSpPr>
        <p:spPr>
          <a:xfrm>
            <a:off x="250920" y="4292640"/>
            <a:ext cx="4608360" cy="2016000"/>
          </a:xfrm>
          <a:prstGeom prst="wedgeRoundRectCallout">
            <a:avLst>
              <a:gd name="adj1" fmla="val 27277"/>
              <a:gd name="adj2" fmla="val -144643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r müssen noch die Kompetenzen aus dem KLP hinter unser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Themen“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rei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feld 11"/>
          <p:cNvSpPr/>
          <p:nvPr/>
        </p:nvSpPr>
        <p:spPr>
          <a:xfrm>
            <a:off x="250920" y="620640"/>
            <a:ext cx="3384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Orientierungswechsel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A355-939D-4A2E-97BB-97B4382B403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2732-A5E3-43F9-B9EE-099709EE300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179280" y="1557000"/>
            <a:ext cx="805032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) Entwickeln Sie ausgehend von den Kompetenzerwartungen und den inhaltlichen Schwerpunkten (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mschlag) sowie von Ihren Ideen gemeinsam ein mögliches Unterrichtsvorhaben der EF und kleben Sie Ihr „Puzzle“ a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) Füllen Sie die „Karteikarte Unterrichtsvorhaben“ gemeinsam a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okus: Was wollen Sie hier in Ihrer „Fachkonferenz“ verbindlich festlege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47512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95" name="Textfeld 4"/>
          <p:cNvSpPr/>
          <p:nvPr/>
        </p:nvSpPr>
        <p:spPr>
          <a:xfrm>
            <a:off x="6443640" y="5589720"/>
            <a:ext cx="2424240" cy="641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GA-M1)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ärtchen: KompErw EF, leere Kärtchen für Ideen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A-M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Leerformular 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642A-A359-42E4-9632-16996CE6CA9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91440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e hältst du’s mit der Religion?“ – Wahrnehmung von Religion in unserer Zeit und Welt und Auseinandersetzung mit ihrer Relev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se Welt: Schöpfung (Gottes) oder hervorgegangen aus dem Urknall?“ - Gegen eine eindimensionale Sicht von Wirklichk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78920" y="126792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-BoldMT"/>
              </a:rPr>
              <a:t>UV der Einführungsphase im Beispiellehrplan:</a:t>
            </a:r>
            <a:r>
              <a:rPr b="1" lang="de-DE" sz="3200" spc="-1" strike="noStrike">
                <a:solidFill>
                  <a:srgbClr val="000000"/>
                </a:solidFill>
                <a:latin typeface="Arial-BoldM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99" name="Textfeld 4"/>
          <p:cNvSpPr/>
          <p:nvPr/>
        </p:nvSpPr>
        <p:spPr>
          <a:xfrm>
            <a:off x="4643280" y="5389560"/>
            <a:ext cx="3097440" cy="824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4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V der 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Checkli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6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V auf einen B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7699-6CD4-4A0A-ABFE-75884E3501A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Überprüfungsformen/Abitur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tel 5"/>
          <p:cNvSpPr/>
          <p:nvPr/>
        </p:nvSpPr>
        <p:spPr>
          <a:xfrm>
            <a:off x="179280" y="411120"/>
            <a:ext cx="511344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Überprüfungsfor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(mündlich und schriftl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900000" y="1881360"/>
          <a:ext cx="5432400" cy="3219120"/>
        </p:xfrm>
        <a:graphic>
          <a:graphicData uri="http://schemas.openxmlformats.org/drawingml/2006/table">
            <a:tbl>
              <a:tblPr/>
              <a:tblGrid>
                <a:gridCol w="2716200"/>
                <a:gridCol w="2716200"/>
              </a:tblGrid>
              <a:tr h="657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Überprüfungsfor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urzbeschreibung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ispi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stell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ört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alt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04" name="Textfeld 4"/>
          <p:cNvSpPr/>
          <p:nvPr/>
        </p:nvSpPr>
        <p:spPr>
          <a:xfrm>
            <a:off x="6389640" y="1380960"/>
            <a:ext cx="27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tudierende haben auf unterschiedliche Art und Weise Gelegenheit, diese Formen einzuüben bzw. auch Leistungsnachweise zu erbringen, die die aufgeführten Schwerpunkte berücksichtigen (z. B. Referat, Präsentation, Portfolio, …)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vgl. KLP, Kap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feld 1"/>
          <p:cNvSpPr/>
          <p:nvPr/>
        </p:nvSpPr>
        <p:spPr>
          <a:xfrm flipH="1">
            <a:off x="5292720" y="5589720"/>
            <a:ext cx="295128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7 – Überprüfungsformen und Operat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oliennummernplatzhalter 5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7E2A-2C52-4D1D-B009-65CDD01DC29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05C9-7B76-414F-A2CF-8A831375647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23640" y="1341360"/>
            <a:ext cx="7740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Abiturprüfung (KLP, Kap.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lt die APO-Wb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hlich beziehen sich alle Teile der Abiturprüfung auf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Kapitel 2 dieses Kernlehrplans für das Ende der Qualifikationsphase festgelegten Kompetenzerwartung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464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1510-67A0-4954-A8A7-44FD33AFFB5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250920" y="1915920"/>
            <a:ext cx="86040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arüber hinaus gelten für die Abiturprüfung die Festlegungen in Kapitel 4 des Kernlehrplans, die für das Jahr 2017 in Bezug auf die nachfolgenden Punkte konkretisiert werden: …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Verpflichtung zur Beachtung der gesamten Obligatorik des Faches gemäß Kapitel 2 des Kernlehrplans bleibt von diesen Fokussierungen allerdings unberührt. Die Realisierung der Obligatorik insgesamt liegt in der Verantwortung der Lehrkräf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806436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   </a:t>
            </a: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Abiturprüfung: Vorgaben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13" name="Textfeld 3"/>
          <p:cNvSpPr/>
          <p:nvPr/>
        </p:nvSpPr>
        <p:spPr>
          <a:xfrm>
            <a:off x="5508720" y="5661000"/>
            <a:ext cx="244800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biturvor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3" descr=""/>
          <p:cNvPicPr/>
          <p:nvPr/>
        </p:nvPicPr>
        <p:blipFill>
          <a:blip r:embed="rId1"/>
          <a:stretch/>
        </p:blipFill>
        <p:spPr>
          <a:xfrm>
            <a:off x="409680" y="336600"/>
            <a:ext cx="8712000" cy="6539040"/>
          </a:xfrm>
          <a:prstGeom prst="rect">
            <a:avLst/>
          </a:prstGeom>
          <a:ln w="0">
            <a:noFill/>
          </a:ln>
        </p:spPr>
      </p:pic>
      <p:sp>
        <p:nvSpPr>
          <p:cNvPr id="91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6350-EB99-41B0-B451-431FA780A2F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E8B4-C277-485B-BA85-6950C433159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179280" y="2421000"/>
          <a:ext cx="8640720" cy="2609640"/>
        </p:xfrm>
        <a:graphic>
          <a:graphicData uri="http://schemas.openxmlformats.org/drawingml/2006/table">
            <a:tbl>
              <a:tblPr/>
              <a:tblGrid>
                <a:gridCol w="1133640"/>
                <a:gridCol w="5443560"/>
                <a:gridCol w="2063520"/>
              </a:tblGrid>
              <a:tr h="3142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mpetenzerwartun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gabe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953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s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d 2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udierenden entfalten zentrale Aussagen des jüdisch-christlichen Gottesverständnisses (Gott als Befreier, als der ganz Andere, als der Unverfügbare, als Bundespartner)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udierenden erörtern die Vielfalt von Gottesbildern und setzen sie in Beziehung zum biblischen Bilderverbo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tesbilder der Exoduserzähl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7813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Abiturprüfung – Vorgaben (Beispiel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19" name="Textfeld 3"/>
          <p:cNvSpPr/>
          <p:nvPr/>
        </p:nvSpPr>
        <p:spPr>
          <a:xfrm>
            <a:off x="6156360" y="5538960"/>
            <a:ext cx="26636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8 Abiturvor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2"/>
          <p:cNvSpPr/>
          <p:nvPr/>
        </p:nvSpPr>
        <p:spPr>
          <a:xfrm>
            <a:off x="457200" y="330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D4F3-0F61-4F5B-90C4-7BB4C0CBE6D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2" name=""/>
          <p:cNvGraphicFramePr/>
          <p:nvPr/>
        </p:nvGraphicFramePr>
        <p:xfrm>
          <a:off x="250920" y="1989000"/>
          <a:ext cx="7978680" cy="4100760"/>
        </p:xfrm>
        <a:graphic>
          <a:graphicData uri="http://schemas.openxmlformats.org/drawingml/2006/table">
            <a:tbl>
              <a:tblPr/>
              <a:tblGrid>
                <a:gridCol w="1047600"/>
                <a:gridCol w="5025960"/>
                <a:gridCol w="1905120"/>
              </a:tblGrid>
              <a:tr h="314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mpetenzerwartun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gabe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778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s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d 5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e Studierenden  analysieren verschiedene Positionen zu einem konkreten ethischen Entscheidungsfeld im Hinblick auf die zugrundeliegenden Werte und Normen bzw. ethischen Begründungsmodel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rowSpan="3"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le normativer Ethik: deontologische und utilitaristische Argu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0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e Studierenden  beurteilen Möglichkeiten und Grenzen unterschiedlicher Typen ethischer Argument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21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e Studierenden  erörtern unterschiedliche Positionen zu einem konkreten ethischen Entscheidungsfeld unter Berücksichtigung christlicher Ethik in katholischer Perspek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Abiturprüfung – Vorgaben (Beispiel)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24" name="Rectangle 2"/>
          <p:cNvSpPr/>
          <p:nvPr/>
        </p:nvSpPr>
        <p:spPr>
          <a:xfrm>
            <a:off x="457200" y="330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C7F8-487C-444B-BC42-632112CA4F9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8920" y="1267920"/>
            <a:ext cx="7885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Abiturprüfung: Vorgaben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323640" y="1915920"/>
            <a:ext cx="77403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Vorgaben konkretisieren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einige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Kompetenzerwartun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ander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Kompetenzerwartungen sind ebenfalls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verbindlich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, können aber – je nach unterrichtlichen Voraussetzungen und Bedingungen - unterschiedlich bedient wer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Arial"/>
              </a:rPr>
              <a:t>Bsp: „Die Studierenden erläutern die Verantwortung für sich, für andere und vor Gott als wesentliches Element christlicher Ethik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2"/>
          <p:cNvSpPr/>
          <p:nvPr/>
        </p:nvSpPr>
        <p:spPr>
          <a:xfrm>
            <a:off x="457200" y="330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D6CF-F1F7-4FBF-887A-67651E86DDC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9442800">
            <a:off x="1692000" y="1677600"/>
            <a:ext cx="5221080" cy="2041560"/>
          </a:xfrm>
          <a:prstGeom prst="rect">
            <a:avLst/>
          </a:prstGeom>
          <a:ln w="0">
            <a:noFill/>
          </a:ln>
        </p:spPr>
      </p:pic>
      <p:sp>
        <p:nvSpPr>
          <p:cNvPr id="67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7432-1088-464D-8447-E70CD2BC24AD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1763640" y="4149720"/>
            <a:ext cx="2881440" cy="936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zunehmend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off als 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1619280" y="242100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sgestalt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Arbeitsproz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9"/>
          <p:cNvGrpSpPr/>
          <p:nvPr/>
        </p:nvGrpSpPr>
        <p:grpSpPr>
          <a:xfrm>
            <a:off x="1692360" y="2448000"/>
            <a:ext cx="3024000" cy="3683520"/>
            <a:chOff x="1692360" y="2448000"/>
            <a:chExt cx="3024000" cy="3683520"/>
          </a:xfrm>
        </p:grpSpPr>
        <p:sp>
          <p:nvSpPr>
            <p:cNvPr id="676" name="Rectangle 10"/>
            <p:cNvSpPr/>
            <p:nvPr/>
          </p:nvSpPr>
          <p:spPr>
            <a:xfrm>
              <a:off x="1692360" y="2448000"/>
              <a:ext cx="3024000" cy="3477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1"/>
            <p:cNvSpPr/>
            <p:nvPr/>
          </p:nvSpPr>
          <p:spPr>
            <a:xfrm>
              <a:off x="1908000" y="5671800"/>
              <a:ext cx="252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 der Verantwortung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Rectangle 12"/>
          <p:cNvSpPr/>
          <p:nvPr/>
        </p:nvSpPr>
        <p:spPr>
          <a:xfrm>
            <a:off x="5292720" y="2924280"/>
            <a:ext cx="2016000" cy="503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3"/>
          <p:cNvSpPr/>
          <p:nvPr/>
        </p:nvSpPr>
        <p:spPr>
          <a:xfrm>
            <a:off x="5580000" y="1413000"/>
            <a:ext cx="2737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Angebot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itens der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feld 14"/>
          <p:cNvSpPr/>
          <p:nvPr/>
        </p:nvSpPr>
        <p:spPr>
          <a:xfrm>
            <a:off x="395280" y="838080"/>
            <a:ext cx="83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Von der „Stofforientierung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6711-FD83-4A63-B38B-A15B2F9B823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F3FA-EB86-4910-903B-518C1FE23F5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Der Lehrplannavigator: Unterstützungsangebot für die Arbeit der Fachkonferenzen/ Lehrerinnen und Lehrer</a:t>
            </a: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539280" y="1341000"/>
            <a:ext cx="84250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Unterstützungsangebot „Lehrplannavigator“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ulentwicklung.nrw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5775-E9A7-4100-B22C-3F91E3C519C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Resim 3" descr=""/>
          <p:cNvPicPr/>
          <p:nvPr/>
        </p:nvPicPr>
        <p:blipFill>
          <a:blip r:embed="rId2"/>
          <a:stretch/>
        </p:blipFill>
        <p:spPr>
          <a:xfrm>
            <a:off x="6443640" y="4292640"/>
            <a:ext cx="1762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7C48-6BD4-4352-BF5F-F0B97D6B1FE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64072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de-DE" sz="2200" spc="-1" strike="noStrike">
                <a:solidFill>
                  <a:srgbClr val="0070c0"/>
                </a:solidFill>
                <a:latin typeface="Arial-BoldMT"/>
              </a:rPr>
              <a:t>Bitte melden Sie sich, wenn Sie Fragen haben:</a:t>
            </a:r>
            <a:br>
              <a:rPr sz="2200"/>
            </a:br>
            <a:br>
              <a:rPr sz="2200"/>
            </a:b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-BoldMT"/>
              </a:rPr>
              <a:t>Kontaktdaten: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Qualitäts- und Unterstützungsagentur (QUA-LiS) –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Landesinstitut für Schule NRW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Arbeitsbereich 4 (Curriculumentwicklung)</a:t>
            </a:r>
            <a:br>
              <a:rPr sz="2200"/>
            </a:br>
            <a:br>
              <a:rPr sz="2200"/>
            </a:br>
            <a:r>
              <a:rPr b="0" lang="de-DE" sz="2200" spc="-1" strike="noStrike" u="sng">
                <a:solidFill>
                  <a:srgbClr val="009999"/>
                </a:solidFill>
                <a:uFillTx/>
                <a:latin typeface="Arial-BoldMT"/>
                <a:hlinkClick r:id="rId1"/>
              </a:rPr>
              <a:t>cordula.hartwig@qua-lis.nrw.d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Tel.: 02921 683-316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Zentrale: poststelle@qua-lis.nrw.de</a:t>
            </a:r>
            <a:endParaRPr b="1" lang="en-US" sz="22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000" spc="-1" strike="noStrike">
              <a:solidFill>
                <a:srgbClr val="ff0000"/>
              </a:solidFill>
              <a:latin typeface="Arial-BoldMT"/>
            </a:endParaRPr>
          </a:p>
        </p:txBody>
      </p:sp>
      <p:sp>
        <p:nvSpPr>
          <p:cNvPr id="93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3D92-FFB4-4376-A041-17D4906B6F8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Inhaltsplatzhalter 8" descr="Dokument1 - Microsoft Word"/>
          <p:cNvPicPr/>
          <p:nvPr/>
        </p:nvPicPr>
        <p:blipFill>
          <a:blip r:embed="rId1"/>
          <a:stretch/>
        </p:blipFill>
        <p:spPr>
          <a:xfrm>
            <a:off x="1409760" y="1916280"/>
            <a:ext cx="6324480" cy="3817800"/>
          </a:xfrm>
          <a:prstGeom prst="rect">
            <a:avLst/>
          </a:prstGeom>
          <a:ln w="0">
            <a:noFill/>
          </a:ln>
        </p:spPr>
      </p:pic>
      <p:pic>
        <p:nvPicPr>
          <p:cNvPr id="939" name="Grafik 9" descr="Bildschirmausschnitt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3F39-3FCF-48B3-B88F-44900F32A74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506-177C-4D87-A170-DAED866CCE89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538200" y="34034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als Steuerungsprinzip und als didaktisches Pr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539640" y="263700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ung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feld 10"/>
          <p:cNvSpPr/>
          <p:nvPr/>
        </p:nvSpPr>
        <p:spPr>
          <a:xfrm>
            <a:off x="324000" y="838080"/>
            <a:ext cx="83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19536600">
            <a:off x="2266560" y="3449520"/>
            <a:ext cx="5221440" cy="204156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12"/>
          <p:cNvSpPr/>
          <p:nvPr/>
        </p:nvSpPr>
        <p:spPr>
          <a:xfrm>
            <a:off x="2416320" y="2035080"/>
            <a:ext cx="525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2b01"/>
                </a:solidFill>
                <a:latin typeface="Arial-BoldMT"/>
                <a:ea typeface="ヒラギノ角ゴ Pro W3"/>
              </a:rPr>
              <a:t>Denken vom Ergebnis her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C681-8646-45FD-8397-252FB2036E8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519B-D308-4143-9864-3DE4D64557D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20242800">
            <a:off x="2133360" y="3534840"/>
            <a:ext cx="5221080" cy="2041560"/>
          </a:xfrm>
          <a:prstGeom prst="rect">
            <a:avLst/>
          </a:prstGeom>
          <a:ln w="0">
            <a:noFill/>
          </a:ln>
        </p:spPr>
      </p:pic>
      <p:sp>
        <p:nvSpPr>
          <p:cNvPr id="69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ECC1-68C6-448C-AF61-8E65A1F580E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"/>
          <p:cNvSpPr/>
          <p:nvPr/>
        </p:nvSpPr>
        <p:spPr>
          <a:xfrm>
            <a:off x="826920" y="2571840"/>
            <a:ext cx="3529080" cy="20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 i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haltlicher Schwerpunktsetzun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arrange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blem-, Anwendungsorientier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tc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8"/>
          <p:cNvGrpSpPr/>
          <p:nvPr/>
        </p:nvGrpSpPr>
        <p:grpSpPr>
          <a:xfrm>
            <a:off x="4668840" y="1671480"/>
            <a:ext cx="3168360" cy="4427280"/>
            <a:chOff x="4668840" y="1671480"/>
            <a:chExt cx="3168360" cy="4427280"/>
          </a:xfrm>
        </p:grpSpPr>
        <p:sp>
          <p:nvSpPr>
            <p:cNvPr id="695" name="Rectangle 9"/>
            <p:cNvSpPr/>
            <p:nvPr/>
          </p:nvSpPr>
          <p:spPr>
            <a:xfrm>
              <a:off x="4668840" y="1671480"/>
              <a:ext cx="3168360" cy="4280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0"/>
            <p:cNvSpPr/>
            <p:nvPr/>
          </p:nvSpPr>
          <p:spPr>
            <a:xfrm>
              <a:off x="4894560" y="5639040"/>
              <a:ext cx="2641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 der Verantwortung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Rectangle 11"/>
          <p:cNvSpPr/>
          <p:nvPr/>
        </p:nvSpPr>
        <p:spPr>
          <a:xfrm>
            <a:off x="5003640" y="1832040"/>
            <a:ext cx="2521080" cy="1297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(langfristig entwickelt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2"/>
          <p:cNvSpPr/>
          <p:nvPr/>
        </p:nvSpPr>
        <p:spPr>
          <a:xfrm>
            <a:off x="5219640" y="3919680"/>
            <a:ext cx="2737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Angebot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itens der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feld 16"/>
          <p:cNvSpPr/>
          <p:nvPr/>
        </p:nvSpPr>
        <p:spPr>
          <a:xfrm>
            <a:off x="250920" y="838080"/>
            <a:ext cx="84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…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zur „Kompetenzorientie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24E8-6A69-474C-B9A0-E8D5D035BDA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14A0-9F6A-47A3-977B-2DAFC16EFA1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9F97-7BEC-4908-9E98-D950FCA86FBC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1403280" y="1413000"/>
            <a:ext cx="6400800" cy="435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ヒラギノ角ゴ Pro W3"/>
              </a:rPr>
              <a:t>„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ヒラギノ角ゴ Pro W3"/>
              </a:rPr>
              <a:t>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ヒラギノ角ゴ Pro W3"/>
              </a:rPr>
              <a:t>Ergebnis-  und 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Studierende a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de eines 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ED00-ED1A-4892-9120-FA490391AAF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35AA-0FE8-4457-92D0-80F14D6FE010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1F5F-2E14-4FCD-AF77-79683E81F7C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50920" y="1318680"/>
            <a:ext cx="78134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MS PGothic"/>
              </a:rPr>
              <a:t>Kompetenzorientierung</a:t>
            </a:r>
            <a:br>
              <a:rPr sz="2400"/>
            </a:br>
            <a:br>
              <a:rPr sz="32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250920" y="1833120"/>
            <a:ext cx="78134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Kompetenz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 (in Anlehnung an </a:t>
            </a:r>
            <a:r>
              <a:rPr b="0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Franz Weinert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)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benennen individuelle fachspezifische Fähigkeiten und Fertigkeiten einer Person, keine reinen Unterrichtsinhal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werden in einem längeren Entwicklungsprozess erworben, sie  sind nicht zwingend identisch mit Stundenziel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sind stärkenorientiert, nicht defizitorienti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sind Grundlage für das selbstständige Lösen von Problemen und für das Hervorbringen von Neuem</a:t>
            </a:r>
            <a:br>
              <a:rPr sz="2100"/>
            </a:b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ußzeilenplatzhalter 3"/>
          <p:cNvSpPr/>
          <p:nvPr/>
        </p:nvSpPr>
        <p:spPr>
          <a:xfrm>
            <a:off x="900000" y="6453360"/>
            <a:ext cx="2087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1C44-2532-458B-BAC9-1CFDC11628DE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9:37:45Z</dcterms:created>
  <dc:creator>Bela Kurek</dc:creator>
  <dc:description/>
  <dc:language>en-US</dc:language>
  <cp:lastModifiedBy>Sohnius, Axel</cp:lastModifiedBy>
  <cp:lastPrinted>2014-09-26T14:17:18Z</cp:lastPrinted>
  <dcterms:modified xsi:type="dcterms:W3CDTF">2014-10-27T06:59:27Z</dcterms:modified>
  <cp:revision>289</cp:revision>
  <dc:subject/>
  <dc:title>Headline erste Zeile. Mehrzeilige Subheadline bis maximal dreizeilig.  Ort, Datum</dc:title>
</cp:coreProperties>
</file>