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30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31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32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FCC5-94C3-4028-8019-039C3A9B07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9570-2EEC-4CF2-B86A-BF514880E9F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6DB3-207E-4775-B98E-34D9B3C5702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FC6-F34A-4843-9E91-600D691BF44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12B6-5611-4288-B9FE-3C75069F90F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DEB1-95CB-47CE-A209-76670F46A0A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0AE6-4F15-4397-ADEA-6473E4C2B4E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A3C5-0148-413C-B75D-C64D0D479A0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71F6-9909-431D-823F-B21E9FDC1EA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198E-3A58-4B7F-944A-337E581BDB7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BC9C-CE7F-4353-A80D-E920BD7B61E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69BB-2B66-401F-89F0-E392C0F2158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AD4561D5-9AB5-4ED6-8011-99A7D550298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FCC7-8F63-4951-A510-44ACA040763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064B-2C83-4063-AC1A-88F3DF8FB15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Ggf. ER abweichend formuliert – hält Struktur des KLP SI dur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K: Wahrnehmungs- und Deut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K: Dialog- und Gestalt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B810-0F30-48AA-82CC-96E388FB07F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395F-2165-455E-9A2C-8CA256E1114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9E85-D904-4172-9C2E-EAE943B3B27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AE69-0E21-461C-85A7-14420D6DBC9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2F9A-477C-4EFC-BB85-1865EA5F174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ACF8-2219-4FD5-AFF6-0BCFE4D5083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D0E2-6473-4028-A400-0887C75CA6F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BC12-0256-4375-AF51-B9831544480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A120-1F5A-4518-9BEB-A093C061DD9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708B-CC83-4206-A742-5DEBCF89559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052D-587C-4C27-818C-F1C7C75EFD8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E994-7B13-4707-AE2E-43C18C38732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6487-B313-4D45-9642-79CAB9C4CC8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163C-F0C7-416B-80A4-6B5CC9835F1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6AD4-6D68-4C5D-9D91-2A306A358CA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3057-0EC0-45E9-9BE8-0C7F3C85F6F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4B01-5C4E-4EAD-ABEC-E4DEE63EFA6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02D0-AB8D-4683-BEEC-A11D85A9C45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8DDB-5F31-497B-9E1A-4FC2AFD7155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DD67-87E9-4768-935C-24BD3B2EE09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292B-1277-450E-9E8A-60A02582A17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5B01-EFF8-42A3-805F-225D14B18E2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FAB9-CE37-4710-847B-D5451B0CF15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84A23D0-4BF3-4B73-B580-7B4EE1B1AB1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86033E7-3D7F-4B9F-9945-C920EF5C020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8D90-FA49-4D64-BDF1-A9F759FCC45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27B8-EB5A-4D7A-B566-027B0E8510F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E2F8-F5E5-420B-BA96-8A6CE359C27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oliennummernplatzhalt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8A4A-5990-41AD-AD86-1245A806DAF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745DA8D-48D6-46EF-941F-284C83C8E42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59C9ECA-ACAE-4986-944B-AA2009366B7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A5C36BF-4575-4D51-BE98-12CC91218E0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4E62C23-25D9-48B0-AA7C-CCBBCB7EA67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Kopfzeilenplatzhalt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liennummernplatzhalter 4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EF78-50EF-4A27-904B-CD7027CB21C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B3C32C9-7EB2-4993-89FA-FDEFC3C280F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7"/>
          <p:cNvSpPr/>
          <p:nvPr/>
        </p:nvSpPr>
        <p:spPr>
          <a:xfrm>
            <a:off x="3849840" y="937908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5E91064-FC45-4B79-8429-C76E589779E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86A2-5342-406C-9CCB-038578092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C806-3352-4DA8-9B31-AEAE956BC39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073310-8C58-4DAF-87B3-22F437900D5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12939-45C0-4334-8F9D-19C30C5D10E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992DBB-8F14-4F17-B4A5-A92AAABA1A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C6CF37-8666-45BC-8D02-E39399CF01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7D3A00-4EC9-4AA5-A4A8-262A855C85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3F5955-DFFF-47D8-8F1D-DA310F8BD5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EB5C09-E3F6-478A-B749-50D159AA837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12501-43D0-4DCA-A61F-FBA0D52B300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72B168-9181-47EA-B9F3-21BFD7A0F8A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7EED-37D0-4347-94A5-71BD102AE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9B23-3210-4110-A0CD-EA630079194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37C7B-8B81-4FF8-8F96-F52DBBE4F1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79E1B-0882-463D-A422-5E5B33013B3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07D9F-5C50-4616-BC46-ACA7699E19A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29471-8462-4A38-861C-72088964801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EC387-8664-40F8-855E-F87A464EAEF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6AC11-D9B1-42A3-88EC-70DE7365BF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3792C-46E3-481D-B251-08EFC656B0E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FCFCA-227E-42F2-AAF9-87C6A256AE0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C38D1-C785-40F2-B218-242B090D17D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C0E62-0396-40BC-A0B5-AFA3822CB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7BAA-42D1-4F11-8792-A2B67AB0282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F8F6-2970-4C72-81BF-B740FEA93D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F11E7-5ADC-46A3-A20B-49B05C55747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34307-1175-4838-9BFD-690EBB90DD7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160EB-D8DF-4AC6-825A-43A55C7ED5D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29EAE-77B2-4B1A-8FC6-EC70FCE1DC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44209-6E07-43CB-B597-34EBC813DD0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4E49B-B66D-4682-BD48-33896733FE3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D9227-364B-4465-99BF-FE74090AB3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69890-5F04-4B87-820F-322D451C83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FA627-9530-4917-84D5-392AFB9C9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392AF-7665-4ED8-91C9-A7E4E250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278AB-AA1E-47E6-93F5-AB51424B968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B1684-382E-404A-AC7C-D16A772F724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03959-6809-4E5A-AC2B-21732C7E366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0915A2-A58B-4C45-9A55-0BB901B4E69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0E853A-D14F-4E76-A8BB-6862E4DA05E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07CEEB-D6E1-4801-8E43-FDA1EA0D863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AEDE16-192B-46B4-855A-B2E81024A61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42155B-61F0-4015-8FE2-90DC3F5F74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07F4D5-DB77-42D7-9A69-C04E6C679AB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052BAD-50FD-45EB-BCD1-5D07B68B9B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EB2CD-5350-43E5-84FE-4A7A01E7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9A8462-4BDB-405F-A82F-D576C6CC96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DB9E52-FEC8-4D27-B8B2-C40F3A1AFE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35560-7843-4C7D-A2B6-D35164CF74C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797797-2AA4-405F-89D8-1CD5DBB5F65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2456AE-FADD-49B2-BF39-B51691B454B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91948-B067-40BD-B1E0-F9AFE466731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D1047-F9FF-43A2-A450-1E5F1CDE09F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6AAFF-588E-4267-B94F-5C1014C4324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2CBDE-3B0F-4162-9E04-C8EB9419500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2C204-1383-47A3-85B9-A6F26E1DB1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E5802-FD23-42E1-BAE4-7BED1A77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44415-465C-43F2-AD5A-CFC4C2CF795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8A543-5163-42AF-B885-3BC03ADD9A1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A1A0F-5A15-479F-98C4-284F7904A0E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4F778-6C68-428A-B1A8-6973FED42CE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85DC6-B4F7-4B62-947A-A6F5681B23B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44232-41A6-4309-B5B7-93E75E86AAF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2CD85-A063-4542-9066-98EB51FDA8A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E02F3-A3CC-4733-8382-52541F1C45E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AB23F-6D72-4F80-8D6E-86064866811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87B661-6393-43D2-822B-B7B1E09A0B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A2824-B3CD-4DEB-8AB8-3C82FC59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693D7D-232B-4C01-A3B2-8ADB54A18B0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38C935-9593-4CD2-8FF4-FB62FA49DE4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952D6C-CC0C-4D66-A326-8CB472D5D1D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2F68E6-37E1-4447-9F8F-76BB8343C96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187EA3-A73D-493C-B133-341D0A56870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C49388-FBBF-440A-B693-EF415C9F752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DA2605-E51E-47CC-A30E-C03EE005247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4BB33-5264-4358-885E-49CB338C39A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014769-39E9-47D1-90C2-A9821FF0CDB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764019-0AED-4F75-9DF9-BF7DCD21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0E821-FA16-4170-9EDE-0174FE26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51DA49-7E40-4A6E-BD6F-71759E2C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CCA8A9-EB97-4472-8FCB-0B8F8DF2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13B770-75DD-4CB1-AF90-4F13F1FD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0E9DC7-EFD2-49CE-BF24-0CC2DA1B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3E711C-ED9D-46E8-B1FC-B13BD409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654F3F-A584-4288-8274-F8914C3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F3D8E9-44E5-4849-AF59-41FAD47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AB6797-0E9A-4607-B799-ED6346A0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1C167D-B910-4827-89C6-567F27B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32B61F-F121-459D-B809-7F2861A3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54D9E-6C6A-4DE0-BE86-D6AC7EDB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05BFB0-CDCA-4BFA-A85E-3C1373BC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B491F-E8C6-49A3-8D35-1FDBA3D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7209-8E0C-4CC1-B89E-6C75D4E07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D3EA9-850E-4FD3-B7D9-74646008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024DA-B952-4990-B353-DDC5A6E1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1C5C3-9EE1-4FAB-B24D-3D0393E2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C00A1-A011-44DC-A0F2-5D015A15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48C2B-DAC1-470C-9438-87880EA7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C418-A5CD-4E1C-B3E8-341D3ECC75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38BF-2963-425F-8294-775BB8014D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295A-BB0B-4CDD-A896-DB14707720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F434-A8CA-4439-9FF1-8E5EE693E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582F-2BCC-435A-BAF2-B847C9A4E3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B21F-A7B7-4332-8123-F345E1BB53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DF37-99C5-4500-A144-35E7D630DF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0A12-84A7-4A63-A734-3C27696957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6E21-21F0-41C3-AB60-4F89CD3E28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52BD-CAF1-4B7E-A828-4F24D4337D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5543-EEC1-4FE7-BBEB-F3C15E629A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E502-E160-43A3-AE74-85603F1D66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B6EF-42D3-4F48-AF9D-FA2B3AA9DE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5509-3327-4973-A4CD-09FE419CA5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325C3-A786-4A3E-91B5-F5BAF89C5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B004E-6C4A-4FB4-B181-5AFC792B578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28C61-558F-40D0-8CD3-9B4C1976B9D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32277-E8A9-4C40-AB55-4643AD05758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66268-9DB5-4DC0-A4AA-DE2180DC3B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8405D-158E-4AED-A6A0-D5C11605F8A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8AA05-B9B2-4E9D-8902-A92D80E349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D40CA-1F50-452F-A832-9285B01AB3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68883-657F-47B1-AA8F-AB8B2FC1D6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AA784-6E13-425C-AD3F-37431B068E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3E2AD-A006-4F42-831D-84E65C5964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6D39B-4005-4F83-AC4B-159181546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25E9-0317-496D-98D7-97FB554B72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46296-9DE2-4DA0-BE0F-5840E8F1AE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11C7A-ED29-4347-830B-E19679AE869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DED39-A9A0-47B0-811E-B2B00F8289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547A9-167E-4D17-A806-1DEC4424003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0F9C7-F494-4E6A-94E6-E50A7D7809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D3E08-FA28-4B58-8C7B-333D389E3E5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9391A-2036-47A7-9095-C4D3A57973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C2D99-01C8-49F5-948B-C199275A334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F9EEEB-B858-4339-A352-2E167430C77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2D7DB-791C-4CB2-BE06-7ED0F5ACF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8C796-140F-42BC-B421-FC29ABA4C5F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97CF1-7DDB-49EE-AEA4-8DABE629A27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F3E322-DA2E-4EE0-8EB4-AD357AEF4FF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C3E37F-12EC-4ED7-B98B-35B4153A10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DE32-545E-4504-A4E8-F5293C479A4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28037-13E5-4335-B5A4-8C9FA6087B9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34CF7-5C90-4ABC-A79E-FA75CDBDCD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E36D-D912-4E40-B646-4282EA878D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360E1-89C6-4303-B357-70846952AA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98DD-E0CB-4E48-88BF-7A6140E2B0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6AEE-D259-449C-8D3A-24FF78B98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5F41-3D5A-473E-9826-9726E2CFC9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3407D-D6E2-4670-838B-01224CDC74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9F3D-D4C8-4A55-800D-EFA5DDAF45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C045D-BE88-411E-A711-406AD111004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2BE50-121F-4622-8CED-0CE5933FB5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EFEE-3312-46A1-89E0-78BA2BBF50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97016-58A8-4F5B-81F3-387957BE99A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B5A8D-0888-455D-80A4-2F0171AEB3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2BA68-001B-40EB-ADA3-6423C0E1651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4BFBC-01AA-4AFB-B78B-19D94B674A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A402B-CD48-40EC-9485-D2F64BD1B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ABF8-EEAC-493A-B3AB-2C2023FA824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A6DA5-46C0-4F81-BFAA-FE6088B43AE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9C33E-B988-4D6B-81DF-DC3DA274B5B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0610D-4CD4-4BAB-B361-7530D07738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996EB-A0E9-4144-9B0B-C3465B3711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97B6A-529B-4EF2-B87D-ABE2767948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1C1D0-3CA2-4608-9D5D-D59CE3F152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72E23-083D-4603-B00C-29D5BF5A693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70C12A-9E29-48C7-B8AE-D87E974159C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91F1C8-8455-4750-908E-493F8CDF4B3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A51FBA-14E8-466B-A73F-BA6347B21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7FC7-E1B0-407F-A186-F392EE7F01C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87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feld 7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A9F9-EEFF-450E-B450-9D61BA4B5BC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19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30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4AC2-B672-4BD8-A2FF-1B8A6DC8001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1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74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DA92-BF00-4DFF-9434-66EEEFE7DCC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3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17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feld 8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Num" idx="2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454D-4785-4510-AE2A-83BDEBE0C44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5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61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2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0308-28E6-44E4-A0C4-30B9C34E1A0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602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73AE-F82A-4945-B9EA-4762B48C950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69FF-E97F-4C02-A6BE-21F9C9B4A5F9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NRW_SK_CMYK"/>
          <p:cNvPicPr/>
          <p:nvPr/>
        </p:nvPicPr>
        <p:blipFill>
          <a:blip r:embed="rId2"/>
          <a:stretch/>
        </p:blipFill>
        <p:spPr>
          <a:xfrm>
            <a:off x="5769000" y="404640"/>
            <a:ext cx="2835360" cy="579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85" name="Textfeld 2"/>
          <p:cNvSpPr/>
          <p:nvPr/>
        </p:nvSpPr>
        <p:spPr>
          <a:xfrm>
            <a:off x="529920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6C81-9C51-4D46-B842-87D6D308459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170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6A01-6F32-4814-8571-B2F2C367D71F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9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13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A5BD-7F5D-4263-89A1-26D8DF004E5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56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6D64-082E-47B8-A082-F960614DCE5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3EDB-6936-41CA-8FC9-45BA0B025A1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43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1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6C83-01B5-48F1-A74C-DAA282BFF87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schulentwicklung.nrw.de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mailto:cordula.hartwig@qua-lis.nrw.de" TargetMode="External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539640" y="3573360"/>
            <a:ext cx="8064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NRW_Guillochen_PowerPoint-Titel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4680" y="2565000"/>
            <a:ext cx="9144000" cy="11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ernlehrplan Abendgymnasium und Kolleg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atholische Religionslehre</a:t>
            </a: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54" name="Foliennummernplatzhalter 4"/>
          <p:cNvSpPr/>
          <p:nvPr/>
        </p:nvSpPr>
        <p:spPr>
          <a:xfrm>
            <a:off x="444600" y="6415200"/>
            <a:ext cx="288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feld 1"/>
          <p:cNvSpPr/>
          <p:nvPr/>
        </p:nvSpPr>
        <p:spPr>
          <a:xfrm>
            <a:off x="2627280" y="35830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veranstaltung am 22.10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8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D706-039F-4B4D-A0DB-DC924C337CB5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681120" y="5229360"/>
            <a:ext cx="7723080" cy="1022040"/>
          </a:xfrm>
          <a:prstGeom prst="rect">
            <a:avLst/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d2d8a"/>
                </a:solidFill>
                <a:latin typeface="Arial"/>
                <a:ea typeface="ヒラギノ角ゴ Pro W3"/>
              </a:rPr>
              <a:t>Eine Kompetenz ist eine Disposition, die dazu befähigt, </a:t>
            </a:r>
            <a:br>
              <a:rPr sz="2000"/>
            </a:br>
            <a:r>
              <a:rPr b="0" lang="de-DE" sz="2000" spc="-1" strike="noStrike">
                <a:solidFill>
                  <a:srgbClr val="2d2d8a"/>
                </a:solidFill>
                <a:latin typeface="Arial"/>
                <a:ea typeface="ヒラギノ角ゴ Pro W3"/>
              </a:rPr>
              <a:t>variable Anforderungssituationen in einem bestimmten Lern- oder Handlungsbereich erfolgreich und verantwortlich zu bewält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BC68-B94A-4083-B6ED-59383C120A9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4920" y="1322280"/>
            <a:ext cx="766908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-BoldMT"/>
                <a:ea typeface="MS PGothic"/>
              </a:rPr>
              <a:t>Kompetenzbegriff nach Weiner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250560" y="1843200"/>
            <a:ext cx="806436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Kompetenzen versteht man 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„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die bei Individuen verfügbaren oder durch sie erlernbaren </a:t>
            </a:r>
            <a:r>
              <a:rPr b="1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kognitiven Fähigkeiten und Fertigkeiten, um bestimmte Probleme zu lösen</a:t>
            </a:r>
            <a:r>
              <a:rPr b="0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, </a:t>
            </a:r>
            <a:r>
              <a:rPr b="1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sowie die damit verbundenen motivationalen, volitionalen und sozialen Bereitschaften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und Fähigkeiten, um die Problemlösungen in variablen Situationen erfolgreich und verantwortungsvoll nutzen zu können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 (Weinert 2001, S. 27f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E8EF-E9BF-47BF-BFD5-D8240EE15979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60D2-36EB-4B61-9C0D-F1986ADCBF8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1928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Merkmale kompetenzorientierter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definieren Standards (zu erreichende Zie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tehen aus fachbezogenen Kompetenzerwart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Lernergebn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-möglichk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itgehend „entdidaktisiert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der zu erreichenden Ergebnisse und treffen keine Aussagen zu Wegen und Verfahren der Zielerreichung. Didaktische wie auch methodische   Entscheidungen werden in den Schulen – u. a. bei der Erstellung des schulinternen Lehrplans – getroffe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hteck 4"/>
          <p:cNvSpPr/>
          <p:nvPr/>
        </p:nvSpPr>
        <p:spPr>
          <a:xfrm>
            <a:off x="603360" y="2492280"/>
            <a:ext cx="3463920" cy="19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rnbere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rsprung und Auftrag von Kirche, ihre Erscheinungsformen und ihr Handeln in Geschichte und Gegenwart, in der Auseinandersetzung mit anderen Institutionen und geistigen Ström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hteck 3"/>
          <p:cNvSpPr/>
          <p:nvPr/>
        </p:nvSpPr>
        <p:spPr>
          <a:xfrm>
            <a:off x="932040" y="1488960"/>
            <a:ext cx="2663640" cy="792360"/>
          </a:xfrm>
          <a:prstGeom prst="rect">
            <a:avLst/>
          </a:prstGeom>
          <a:solidFill>
            <a:srgbClr val="eff4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d2d8a"/>
                </a:solidFill>
                <a:latin typeface="Arial"/>
              </a:rPr>
              <a:t>Der „alte“ LP AGy und Kol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hteck 5"/>
          <p:cNvSpPr/>
          <p:nvPr/>
        </p:nvSpPr>
        <p:spPr>
          <a:xfrm>
            <a:off x="5364000" y="1484280"/>
            <a:ext cx="2592720" cy="797040"/>
          </a:xfrm>
          <a:prstGeom prst="rect">
            <a:avLst/>
          </a:prstGeom>
          <a:solidFill>
            <a:srgbClr val="eff4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d2d8a"/>
                </a:solidFill>
                <a:latin typeface="Arial"/>
              </a:rPr>
              <a:t>Der neue KLP AGy und Kol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hteck 6"/>
          <p:cNvSpPr/>
          <p:nvPr/>
        </p:nvSpPr>
        <p:spPr>
          <a:xfrm>
            <a:off x="4464000" y="2457360"/>
            <a:ext cx="4356000" cy="193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haltsfeld 4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Aft>
                <a:spcPts val="601"/>
              </a:spcAft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irche in ihrem Anspruch und Auft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haltlicher Schwerpun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irche in ihrem Selbstverständnis vor den Herausforderungen der 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itel 5"/>
          <p:cNvSpPr/>
          <p:nvPr/>
        </p:nvSpPr>
        <p:spPr>
          <a:xfrm>
            <a:off x="174600" y="115920"/>
            <a:ext cx="500688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m „alten“ Lehrplan zum Kernlehrplan: Kontinuität und Fortschreibung   -  ein 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feld 1"/>
          <p:cNvSpPr/>
          <p:nvPr/>
        </p:nvSpPr>
        <p:spPr>
          <a:xfrm>
            <a:off x="611280" y="4890960"/>
            <a:ext cx="3463920" cy="1313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bligatorische Inhal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sprung der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 der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feld 2"/>
          <p:cNvSpPr/>
          <p:nvPr/>
        </p:nvSpPr>
        <p:spPr>
          <a:xfrm>
            <a:off x="4464000" y="4888080"/>
            <a:ext cx="4356000" cy="1008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kretisierte Sach- und Urteilskompet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und zwa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feil nach unten 8"/>
          <p:cNvSpPr/>
          <p:nvPr/>
        </p:nvSpPr>
        <p:spPr>
          <a:xfrm>
            <a:off x="2154240" y="4392720"/>
            <a:ext cx="363600" cy="4492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feil nach unten 11"/>
          <p:cNvSpPr/>
          <p:nvPr/>
        </p:nvSpPr>
        <p:spPr>
          <a:xfrm>
            <a:off x="6372360" y="4392720"/>
            <a:ext cx="363240" cy="44928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oliennummernplatzhalter 1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87A2-D061-4E9D-B2ED-D9EF49DA46D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179280" y="47592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chkompetenz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in Auszü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udiere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en die Wahrnehmung und Bedeutung von Kirche in ihrer Lebenswirklichke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den Ursprung der Kirche im Wirken Jesu und als Werk des Heiligen Geist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den Auftrag der Kirche, Sachwalterin des Reiches Gottes zu se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an Beispielen die kirchlichen Vollzüge Diakonia, Martyria, Leiturgia sowie Koinonia als zeichenhafte Realisierung der Reich-Gottes-Botschaft Jesu Chri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die anthropologische und theologische Dimension eines Sakra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Kirchenbilder des II. Vatikanischen Konzils (u. a. Volk Gottes) als Perspektiven für eine Erneuerung der Ki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rteilskompetenz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Beispiel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örtern, ob und wie sich die katholische Kirche in ihrer konkreten Praxis am Anspruch der Reich-Gottes-Botschaft Jesu orient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DD84-EBCA-4826-9D02-114378DB08B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E757-0F6C-43D4-8793-D3B4F7B73FFD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1042920" y="1725480"/>
            <a:ext cx="7777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-abschnitts entwickelt werden (KLP-Vorgabe, schulinterner Lehrplan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auf konzentrieren wir uns zunäch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Inhalt / welche Sache ist geeig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s Können (diese Kompetenzen) zu entwickeln? + In wel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ind die Kompetenzen relev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muss auf dieser Grundlage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werbs- bzw. Lernsitu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gestaltet sein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33200" y="1255680"/>
            <a:ext cx="893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Kompetenz(erwartungen) als Ausgangspunkt für die Unterricht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828720" y="5324400"/>
            <a:ext cx="7742160" cy="843120"/>
          </a:xfrm>
          <a:prstGeom prst="rect">
            <a:avLst/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„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Am Ende des Unterrichtsabschnittes____ erwarte ich, dass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Studierenden …, …., …. und …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4951-A08D-43CC-95CB-8ABE44D0A2F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8000" y="1628280"/>
            <a:ext cx="892800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Umgang mit Kompetenzerwartungen („Vernetzung“)</a:t>
            </a: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3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3BE0-BF5F-4988-8F2B-5A54DC1767E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1115640" y="1916280"/>
            <a:ext cx="3816360" cy="22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txBody>
          <a:bodyPr lIns="0" rIns="0" tIns="0" bIns="0" anchor="t">
            <a:normAutofit fontScale="99000"/>
          </a:bodyPr>
          <a:p>
            <a:pPr lvl="2" marL="59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Studierenden erörtern, ob und wie sich die katholische Kirche in ihrer konkreten Praxis am Anspruch der Reich-Gottes-Botschaft Jesu orientier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feld 2"/>
          <p:cNvSpPr/>
          <p:nvPr/>
        </p:nvSpPr>
        <p:spPr>
          <a:xfrm>
            <a:off x="2124000" y="4221000"/>
            <a:ext cx="65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as kann eine Studierende/ ein Studierender, die/der das k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Über welche konkreten Kenntnisse und Fähigkeiten muss eine Studierende/ ein Studierender verfü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elche Inhalte und Methoden bedienen diese Kompetenzerwartu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108000" y="608040"/>
            <a:ext cx="885672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Kompetenz(erwartungen) als Ausgangspunkt für die Unterrichtsplanu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C478-EE90-4A6D-9F5F-A23CDE348B9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4443-BDAB-4F87-AC8F-F6E97D29F0B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egende mit Linie 2 5"/>
          <p:cNvSpPr/>
          <p:nvPr/>
        </p:nvSpPr>
        <p:spPr>
          <a:xfrm>
            <a:off x="250920" y="1727280"/>
            <a:ext cx="2334960" cy="649080"/>
          </a:xfrm>
          <a:prstGeom prst="borderCallout2">
            <a:avLst>
              <a:gd name="adj1" fmla="val 18750"/>
              <a:gd name="adj2" fmla="val -8333"/>
              <a:gd name="adj3" fmla="val 85300"/>
              <a:gd name="adj4" fmla="val 112999"/>
              <a:gd name="adj5" fmla="val 81273"/>
              <a:gd name="adj6" fmla="val 111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rato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forderungs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egende mit Linie 2 3"/>
          <p:cNvSpPr/>
          <p:nvPr/>
        </p:nvSpPr>
        <p:spPr>
          <a:xfrm>
            <a:off x="4237200" y="1346040"/>
            <a:ext cx="2496960" cy="468360"/>
          </a:xfrm>
          <a:prstGeom prst="borderCallout2">
            <a:avLst>
              <a:gd name="adj1" fmla="val 18750"/>
              <a:gd name="adj2" fmla="val -8333"/>
              <a:gd name="adj3" fmla="val 164481"/>
              <a:gd name="adj4" fmla="val 34851"/>
              <a:gd name="adj5" fmla="val 121740"/>
              <a:gd name="adj6" fmla="val 362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bjektorien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Inhaltsplatzhalter 1"/>
          <p:cNvSpPr/>
          <p:nvPr/>
        </p:nvSpPr>
        <p:spPr>
          <a:xfrm>
            <a:off x="2101680" y="2637000"/>
            <a:ext cx="491832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60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erörtern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ob und wie sich die katholische Kirche in ihrer konkreten Praxi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am Anspruch der Reich-Gottes-Botschaft Jesu orientier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egende mit Linie 1 7"/>
          <p:cNvSpPr/>
          <p:nvPr/>
        </p:nvSpPr>
        <p:spPr>
          <a:xfrm>
            <a:off x="7380360" y="2924280"/>
            <a:ext cx="1380960" cy="1144440"/>
          </a:xfrm>
          <a:prstGeom prst="borderCallout1">
            <a:avLst>
              <a:gd name="adj1" fmla="val 18750"/>
              <a:gd name="adj2" fmla="val -8333"/>
              <a:gd name="adj3" fmla="val 57328"/>
              <a:gd name="adj4" fmla="val -156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haltlich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egende mit Linie 1 12"/>
          <p:cNvSpPr/>
          <p:nvPr/>
        </p:nvSpPr>
        <p:spPr>
          <a:xfrm>
            <a:off x="6516720" y="5149800"/>
            <a:ext cx="1290600" cy="482760"/>
          </a:xfrm>
          <a:prstGeom prst="borderCallout1">
            <a:avLst>
              <a:gd name="adj1" fmla="val 18750"/>
              <a:gd name="adj2" fmla="val -8333"/>
              <a:gd name="adj3" fmla="val -20365"/>
              <a:gd name="adj4" fmla="val -2811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egende mit Linie 1 10"/>
          <p:cNvSpPr/>
          <p:nvPr/>
        </p:nvSpPr>
        <p:spPr>
          <a:xfrm>
            <a:off x="816120" y="5230800"/>
            <a:ext cx="3055680" cy="960480"/>
          </a:xfrm>
          <a:prstGeom prst="borderCallout1">
            <a:avLst>
              <a:gd name="adj1" fmla="val 18750"/>
              <a:gd name="adj2" fmla="val -8333"/>
              <a:gd name="adj3" fmla="val -15157"/>
              <a:gd name="adj4" fmla="val 763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netz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ch Gottes - Botschaft und ihr Anspru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Bild 2" descr="coloring page"/>
          <p:cNvPicPr/>
          <p:nvPr/>
        </p:nvPicPr>
        <p:blipFill>
          <a:blip r:embed="rId1"/>
          <a:srcRect l="5589" t="1249" r="55695" b="72780"/>
          <a:stretch/>
        </p:blipFill>
        <p:spPr>
          <a:xfrm>
            <a:off x="142920" y="1914480"/>
            <a:ext cx="5076720" cy="4319640"/>
          </a:xfrm>
          <a:prstGeom prst="rect">
            <a:avLst/>
          </a:prstGeom>
          <a:ln w="0">
            <a:noFill/>
          </a:ln>
        </p:spPr>
      </p:pic>
      <p:sp>
        <p:nvSpPr>
          <p:cNvPr id="752" name="Rechteck 1"/>
          <p:cNvSpPr/>
          <p:nvPr/>
        </p:nvSpPr>
        <p:spPr>
          <a:xfrm>
            <a:off x="971640" y="2205000"/>
            <a:ext cx="30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erörtern, ob und wie sich die katholische Kirche in ihrer konkreten Praxis am Anspruch der Reich-Gottes-Botschaft Jesu orient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feld 4"/>
          <p:cNvSpPr/>
          <p:nvPr/>
        </p:nvSpPr>
        <p:spPr>
          <a:xfrm>
            <a:off x="5364000" y="3179880"/>
            <a:ext cx="3168720" cy="1069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etenzen werden nicht isoliert, sondern im Verbund erworb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50920" y="603360"/>
            <a:ext cx="8611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Kompetenz(erwartungen) „auslegen“ und vern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E26F-A695-44B8-9729-FF60FB4E839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Resim 2" descr=""/>
          <p:cNvPicPr/>
          <p:nvPr/>
        </p:nvPicPr>
        <p:blipFill>
          <a:blip r:embed="rId1"/>
          <a:srcRect l="1011" t="3537" r="608" b="5624"/>
          <a:stretch/>
        </p:blipFill>
        <p:spPr>
          <a:xfrm>
            <a:off x="52560" y="1268280"/>
            <a:ext cx="9001080" cy="4969080"/>
          </a:xfrm>
          <a:prstGeom prst="rect">
            <a:avLst/>
          </a:prstGeom>
          <a:ln w="0">
            <a:noFill/>
          </a:ln>
        </p:spPr>
      </p:pic>
      <p:sp>
        <p:nvSpPr>
          <p:cNvPr id="757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0E2A-EB98-4B26-90CF-CE577F8C32D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hteck 1"/>
          <p:cNvSpPr/>
          <p:nvPr/>
        </p:nvSpPr>
        <p:spPr>
          <a:xfrm>
            <a:off x="216000" y="1370160"/>
            <a:ext cx="29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erörtern, ob und wie sich die katholische Kirche in ihrer konkreten Praxis am Anspruch der Reich-Gottes-Botschaft Jesu orientiert.            (IF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feld 3"/>
          <p:cNvSpPr/>
          <p:nvPr/>
        </p:nvSpPr>
        <p:spPr>
          <a:xfrm>
            <a:off x="3635280" y="1473120"/>
            <a:ext cx="244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läuter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den Auftrag der Kirche, Sachwalterin des Reiches Got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zu sein (I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feld 4"/>
          <p:cNvSpPr/>
          <p:nvPr/>
        </p:nvSpPr>
        <p:spPr>
          <a:xfrm>
            <a:off x="6443640" y="1473120"/>
            <a:ext cx="2232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läuter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an Beispielen die kirchlichen Vollzüge Diakonia, Martyria, Leiturgia sowie Koinonia als zeichen-hafte Realisierung der Reich-Gottes-Botschaft Jesu Chri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feld 5"/>
          <p:cNvSpPr/>
          <p:nvPr/>
        </p:nvSpPr>
        <p:spPr>
          <a:xfrm>
            <a:off x="3492360" y="3284640"/>
            <a:ext cx="27766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läuter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anthro-pologische und theologische Dimension eines Sakra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feld 6"/>
          <p:cNvSpPr/>
          <p:nvPr/>
        </p:nvSpPr>
        <p:spPr>
          <a:xfrm>
            <a:off x="922320" y="3978360"/>
            <a:ext cx="24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läuter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Zuspruch und Anspruch der Reich-Gottes-Botschaft J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dem Hintergrund des sozialen, politischen und religiösen Kontex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feld 7"/>
          <p:cNvSpPr/>
          <p:nvPr/>
        </p:nvSpPr>
        <p:spPr>
          <a:xfrm>
            <a:off x="4932360" y="4581360"/>
            <a:ext cx="26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el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den Zusammenhang von Tat und Wort in der Ver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kündigung Jesu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usgewählten biblischen Text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r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2C0D-4F61-4730-AD4E-224F2F4A284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19280" y="1341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Was Sie heute erwartet – Schwerpunkte der Arbe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etenzorientierung – ein Orientierungswechsel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Umgang mit Kompetenzerwartungen („Vernetzung“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ie Struktur des neuen KLP Katholische Religionsleh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gaben der Fachkonferen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Wie eine Fachkonferenz arbeiten kann (Übung und Beispiele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Überprüfungsformen und Abitu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er Lehrplannavigator: Unterstützungsangebot für 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 der Fachkonferenzen/ Lehrerinnen und Lehr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49E-20EF-4A07-8F4A-0D50B15D50E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Die Struktur des Kernlehrplans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Katholische Religionslehr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oliennummernplatzhalter 4"/>
          <p:cNvSpPr/>
          <p:nvPr/>
        </p:nvSpPr>
        <p:spPr>
          <a:xfrm>
            <a:off x="539640" y="6453360"/>
            <a:ext cx="432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EE7C-57B1-4984-8857-537324021A5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539640" y="1254240"/>
          <a:ext cx="7777440" cy="5127480"/>
        </p:xfrm>
        <a:graphic>
          <a:graphicData uri="http://schemas.openxmlformats.org/drawingml/2006/table">
            <a:tbl>
              <a:tblPr/>
              <a:tblGrid>
                <a:gridCol w="911160"/>
                <a:gridCol w="686628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bemerk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ufgaben und Ziele des Fache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, Inhaltsfelder und Kompetenzerwartun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 und Inhaltsfelder des Faches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Einführung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Qualifikation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istungs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ernerfolgsüberprüfung und Leistungsbewertung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turprüf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h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14"/>
          <p:cNvSpPr/>
          <p:nvPr/>
        </p:nvSpPr>
        <p:spPr>
          <a:xfrm>
            <a:off x="179280" y="228600"/>
            <a:ext cx="49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2"/>
          <p:cNvSpPr/>
          <p:nvPr/>
        </p:nvSpPr>
        <p:spPr>
          <a:xfrm>
            <a:off x="457200" y="2514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3"/>
          <p:cNvSpPr/>
          <p:nvPr/>
        </p:nvSpPr>
        <p:spPr>
          <a:xfrm>
            <a:off x="5772240" y="2514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250920" y="981000"/>
            <a:ext cx="8458200" cy="5435280"/>
            <a:chOff x="250920" y="981000"/>
            <a:chExt cx="8458200" cy="5435280"/>
          </a:xfrm>
        </p:grpSpPr>
        <p:cxnSp>
          <p:nvCxnSpPr>
            <p:cNvPr id="772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73" name="Text Box 46"/>
            <p:cNvSpPr/>
            <p:nvPr/>
          </p:nvSpPr>
          <p:spPr>
            <a:xfrm>
              <a:off x="2778120" y="5956560"/>
              <a:ext cx="3855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petenzerwartun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4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5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6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7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8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79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Text Box 54"/>
          <p:cNvSpPr/>
          <p:nvPr/>
        </p:nvSpPr>
        <p:spPr>
          <a:xfrm>
            <a:off x="1908000" y="981000"/>
            <a:ext cx="5400720" cy="45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greifende fachliche 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ED06-9B1C-4810-AA55-5C1C413413F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feld 1"/>
          <p:cNvSpPr/>
          <p:nvPr/>
        </p:nvSpPr>
        <p:spPr>
          <a:xfrm>
            <a:off x="539640" y="14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feld 1"/>
          <p:cNvSpPr/>
          <p:nvPr/>
        </p:nvSpPr>
        <p:spPr>
          <a:xfrm>
            <a:off x="684360" y="2708280"/>
            <a:ext cx="1726920" cy="14655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ligiöse 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feld 2"/>
          <p:cNvSpPr/>
          <p:nvPr/>
        </p:nvSpPr>
        <p:spPr>
          <a:xfrm>
            <a:off x="3635280" y="1405080"/>
            <a:ext cx="4824360" cy="47116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ähigkeit zu einem verantwortlichen Umga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m christlichen Glau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anderen Religionen und Weltanschau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eigenen Religiosität in der pluralen Welt sow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ähigkeit zu verantwortliche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   Handeln in Gesellschaft und 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gl. Kap.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ichtungspfeil 4"/>
          <p:cNvSpPr/>
          <p:nvPr/>
        </p:nvSpPr>
        <p:spPr>
          <a:xfrm>
            <a:off x="2604960" y="3349800"/>
            <a:ext cx="792360" cy="252360"/>
          </a:xfrm>
          <a:custGeom>
            <a:avLst/>
            <a:gdLst>
              <a:gd name="textAreaLeft" fmla="*/ 0 w 792360"/>
              <a:gd name="textAreaRight" fmla="*/ 792720 w 7923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9" y="0"/>
                </a:lnTo>
                <a:lnTo>
                  <a:pt x="21600" y="10800"/>
                </a:lnTo>
                <a:lnTo>
                  <a:pt x="18159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0B16-4A9C-450D-BE20-B2D7DAF6D63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14"/>
          <p:cNvSpPr/>
          <p:nvPr/>
        </p:nvSpPr>
        <p:spPr>
          <a:xfrm>
            <a:off x="276120" y="228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42"/>
          <p:cNvSpPr/>
          <p:nvPr/>
        </p:nvSpPr>
        <p:spPr>
          <a:xfrm>
            <a:off x="250920" y="2276640"/>
            <a:ext cx="3673440" cy="27781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ach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thoden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rteil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ndlung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791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2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7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98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54"/>
          <p:cNvSpPr/>
          <p:nvPr/>
        </p:nvSpPr>
        <p:spPr>
          <a:xfrm>
            <a:off x="2195640" y="981000"/>
            <a:ext cx="46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1B4D-85CE-415F-B994-9DBE90DD1BA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4"/>
          <p:cNvSpPr/>
          <p:nvPr/>
        </p:nvSpPr>
        <p:spPr>
          <a:xfrm>
            <a:off x="250920" y="228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804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5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6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7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8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9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0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11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 Box 54"/>
          <p:cNvSpPr/>
          <p:nvPr/>
        </p:nvSpPr>
        <p:spPr>
          <a:xfrm>
            <a:off x="2522520" y="10000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hteck 1"/>
          <p:cNvSpPr/>
          <p:nvPr/>
        </p:nvSpPr>
        <p:spPr>
          <a:xfrm>
            <a:off x="5127480" y="2276640"/>
            <a:ext cx="3581640" cy="2590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Mensch in christlicher Perspek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ristliche Antworten auf die Gottesf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Zeugnis vom Zuspruch und Anspruch Jesu Chr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irche in ihrem Anspruch und Auftr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ntwortliches Handeln aus christlicher Mo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christliche Hoffnung auf Vollendu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0C52-D81A-4654-A327-83D6256A7AF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14"/>
          <p:cNvSpPr/>
          <p:nvPr/>
        </p:nvSpPr>
        <p:spPr>
          <a:xfrm>
            <a:off x="160200" y="1778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2"/>
          <p:cNvSpPr/>
          <p:nvPr/>
        </p:nvSpPr>
        <p:spPr>
          <a:xfrm>
            <a:off x="422280" y="2298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819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0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1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2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3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4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26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Text Box 54"/>
          <p:cNvSpPr/>
          <p:nvPr/>
        </p:nvSpPr>
        <p:spPr>
          <a:xfrm>
            <a:off x="2060640" y="1001880"/>
            <a:ext cx="51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hteck 1"/>
          <p:cNvSpPr/>
          <p:nvPr/>
        </p:nvSpPr>
        <p:spPr>
          <a:xfrm>
            <a:off x="5219640" y="2298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feld 1"/>
          <p:cNvSpPr/>
          <p:nvPr/>
        </p:nvSpPr>
        <p:spPr>
          <a:xfrm>
            <a:off x="2778120" y="5950080"/>
            <a:ext cx="3855960" cy="459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feld 2"/>
          <p:cNvSpPr/>
          <p:nvPr/>
        </p:nvSpPr>
        <p:spPr>
          <a:xfrm>
            <a:off x="422280" y="4527720"/>
            <a:ext cx="2681280" cy="642600"/>
          </a:xfrm>
          <a:prstGeom prst="rect">
            <a:avLst/>
          </a:prstGeom>
          <a:solidFill>
            <a:srgbClr val="99999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übergeordnete Kom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feld 17"/>
          <p:cNvSpPr/>
          <p:nvPr/>
        </p:nvSpPr>
        <p:spPr>
          <a:xfrm>
            <a:off x="6588000" y="5634000"/>
            <a:ext cx="2556000" cy="916920"/>
          </a:xfrm>
          <a:prstGeom prst="rect">
            <a:avLst/>
          </a:prstGeom>
          <a:solidFill>
            <a:srgbClr val="99999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nkretisierte Kom-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SK, 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4679-5222-4350-8708-77CAB23F12B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14"/>
          <p:cNvSpPr/>
          <p:nvPr/>
        </p:nvSpPr>
        <p:spPr>
          <a:xfrm>
            <a:off x="169920" y="187200"/>
            <a:ext cx="49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42"/>
          <p:cNvSpPr/>
          <p:nvPr/>
        </p:nvSpPr>
        <p:spPr>
          <a:xfrm>
            <a:off x="422280" y="2421000"/>
            <a:ext cx="32767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ach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thoden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rteil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ndlung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837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8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9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0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1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2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3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44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Text Box 54"/>
          <p:cNvSpPr/>
          <p:nvPr/>
        </p:nvSpPr>
        <p:spPr>
          <a:xfrm>
            <a:off x="2340000" y="981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hteck 1"/>
          <p:cNvSpPr/>
          <p:nvPr/>
        </p:nvSpPr>
        <p:spPr>
          <a:xfrm>
            <a:off x="5219640" y="2298600"/>
            <a:ext cx="34894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Mensch in christlicher Perspek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ristliche Antworten auf die Gottesf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Zeugnis vom Zuspruch und Anspruch Jesu Chr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irche in ihrem Anspruch und Auftr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ntwortliches Handeln aus christlicher Mo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christliche Hoffnung auf Vollendu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feld 1"/>
          <p:cNvSpPr/>
          <p:nvPr/>
        </p:nvSpPr>
        <p:spPr>
          <a:xfrm>
            <a:off x="2903400" y="5999040"/>
            <a:ext cx="35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mpetenzerwar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D56F-BA8D-4428-8F4F-1803C8576D5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58C9-5C96-42D0-8F95-7DC6AE3D75E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611280" y="1413000"/>
            <a:ext cx="827856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ind jeweils ausgewie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ür das Ende der Einführungsphase und – differenziert nach Gk und Lk – das Ende der Qualifikationsph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ls übergeordnete Kompetenzerwartungen für alle Kompetenzbere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ls konkretisierte, inhaltsfeldbezogene Kompetenzerwartungen für die Sach- und Urteilskompet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179280" y="2286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C423-12E5-4E22-98C3-F617F5F6EB4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972720" y="1196640"/>
            <a:ext cx="81709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le 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im Wortlaut verbind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ken nicht das Ganze des Religionsunterrichts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feil nach oben und unten 2"/>
          <p:cNvSpPr/>
          <p:nvPr/>
        </p:nvSpPr>
        <p:spPr>
          <a:xfrm>
            <a:off x="1908000" y="2819520"/>
            <a:ext cx="287640" cy="753840"/>
          </a:xfrm>
          <a:prstGeom prst="upDownArrow">
            <a:avLst>
              <a:gd name="adj1" fmla="val 50000"/>
              <a:gd name="adj2" fmla="val 499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feld 4"/>
          <p:cNvSpPr/>
          <p:nvPr/>
        </p:nvSpPr>
        <p:spPr>
          <a:xfrm>
            <a:off x="2484360" y="2819520"/>
            <a:ext cx="431964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lance von Verbindlichkeit und Freirä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Kompetenzorientierung -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ein Orientierungswechsel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5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D04E-F0BB-4403-AFE1-5B800A481DA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F215-1CAA-4F48-9CAA-9900289B2AE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079280" y="1773360"/>
            <a:ext cx="7956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lastung der Einführungsphase (IF 1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thik (IF 5: Verantwortliches Handeln aus christlicher Motivation) in der Q –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 Inhaltsfelder in 4 Semestern Q1/Q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K: ermöglicht intensivere  Bearbeitung, zusätzliche inhaltliche Schwerpunkte (z. B. Bergpredig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hteck 4"/>
          <p:cNvSpPr/>
          <p:nvPr/>
        </p:nvSpPr>
        <p:spPr>
          <a:xfrm>
            <a:off x="250920" y="476280"/>
            <a:ext cx="4752720" cy="64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70c0"/>
                </a:solidFill>
                <a:latin typeface="Arial"/>
              </a:rPr>
              <a:t>Grundsatzentscheid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99A0-1561-49BB-9FFB-419B3209FCE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74560" y="1341360"/>
            <a:ext cx="85694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zeichen der 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uristische Funk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merksame Wahrnehmung der Studierenden in ihren Glaubenshaltungen und Denkprozessen, in der Entwicklung ihrer religiösen Sprach- und Urteilsfähigkeit und in ihren Interess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 des RU in der Qualifikationspha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seinen komplexeren Inhalten und Arbeitsweisen, seinem höheren Maß an Abstraktion und seiner anspruchsvolleren Reflexionseb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el 5"/>
          <p:cNvSpPr/>
          <p:nvPr/>
        </p:nvSpPr>
        <p:spPr>
          <a:xfrm>
            <a:off x="260280" y="262080"/>
            <a:ext cx="45356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Zur Gestaltung der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9E54-B25A-44B6-A8AC-535D1C76B15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250560" y="1557000"/>
            <a:ext cx="88930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equenzen für die 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zierte Anzahl von Kompetenzerwart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raum zur thematischen Ausgestaltung und Konkretisierung der Lernproz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raum für methodische Grundlegungen (z. B. Textarb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ücksichtigung der verschiedenen religiösen Haltungen der Studierenden, ihrer Interessen und ihrer F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itel 5"/>
          <p:cNvSpPr/>
          <p:nvPr/>
        </p:nvSpPr>
        <p:spPr>
          <a:xfrm>
            <a:off x="162000" y="271440"/>
            <a:ext cx="4626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Zur Gestaltung der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FFF6-9950-47D1-A51A-1555F62714C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24000" y="1125000"/>
            <a:ext cx="88200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felder und inhaltliche 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Diagramm 2" descr=""/>
          <p:cNvPicPr/>
          <p:nvPr/>
        </p:nvPicPr>
        <p:blipFill>
          <a:blip r:embed="rId1"/>
          <a:stretch/>
        </p:blipFill>
        <p:spPr>
          <a:xfrm>
            <a:off x="743040" y="1914480"/>
            <a:ext cx="7370640" cy="4449960"/>
          </a:xfrm>
          <a:prstGeom prst="rect">
            <a:avLst/>
          </a:prstGeom>
          <a:ln w="0">
            <a:noFill/>
          </a:ln>
        </p:spPr>
      </p:pic>
      <p:sp>
        <p:nvSpPr>
          <p:cNvPr id="869" name="Titel 5"/>
          <p:cNvSpPr/>
          <p:nvPr/>
        </p:nvSpPr>
        <p:spPr>
          <a:xfrm>
            <a:off x="179280" y="239760"/>
            <a:ext cx="4608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Zur Gestaltung der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3D38-E943-4028-A5E5-BDBCE5C54C8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Aufgaben der Fachkonferenzen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28B5-6894-4440-ABB2-32F0CC2A442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250920" y="144756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Grundlagen - SchulG § 70 (3 und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) Die Fachkonferenz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rä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über alle das Fach oder die Fachrichtung betreffenden Angelegenheiten einschließlich 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arbeit mit anderen Fächer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Sie trägt Verantwortung für die schulinterne Qualitätssicherung und -entwicklung der fachlichen Arbeit und berät üb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iele, Arbeitspläne, Evaluationsmaßnahm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-ergebnisse und Rechenschaftsleg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4) Die Fachkonferenz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ntscheide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 ihrem Fach insbesondere ü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undsätze zur fachmethodischen und fachdidaktischen Arbe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Grundsätze zur Leistungsbewertu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Vorschläge an die Lehrerkonferenz zur Einführung von Lernmitt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8592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Aufgaben der Fachkonferenz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324000" y="1676520"/>
          <a:ext cx="8640720" cy="4144680"/>
        </p:xfrm>
        <a:graphic>
          <a:graphicData uri="http://schemas.openxmlformats.org/drawingml/2006/table">
            <a:tbl>
              <a:tblPr/>
              <a:tblGrid>
                <a:gridCol w="3625560"/>
                <a:gridCol w="5015160"/>
              </a:tblGrid>
              <a:tr h="41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17784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chulinterne Lehrplan ordnet den Semestern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sch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richtsvorhab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u (Kumulativität, schulbezogene Schwerpunktsetzungen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60360" indent="-268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richtsvorhab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eisen au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etenzerwartungen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rreicht werden so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liche und methodische Akz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nüpfungen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t anderen Fäch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gf. außerschulische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r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öglichkeiten der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etenzüberprüf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12"/>
          <p:cNvSpPr/>
          <p:nvPr/>
        </p:nvSpPr>
        <p:spPr>
          <a:xfrm>
            <a:off x="150840" y="4046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itel 5"/>
          <p:cNvSpPr/>
          <p:nvPr/>
        </p:nvSpPr>
        <p:spPr>
          <a:xfrm>
            <a:off x="250920" y="422280"/>
            <a:ext cx="48974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Aufgaben der Fachkonfer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feld 6"/>
          <p:cNvSpPr/>
          <p:nvPr/>
        </p:nvSpPr>
        <p:spPr>
          <a:xfrm>
            <a:off x="6875640" y="6093000"/>
            <a:ext cx="1657080" cy="580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Formular U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B256-283B-4C09-BA6E-7232C3DBDDE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14400" y="134136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Wie eine Fachkonferenz arbeiten kann (Übung und Beispiele)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7943-3191-4BD1-A214-0B3D0DB4A0F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250560" y="2492280"/>
            <a:ext cx="79786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ichten Sie die (konkretisierten) Kompetenzerwartungen der Einführungsphase und notieren Sie sich Ideen zu einer möglichen inhaltlichen und  methodischen Füllun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Plenum: Gelegenheit zur Klärung von Fragen zu Kompetenzerwartu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100" spc="-1" strike="noStrike">
                <a:solidFill>
                  <a:srgbClr val="000000"/>
                </a:solidFill>
                <a:latin typeface="Arial"/>
              </a:rPr>
              <a:t>Austausch: </a:t>
            </a:r>
            <a:r>
              <a:rPr b="0" i="1" lang="de-DE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de-DE" sz="2100" spc="-1" strike="noStrike">
                <a:solidFill>
                  <a:srgbClr val="000000"/>
                </a:solidFill>
                <a:latin typeface="Arial"/>
              </a:rPr>
              <a:t> in 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61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Wie kommen wir von den Kompetenzerwartungen und Inhaltsfeldern des KLP zu Unterrichtsvorhaben?</a:t>
            </a:r>
            <a:br>
              <a:rPr sz="2400"/>
            </a:br>
            <a:br>
              <a:rPr sz="2800"/>
            </a:b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87" name="Textfeld 4"/>
          <p:cNvSpPr/>
          <p:nvPr/>
        </p:nvSpPr>
        <p:spPr>
          <a:xfrm>
            <a:off x="5386320" y="5877000"/>
            <a:ext cx="3240000" cy="580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konkretisierte Komp.erw. Einführungs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8"/>
          <p:cNvSpPr/>
          <p:nvPr/>
        </p:nvSpPr>
        <p:spPr>
          <a:xfrm>
            <a:off x="250920" y="1141920"/>
            <a:ext cx="827064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ulinterner Lehrplan Katholische Religionslehre  (Beispi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terrichtsvorhaben 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„Wie hältst du’s mit der Religion?“ – Wahrnehmung von Religion in unserer Zeit und Welt und Auseinandersetzung mit ihrer Relev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itel 5"/>
          <p:cNvSpPr/>
          <p:nvPr/>
        </p:nvSpPr>
        <p:spPr>
          <a:xfrm>
            <a:off x="0" y="458640"/>
            <a:ext cx="5184720" cy="63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Unterrichtsvorhaben für die EF – Bsp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feld 4"/>
          <p:cNvSpPr/>
          <p:nvPr/>
        </p:nvSpPr>
        <p:spPr>
          <a:xfrm>
            <a:off x="6084720" y="4908600"/>
            <a:ext cx="2880000" cy="580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ikarte“ U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F55E-F9C2-4DD3-A442-C9037BCE3A7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5959-1EE8-4FC7-90EC-7462DB78346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17928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082520" y="13413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Typisches aus der traditionellen Stoff- bzw. Inhaltsorientierung  </a:t>
            </a:r>
            <a:r>
              <a:rPr b="1" i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(etwas überspitzt formuliert</a:t>
            </a:r>
            <a:r>
              <a:rPr b="0" i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)</a:t>
            </a:r>
            <a:r>
              <a:rPr b="0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5"/>
          <p:cNvSpPr/>
          <p:nvPr/>
        </p:nvSpPr>
        <p:spPr>
          <a:xfrm>
            <a:off x="5724360" y="2192400"/>
            <a:ext cx="3097440" cy="1368360"/>
          </a:xfrm>
          <a:prstGeom prst="wedgeRoundRectCallout">
            <a:avLst>
              <a:gd name="adj1" fmla="val -99509"/>
              <a:gd name="adj2" fmla="val -54870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under“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habe 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on gema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6"/>
          <p:cNvSpPr/>
          <p:nvPr/>
        </p:nvSpPr>
        <p:spPr>
          <a:xfrm>
            <a:off x="395280" y="2708280"/>
            <a:ext cx="2376360" cy="1441440"/>
          </a:xfrm>
          <a:prstGeom prst="wedgeRoundRectCallout">
            <a:avLst>
              <a:gd name="adj1" fmla="val 100768"/>
              <a:gd name="adj2" fmla="val -86231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attest Du sch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Auf-erstehung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7"/>
          <p:cNvSpPr/>
          <p:nvPr/>
        </p:nvSpPr>
        <p:spPr>
          <a:xfrm>
            <a:off x="5076720" y="4221000"/>
            <a:ext cx="3745080" cy="1368720"/>
          </a:xfrm>
          <a:prstGeom prst="wedgeRoundRectCallout">
            <a:avLst>
              <a:gd name="adj1" fmla="val -73972"/>
              <a:gd name="adj2" fmla="val -195824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ch mache im 5. Semester gerade 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irche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fert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8"/>
          <p:cNvSpPr/>
          <p:nvPr/>
        </p:nvSpPr>
        <p:spPr>
          <a:xfrm>
            <a:off x="250920" y="4292640"/>
            <a:ext cx="4608360" cy="2016000"/>
          </a:xfrm>
          <a:prstGeom prst="wedgeRoundRectCallout">
            <a:avLst>
              <a:gd name="adj1" fmla="val 27277"/>
              <a:gd name="adj2" fmla="val -144643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r müssen noch die Kompetenzen aus dem KLP hinter unser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Themen“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rei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feld 11"/>
          <p:cNvSpPr/>
          <p:nvPr/>
        </p:nvSpPr>
        <p:spPr>
          <a:xfrm>
            <a:off x="250920" y="620640"/>
            <a:ext cx="3384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Orientierungswechsel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5105-F64D-4A8F-B1B5-6439A12C0EC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45B1-9B4F-4EDF-B718-11514B2ED69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179280" y="1557000"/>
            <a:ext cx="805032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) Entwickeln Sie ausgehend von den Kompetenzerwartungen und den inhaltlichen Schwerpunkten (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mschlag) sowie von Ihren Ideen gemeinsam ein mögliches Unterrichtsvorhaben der EF und kleben Sie Ihr „Puzzle“ a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) Füllen Sie die „Karteikarte Unterrichtsvorhaben“ gemeinsam a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okus: Was wollen Sie hier in Ihrer „Fachkonferenz“ verbindlich festlege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47512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95" name="Textfeld 4"/>
          <p:cNvSpPr/>
          <p:nvPr/>
        </p:nvSpPr>
        <p:spPr>
          <a:xfrm>
            <a:off x="6443640" y="5589720"/>
            <a:ext cx="2424240" cy="641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GA-M1)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ärtchen: KompErw EF, leere Kärtchen für Ideen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A-M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Leerformular 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BCEB-C8A4-451B-B044-FCC804EB929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91440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e hältst du’s mit der Religion?“ – Wahrnehmung von Religion in unserer Zeit und Welt und Auseinandersetzung mit ihrer Relev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se Welt: Schöpfung (Gottes) oder hervorgegangen aus dem Urknall?“ - Gegen eine eindimensionale Sicht von Wirklichk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78920" y="126792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-BoldMT"/>
              </a:rPr>
              <a:t>UV der Einführungsphase im Beispiellehrplan:</a:t>
            </a:r>
            <a:r>
              <a:rPr b="1" lang="de-DE" sz="3200" spc="-1" strike="noStrike">
                <a:solidFill>
                  <a:srgbClr val="000000"/>
                </a:solidFill>
                <a:latin typeface="Arial-BoldM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99" name="Textfeld 4"/>
          <p:cNvSpPr/>
          <p:nvPr/>
        </p:nvSpPr>
        <p:spPr>
          <a:xfrm>
            <a:off x="4643280" y="5389560"/>
            <a:ext cx="3097440" cy="824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4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V der 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Checkli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6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V auf einen B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EC04-522B-41E3-9477-F6AF82A0802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Überprüfungsformen/Abitur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tel 5"/>
          <p:cNvSpPr/>
          <p:nvPr/>
        </p:nvSpPr>
        <p:spPr>
          <a:xfrm>
            <a:off x="179280" y="411120"/>
            <a:ext cx="511344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Überprüfungsfor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(mündlich und schriftl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900000" y="1881360"/>
          <a:ext cx="5432400" cy="3219120"/>
        </p:xfrm>
        <a:graphic>
          <a:graphicData uri="http://schemas.openxmlformats.org/drawingml/2006/table">
            <a:tbl>
              <a:tblPr/>
              <a:tblGrid>
                <a:gridCol w="2716200"/>
                <a:gridCol w="2716200"/>
              </a:tblGrid>
              <a:tr h="657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Überprüfungsfor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urzbeschreibung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ispi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stell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ört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alt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04" name="Textfeld 4"/>
          <p:cNvSpPr/>
          <p:nvPr/>
        </p:nvSpPr>
        <p:spPr>
          <a:xfrm>
            <a:off x="6389640" y="1380960"/>
            <a:ext cx="27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tudierende haben auf unterschiedliche Art und Weise Gelegenheit, diese Formen einzuüben bzw. auch Leistungsnachweise zu erbringen, die die aufgeführten Schwerpunkte berücksichtigen (z. B. Referat, Präsentation, Portfolio, …)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vgl. KLP, Kap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feld 1"/>
          <p:cNvSpPr/>
          <p:nvPr/>
        </p:nvSpPr>
        <p:spPr>
          <a:xfrm flipH="1">
            <a:off x="5292720" y="5589720"/>
            <a:ext cx="295128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7 – Überprüfungsformen und Operat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oliennummernplatzhalter 5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DCC8-FA59-4736-A9DB-E053127C159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77D7-8B40-4714-8801-1D152584459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23640" y="1341360"/>
            <a:ext cx="7740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Abiturprüfung (KLP, Kap.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lt die APO-Wb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hlich beziehen sich alle Teile der Abiturprüfung auf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Kapitel 2 dieses Kernlehrplans für das Ende der Qualifikationsphase festgelegten Kompetenzerwartun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464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B0D9-9E86-4182-AADA-5C8FD05DF11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250920" y="1915920"/>
            <a:ext cx="86040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arüber hinaus gelten für die Abiturprüfung die Festlegungen in Kapitel 4 des Kernlehrplans, die für das Jahr 2017 in Bezug auf die nachfolgenden Punkte konkretisiert werden: 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Verpflichtung zur Beachtung der gesamten Obligatorik des Faches gemäß Kapitel 2 des Kernlehrplans bleibt von diesen Fokussierungen allerdings unberührt. Die Realisierung der Obligatorik insgesamt liegt in der Verantwortung der Lehrkräf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806436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   </a:t>
            </a: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Abiturprüfung: Vorgab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13" name="Textfeld 3"/>
          <p:cNvSpPr/>
          <p:nvPr/>
        </p:nvSpPr>
        <p:spPr>
          <a:xfrm>
            <a:off x="5508720" y="5661000"/>
            <a:ext cx="24480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biturvor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3" descr=""/>
          <p:cNvPicPr/>
          <p:nvPr/>
        </p:nvPicPr>
        <p:blipFill>
          <a:blip r:embed="rId1"/>
          <a:stretch/>
        </p:blipFill>
        <p:spPr>
          <a:xfrm>
            <a:off x="409680" y="336600"/>
            <a:ext cx="8712000" cy="6539040"/>
          </a:xfrm>
          <a:prstGeom prst="rect">
            <a:avLst/>
          </a:prstGeom>
          <a:ln w="0">
            <a:noFill/>
          </a:ln>
        </p:spPr>
      </p:pic>
      <p:sp>
        <p:nvSpPr>
          <p:cNvPr id="91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7681-C689-4041-B843-B40BF1967C4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3199-6F2F-4217-B77C-F401F1218D0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179280" y="2421000"/>
          <a:ext cx="8640720" cy="2609640"/>
        </p:xfrm>
        <a:graphic>
          <a:graphicData uri="http://schemas.openxmlformats.org/drawingml/2006/table">
            <a:tbl>
              <a:tblPr/>
              <a:tblGrid>
                <a:gridCol w="1133640"/>
                <a:gridCol w="5443560"/>
                <a:gridCol w="2063520"/>
              </a:tblGrid>
              <a:tr h="3142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mpetenzerwart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gabe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953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s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d 2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udierenden entfalten zentrale Aussagen des jüdisch-christlichen Gottesverständnisses (Gott als Befreier, als der ganz Andere, als der Unverfügbare, als Bundespartner)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udierenden erörtern die Vielfalt von Gottesbildern und setzen sie in Beziehung zum biblischen Bilderverb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tesbilder der Exoduserzähl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7813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Abiturprüfung – Vorgaben (Beispiel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19" name="Textfeld 3"/>
          <p:cNvSpPr/>
          <p:nvPr/>
        </p:nvSpPr>
        <p:spPr>
          <a:xfrm>
            <a:off x="6156360" y="5538960"/>
            <a:ext cx="26636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8 Abiturvor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2"/>
          <p:cNvSpPr/>
          <p:nvPr/>
        </p:nvSpPr>
        <p:spPr>
          <a:xfrm>
            <a:off x="457200" y="330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95B5-9683-4207-ADE5-CF1FD655D55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250920" y="1989000"/>
          <a:ext cx="7978680" cy="4100760"/>
        </p:xfrm>
        <a:graphic>
          <a:graphicData uri="http://schemas.openxmlformats.org/drawingml/2006/table">
            <a:tbl>
              <a:tblPr/>
              <a:tblGrid>
                <a:gridCol w="1047600"/>
                <a:gridCol w="5025960"/>
                <a:gridCol w="1905120"/>
              </a:tblGrid>
              <a:tr h="314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mpetenzerwart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gabe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778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s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d 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e Studierenden  analysieren verschiedene Positionen zu einem konkreten ethischen Entscheidungsfeld im Hinblick auf die zugrundeliegenden Werte und Normen bzw. ethischen Begründungsmodel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rowSpan="3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le normativer Ethik: deontologische und utilitaristische Argu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0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e Studierenden  beurteilen Möglichkeiten und Grenzen unterschiedlicher Typen ethischer Argument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21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e Studierenden  erörtern unterschiedliche Positionen zu einem konkreten ethischen Entscheidungsfeld unter Berücksichtigung christlicher Ethik in katholischer Perspek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Abiturprüfung – Vorgaben (Beispiel)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4" name="Rectangle 2"/>
          <p:cNvSpPr/>
          <p:nvPr/>
        </p:nvSpPr>
        <p:spPr>
          <a:xfrm>
            <a:off x="457200" y="330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3A05-898A-40ED-B483-311B9F4E3E2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8920" y="1267920"/>
            <a:ext cx="7885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Abiturprüfung: Vorgab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323640" y="1915920"/>
            <a:ext cx="77403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Vorgaben konkretisieren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einige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Kompetenzerwartun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ander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Kompetenzerwartungen sind ebenfalls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verbindlich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, können aber – je nach unterrichtlichen Voraussetzungen und Bedingungen - unterschiedlich bedient wer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Arial"/>
              </a:rPr>
              <a:t>Bsp: „Die Studierenden erläutern die Verantwortung für sich, für andere und vor Gott als wesentliches Element christlicher Ethik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2"/>
          <p:cNvSpPr/>
          <p:nvPr/>
        </p:nvSpPr>
        <p:spPr>
          <a:xfrm>
            <a:off x="457200" y="330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75E2-FCD0-4F4F-9190-21D8C5C4FA6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9442800">
            <a:off x="1692000" y="167760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67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7932-72DF-4146-8183-A8AE6CB6F2A5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1763640" y="4149720"/>
            <a:ext cx="2881440" cy="936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zunehmend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off als 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1619280" y="242100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sgestalt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Arbeitsproz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9"/>
          <p:cNvGrpSpPr/>
          <p:nvPr/>
        </p:nvGrpSpPr>
        <p:grpSpPr>
          <a:xfrm>
            <a:off x="1692360" y="2448000"/>
            <a:ext cx="3024000" cy="3683520"/>
            <a:chOff x="1692360" y="2448000"/>
            <a:chExt cx="3024000" cy="3683520"/>
          </a:xfrm>
        </p:grpSpPr>
        <p:sp>
          <p:nvSpPr>
            <p:cNvPr id="676" name="Rectangle 10"/>
            <p:cNvSpPr/>
            <p:nvPr/>
          </p:nvSpPr>
          <p:spPr>
            <a:xfrm>
              <a:off x="1692360" y="2448000"/>
              <a:ext cx="3024000" cy="3477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1"/>
            <p:cNvSpPr/>
            <p:nvPr/>
          </p:nvSpPr>
          <p:spPr>
            <a:xfrm>
              <a:off x="1908000" y="5671800"/>
              <a:ext cx="252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 der Verantwortung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Rectangle 12"/>
          <p:cNvSpPr/>
          <p:nvPr/>
        </p:nvSpPr>
        <p:spPr>
          <a:xfrm>
            <a:off x="5292720" y="2924280"/>
            <a:ext cx="2016000" cy="503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3"/>
          <p:cNvSpPr/>
          <p:nvPr/>
        </p:nvSpPr>
        <p:spPr>
          <a:xfrm>
            <a:off x="5580000" y="1413000"/>
            <a:ext cx="2737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Angebot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itens der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feld 14"/>
          <p:cNvSpPr/>
          <p:nvPr/>
        </p:nvSpPr>
        <p:spPr>
          <a:xfrm>
            <a:off x="395280" y="838080"/>
            <a:ext cx="83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Von der „Stofforientierung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1D10-C108-4DAE-9658-D3A9F2E1340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A5E8-A13C-4035-9441-68574C8E8C7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Der Lehrplannavigator: Unterstützungsangebot für die Arbeit der Fachkonferenzen/ Lehrerinnen und Lehrer</a:t>
            </a: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539280" y="1341000"/>
            <a:ext cx="84250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Unterstützungsangebot „Lehrplannavigator“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ulentwicklung.nrw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82A0-83EE-4F91-9155-6764E499C1D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Resim 3" descr=""/>
          <p:cNvPicPr/>
          <p:nvPr/>
        </p:nvPicPr>
        <p:blipFill>
          <a:blip r:embed="rId2"/>
          <a:stretch/>
        </p:blipFill>
        <p:spPr>
          <a:xfrm>
            <a:off x="6443640" y="4292640"/>
            <a:ext cx="1762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D4F3-E62F-473B-B056-E2A2072E0D6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64072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de-DE" sz="2200" spc="-1" strike="noStrike">
                <a:solidFill>
                  <a:srgbClr val="0070c0"/>
                </a:solidFill>
                <a:latin typeface="Arial-BoldMT"/>
              </a:rPr>
              <a:t>Bitte melden Sie sich, wenn Sie Fragen haben:</a:t>
            </a:r>
            <a:br>
              <a:rPr sz="2200"/>
            </a:br>
            <a:br>
              <a:rPr sz="2200"/>
            </a:b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-BoldMT"/>
              </a:rPr>
              <a:t>Kontaktdaten: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Qualitäts- und Unterstützungsagentur (QUA-LiS)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Landesinstitut für Schule NRW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Arbeitsbereich 4 (Curriculumentwicklung)</a:t>
            </a:r>
            <a:br>
              <a:rPr sz="2200"/>
            </a:br>
            <a:br>
              <a:rPr sz="2200"/>
            </a:br>
            <a:r>
              <a:rPr b="0" lang="de-DE" sz="2200" spc="-1" strike="noStrike" u="sng">
                <a:solidFill>
                  <a:srgbClr val="009999"/>
                </a:solidFill>
                <a:uFillTx/>
                <a:latin typeface="Arial-BoldMT"/>
                <a:hlinkClick r:id="rId1"/>
              </a:rPr>
              <a:t>cordula.hartwig@qua-lis.nrw.d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Tel.: 02921 683-316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Zentrale: poststelle@qua-lis.nrw.de</a:t>
            </a:r>
            <a:endParaRPr b="1" lang="en-US" sz="22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000" spc="-1" strike="noStrike">
              <a:solidFill>
                <a:srgbClr val="ff0000"/>
              </a:solidFill>
              <a:latin typeface="Arial-BoldMT"/>
            </a:endParaRPr>
          </a:p>
        </p:txBody>
      </p:sp>
      <p:sp>
        <p:nvSpPr>
          <p:cNvPr id="93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279F-5A22-49D3-A85B-88848C160E1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Inhaltsplatzhalter 8" descr="Dokument1 - Microsoft Word"/>
          <p:cNvPicPr/>
          <p:nvPr/>
        </p:nvPicPr>
        <p:blipFill>
          <a:blip r:embed="rId1"/>
          <a:stretch/>
        </p:blipFill>
        <p:spPr>
          <a:xfrm>
            <a:off x="1409760" y="1916280"/>
            <a:ext cx="6324480" cy="3817800"/>
          </a:xfrm>
          <a:prstGeom prst="rect">
            <a:avLst/>
          </a:prstGeom>
          <a:ln w="0">
            <a:noFill/>
          </a:ln>
        </p:spPr>
      </p:pic>
      <p:pic>
        <p:nvPicPr>
          <p:cNvPr id="939" name="Grafik 9" descr="Bildschirmausschnitt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A2C0-A7E0-445D-A1F0-DFC3732E5A9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A65D-59A8-4C4D-A61F-917CB012E59B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538200" y="34034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als Steuerungsprinzip und als didaktisches Pr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539640" y="263700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ung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feld 10"/>
          <p:cNvSpPr/>
          <p:nvPr/>
        </p:nvSpPr>
        <p:spPr>
          <a:xfrm>
            <a:off x="324000" y="838080"/>
            <a:ext cx="83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19536600">
            <a:off x="2266560" y="3449520"/>
            <a:ext cx="5221440" cy="204156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12"/>
          <p:cNvSpPr/>
          <p:nvPr/>
        </p:nvSpPr>
        <p:spPr>
          <a:xfrm>
            <a:off x="2416320" y="2035080"/>
            <a:ext cx="525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2b01"/>
                </a:solidFill>
                <a:latin typeface="Arial-BoldMT"/>
                <a:ea typeface="ヒラギノ角ゴ Pro W3"/>
              </a:rPr>
              <a:t>Denken vom Ergebnis her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52FC-6689-4DBE-9E46-2C5EA9D63E3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BC3B-B94F-4D43-853B-41F5AECA55F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20242800">
            <a:off x="2133360" y="353484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69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A7E4-EFCF-43C5-AEF5-F24554B16E2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"/>
          <p:cNvSpPr/>
          <p:nvPr/>
        </p:nvSpPr>
        <p:spPr>
          <a:xfrm>
            <a:off x="826920" y="2571840"/>
            <a:ext cx="3529080" cy="20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 i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haltlicher Schwerpunktsetzun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arrange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blem-, Anwendungsorientier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tc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8"/>
          <p:cNvGrpSpPr/>
          <p:nvPr/>
        </p:nvGrpSpPr>
        <p:grpSpPr>
          <a:xfrm>
            <a:off x="4668840" y="1671480"/>
            <a:ext cx="3168360" cy="4427280"/>
            <a:chOff x="4668840" y="1671480"/>
            <a:chExt cx="3168360" cy="4427280"/>
          </a:xfrm>
        </p:grpSpPr>
        <p:sp>
          <p:nvSpPr>
            <p:cNvPr id="695" name="Rectangle 9"/>
            <p:cNvSpPr/>
            <p:nvPr/>
          </p:nvSpPr>
          <p:spPr>
            <a:xfrm>
              <a:off x="4668840" y="1671480"/>
              <a:ext cx="3168360" cy="4280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0"/>
            <p:cNvSpPr/>
            <p:nvPr/>
          </p:nvSpPr>
          <p:spPr>
            <a:xfrm>
              <a:off x="4894560" y="5639040"/>
              <a:ext cx="2641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 der Verantwortung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Rectangle 11"/>
          <p:cNvSpPr/>
          <p:nvPr/>
        </p:nvSpPr>
        <p:spPr>
          <a:xfrm>
            <a:off x="5003640" y="1832040"/>
            <a:ext cx="2521080" cy="1297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(langfristig entwickelt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2"/>
          <p:cNvSpPr/>
          <p:nvPr/>
        </p:nvSpPr>
        <p:spPr>
          <a:xfrm>
            <a:off x="5219640" y="3919680"/>
            <a:ext cx="2737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Angebot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itens der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feld 16"/>
          <p:cNvSpPr/>
          <p:nvPr/>
        </p:nvSpPr>
        <p:spPr>
          <a:xfrm>
            <a:off x="250920" y="838080"/>
            <a:ext cx="84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…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zur „Kompetenzorientie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911D-1988-4D41-B1A4-EA974B305CA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16B3-A26A-4C17-91D9-EFF44EEF607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D713-2302-41AA-992F-F90AF3992571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1403280" y="1413000"/>
            <a:ext cx="6400800" cy="435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ヒラギノ角ゴ Pro W3"/>
              </a:rPr>
              <a:t>„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ヒラギノ角ゴ Pro W3"/>
              </a:rPr>
              <a:t>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ヒラギノ角ゴ Pro W3"/>
              </a:rPr>
              <a:t>Ergebnis-  und 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Studierende a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de eines 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8283-92A3-4BE5-AE62-7E14FC1888D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07A0-D51D-4523-9812-2D4D2EF92FB8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CDDD-0E37-495A-B087-40CE17E3A6B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50920" y="1318680"/>
            <a:ext cx="78134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MS PGothic"/>
              </a:rPr>
              <a:t>Kompetenzorientierung</a:t>
            </a:r>
            <a:br>
              <a:rPr sz="2400"/>
            </a:br>
            <a:br>
              <a:rPr sz="32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50920" y="1833120"/>
            <a:ext cx="78134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Kompetenz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 (in Anlehnung an </a:t>
            </a:r>
            <a:r>
              <a:rPr b="0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Franz Weinert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)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benennen individuelle fachspezifische Fähigkeiten und Fertigkeiten einer Person, keine reinen Unterrichtsinhal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werden in einem längeren Entwicklungsprozess erworben, sie  sind nicht zwingend identisch mit Stundenziel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sind stärkenorientiert, nicht defizitorienti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sind Grundlage für das selbstständige Lösen von Problemen und für das Hervorbringen von Neuem</a:t>
            </a:r>
            <a:br>
              <a:rPr sz="2100"/>
            </a:b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ußzeilenplatzhalter 3"/>
          <p:cNvSpPr/>
          <p:nvPr/>
        </p:nvSpPr>
        <p:spPr>
          <a:xfrm>
            <a:off x="900000" y="6453360"/>
            <a:ext cx="2087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D5F9-8D50-406D-8FF0-870ACCFB285F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9:37:45Z</dcterms:created>
  <dc:creator>Bela Kurek</dc:creator>
  <dc:description/>
  <dc:language>en-US</dc:language>
  <cp:lastModifiedBy>Sohnius, Axel</cp:lastModifiedBy>
  <cp:lastPrinted>2014-09-26T14:17:18Z</cp:lastPrinted>
  <dcterms:modified xsi:type="dcterms:W3CDTF">2014-10-27T06:59:27Z</dcterms:modified>
  <cp:revision>289</cp:revision>
  <dc:subject/>
  <dc:title>Headline erste Zeile. Mehrzeilige Subheadline bis maximal dreizeilig.  Ort, Datum</dc:title>
</cp:coreProperties>
</file>