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dt" idx="15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 type="sldNum" idx="17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FE788A9-C467-4ACA-8A07-88F1D1CE00A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CE18D59-2FF4-4DC0-B9B0-5F94659E7BA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0A1BC52-83D6-4FF5-A041-1E7207A6BA7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7DD5AC5-7090-4697-B829-2D3B505EC33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A366A64-2C8F-479E-B42D-08DA450C0A8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D9FAD09-2C46-4865-BDF0-E5A1581E9BD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34EB84C-06D4-49EA-B68D-260B88FAA38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5F18871-A2B9-4042-BD5A-14C4C95BD20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E67EA2A-2393-4843-9604-FF7C4EEAB73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6A53B44-A912-41E1-BC54-93AB92EBF92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DFFF672-535C-417D-B1B9-98ABF4A81F5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9305622-C9E1-4EAE-8972-4EE29D4E05B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7014AC9-C3DE-49C7-9D26-09E716A04A4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9202E25-6691-493D-A953-7EF3ABDE392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BE43336-90A6-4D06-8B3B-DC6B05C7EF6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4B7A78E-5C26-4F59-A943-08395A4E32D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70CF498-2097-435E-8301-06E0FD01D09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4AE27D5-1711-4858-AD48-576118D17F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1F004F4-D2F1-434A-8848-44A29CAC15A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2296271-78F5-4C04-B1FC-138ED27B60B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D564DDE-4092-438A-9AB9-BC6653274B3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1EB3519-7724-4EB7-9231-76CEBEF0EBF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BE6AECB-E1F5-4E6F-871C-0D5BA7D9B36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277CA38-A5D0-41EE-B4B8-3676A6D9F74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3532EF8-7852-4C5B-8600-79662B9FB28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20BB865-24FB-4E06-B9DB-3C6C904D8B9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4273901-FCCB-4537-9C3D-0D09153EC3C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DE1ABE9-4B17-477B-97D7-0891C40DD13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19660EA-FDC5-4EA8-8E13-853EC5B1D4A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BE8C27E-86B3-48FB-AEFE-F902BAB92F2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1029611-8B6C-424E-B4AB-CB3C4BD67A9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D4C3502-4F38-4C01-AE16-034481C5191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424DBE4-4AE5-4264-A5FB-DDC0209942A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E3042BC-E4B9-4D63-AAC6-8224EFC34E6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DE4F7BB-9EA5-4834-8394-55959606A06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4FEE0D4-6B59-4709-83C5-826FF7BD28D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5592B45-6A87-4E0B-8990-3FE78C65801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46144D8-785D-4ABA-A258-A63A0DB725D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B2E8586-533D-4A29-B012-DE8B9E7D4E0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445249C-BB29-496E-A230-11D009CDFD7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9D20E51-B44E-4C54-8DC7-D470D095AB3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3B6210E-65AC-4FE6-852B-61D77E327EC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E804AC2-667D-428C-996D-86F2E84E0D8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A689A27-EA2D-4E38-A793-C857B0C0057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D9264D3-C260-495D-BCD6-41C5D8989F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A72C7AD-0D23-49BC-A4F6-A1728076818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3986899-5F00-4C23-B04C-E3105ACB595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74F87B7-F098-4E57-8727-65B9B7FFFB4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6358C58-3642-4ADB-A1F4-27A6DAF0A99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A713635-B696-4D46-A3FC-3A09BF15A1A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CA63A40-11C8-4071-8C31-383CE9C1038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A47BAD9-26B2-4D6F-8382-FF485024BD6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B96FD53-8858-4452-A427-E138ECF6284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7C448D6-FFFC-4768-BB91-11A1FC46EA8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FF9B2E6-5BD8-4486-8BA1-4D84BEF6C71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B768E6F-1CE1-4A10-A47B-EA3E312007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D968774-EFFF-41E8-82AA-C15055D3BE6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5ABCF7B-0394-4901-8746-0B63E16EAC3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DC488E6-8948-4C48-BA4B-BD154B7FD94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EAF7D3F-EFF3-444E-A9B2-CDEF541C8A5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7074168-701D-4728-A1D7-89E3FC390B6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A8BECC4-F50E-4E19-8A5A-1FDD333D0E7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7EF7BC9-E3C8-4810-8DF0-5BBA0F820E1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17C9D54-EB36-4EC0-B1BD-890BDA563EF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EAF6B39-35AE-4646-9D4A-6E9DA7ED2FF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17FB42B-2E24-4905-9578-49F0224487B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9DED556-DB6D-4753-BFC1-737D1B86FC8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A7082AD-F30F-47A3-82AA-9590CCB8D0B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698D848-77D2-4C06-9A69-C34CED358EA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A0A279B-53AA-4840-BDE8-3790A0440F7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AFCE572-FB22-4927-B423-284DF64304E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FCDCE3B-A9F6-4655-BD31-147AB417F6F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7045CA5-0F7F-4496-B399-BFFEEF7DD09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E799D43-F4F8-49DE-855B-0CD2BDB7D19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BBEE04C-3B74-4A51-A252-198A595CE7C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1C06DE6-0CE3-4DC9-A04A-47BC7FCD9EF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17319CF-9BF5-42FE-A98A-5E641FEAB75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B7F81F7-87B5-40F8-9B82-B47FC71ACC0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04B113C-BB41-4D08-A0E7-AE79834A7D1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5999AAC-B4D8-4481-9D73-A34E3B82147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B335F3E-4D5E-4751-9420-9219EDB09A1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0A7BF-E0BA-4C28-A262-41B1A5424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EDB2-043D-44C2-8094-84E59932E6F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738688-8BAF-4D8D-ACD3-986173050BA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F08604-30EA-46B3-9065-0BD37ED650F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55B556-0926-4CBE-A107-1E46C32EC31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DAAE69-C6D5-4B1F-88E0-CA1915EC62D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27F979-046F-4241-9DE4-78C89190B35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FDF3B3-5A13-4007-AD57-218F18BBDA4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A770B4-8146-4458-865D-833EA51FB7B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3B8DFA-4866-49B4-9FB5-651BDE30C63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21A6C8-9034-49FD-8022-00A135F5DF6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6CF727-BA63-4CB9-BB48-5F6CEF6F0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E1F5-7A34-43B8-8779-4DC9533B968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9B6F6-5DF1-4B16-B82B-CA990047075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C6567-EB58-473B-A239-EAD195F3EA3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182310-EA88-403C-A65D-1E986C2B5C6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F12353-F098-40ED-8498-55C2F282C6A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EE6091-83CC-4457-AB07-C232D85450B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029158-A002-4F40-969C-E6F7E6F27AC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26BC2-F30D-4014-B673-A3EAA88B048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C72E2-8D9A-49F6-A650-A93A7486DF1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2EE2F-8F44-40B6-9082-B0328D0755A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5D9C1-B6BF-410A-9D1A-AF72BF48D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A52B-6B16-4ED4-9721-4720205438E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6D7EC4-73BA-484D-8775-A8EBB5076B5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834A8-CAA1-4C9A-8BFE-B6A28C5E35F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5EF95-4850-4FDD-A399-7D6A87640A9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A5461-91BC-4EE9-B16B-4E1A7714318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4B49E-256E-4875-96AD-0414351EB1B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71A9D-F759-4671-B529-AC9DEAB1C0B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F9D0C-7D5B-45DC-B507-6CAA0036DE2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CBB52-FEFC-456C-B925-304F8031C68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7B9BF-129E-42C4-BA09-1D1B5777E11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1AA2D-6077-43B8-B57D-83C470708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3A1-3C89-42AB-AC75-C65F4EB917F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02666-DAC6-4230-9614-E8D59D12C48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3943E-88F0-422C-9BF0-8E14C548056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84694-1B28-432D-A19E-08A076A756A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0E6C2A-D3D0-4038-AAC7-3E5380E3FBE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894FB2-8ABD-42A4-9AFB-3FE99069451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20160F-205A-4713-832B-7400F6ABC90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2C4933-3A76-47D9-96DE-E1580549274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3A03F5-553F-4A2F-9EBC-573F6A2F14C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19DEDB-E2D1-4365-BE4A-FE9B92E4179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97B29C-6879-4B21-8F55-F797DCD85F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92C-7713-4EC1-9BE2-23AA4FACFC5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F0A9F4-3921-4881-A041-4C92F85B174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3A8F6C-5862-4A31-9B40-58221056A6D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15D518-97AB-465A-9EA0-C2718600CD6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72C500-2056-4A6E-A351-9DF6678E220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482940-8DC1-4BA8-BC6A-B919D35BB92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ACE3A-8B92-48D7-A4D9-77BE78C03F9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BF1E9-ED77-4C46-89D6-678CC786401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CCEEA-93CF-4D81-8D55-EA2252F4BBF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C8553-F2F1-4DB2-8FD7-575DC080E4A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14CEA-F78C-4253-A000-2C0A429673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6BB-34C4-49BD-ABFD-B453D804610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37015-DB75-4305-A1FA-38F5F6E57CE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B95D6-C0B6-42D5-89B1-024D8E12451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DA7FA-C2A8-475A-ADC5-982C17F385F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18528-9D65-4299-A73E-08B69D2CE30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36E83-3375-4932-BDB6-77E917E1859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59C81-8578-4E80-BAD3-5694B641B27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4B4D5-C017-4CB3-A4D9-AF858851DA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488-3B7E-4A22-836F-C6F951F8D7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40E-2650-431F-8DB8-E26F370B72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F391-2BA6-4900-973E-4737C2862D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3F1-0B6A-4826-A428-C445F6F71A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2CF99-A0F2-4AD2-BD01-D14BE7F9F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689-A038-49B5-BE2A-0A8906C1A8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832-1D88-4E79-BD42-9ED2A039F5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DE5-DB6E-4FDC-AAC9-7073D86E8E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30D-9A37-4CF7-8A74-8B9B62239E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2A9-1297-4F55-AB4E-0B219DE8B8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DA730-BD6F-4051-97C4-9E4F1E5E0B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D9E24-01BF-4933-9F02-5A99E19D59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48672-9DC5-4B37-94FE-9512513C05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4A2F2-7CF9-4CCD-A1F6-09198E41C5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F95B0-00CF-498B-B7D0-A3A839625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E80C-BFBD-42CA-B203-1CCF2AEF88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7E859-1692-4A9B-AE73-8C748D1A03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A251A-394F-4437-89DD-16D52079D1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80CFF-5286-4FC0-BF10-AFF8B3FFD7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C8F01-1365-434F-BCBE-C081AD6271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10FC4-2C17-4844-8A55-1F2430316C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B459B-5320-4507-9386-991906B973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55053-5DA5-461E-B34B-68C686C540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41741-04E3-4499-B198-E34BD725A3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B2852-AC55-47F2-AB62-FD4309087E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F3213-F748-4865-A581-034AC6C20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C9F0C-5641-4239-A186-C22B9D14A5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9C6C5-80F0-4A05-9D76-00E0B9B947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94F80-36EF-41C2-8E78-EEE25C7BB9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307DA-3B42-4C7E-8ABE-4155B77E0E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B044D-19EA-4D91-B3DE-CC30DB40A6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44597-96DF-4175-978E-3E730C61F7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9ACD4-0A20-492D-9306-EF0B447711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99CD0-54ED-4A2E-B9BE-E53CC3D01B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63433-F42D-48FC-BD14-B245660DCD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5EF54-3422-4E60-8AD7-F573781E198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E295-206F-4AA2-9FDD-6E23595AC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6F1F-1601-4CAF-90E8-7839FC607AF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3511-EECC-417F-AD60-37A1BBEC82F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B799-849F-40ED-A03E-67E86B965BE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1FAA-6516-49B8-A211-50984386D8D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F755-F4A9-4CB3-B578-1A26B50E542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24CC-A268-40E1-9005-B0329A60BC8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0BAB-3FA5-440F-8402-03B29BBF132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D833-EE20-4123-B08F-512D352271E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D33F-EF17-493A-A0A3-B7351F1DFC8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6497-1E89-421F-A7BD-BDB9496862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475C-9270-45D7-97C1-B29BD5006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20481-2DE7-4EFC-B0CB-A12288D1D93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421B-1F78-4A69-9827-93BBB2384AE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DB87CB-A259-4161-87E2-346F58941B1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3D4071-A2A5-4B36-8722-856733C7BE3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63E2A-8FDC-4DC6-BF73-9879EAFD31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990B5C-8A22-43D7-8B6D-D31A0CD1008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F2D9C3-22B1-4F9F-BA5E-9DB2413044C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4B3115-81D3-4124-A06D-DEBE9E28DCD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BCA1C0-7F96-4F5D-939D-E19C34ABDD3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13F828-690E-42C0-AD95-B17EB6F7940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F5225C-6355-47F9-B0DD-D957B7DDF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E7009-18D1-4D63-9BC1-A3F5ED5FF1B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119299-AF90-41E9-B7B2-8B39C9E3E14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DD198F-5617-4828-A334-92C02751FB3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A4252F-4A67-4254-8C3A-C6B6CA97D84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DDF8F-AA0A-4806-902F-AAB4DCE862F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C8493-009E-4713-8D9A-40F710EC0C3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422B0-0FA6-4F81-9DA4-5D60068F85C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5AAEC-BDC9-4478-832F-2952930313F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98B77-A759-4079-8C2A-754BB654784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046F2-759F-4B2A-8136-3B594DAC541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7006B-9BE5-4C21-A797-44358CB5B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6D849-D5A2-4646-9B23-0B684C5478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BF957-8B4C-4F8D-AB54-7CE7AFBF7AD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F84F0-A40B-4892-940F-2CA62B54065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A7AC4-70CF-4E8E-823E-50165214161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66C2A-9F46-4A46-B1A4-C215867A01F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5B885-5678-49EB-A772-AC33A576EEF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3DF0-5F04-472C-BA4C-ACAE84B30FB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1A713-8C82-4DA6-9A7F-DC241079CD1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3D575-EFF6-4256-BBA9-21A8E5460B5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6D60C-A7B4-4B02-9FFB-23AD3C6CA84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CE9EF-1DDD-4091-9291-139EA3722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71A5-CD72-4D36-A465-7CDA1831D6E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9C12-01F7-41EE-B619-4D71D8AB9A9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E616-BAEA-42A9-B8B0-D2D6D62A349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4AEF7-FA16-4A2D-B9FE-B7A05394922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7253D-5D56-46D2-A5E2-949A28C9741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1BD3-638C-4B76-935B-63ED1EB3080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F9AB7-000E-44F2-94D7-5D235182DE5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64B5F-9330-4032-902C-00CFEC9CB8A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6C7404-BD0E-4C5A-9347-9B7BD0A659B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9ED5AC-42DF-4F3B-8D98-B956B54E798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A3037-2398-4626-97D0-FBC36CF8A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99640" y="6453360"/>
            <a:ext cx="77504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  <a:defRPr b="1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Soest, 25.08.20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0111-1DA4-4756-8421-03C67DE9244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1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42D5-8CD2-4A74-9E7E-CA3DE7BAF310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F3AF-FD15-4B17-B047-2C1EBCACE7A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3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A50B-72BF-4931-B123-0CFC76131A2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EC11-16F3-4753-8D7E-2C7A16B92C95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C3EF-8A08-4FFF-ADED-E1F48AFA504A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7944-9B2B-4F75-B523-036E43AFA75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5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25A2-02A0-4954-947E-D3CF76BA0EF3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6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19B6-1345-4029-ADA8-41B7C659EA3B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7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0FD8-7ECD-4D86-BC65-70F73EF4934F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8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1C07-C194-4B21-9A22-E021A27C71F8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9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3B59-45AC-44FA-AE7D-D788C165912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10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E4AD-81B0-4D67-997B-71C54B8DD7CF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4"/>
          <p:cNvSpPr/>
          <p:nvPr/>
        </p:nvSpPr>
        <p:spPr>
          <a:xfrm>
            <a:off x="-7920" y="1241280"/>
            <a:ext cx="9144000" cy="50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NRW_Guillochen_PowerPoint-Titel"/>
          <p:cNvPicPr/>
          <p:nvPr/>
        </p:nvPicPr>
        <p:blipFill>
          <a:blip r:embed="rId1"/>
          <a:stretch/>
        </p:blipFill>
        <p:spPr>
          <a:xfrm>
            <a:off x="11160" y="301932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68400" y="2733840"/>
            <a:ext cx="898992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  <a:ea typeface="Arial"/>
              </a:rPr>
              <a:t>Neue Kernlehrpläne für 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  <a:ea typeface="Arial"/>
              </a:rPr>
              <a:t>Abendgymnasium und Kolleg in </a:t>
            </a:r>
            <a:br>
              <a:rPr sz="2800"/>
            </a:br>
            <a:r>
              <a:rPr b="0" lang="de-DE" sz="2800" spc="-1" strike="noStrike">
                <a:solidFill>
                  <a:srgbClr val="002060"/>
                </a:solidFill>
                <a:latin typeface="Arial"/>
                <a:ea typeface="Arial"/>
              </a:rPr>
              <a:t>Nordrhein Westfa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  <a:ea typeface="Arial"/>
              </a:rPr>
              <a:t>Kernlehrplan Ge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eck 1"/>
          <p:cNvSpPr/>
          <p:nvPr/>
        </p:nvSpPr>
        <p:spPr>
          <a:xfrm>
            <a:off x="2286000" y="14097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2060"/>
                </a:solidFill>
                <a:latin typeface="Arial-BoldMT"/>
              </a:rPr>
              <a:t>HERZLICH WILLKOM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2320" y="2693880"/>
            <a:ext cx="8064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te Kernlehrpläne</a:t>
            </a:r>
            <a:endParaRPr b="1" lang="en-US" sz="32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591F-FA16-45AB-946E-33BCB7FE069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520560" y="1420920"/>
          <a:ext cx="8064720" cy="4672080"/>
        </p:xfrm>
        <a:graphic>
          <a:graphicData uri="http://schemas.openxmlformats.org/drawingml/2006/table">
            <a:tbl>
              <a:tblPr/>
              <a:tblGrid>
                <a:gridCol w="863640"/>
                <a:gridCol w="7201080"/>
              </a:tblGrid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ederungspun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bemerkun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ufgaben und Ziele des Faches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, Inhaltsfelder und Kompetenzerwartungen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 und Inhaltsfelder des Faches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Einführung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Qualifikation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nd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istungs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Lernerfolgsüberprüfung und Leistungsbewertung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turprüfu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h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Textfeld 7"/>
          <p:cNvSpPr/>
          <p:nvPr/>
        </p:nvSpPr>
        <p:spPr>
          <a:xfrm>
            <a:off x="31680" y="76500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021F-4EA9-4300-91A1-016A5E1AA9D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560" y="1290600"/>
            <a:ext cx="80643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</a:rPr>
              <a:t>  </a:t>
            </a:r>
            <a:r>
              <a:rPr b="1" lang="de-DE" sz="2400" spc="-1" strike="noStrike">
                <a:solidFill>
                  <a:srgbClr val="002060"/>
                </a:solidFill>
                <a:latin typeface="Arial-BoldMT"/>
              </a:rPr>
              <a:t>Struktur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21" name="Line 7"/>
          <p:cNvSpPr/>
          <p:nvPr/>
        </p:nvSpPr>
        <p:spPr>
          <a:xfrm>
            <a:off x="4427640" y="25653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3348000" y="4443480"/>
            <a:ext cx="2286000" cy="485640"/>
          </a:xfrm>
          <a:prstGeom prst="rect">
            <a:avLst/>
          </a:prstGeom>
          <a:gradFill rotWithShape="0">
            <a:gsLst>
              <a:gs pos="0">
                <a:srgbClr val="ffcc00">
                  <a:alpha val="56078"/>
                </a:srgbClr>
              </a:gs>
              <a:gs pos="100000">
                <a:srgbClr val="cc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Konkretisier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Kompetenzerwart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895320" y="5234040"/>
            <a:ext cx="7070760" cy="91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 können </a:t>
            </a:r>
            <a:r>
              <a:rPr b="0" lang="de-DE" sz="1600" spc="-1" strike="noStrike">
                <a:solidFill>
                  <a:srgbClr val="00b050"/>
                </a:solidFill>
                <a:latin typeface="Arial"/>
                <a:ea typeface="Arial"/>
              </a:rPr>
              <a:t>Maßnahmen für eine nachhaltige Stadtentwicklung im Spannungsfeld von Mobilität und Lebensqualität </a:t>
            </a:r>
            <a:r>
              <a:rPr b="0" lang="de-DE" sz="1600" spc="-1" strike="noStrike">
                <a:solidFill>
                  <a:srgbClr val="b56f00"/>
                </a:solidFill>
                <a:latin typeface="Arial"/>
                <a:ea typeface="Arial"/>
              </a:rPr>
              <a:t>bewerten.</a:t>
            </a:r>
            <a:r>
              <a:rPr b="0" lang="de-DE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1042920" y="3068640"/>
            <a:ext cx="2305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Kompetenzberei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(Prozess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2340000" y="1773360"/>
            <a:ext cx="4176720" cy="792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Kompetenz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(z.B. raumbezogene Handlungskompetenz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2"/>
          <p:cNvSpPr/>
          <p:nvPr/>
        </p:nvSpPr>
        <p:spPr>
          <a:xfrm flipH="1">
            <a:off x="2268000" y="2852640"/>
            <a:ext cx="216252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3"/>
          <p:cNvSpPr/>
          <p:nvPr/>
        </p:nvSpPr>
        <p:spPr>
          <a:xfrm>
            <a:off x="4427640" y="2852640"/>
            <a:ext cx="2232000" cy="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4"/>
          <p:cNvSpPr/>
          <p:nvPr/>
        </p:nvSpPr>
        <p:spPr>
          <a:xfrm>
            <a:off x="2268360" y="2852640"/>
            <a:ext cx="0" cy="2160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5"/>
          <p:cNvSpPr/>
          <p:nvPr/>
        </p:nvSpPr>
        <p:spPr>
          <a:xfrm flipH="1">
            <a:off x="6659280" y="2852640"/>
            <a:ext cx="11160" cy="216000"/>
          </a:xfrm>
          <a:prstGeom prst="line">
            <a:avLst/>
          </a:prstGeom>
          <a:ln w="255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6"/>
          <p:cNvSpPr/>
          <p:nvPr/>
        </p:nvSpPr>
        <p:spPr>
          <a:xfrm>
            <a:off x="2268360" y="3645000"/>
            <a:ext cx="0" cy="104292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7"/>
          <p:cNvSpPr/>
          <p:nvPr/>
        </p:nvSpPr>
        <p:spPr>
          <a:xfrm flipH="1">
            <a:off x="6651720" y="3645000"/>
            <a:ext cx="7920" cy="1042920"/>
          </a:xfrm>
          <a:prstGeom prst="line">
            <a:avLst/>
          </a:prstGeom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8"/>
          <p:cNvSpPr/>
          <p:nvPr/>
        </p:nvSpPr>
        <p:spPr>
          <a:xfrm>
            <a:off x="2268360" y="4687920"/>
            <a:ext cx="107964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9"/>
          <p:cNvSpPr/>
          <p:nvPr/>
        </p:nvSpPr>
        <p:spPr>
          <a:xfrm flipH="1">
            <a:off x="5651640" y="4687920"/>
            <a:ext cx="1008000" cy="0"/>
          </a:xfrm>
          <a:prstGeom prst="line">
            <a:avLst/>
          </a:prstGeom>
          <a:ln w="255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5508720" y="3068640"/>
            <a:ext cx="2286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Inhaltsfeld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(Gegenständ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feld 19"/>
          <p:cNvSpPr/>
          <p:nvPr/>
        </p:nvSpPr>
        <p:spPr>
          <a:xfrm>
            <a:off x="-339840" y="641520"/>
            <a:ext cx="55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7"/>
          <p:cNvSpPr/>
          <p:nvPr/>
        </p:nvSpPr>
        <p:spPr>
          <a:xfrm>
            <a:off x="4506840" y="492912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5C24-5637-401E-808A-19B20F60DC8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feld 2"/>
          <p:cNvSpPr/>
          <p:nvPr/>
        </p:nvSpPr>
        <p:spPr>
          <a:xfrm>
            <a:off x="1084320" y="3678120"/>
            <a:ext cx="2220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Übergeordnete Kompetenzerwart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-493920" y="735120"/>
            <a:ext cx="557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-BoldMT"/>
                <a:ea typeface="ヒラギノ角ゴ Pro W3"/>
              </a:rPr>
              <a:t>Kompetenzorientierte Kernlehrplän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149400" y="1916280"/>
            <a:ext cx="887724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etenzbereich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systematisieren die kognitiven Prozesse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ch-,Methoden-,Urteils-,Handlungs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sfelder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stematisieren die Gegenstände, sind nicht mit Unterrichtsvorhaben gleichzusetzen - 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4 Bedeutungswandel von Standortfakt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5. Stadtentwicklung und Stadtstruktu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liche Schwerpunkt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gliederungselemente der         Inhaltsfelder – Beispiele zu I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erkmale, innere Differenzierung und Wandel von Städ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etropolisierung und Marginalisierung als Elemente eines weltweiten                      Verstädterungsproz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emographischer und sozialer Wandel als Herausforderung für                                     zukunftsorientierte Stadtentwick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feld 1"/>
          <p:cNvSpPr/>
          <p:nvPr/>
        </p:nvSpPr>
        <p:spPr>
          <a:xfrm>
            <a:off x="374760" y="1420920"/>
            <a:ext cx="86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entrale Begriffe und Ebenen im Kernlehrplan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F35C-8492-4711-9541-7F7621DB920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550800" y="2382480"/>
            <a:ext cx="806472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57400">
              <a:spcBef>
                <a:spcPts val="10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eordnete  Kompetenzerwartungen: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haltsfeldübergreifende Kompetenzerwartungen aus allen Kompetenzbereichen, mit Progre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spcBef>
                <a:spcPts val="10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kretisierte Kompetenzerwartungen :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haltsfeldbezogene Kompetenzerwartungen als             heruntergebrochene Zusammenführung von Prozessen                                 und Gegenständen (Sach- und Urteilskompetenz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-517680" y="750960"/>
            <a:ext cx="5700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feld 2"/>
          <p:cNvSpPr/>
          <p:nvPr/>
        </p:nvSpPr>
        <p:spPr>
          <a:xfrm>
            <a:off x="500040" y="1552680"/>
            <a:ext cx="81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entrale Begriffe und Ebenen im Kernlehrplan 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9289-67FC-41E5-80D4-30268E87966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558720" y="2138400"/>
            <a:ext cx="806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ach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feld 12"/>
          <p:cNvSpPr/>
          <p:nvPr/>
        </p:nvSpPr>
        <p:spPr>
          <a:xfrm>
            <a:off x="-571680" y="733320"/>
            <a:ext cx="58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2814480" y="1476360"/>
            <a:ext cx="3552840" cy="48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ompetenzerwa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Textfeld 4" descr=""/>
          <p:cNvPicPr/>
          <p:nvPr/>
        </p:nvPicPr>
        <p:blipFill>
          <a:blip r:embed="rId1"/>
          <a:stretch/>
        </p:blipFill>
        <p:spPr>
          <a:xfrm>
            <a:off x="1414440" y="2530440"/>
            <a:ext cx="6675480" cy="3754440"/>
          </a:xfrm>
          <a:prstGeom prst="rect">
            <a:avLst/>
          </a:prstGeom>
          <a:ln w="0">
            <a:noFill/>
          </a:ln>
        </p:spPr>
      </p:pic>
      <p:sp>
        <p:nvSpPr>
          <p:cNvPr id="65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F2EF-7D8F-44A2-8CD9-BEA30006035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42BF-5172-42B7-A4D9-70939FF2396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447840" y="698400"/>
            <a:ext cx="5273640" cy="639720"/>
          </a:xfrm>
          <a:prstGeom prst="rect">
            <a:avLst/>
          </a:prstGeom>
          <a:ln w="0">
            <a:noFill/>
          </a:ln>
        </p:spPr>
      </p:pic>
      <p:sp>
        <p:nvSpPr>
          <p:cNvPr id="654" name="Rechteck 2"/>
          <p:cNvSpPr/>
          <p:nvPr/>
        </p:nvSpPr>
        <p:spPr>
          <a:xfrm>
            <a:off x="3255120" y="24177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rteils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2"/>
          <a:stretch/>
        </p:blipFill>
        <p:spPr>
          <a:xfrm>
            <a:off x="2604960" y="1635120"/>
            <a:ext cx="3603600" cy="639720"/>
          </a:xfrm>
          <a:prstGeom prst="rect">
            <a:avLst/>
          </a:prstGeom>
          <a:ln w="0">
            <a:noFill/>
          </a:ln>
        </p:spPr>
      </p:pic>
      <p:sp>
        <p:nvSpPr>
          <p:cNvPr id="656" name="Rechteck 4"/>
          <p:cNvSpPr/>
          <p:nvPr/>
        </p:nvSpPr>
        <p:spPr>
          <a:xfrm>
            <a:off x="447840" y="2863800"/>
            <a:ext cx="45720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geordnete Kompetenzerwartung:</a:t>
            </a:r>
            <a:br>
              <a:rPr sz="2000"/>
            </a:br>
            <a:br>
              <a:rPr sz="10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 könn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komplexere raumbezog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achverhalte, Problemlagen und Maßnahmen unter explizi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enennung und Anwendung der zu Grunde gelegten Wertmaßstä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zw. Werte und Normen bewer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hteck 5"/>
          <p:cNvSpPr/>
          <p:nvPr/>
        </p:nvSpPr>
        <p:spPr>
          <a:xfrm>
            <a:off x="4572000" y="3002040"/>
            <a:ext cx="42084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nkretisierte Kompetenzerwartung:</a:t>
            </a:r>
            <a:br>
              <a:rPr sz="2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0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 könn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Maßnahmen zur Verringerung von Bodendegradation und Desertifikation hinsichtlich ökonomischer, ökologischer und sozialer Aspekte bewer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4"/>
          <p:cNvSpPr/>
          <p:nvPr/>
        </p:nvSpPr>
        <p:spPr>
          <a:xfrm>
            <a:off x="558720" y="1886040"/>
            <a:ext cx="806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feld 12"/>
          <p:cNvSpPr/>
          <p:nvPr/>
        </p:nvSpPr>
        <p:spPr>
          <a:xfrm>
            <a:off x="-700200" y="820800"/>
            <a:ext cx="58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AAF5-F45F-4616-89DA-E70A0FB15B8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hteck 2"/>
          <p:cNvSpPr/>
          <p:nvPr/>
        </p:nvSpPr>
        <p:spPr>
          <a:xfrm>
            <a:off x="1300320" y="1560600"/>
            <a:ext cx="61466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gression einer übergeordneten Methodenkompeten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önnen aus Modellvorstellungen allgemeingeographische Kernaussagen herausarbeiten (EPH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önnen Modellen allgemeingeographische Kernaussagen entnehmen und diese mit konkreten Raumbeispielen vergleichen (GK – QPH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önnen komplexen Modellen allgemeingeographische Kernaussagen entnehmen und diese anhand konkreter Raumbeispiele überprüfen (LK – QP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CE01-52E1-49DC-85F6-C0B4E0EF62D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hteck 2"/>
          <p:cNvSpPr/>
          <p:nvPr/>
        </p:nvSpPr>
        <p:spPr>
          <a:xfrm>
            <a:off x="1126080" y="80964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hteck 3"/>
          <p:cNvSpPr/>
          <p:nvPr/>
        </p:nvSpPr>
        <p:spPr>
          <a:xfrm>
            <a:off x="187200" y="1314360"/>
            <a:ext cx="86821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Merk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ndardorientiert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greifen die Bildungsstandards vollständig auf bzw. definieren Standards (zu erreichende Zie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orientier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tehen aus fachbezogenen Kompetenzerwart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utputorientier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die erwarteten Lernergebn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bindlich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eine landesweit verbindliche Obligatorik; sie formulieren klare Ergebniserwartungen und keine Wahlmöglichkei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didaktisiert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äne beschränken sich auf die Formulierung der zu erreichenden Ergebnisse und treffen keine Aussagen zu Wegen und Verfahren der Zielerreichung (außer in Ansätzen in der Primarstuf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II. Fachspezifische Erläuterungen zum neuen KLP Ge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7998-98F1-4E87-B3AF-BD1F0C79D0F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39280" y="2236320"/>
            <a:ext cx="844092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romanUcPeriod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nformationen zum Konzept und zur Gestaltung v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</a:t>
            </a: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ten Kernlehrpl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.  Fachspezifische Erläuterungen zum neuen KLP Geograp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I. Schulinterne Curricula und Unterstützungsange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498240" y="1574280"/>
            <a:ext cx="80643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6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3E2E-8D05-4B0D-A00D-65D30DFF5BE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539280" y="2236320"/>
            <a:ext cx="8440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romanUcPeriod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nformationen zum Konzept und zur Gestaltung v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</a:t>
            </a: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ten Kernlehrpl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I. Schulinterne Lehrpläne und Unterstützungsange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498240" y="1574280"/>
            <a:ext cx="80643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6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D3F8-4E25-42A2-91E3-723277E1B8A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539640" y="3243240"/>
            <a:ext cx="8440920" cy="97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.  Fachspezifische Erläuterungen zum neuen KLP Geograp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514440" indent="-514440" algn="ctr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ie wichtigsten Merkmale des neu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Kernlehrplanes WbK Ge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C56D-0E35-4C03-946F-3E8A310E7B3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FF58-CA0D-4875-97FE-C9793248995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9A6D-90A0-4F66-BDB3-E8DF7B8A7A15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feld 7"/>
          <p:cNvSpPr/>
          <p:nvPr/>
        </p:nvSpPr>
        <p:spPr>
          <a:xfrm>
            <a:off x="26820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ie wichtigsten Merk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855E-481C-45B6-8F6B-AE707234E6F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hteck 3"/>
          <p:cNvSpPr/>
          <p:nvPr/>
        </p:nvSpPr>
        <p:spPr>
          <a:xfrm>
            <a:off x="676440" y="1598760"/>
            <a:ext cx="78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neue Fachbezeichnung: Geographie statt Erd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hteck 4"/>
          <p:cNvSpPr/>
          <p:nvPr/>
        </p:nvSpPr>
        <p:spPr>
          <a:xfrm>
            <a:off x="684360" y="2208240"/>
            <a:ext cx="789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rücksichtigung des aktuellen fachdidaktischen und fach-wissenschaftliche Forschungsstandes (u.a. Raumkonzepte, Raumwahrnehm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hteck 5"/>
          <p:cNvSpPr/>
          <p:nvPr/>
        </p:nvSpPr>
        <p:spPr>
          <a:xfrm>
            <a:off x="684360" y="3394080"/>
            <a:ext cx="789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stmögliche Erfassung der zentralen Fragestellungen der Gegenwar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d – soweit vorhersehbar – der Zukunft  (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erausforderungen des 21.Jahrhunderts“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hteck 6"/>
          <p:cNvSpPr/>
          <p:nvPr/>
        </p:nvSpPr>
        <p:spPr>
          <a:xfrm>
            <a:off x="684360" y="4597560"/>
            <a:ext cx="789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nsequente Output-Orientierung und Konzentration auf den fachlichen Kern („Was können Studierende im Fach Geographie hinterher mehr als vorher?“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E59F-26C3-447C-9683-E62C7E60B99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C5B6-EE93-4AE1-8D28-808459C0BF2E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feld 7"/>
          <p:cNvSpPr/>
          <p:nvPr/>
        </p:nvSpPr>
        <p:spPr>
          <a:xfrm>
            <a:off x="26820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ie wichtigsten Merk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C115-C340-4189-A616-D61B7CF3AD1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hteck 3"/>
          <p:cNvSpPr/>
          <p:nvPr/>
        </p:nvSpPr>
        <p:spPr>
          <a:xfrm>
            <a:off x="676440" y="1598760"/>
            <a:ext cx="789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rchgängige Kompetenzorientierung und expliziter Ausweis der vier Kompetenzbereiche (Sach-, Methoden-, Urteils- und Handlungskompeten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hteck 2"/>
          <p:cNvSpPr/>
          <p:nvPr/>
        </p:nvSpPr>
        <p:spPr>
          <a:xfrm>
            <a:off x="676440" y="2727360"/>
            <a:ext cx="789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verbindliche Zuordnung von Inhaltsfeldern zur Einführungsphase bzw. Qualifikations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hteck 4"/>
          <p:cNvSpPr/>
          <p:nvPr/>
        </p:nvSpPr>
        <p:spPr>
          <a:xfrm>
            <a:off x="676440" y="3608280"/>
            <a:ext cx="789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In Qualifikationsphase: Inhaltsfelder weitgehend an bisherigen Inhalten der Abiturvorgaben orient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hteck 5"/>
          <p:cNvSpPr/>
          <p:nvPr/>
        </p:nvSpPr>
        <p:spPr>
          <a:xfrm>
            <a:off x="684360" y="5010120"/>
            <a:ext cx="789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iziter Ausweis von Anforderungen im GK und LK (Differenzierung über übergeordnete und über konkretisierte Kompetenzerwartunge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hteck 6"/>
          <p:cNvSpPr/>
          <p:nvPr/>
        </p:nvSpPr>
        <p:spPr>
          <a:xfrm>
            <a:off x="704520" y="4464000"/>
            <a:ext cx="48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keine Festlegung von Raum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514440" indent="-514440" algn="ctr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er Aufbau des neuen Kernlehrplanes WbK Ge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5DFB-7C5C-4AA8-A368-8823DCC1D83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AF6E-9428-43BE-9ECA-745E21B52D3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1991-1C09-4CDB-B910-C68CF32ECF05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59C1-6F10-4780-8606-C2C5ED9B4A8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2"/>
          <p:cNvGrpSpPr/>
          <p:nvPr/>
        </p:nvGrpSpPr>
        <p:grpSpPr>
          <a:xfrm>
            <a:off x="878040" y="755640"/>
            <a:ext cx="8042040" cy="5266800"/>
            <a:chOff x="878040" y="755640"/>
            <a:chExt cx="8042040" cy="5266800"/>
          </a:xfrm>
        </p:grpSpPr>
        <p:sp>
          <p:nvSpPr>
            <p:cNvPr id="699" name="AutoShape 3"/>
            <p:cNvSpPr/>
            <p:nvPr/>
          </p:nvSpPr>
          <p:spPr>
            <a:xfrm>
              <a:off x="878040" y="755640"/>
              <a:ext cx="8042040" cy="44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4"/>
            <p:cNvSpPr/>
            <p:nvPr/>
          </p:nvSpPr>
          <p:spPr>
            <a:xfrm>
              <a:off x="2930040" y="987480"/>
              <a:ext cx="3223080" cy="63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7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Übergreifende fachliche Kompetenz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Bef>
                  <a:spcPts val="300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"Raumbezogene Handlungskompetenz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5"/>
            <p:cNvSpPr/>
            <p:nvPr/>
          </p:nvSpPr>
          <p:spPr>
            <a:xfrm>
              <a:off x="1146600" y="2294640"/>
              <a:ext cx="2762280" cy="13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6000"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ompetenzberei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Prozess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ach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ethoden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rteils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ndlungs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5167440" y="2315520"/>
              <a:ext cx="2762280" cy="12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haltsfelder 1 -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Gegenständ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haltsfeld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ebensräume und deren naturbedingte sowie anthropogen bedingte Gefährdu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…</a:t>
              </a: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7"/>
            <p:cNvSpPr/>
            <p:nvPr/>
          </p:nvSpPr>
          <p:spPr>
            <a:xfrm>
              <a:off x="962280" y="4338000"/>
              <a:ext cx="7198920" cy="168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ompetenzerwartung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Verknüpfung von Prozessen und Gegenständen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eziehen sich auf beobachtbare Handlungen und sind auf die Bewältigung von Anforderungssituationen ausgerichtet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tellen im Sinne von Regelstandards die erwarteten Kenntnisse, Fähigkeiten und Fertigkeiten auf einem mittleren Abstraktionsgrad dar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rmöglichen die Darstellung einer Progression vom Anfang der Einführungsphase bis zum Ende der Qualifikationsphase  und zielen auf kumulatives, systematisch vernetztes Lernen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önnen in Aufgabenstellungen umgesetzt und überprüft werde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8"/>
            <p:cNvSpPr/>
            <p:nvPr/>
          </p:nvSpPr>
          <p:spPr>
            <a:xfrm>
              <a:off x="4557960" y="161892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9"/>
            <p:cNvSpPr/>
            <p:nvPr/>
          </p:nvSpPr>
          <p:spPr>
            <a:xfrm flipH="1">
              <a:off x="2564280" y="1973520"/>
              <a:ext cx="1995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0"/>
            <p:cNvSpPr/>
            <p:nvPr/>
          </p:nvSpPr>
          <p:spPr>
            <a:xfrm flipH="1">
              <a:off x="4560840" y="1975680"/>
              <a:ext cx="1994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1"/>
            <p:cNvSpPr/>
            <p:nvPr/>
          </p:nvSpPr>
          <p:spPr>
            <a:xfrm>
              <a:off x="2565000" y="197676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2"/>
            <p:cNvSpPr/>
            <p:nvPr/>
          </p:nvSpPr>
          <p:spPr>
            <a:xfrm>
              <a:off x="6557400" y="198072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3"/>
            <p:cNvSpPr/>
            <p:nvPr/>
          </p:nvSpPr>
          <p:spPr>
            <a:xfrm>
              <a:off x="4558680" y="3993120"/>
              <a:ext cx="72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4"/>
            <p:cNvSpPr/>
            <p:nvPr/>
          </p:nvSpPr>
          <p:spPr>
            <a:xfrm flipH="1">
              <a:off x="2518560" y="3996000"/>
              <a:ext cx="403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6"/>
            <p:cNvSpPr/>
            <p:nvPr/>
          </p:nvSpPr>
          <p:spPr>
            <a:xfrm>
              <a:off x="2518200" y="3606120"/>
              <a:ext cx="72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7"/>
            <p:cNvSpPr/>
            <p:nvPr/>
          </p:nvSpPr>
          <p:spPr>
            <a:xfrm>
              <a:off x="6556320" y="3619800"/>
              <a:ext cx="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8E33-4858-49B6-94ED-A919B745EB0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B8A3-94C7-419B-BA08-D1265C353E5F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BDA4-98CD-4CBA-8509-EFB7AFFCDB3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2"/>
          <p:cNvGrpSpPr/>
          <p:nvPr/>
        </p:nvGrpSpPr>
        <p:grpSpPr>
          <a:xfrm>
            <a:off x="878040" y="755640"/>
            <a:ext cx="8042040" cy="5266800"/>
            <a:chOff x="878040" y="755640"/>
            <a:chExt cx="8042040" cy="5266800"/>
          </a:xfrm>
        </p:grpSpPr>
        <p:sp>
          <p:nvSpPr>
            <p:cNvPr id="718" name="AutoShape 3"/>
            <p:cNvSpPr/>
            <p:nvPr/>
          </p:nvSpPr>
          <p:spPr>
            <a:xfrm>
              <a:off x="878040" y="755640"/>
              <a:ext cx="8042040" cy="44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4"/>
            <p:cNvSpPr/>
            <p:nvPr/>
          </p:nvSpPr>
          <p:spPr>
            <a:xfrm>
              <a:off x="2930040" y="987480"/>
              <a:ext cx="3223080" cy="63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7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Übergreifende fachliche Kompetenz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Bef>
                  <a:spcPts val="300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"Raumbezogene Handlungskompetenz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5"/>
            <p:cNvSpPr/>
            <p:nvPr/>
          </p:nvSpPr>
          <p:spPr>
            <a:xfrm>
              <a:off x="1146600" y="2294640"/>
              <a:ext cx="2762280" cy="13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6000"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ompetenzberei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Prozess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ach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ethoden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rteils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ndlungs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6"/>
            <p:cNvSpPr/>
            <p:nvPr/>
          </p:nvSpPr>
          <p:spPr>
            <a:xfrm>
              <a:off x="5167440" y="2315520"/>
              <a:ext cx="2762280" cy="12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Inhaltsfelder 1 -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(Gegenständ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Inhaltsfeld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Lebensräume und deren naturbedingte sowie anthropogen bedingte Gefährdu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…</a:t>
              </a: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7"/>
            <p:cNvSpPr/>
            <p:nvPr/>
          </p:nvSpPr>
          <p:spPr>
            <a:xfrm>
              <a:off x="962280" y="4338000"/>
              <a:ext cx="7198920" cy="168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ompetenzerwartung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Verknüpfung von Prozessen und Gegenständen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eziehen sich auf beobachtbare Handlungen und sind auf die Bewältigung von Anforderungssituationen ausgerichtet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tellen im Sinne von Regelstandards die erwarteten Kenntnisse, Fähigkeiten und Fertigkeiten auf einem mittleren Abstraktionsgrad dar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rmöglichen die Darstellung einer Progression vom Anfang der Einführungsphase bis zum Ende der Qualifikationsphase  und zielen auf kumulatives, systematisch vernetztes Lernen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önnen in Aufgabenstellungen umgesetzt und überprüft werde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8"/>
            <p:cNvSpPr/>
            <p:nvPr/>
          </p:nvSpPr>
          <p:spPr>
            <a:xfrm>
              <a:off x="4557960" y="161892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9"/>
            <p:cNvSpPr/>
            <p:nvPr/>
          </p:nvSpPr>
          <p:spPr>
            <a:xfrm flipH="1">
              <a:off x="2564280" y="1973520"/>
              <a:ext cx="1995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0"/>
            <p:cNvSpPr/>
            <p:nvPr/>
          </p:nvSpPr>
          <p:spPr>
            <a:xfrm flipH="1">
              <a:off x="4560840" y="1975680"/>
              <a:ext cx="1994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1"/>
            <p:cNvSpPr/>
            <p:nvPr/>
          </p:nvSpPr>
          <p:spPr>
            <a:xfrm>
              <a:off x="2565000" y="197676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2"/>
            <p:cNvSpPr/>
            <p:nvPr/>
          </p:nvSpPr>
          <p:spPr>
            <a:xfrm>
              <a:off x="6557400" y="198072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3"/>
            <p:cNvSpPr/>
            <p:nvPr/>
          </p:nvSpPr>
          <p:spPr>
            <a:xfrm>
              <a:off x="4558680" y="3993120"/>
              <a:ext cx="72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4"/>
            <p:cNvSpPr/>
            <p:nvPr/>
          </p:nvSpPr>
          <p:spPr>
            <a:xfrm flipH="1">
              <a:off x="2518560" y="3996000"/>
              <a:ext cx="403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6"/>
            <p:cNvSpPr/>
            <p:nvPr/>
          </p:nvSpPr>
          <p:spPr>
            <a:xfrm>
              <a:off x="2518200" y="3606120"/>
              <a:ext cx="72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7"/>
            <p:cNvSpPr/>
            <p:nvPr/>
          </p:nvSpPr>
          <p:spPr>
            <a:xfrm>
              <a:off x="6556320" y="3619800"/>
              <a:ext cx="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9A50-598F-4C56-85F6-87CB8B0F448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5DFE-7070-4870-B8EA-CC6D94D8220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E16B-7504-4E53-B607-F59B1144210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657360" y="1425600"/>
            <a:ext cx="806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Inhaltsfelder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Einführungsphase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1.       Lebensräume und deren naturbedingte sowie anthropo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         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bedingte Gefährd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2.       Raumwirksamkeit von Energieträgern und Energienutzung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Qualifikationsphase:</a:t>
            </a:r>
            <a:br>
              <a:rPr sz="2000"/>
            </a:b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3.       Landwirtschaftliche Strukturen in verschiedenen Klima- und </a:t>
            </a:r>
            <a:br>
              <a:rPr sz="2000"/>
            </a:b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          Vegetationsz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4.       Bedeutungswandel von Standortfaktor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5.       Stadtentwicklung und Stadtstruktur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6.       Sozioökonomische Entwicklungsstände von Räum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7.       Dienstleistungen in ihrer Bedeutung für Wirtschafts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          Beschäftigungsstrukturen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EFA5-A212-4C52-BF0B-4138B69CBF1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A409-F53D-492B-9FCD-4E5AF7DB3F2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C763-7C66-47F0-AAB5-6CD57415576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647640" y="1557360"/>
            <a:ext cx="813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Exemplarische Konkretisierung eines Inhaltsfel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(Inhaltliche Schwerpunk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Inhaltsfeld 3:  </a:t>
            </a: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Landwirtschaftliche Strukturen in verschiede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Klima- und Vegetationszone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Inhaltliche Schwer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Landwirtschaftliche Produktion in den Tropen vor dem Hintergru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weltwirtschaftlicher Proz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Intensivierung der landwirtschaftlichen Produktion in der gemäßigten Zone und in den Subtr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-Bold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Landwirtschaft im Spannungsfeld zwischen Ressourcengefährdung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und Nachhaltigkei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0096-86D1-4411-BEFD-711FEBAB415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7832-8421-403E-8CDE-3AE2CAD039C0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D354-62C8-48B7-84F8-D821B33CC31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2"/>
          <p:cNvGrpSpPr/>
          <p:nvPr/>
        </p:nvGrpSpPr>
        <p:grpSpPr>
          <a:xfrm>
            <a:off x="878040" y="755640"/>
            <a:ext cx="8042040" cy="5266800"/>
            <a:chOff x="878040" y="755640"/>
            <a:chExt cx="8042040" cy="5266800"/>
          </a:xfrm>
        </p:grpSpPr>
        <p:sp>
          <p:nvSpPr>
            <p:cNvPr id="747" name="AutoShape 3"/>
            <p:cNvSpPr/>
            <p:nvPr/>
          </p:nvSpPr>
          <p:spPr>
            <a:xfrm>
              <a:off x="878040" y="755640"/>
              <a:ext cx="8042040" cy="44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4"/>
            <p:cNvSpPr/>
            <p:nvPr/>
          </p:nvSpPr>
          <p:spPr>
            <a:xfrm>
              <a:off x="2930040" y="987480"/>
              <a:ext cx="3223080" cy="63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7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Übergreifende fachliche Kompetenz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Bef>
                  <a:spcPts val="300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"Raumbezogene Handlungskompetenz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5"/>
            <p:cNvSpPr/>
            <p:nvPr/>
          </p:nvSpPr>
          <p:spPr>
            <a:xfrm>
              <a:off x="1146600" y="2294640"/>
              <a:ext cx="2762280" cy="13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6000"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Kompetenzberei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(Prozess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Sach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Methoden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Urteils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andlungs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6"/>
            <p:cNvSpPr/>
            <p:nvPr/>
          </p:nvSpPr>
          <p:spPr>
            <a:xfrm>
              <a:off x="5167440" y="2315520"/>
              <a:ext cx="2762280" cy="12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haltsfelder 1 -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Gegenständ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haltsfeld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ebensräume und deren naturbedingte sowie anthropogen bedingte Gefährdu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…</a:t>
              </a: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7"/>
            <p:cNvSpPr/>
            <p:nvPr/>
          </p:nvSpPr>
          <p:spPr>
            <a:xfrm>
              <a:off x="962280" y="4338000"/>
              <a:ext cx="7198920" cy="168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ompetenzerwartung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Verknüpfung von Prozessen und Gegenständen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eziehen sich auf beobachtbare Handlungen und sind auf die Bewältigung von Anforderungssituationen ausgerichtet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tellen im Sinne von Regelstandards die erwarteten Kenntnisse, Fähigkeiten und Fertigkeiten auf einem mittleren Abstraktionsgrad dar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rmöglichen die Darstellung einer Progression vom Anfang der Einführungsphase bis zum Ende der Qualifikationsphase  und zielen auf kumulatives, systematisch vernetztes Lernen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önnen in Aufgabenstellungen umgesetzt und überprüft werde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8"/>
            <p:cNvSpPr/>
            <p:nvPr/>
          </p:nvSpPr>
          <p:spPr>
            <a:xfrm>
              <a:off x="4557960" y="161892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9"/>
            <p:cNvSpPr/>
            <p:nvPr/>
          </p:nvSpPr>
          <p:spPr>
            <a:xfrm flipH="1">
              <a:off x="2564280" y="1973520"/>
              <a:ext cx="1995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0"/>
            <p:cNvSpPr/>
            <p:nvPr/>
          </p:nvSpPr>
          <p:spPr>
            <a:xfrm flipH="1">
              <a:off x="4560840" y="1975680"/>
              <a:ext cx="1994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1"/>
            <p:cNvSpPr/>
            <p:nvPr/>
          </p:nvSpPr>
          <p:spPr>
            <a:xfrm>
              <a:off x="2565000" y="197676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2"/>
            <p:cNvSpPr/>
            <p:nvPr/>
          </p:nvSpPr>
          <p:spPr>
            <a:xfrm>
              <a:off x="6557400" y="198072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3"/>
            <p:cNvSpPr/>
            <p:nvPr/>
          </p:nvSpPr>
          <p:spPr>
            <a:xfrm>
              <a:off x="4558680" y="3993120"/>
              <a:ext cx="72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4"/>
            <p:cNvSpPr/>
            <p:nvPr/>
          </p:nvSpPr>
          <p:spPr>
            <a:xfrm flipH="1">
              <a:off x="2518560" y="3996000"/>
              <a:ext cx="403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6"/>
            <p:cNvSpPr/>
            <p:nvPr/>
          </p:nvSpPr>
          <p:spPr>
            <a:xfrm>
              <a:off x="2518200" y="3606120"/>
              <a:ext cx="72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7"/>
            <p:cNvSpPr/>
            <p:nvPr/>
          </p:nvSpPr>
          <p:spPr>
            <a:xfrm>
              <a:off x="6556320" y="3619800"/>
              <a:ext cx="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Textfeld 21"/>
          <p:cNvSpPr/>
          <p:nvPr/>
        </p:nvSpPr>
        <p:spPr>
          <a:xfrm>
            <a:off x="666720" y="3654360"/>
            <a:ext cx="3781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0" lang="de-DE" sz="15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de-DE" sz="1500" spc="-1" strike="noStrike">
                <a:solidFill>
                  <a:srgbClr val="ff0000"/>
                </a:solidFill>
                <a:latin typeface="Arial"/>
                <a:ea typeface="Arial"/>
              </a:rPr>
              <a:t>Übergeordnete Kompetenzerwart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I. Informationen zum Konzept und zur Gestaltung von kompetenzorientierten Kernlehrplä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E81D-4B4C-4B4D-A67D-3D0CCD3CD2E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3B35-8EDE-487D-892A-B531A84560F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E5A2-EAC0-480A-A3F7-4D50FD65148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64A7-792E-4E68-955C-7E34B3E62D2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9"/>
          <p:cNvSpPr/>
          <p:nvPr/>
        </p:nvSpPr>
        <p:spPr>
          <a:xfrm>
            <a:off x="647640" y="1557360"/>
            <a:ext cx="8136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Übergeordnete Kompetenz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Sachkompetenz (Grundk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as Zusammenwirken von Geofaktoren als System sowie deren Einfluss auf den menschlichen Lebensraum beschreiben (SK1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Wirkungen und Folgen von Eingriffen des Menschen in das Geofaktorengefüge analysieren (SK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humangeographische Strukturen und Räume unterschiedlicher Maßstabsebenen sowie unterschiedlichen Entwicklungsstandes und damit zusammenhängende Disparitäten und Verflechtungen erläutern (SK3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……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feil nach rechts 6"/>
          <p:cNvSpPr/>
          <p:nvPr/>
        </p:nvSpPr>
        <p:spPr>
          <a:xfrm rot="13223400">
            <a:off x="7719840" y="4233600"/>
            <a:ext cx="1354320" cy="2253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e2001a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92C7-6591-4A34-A853-52BB473F685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1B28-D02D-40F5-8D03-7FC232E3C2C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2C0A-A0D7-4F70-997A-7AE64CA27C5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9"/>
          <p:cNvSpPr/>
          <p:nvPr/>
        </p:nvSpPr>
        <p:spPr>
          <a:xfrm>
            <a:off x="647640" y="1515960"/>
            <a:ext cx="8217000" cy="48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Übergeordnete Kompetenz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Methodenkompetenz (Grundk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sich mit Hilfe von physischen und thematischen Karten sowie digitalen Kartendiensten orientieren (MK1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problemhaltige geographische Sachverhalte identifizieren und unter Nutzung des problemorientierten analytischen Wegs der Erkenntnis-gewinnung entsprechende Fragestellungen und Hypothesen entwickeln (MK2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auch komplexere Darstellungs- und Arbeitsmittel (Karte, Bild, Film, statistische Angaben, Grafiken, Text) in Materialzusammenstellungen analysieren, um raumbezogene Hypothesen zu überprüfen (MK3)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Grafik 2" descr=""/>
          <p:cNvPicPr/>
          <p:nvPr/>
        </p:nvPicPr>
        <p:blipFill>
          <a:blip r:embed="rId1"/>
          <a:stretch/>
        </p:blipFill>
        <p:spPr>
          <a:xfrm rot="20455800">
            <a:off x="4758840" y="3389400"/>
            <a:ext cx="1073160" cy="6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1368-ACBB-48CE-9FD9-3A831937868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FEF7-4FD4-4B7B-A6B3-8D5A3D864E4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84AD-0310-492D-A6EC-E698A836A56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9"/>
          <p:cNvSpPr/>
          <p:nvPr/>
        </p:nvSpPr>
        <p:spPr>
          <a:xfrm>
            <a:off x="647640" y="1557360"/>
            <a:ext cx="821700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Übergeordnete Kompetenz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Methodenkompetenz (Grundk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[…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geographische Sachverhalte mündlich und schriftlich unter Verwendung der Fachsprache problembezogen, sachlogisch strukturiert, aufgaben-, operatoren- und materialbezogen sowie differenziert darstellen (MK6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schriftliche und mündliche Aussagen durch angemessene und korrekte Materialverweise und Materialzitate belegen (MK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[…]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6AAA-28E1-428B-B7F7-C83A34FB00B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6660-D963-4E24-81D6-32DF91B2DBE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D05E-780C-42E7-8C3D-6810C369430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9"/>
          <p:cNvSpPr/>
          <p:nvPr/>
        </p:nvSpPr>
        <p:spPr>
          <a:xfrm>
            <a:off x="647640" y="1523880"/>
            <a:ext cx="8136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Übergeordnete Kompetenz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Urteilskompetenz (Grundk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komplexe raumbezogene Sachverhalte, Problemstellungen und Maßnahmen nach fachlichen Kriterien beurteilen (UK1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komplexe raumbezogene Sachverhalte, Problemlagen und Maß-nahmen unter expliziter Benennung und Anwendung der zu Grunde gelegten Wertmaßstäbe bzw. Werte und Normen bewerten (UK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…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eigene Arbeitsergebnisse kritisch mit Bezug auf die zugrunde gelegte Fragestellung, den Arbeitsweg und die benutzten Quellen bewerten (UK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Grafik 2" descr=""/>
          <p:cNvPicPr/>
          <p:nvPr/>
        </p:nvPicPr>
        <p:blipFill>
          <a:blip r:embed="rId1"/>
          <a:stretch/>
        </p:blipFill>
        <p:spPr>
          <a:xfrm rot="20208000">
            <a:off x="7413480" y="3425760"/>
            <a:ext cx="1073160" cy="6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0732-D1B8-408F-BA50-7958F24F300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54D4-6000-41F0-B9CF-271271F5ABF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2125-4EBF-41A9-9C69-D345AB631E5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9"/>
          <p:cNvSpPr/>
          <p:nvPr/>
        </p:nvSpPr>
        <p:spPr>
          <a:xfrm>
            <a:off x="647640" y="1252440"/>
            <a:ext cx="81360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Übergeordnete Kompetenz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Handlungskompetenz (Grundk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[…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in Raumnutzungskonflikten unterschiedliche Perspektiven und Positionen einnehmen und diese vertreten (HK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in einer Simulation vorbereitete Rollen von Akteurinnen und Akteuren eines raumbezogenen Konfliktes argumentativ abgesichert vertreten und eine Kompromisslösung finden (HK3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[…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themenbezogene Elemente von Unterrichtsgängen und Exkursionen planen und organisieren, diese durchführen und die Ergebnisse fachlich angemessen präsentieren (HK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Grafik 2" descr=""/>
          <p:cNvPicPr/>
          <p:nvPr/>
        </p:nvPicPr>
        <p:blipFill>
          <a:blip r:embed="rId1"/>
          <a:stretch/>
        </p:blipFill>
        <p:spPr>
          <a:xfrm rot="20508000">
            <a:off x="6654960" y="3549240"/>
            <a:ext cx="1073160" cy="6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2778-7461-40AB-96BD-00246F91A7D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E591-CBBE-4DC2-94F4-62266E64217A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FA29-76C3-4D0F-89BC-DE60D6F4F65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2"/>
          <p:cNvGrpSpPr/>
          <p:nvPr/>
        </p:nvGrpSpPr>
        <p:grpSpPr>
          <a:xfrm>
            <a:off x="878040" y="755640"/>
            <a:ext cx="8042040" cy="5266800"/>
            <a:chOff x="878040" y="755640"/>
            <a:chExt cx="8042040" cy="5266800"/>
          </a:xfrm>
        </p:grpSpPr>
        <p:sp>
          <p:nvSpPr>
            <p:cNvPr id="796" name="AutoShape 3"/>
            <p:cNvSpPr/>
            <p:nvPr/>
          </p:nvSpPr>
          <p:spPr>
            <a:xfrm>
              <a:off x="878040" y="755640"/>
              <a:ext cx="8042040" cy="44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4"/>
            <p:cNvSpPr/>
            <p:nvPr/>
          </p:nvSpPr>
          <p:spPr>
            <a:xfrm>
              <a:off x="2930040" y="987480"/>
              <a:ext cx="3223080" cy="63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7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Übergreifende fachliche Kompetenz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Bef>
                  <a:spcPts val="300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"Raumbezogene Handlungskompetenz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5"/>
            <p:cNvSpPr/>
            <p:nvPr/>
          </p:nvSpPr>
          <p:spPr>
            <a:xfrm>
              <a:off x="1146600" y="2294640"/>
              <a:ext cx="2762280" cy="13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6000"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ompetenzberei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Prozess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ach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ethoden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rteils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ndlungs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6"/>
            <p:cNvSpPr/>
            <p:nvPr/>
          </p:nvSpPr>
          <p:spPr>
            <a:xfrm>
              <a:off x="5167440" y="2315520"/>
              <a:ext cx="2762280" cy="12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haltsfelder 1 -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Gegenständ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haltsfeld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ebensräume und deren naturbedingte sowie anthropogen bedingte Gefährdu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…</a:t>
              </a: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7"/>
            <p:cNvSpPr/>
            <p:nvPr/>
          </p:nvSpPr>
          <p:spPr>
            <a:xfrm>
              <a:off x="962280" y="4338000"/>
              <a:ext cx="7198920" cy="168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(Konkretisierte) Kompetenzerwartung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(Verknüpfung von Prozessen und Gegenständen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eziehen sich auf </a:t>
              </a: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beobachtbare Handlungen </a:t>
              </a: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nd sind auf die Bewältigung von Anforderungssituationen ausgerichtet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tellen im Sinne von </a:t>
              </a: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Regelstandards</a:t>
              </a: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die erwarteten Kenntnisse, Fähigkeiten und Fertigkeiten auf einem mittleren Abstraktionsgrad dar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rmöglichen die Darstellung einer Progression vom Anfang der Einführungsphase bis zum Ende der Qualifikationsphase  und zielen auf kumulatives, systematisch vernetztes Lernen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buClr>
                  <a:srgbClr val="ff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können in Aufgabenstellungen umgesetzt und überprüft werde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8"/>
            <p:cNvSpPr/>
            <p:nvPr/>
          </p:nvSpPr>
          <p:spPr>
            <a:xfrm>
              <a:off x="4557960" y="161892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9"/>
            <p:cNvSpPr/>
            <p:nvPr/>
          </p:nvSpPr>
          <p:spPr>
            <a:xfrm flipH="1">
              <a:off x="2564280" y="1973520"/>
              <a:ext cx="1995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 flipH="1">
              <a:off x="4560840" y="1975680"/>
              <a:ext cx="1994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11"/>
            <p:cNvSpPr/>
            <p:nvPr/>
          </p:nvSpPr>
          <p:spPr>
            <a:xfrm>
              <a:off x="2565000" y="197676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12"/>
            <p:cNvSpPr/>
            <p:nvPr/>
          </p:nvSpPr>
          <p:spPr>
            <a:xfrm>
              <a:off x="6557400" y="198072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3"/>
            <p:cNvSpPr/>
            <p:nvPr/>
          </p:nvSpPr>
          <p:spPr>
            <a:xfrm>
              <a:off x="4558680" y="3993120"/>
              <a:ext cx="72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4"/>
            <p:cNvSpPr/>
            <p:nvPr/>
          </p:nvSpPr>
          <p:spPr>
            <a:xfrm flipH="1">
              <a:off x="2518560" y="3996000"/>
              <a:ext cx="403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16"/>
            <p:cNvSpPr/>
            <p:nvPr/>
          </p:nvSpPr>
          <p:spPr>
            <a:xfrm>
              <a:off x="2518200" y="3606120"/>
              <a:ext cx="72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17"/>
            <p:cNvSpPr/>
            <p:nvPr/>
          </p:nvSpPr>
          <p:spPr>
            <a:xfrm>
              <a:off x="6556320" y="3619800"/>
              <a:ext cx="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FDD6-E944-46A1-A7CF-36F7B8F0264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B5DD-DA80-456B-B0CD-CE2E19B0480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A4FE-5D8A-4DBC-A87F-AF9DFF8CFC7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9"/>
          <p:cNvSpPr/>
          <p:nvPr/>
        </p:nvSpPr>
        <p:spPr>
          <a:xfrm>
            <a:off x="647640" y="1325520"/>
            <a:ext cx="81360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Konkretisierte Kompetenzerwart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Inhaltsfeld 3:  Landwirtschaftliche  Strukturen in verschiede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Klima- und Vegetationsz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Sachkompetenz (Leistungsk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ff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Weltmarktorientierte Wirtschaftsformen 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und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Subsistenzwirtschaft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 hinsichtlich ihrer Betriebsstrukturen und Marktausrichtung sowie ihrer Beschäftigungswirksamkeit und ökonomischen Bedeutung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vergleichen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ff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Unterschiedliche Formen der Bewässerungslandwirtschaft 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zur Überwindung der klimatischen Trockengrenze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analysieren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 und sie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hinsichtlich ihrer Effizienz des Wassereinsatzes unterscheiden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…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1B02-A7E2-40A9-99FB-52D0392E4F8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441F-E25E-4B4D-84F3-A1F2CC24033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57D9-2407-4AA7-92BB-0AFCEB8F31B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9"/>
          <p:cNvSpPr/>
          <p:nvPr/>
        </p:nvSpPr>
        <p:spPr>
          <a:xfrm>
            <a:off x="647640" y="1359000"/>
            <a:ext cx="813600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Konkretisierte Kompetenzerwart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Inhaltsfeld 3:  Landwirtschaftliche  Strukturen in verschiede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Klima- und Vegetationsz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Urteilskompetenz (Leistungsk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Maßnahmen zur Verringerung von Bodendegradation und Desertifikation hinsichtlich ökonomischer, ökologischer und sozialer Aspekte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bewerten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den Zielkonflikt zwischen der steigenden Nachfrage nach Agrargütern einer wachsenden Weltbevölkerung und den Erfordernissen nachhaltigen Wirtschaftens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erörtern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…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514440" indent="-514440" algn="ctr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ie Besonderheiten der Einführungs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4046-A564-417B-831B-FB2FBC5C227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EF2F-DE36-49F5-86B8-8EFC5CFAA8C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079D-BC75-43F5-87B1-1FDDC5C1937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D1D1-8F25-4867-9AAF-C1D842BF56E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feld 14"/>
          <p:cNvSpPr/>
          <p:nvPr/>
        </p:nvSpPr>
        <p:spPr>
          <a:xfrm>
            <a:off x="204840" y="838080"/>
            <a:ext cx="35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ie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9"/>
          <p:cNvSpPr/>
          <p:nvPr/>
        </p:nvSpPr>
        <p:spPr>
          <a:xfrm>
            <a:off x="647640" y="1359000"/>
            <a:ext cx="81360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Ausbildungs- und Prüfungsordnung Weiterbildungskolleg (APO-WbK – Stand: 15.06.2014) legt den Umfangs des Geographie-unterrichts in der Einführungsphase nicht konkret fes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§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Einführungs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-Bold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[…] Im Bildungsgang des </a:t>
            </a:r>
            <a:r>
              <a:rPr b="0" lang="de-DE" sz="1900" spc="-1" strike="noStrike">
                <a:solidFill>
                  <a:srgbClr val="ff0000"/>
                </a:solidFill>
                <a:latin typeface="Arial-BoldMT"/>
                <a:ea typeface="MS PGothic"/>
              </a:rPr>
              <a:t>Kollegs</a:t>
            </a: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 werden darüber hinaus Religions-lehre und im Rahmen der übrigen Wochenstunden (§ 15) </a:t>
            </a:r>
            <a:r>
              <a:rPr b="0" lang="de-DE" sz="1900" spc="-1" strike="noStrike">
                <a:solidFill>
                  <a:srgbClr val="ff0000"/>
                </a:solidFill>
                <a:latin typeface="Arial-BoldMT"/>
                <a:ea typeface="MS PGothic"/>
              </a:rPr>
              <a:t>weitere Fächer</a:t>
            </a: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 nach Wahl der Studierenden </a:t>
            </a:r>
            <a:r>
              <a:rPr b="0" lang="de-DE" sz="1900" spc="-1" strike="noStrike">
                <a:solidFill>
                  <a:srgbClr val="ff0000"/>
                </a:solidFill>
                <a:latin typeface="Arial-BoldMT"/>
                <a:ea typeface="MS PGothic"/>
              </a:rPr>
              <a:t>mindestens zweistündig unterrichtet</a:t>
            </a: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, darunter mindestens je </a:t>
            </a:r>
            <a:r>
              <a:rPr b="0" lang="de-DE" sz="1900" spc="-1" strike="noStrike">
                <a:solidFill>
                  <a:srgbClr val="ff0000"/>
                </a:solidFill>
                <a:latin typeface="Arial-BoldMT"/>
                <a:ea typeface="MS PGothic"/>
              </a:rPr>
              <a:t>ein Fach aus den Aufgabenfeldern II </a:t>
            </a: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und III. […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§ 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Wahl der Abiturfä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[…] Ein Fach kann nur dann Abiturfach sein, wenn es in der Ein-führungsphase </a:t>
            </a:r>
            <a:r>
              <a:rPr b="0" lang="de-DE" sz="1900" spc="-1" strike="noStrike">
                <a:solidFill>
                  <a:srgbClr val="ff0000"/>
                </a:solidFill>
                <a:latin typeface="Arial-BoldMT"/>
                <a:ea typeface="MS PGothic"/>
              </a:rPr>
              <a:t>mindestens ein Semester lang belegt </a:t>
            </a: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worden ist. […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2584-FE6F-4ADF-BC8F-B69C7000BCF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51DD-E854-47EA-BE24-8356CFEDC685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1276200" y="1509840"/>
            <a:ext cx="6400800" cy="45021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Von der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Input-Steuerung und „Stofforientie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 am Ende dieses Bildungsabschnitt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genom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und behandelt worden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z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Ergebnis- bzw. „Output-Steuerung“ und </a:t>
            </a:r>
            <a:br>
              <a:rPr sz="2000"/>
            </a:b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Kompetenz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en die Studierenden a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de eines Bildungsabschnit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ön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feld 7"/>
          <p:cNvSpPr/>
          <p:nvPr/>
        </p:nvSpPr>
        <p:spPr>
          <a:xfrm>
            <a:off x="26820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0A8B-CBB5-4A53-83BC-CC0A12F6E39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A339-6BD7-431E-B5D0-1D25306CC07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0CE0-C6EC-48D0-8E7D-FC136D63793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7986-86E6-4806-8D46-FAFF1B03D8F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feld 14"/>
          <p:cNvSpPr/>
          <p:nvPr/>
        </p:nvSpPr>
        <p:spPr>
          <a:xfrm>
            <a:off x="204840" y="838080"/>
            <a:ext cx="35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ie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9"/>
          <p:cNvSpPr/>
          <p:nvPr/>
        </p:nvSpPr>
        <p:spPr>
          <a:xfrm>
            <a:off x="812880" y="1836720"/>
            <a:ext cx="8136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araus ergeben sich deutliche Diskrepanzen in der SWS-Zah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mit der Geographie an den verschiedenen Weiterbildungskolle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in der Einführungsphase unterrichtet wir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as Spektrum reicht v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6 SWS (zwei Semester Geographieunterricht à 3 Stun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bis 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2 SWS (ein Semester Geographieunterricht à 2 Stun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-BoldMT"/>
                <a:ea typeface="MS PGothic"/>
              </a:rPr>
              <a:t>(Umfrage im Facharbeitskreis Erdkunde; Stand Mai 20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5501-1680-4EBC-A5F3-0C856CD9D5D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F3EB-6B98-4CF3-856D-288D649DBB3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6BAB-C6C3-4B30-BF16-5D4718CCF73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feld 14"/>
          <p:cNvSpPr/>
          <p:nvPr/>
        </p:nvSpPr>
        <p:spPr>
          <a:xfrm>
            <a:off x="204840" y="838080"/>
            <a:ext cx="35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ie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9"/>
          <p:cNvSpPr/>
          <p:nvPr/>
        </p:nvSpPr>
        <p:spPr>
          <a:xfrm>
            <a:off x="647640" y="1359000"/>
            <a:ext cx="813600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er </a:t>
            </a: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Kernlehrplan WbK Geographie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trägt diesem Faktum Rechn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Seite 11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Die </a:t>
            </a: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Arial"/>
              </a:rPr>
              <a:t>Kompetenzerwartungen sind für die Einführungsphase weniger konkret formuliert als für die Qualifikationsphase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. Dies trägt den aus den Vorgaben der APO WbK resultierenden Differenzen in der Stundentafel des Faches in der Einführungsphase Rechnung. </a:t>
            </a: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Arial"/>
              </a:rPr>
              <a:t>Je nach zur Verfügung stehendem Stundenkontingent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 sowie nach Vorkenntnis-stand der Studierenden zu Beginn der Einführungsphase </a:t>
            </a: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Arial"/>
              </a:rPr>
              <a:t>kann der vorgegeben Kompetenzrahmen in unterschiedlicher Tiefe und Weite ausgefüllt werden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. Dabei stellen die für die Einführungsphase aus-gewiesenen </a:t>
            </a: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Arial"/>
              </a:rPr>
              <a:t>Kompetenzerwartungen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 des Kernlehrplans eine </a:t>
            </a: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Arial"/>
              </a:rPr>
              <a:t>in der Sache verbindliche, in der zeitlichen Umsetzung aber flexible Vorgabe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dar. Es besteht die Verpflichtung, die an dieser Stelle aufgeführten Kompetenzerwartungen bei den Lernenden </a:t>
            </a: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Arial"/>
              </a:rPr>
              <a:t>spätestens bis zum Ende der Qualifikationsphase auszubilden und zu entwickeln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. […]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feld 2"/>
          <p:cNvSpPr/>
          <p:nvPr/>
        </p:nvSpPr>
        <p:spPr>
          <a:xfrm>
            <a:off x="8427960" y="227340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feld 7"/>
          <p:cNvSpPr/>
          <p:nvPr/>
        </p:nvSpPr>
        <p:spPr>
          <a:xfrm>
            <a:off x="8427960" y="401148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feld 8"/>
          <p:cNvSpPr/>
          <p:nvPr/>
        </p:nvSpPr>
        <p:spPr>
          <a:xfrm>
            <a:off x="8429760" y="5251320"/>
            <a:ext cx="54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C261-21B4-480F-AEFC-E45F7D73305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2BE8-EB61-4D2A-914A-8FDB5DA48A5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2AE7-F519-4141-BAB9-689D38823D7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feld 14"/>
          <p:cNvSpPr/>
          <p:nvPr/>
        </p:nvSpPr>
        <p:spPr>
          <a:xfrm>
            <a:off x="204840" y="838080"/>
            <a:ext cx="35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ie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9"/>
          <p:cNvSpPr/>
          <p:nvPr/>
        </p:nvSpPr>
        <p:spPr>
          <a:xfrm>
            <a:off x="647640" y="1787400"/>
            <a:ext cx="813600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…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und zud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Seite 19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[…] Die Einführungsphase am Weiterbildungskolleg dient aufgr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des durch diskontinuierliche Lernbiographien bedingten heterogenen Leistungsstands insbesondere auch der Vertiefung grundlegender Fähigkeiten und Fertigkeiten. Im Unterschied zu den verbindlich zu erreichenden Kompetenzerwartungen am Ende der Qualifikations-phase </a:t>
            </a: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Arial"/>
              </a:rPr>
              <a:t>haben daher die Kompetenzerwartungen am Ende der Einführungsphase orientierungsstiftenden Charakter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. […]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feld 6"/>
          <p:cNvSpPr/>
          <p:nvPr/>
        </p:nvSpPr>
        <p:spPr>
          <a:xfrm>
            <a:off x="8218440" y="423072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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30F2-4A78-4A58-AA6C-A81CEAB4B78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1883-A5B2-447B-94DC-B0E4D48359C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708E-071A-4DC2-B2CD-4C9B566E053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feld 14"/>
          <p:cNvSpPr/>
          <p:nvPr/>
        </p:nvSpPr>
        <p:spPr>
          <a:xfrm>
            <a:off x="204840" y="838080"/>
            <a:ext cx="35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ie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9"/>
          <p:cNvSpPr/>
          <p:nvPr/>
        </p:nvSpPr>
        <p:spPr>
          <a:xfrm>
            <a:off x="647640" y="1986120"/>
            <a:ext cx="8136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Was diese Vorgaben des Kernlehrplanes für die Erstellung des jeweiligen schulinternen Lehrplans und die unterrichtliche Praxis bedeuten, wird im TOP 3 der heutigen Implementationsveranstaltung an einem konkreten Beispiel vo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514440" indent="-514440" algn="ctr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ie Differenzierung zwischen Grund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und Leistungsk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61BA-40A2-4C58-87B1-3459E20F497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E2AC-4EF2-47B4-9358-35111CCC544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BB9C-857C-4D71-8859-D26C3097D76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C54C-2894-49B5-BA66-A4BABC5F7E9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feld 14"/>
          <p:cNvSpPr/>
          <p:nvPr/>
        </p:nvSpPr>
        <p:spPr>
          <a:xfrm>
            <a:off x="204840" y="83808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Grundkurs - Leistungsk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9"/>
          <p:cNvSpPr/>
          <p:nvPr/>
        </p:nvSpPr>
        <p:spPr>
          <a:xfrm>
            <a:off x="515880" y="1927080"/>
            <a:ext cx="8136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-BoldMT"/>
                <a:ea typeface="MS PGothic"/>
              </a:rPr>
              <a:t>Grundkurs  </a:t>
            </a:r>
            <a:r>
              <a:rPr b="1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de-DE" sz="2800" spc="-1" strike="noStrike">
                <a:solidFill>
                  <a:srgbClr val="000000"/>
                </a:solidFill>
                <a:latin typeface="Arial-BoldMT"/>
                <a:ea typeface="MS PGothic"/>
              </a:rPr>
              <a:t>  Leistungsk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9"/>
          <p:cNvSpPr/>
          <p:nvPr/>
        </p:nvSpPr>
        <p:spPr>
          <a:xfrm>
            <a:off x="541440" y="2825640"/>
            <a:ext cx="8136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6000"/>
          </a:bodyPr>
          <a:p>
            <a:pPr marL="329040" indent="-329040">
              <a:lnSpc>
                <a:spcPts val="3197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Behandlung der gleichen Inhaltsfelder mit den gleichen inhaltlichen  Schwerpun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9"/>
          <p:cNvSpPr/>
          <p:nvPr/>
        </p:nvSpPr>
        <p:spPr>
          <a:xfrm>
            <a:off x="541440" y="3956040"/>
            <a:ext cx="8136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 marL="343080" indent="-343080">
              <a:lnSpc>
                <a:spcPts val="3197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Leistungsdifferenzierung erfolgt auf der Ebene der übergeordneten sowie der konkretisierten Kompetenzerwart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5632-66BF-4D6D-94F6-D8EEC4EFADA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0547-C3B4-4B17-A131-947F5F86466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779F-BCE3-4969-BE14-37FC3E7A8C9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feld 14"/>
          <p:cNvSpPr/>
          <p:nvPr/>
        </p:nvSpPr>
        <p:spPr>
          <a:xfrm>
            <a:off x="204840" y="83808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Grundkurs - Leistungsk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9"/>
          <p:cNvSpPr/>
          <p:nvPr/>
        </p:nvSpPr>
        <p:spPr>
          <a:xfrm>
            <a:off x="539640" y="1425600"/>
            <a:ext cx="81360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Übergeordnet Kompetenzerwar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Sachkompetenz (Grundk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das Zusammenwirken von Geofaktoren als System sowie deren Einfluss auf den menschlichen Lebensraum beschreiben (SK1), 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Strukturen und Prozesse in räumliche Orientierungsraster auf lokaler, regionaler und globaler Maßstabsebene einordnen (SK6), […] 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Sachkompetenz (Leistungsk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das Zusammenwirken von Geofaktoren als System sowie deren Einfluss auf den menschlichen Lebensraum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Arial"/>
              </a:rPr>
              <a:t>differenziert 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beschreiben (SK1), 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Strukturen und Prozesse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Arial"/>
              </a:rPr>
              <a:t>selbstständig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 in räumliche Orientierungsraster auf lokaler, regionaler und globaler Maßstabsebene einordnen (SK6), 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AA15-A099-446F-8C56-0901D809C96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97C1-11E1-40A2-A5C1-FA316184DB5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36E6-E0FE-469B-B731-8EE91D9B353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feld 14"/>
          <p:cNvSpPr/>
          <p:nvPr/>
        </p:nvSpPr>
        <p:spPr>
          <a:xfrm>
            <a:off x="204840" y="83808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Grundkurs - Leistungsk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9"/>
          <p:cNvSpPr/>
          <p:nvPr/>
        </p:nvSpPr>
        <p:spPr>
          <a:xfrm>
            <a:off x="539640" y="1293840"/>
            <a:ext cx="820116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Übergeordnet Kompetenzerwar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Handlungskompetenz (Grundk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Arbeitsergebnisse zu komplexen raumbezogenen Sachverhalten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Arial"/>
              </a:rPr>
              <a:t>im Unterricht 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sach-, problem- und adressatenbezogen sowie fachsprachlich angemessen präsentieren (HK1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in Raumnutzungskonflikten unterschiedliche Perspektiven und Positionen einnehmen und diese vertreten (HK2), […] 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Handlungskompetenz (Leistungsk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Arbeitsergebnisse zu komplexen raumbezogenen Sachverhalten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Arial"/>
              </a:rPr>
              <a:t>im (schul-) öffentlichen Rahmen 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sach-, problem- und adressatenbezogen sowie fachsprachlich angemessen präsentieren (HK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in Raumnutzungskonflikten unterschiedliche Perspektiven und Positionen einnehmen und diese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Arial"/>
              </a:rPr>
              <a:t>differenziert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 vertreten (HK2), 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7ECA-E166-48FB-8106-5F53B05AF4B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A6FF-AAD7-4891-A385-FFB1F22245E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D906-294A-4CB1-B4AE-E1468F1A4AB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feld 14"/>
          <p:cNvSpPr/>
          <p:nvPr/>
        </p:nvSpPr>
        <p:spPr>
          <a:xfrm>
            <a:off x="204840" y="83808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Grundkurs - Leistungsk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9"/>
          <p:cNvSpPr/>
          <p:nvPr/>
        </p:nvSpPr>
        <p:spPr>
          <a:xfrm>
            <a:off x="539640" y="1325520"/>
            <a:ext cx="83743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Konkretisierte Kompetenzerwar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Inhaltsfeld 4:  Bedeutungswandel von Standortfakto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Sachkompetenz (Grundk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[…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die Veränderung von lokalen und globalen Standortgefügen aufgrund der Einrichtung von Sonderwirtschafts-, Freihandels- und wirtschaftlichen Integrationszonen erläutern.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Sachkompetenz (Leistungsk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[…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die Veränderung von lokalen und globalen Standortgefügen aufgrund der Einrichtung von Sonderwirtschafts-, Freihandels- und wirtschaftlichen Integrationszonen erläuter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-BoldMT"/>
                <a:ea typeface="Arial"/>
              </a:rPr>
              <a:t>eine hochentwickelte Verkehrs- und Kommunikationsinfrastruktur sowie die räumliche Nähe zu Forschungs- und Entwicklungseinrichtungen als wesentliche Voraussetzungen für die Entwicklung von Hightech-Clustern darstellen.</a:t>
            </a:r>
            <a:r>
              <a:rPr b="0" lang="de-DE" sz="1600" spc="-1" strike="noStrike">
                <a:solidFill>
                  <a:srgbClr val="ff0000"/>
                </a:solidFill>
                <a:latin typeface="Arial-BoldMT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32F0-ED8A-4523-8750-DA807E7C70B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89DA-F41D-422F-B2E1-0AB8E300D61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E6E3-FBDD-4B0C-970D-51F461DA364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feld 14"/>
          <p:cNvSpPr/>
          <p:nvPr/>
        </p:nvSpPr>
        <p:spPr>
          <a:xfrm>
            <a:off x="204840" y="83808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Grundkurs - Leistungsk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9"/>
          <p:cNvSpPr/>
          <p:nvPr/>
        </p:nvSpPr>
        <p:spPr>
          <a:xfrm>
            <a:off x="539640" y="1293840"/>
            <a:ext cx="8136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Konkretisierte Kompetenzerwar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Inhaltsfeld 7:  Dienstleistungen in ihrer Bedeutung für Wirtschafts- 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 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Beschäftigungsstruktu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Sachkompetenz (Grundk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 […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die </a:t>
            </a:r>
            <a:r>
              <a:rPr b="0" lang="de-DE" sz="1600" spc="-1" strike="noStrike">
                <a:solidFill>
                  <a:srgbClr val="ff0000"/>
                </a:solidFill>
                <a:latin typeface="Arial-BoldMT"/>
                <a:ea typeface="Arial"/>
              </a:rPr>
              <a:t>Entwicklung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 einer touristischen Destination </a:t>
            </a:r>
            <a:r>
              <a:rPr b="0" lang="de-DE" sz="1600" spc="-1" strike="noStrike">
                <a:solidFill>
                  <a:srgbClr val="ff0000"/>
                </a:solidFill>
                <a:latin typeface="Arial-BoldMT"/>
                <a:ea typeface="Arial"/>
              </a:rPr>
              <a:t>unter Einbezug eines einfachen Modells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 analysier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Folgen unterschiedlicher Formen des Tourismus </a:t>
            </a:r>
            <a:r>
              <a:rPr b="0" lang="de-DE" sz="1600" spc="-1" strike="noStrike">
                <a:solidFill>
                  <a:srgbClr val="ff0000"/>
                </a:solidFill>
                <a:latin typeface="Arial-BoldMT"/>
                <a:ea typeface="Arial"/>
              </a:rPr>
              <a:t>in das Dreieck der Nachhaltigkeit 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einordnen. 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Sachkompetenz (Leistungsk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 […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-BoldMT"/>
                <a:ea typeface="Arial"/>
              </a:rPr>
              <a:t>unter Einbezug verschiedener Modelle 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Bedeutung und </a:t>
            </a:r>
            <a:r>
              <a:rPr b="0" lang="de-DE" sz="1600" spc="-1" strike="noStrike">
                <a:solidFill>
                  <a:srgbClr val="ff0000"/>
                </a:solidFill>
                <a:latin typeface="Arial-BoldMT"/>
                <a:ea typeface="Arial"/>
              </a:rPr>
              <a:t>raumzeitliche Entwicklung 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des Tourismus erklär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Folgen unterschiedlicher Formen des Tourismus </a:t>
            </a:r>
            <a:r>
              <a:rPr b="0" lang="de-DE" sz="1600" spc="-1" strike="noStrike">
                <a:solidFill>
                  <a:srgbClr val="ff0000"/>
                </a:solidFill>
                <a:latin typeface="Arial-BoldMT"/>
                <a:ea typeface="Arial"/>
              </a:rPr>
              <a:t>in verschiedene Konzepte zum Erreichen der Nachhaltigkeit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 einord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9E84-166C-44B8-8028-9130E03B7CC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grafik_transparent"/>
          <p:cNvPicPr/>
          <p:nvPr/>
        </p:nvPicPr>
        <p:blipFill>
          <a:blip r:embed="rId1"/>
          <a:srcRect l="-4997" t="8422" r="-606" b="54452"/>
          <a:stretch/>
        </p:blipFill>
        <p:spPr>
          <a:xfrm rot="9442800">
            <a:off x="1692000" y="1677600"/>
            <a:ext cx="5221080" cy="2041560"/>
          </a:xfrm>
          <a:prstGeom prst="rect">
            <a:avLst/>
          </a:prstGeom>
          <a:ln w="0">
            <a:noFill/>
          </a:ln>
        </p:spPr>
      </p:pic>
      <p:sp>
        <p:nvSpPr>
          <p:cNvPr id="57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A715-7EAD-41CD-B507-5A9327DE25B7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1881360" y="2508120"/>
            <a:ext cx="273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terrichtsgestalt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d Arbeitsproz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5384880" y="1413000"/>
            <a:ext cx="2736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utzung des unterrich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ichen Angeb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feld 14"/>
          <p:cNvSpPr/>
          <p:nvPr/>
        </p:nvSpPr>
        <p:spPr>
          <a:xfrm>
            <a:off x="20484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feld 2"/>
          <p:cNvSpPr/>
          <p:nvPr/>
        </p:nvSpPr>
        <p:spPr>
          <a:xfrm>
            <a:off x="76320" y="1413000"/>
            <a:ext cx="3276360" cy="6426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70c0"/>
                </a:solidFill>
                <a:latin typeface="Arial"/>
                <a:ea typeface="Arial"/>
              </a:rPr>
              <a:t>Steuerungsverständnis alter Lehrplä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2" descr="grafik_transparent"/>
          <p:cNvPicPr/>
          <p:nvPr/>
        </p:nvPicPr>
        <p:blipFill>
          <a:blip r:embed="rId2"/>
          <a:srcRect l="-4997" t="8422" r="-606" b="54452"/>
          <a:stretch/>
        </p:blipFill>
        <p:spPr>
          <a:xfrm rot="20242800">
            <a:off x="2072880" y="3798360"/>
            <a:ext cx="5221440" cy="204156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12"/>
          <p:cNvSpPr/>
          <p:nvPr/>
        </p:nvSpPr>
        <p:spPr>
          <a:xfrm>
            <a:off x="5292720" y="2924280"/>
            <a:ext cx="2176560" cy="831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9"/>
          <p:cNvGrpSpPr/>
          <p:nvPr/>
        </p:nvGrpSpPr>
        <p:grpSpPr>
          <a:xfrm>
            <a:off x="1692360" y="2448000"/>
            <a:ext cx="3024000" cy="3649320"/>
            <a:chOff x="1692360" y="2448000"/>
            <a:chExt cx="3024000" cy="3649320"/>
          </a:xfrm>
        </p:grpSpPr>
        <p:sp>
          <p:nvSpPr>
            <p:cNvPr id="579" name="Rectangle 10"/>
            <p:cNvSpPr/>
            <p:nvPr/>
          </p:nvSpPr>
          <p:spPr>
            <a:xfrm>
              <a:off x="1692360" y="2448000"/>
              <a:ext cx="3024000" cy="3477960"/>
            </a:xfrm>
            <a:prstGeom prst="rect">
              <a:avLst/>
            </a:prstGeom>
            <a:noFill/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1"/>
            <p:cNvSpPr/>
            <p:nvPr/>
          </p:nvSpPr>
          <p:spPr>
            <a:xfrm>
              <a:off x="2638440" y="5760000"/>
              <a:ext cx="990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70c0"/>
                  </a:solidFill>
                  <a:latin typeface="Arial"/>
                  <a:ea typeface="ヒラギノ角ゴ Pro W3"/>
                </a:rPr>
                <a:t>Fok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Rectangle 6"/>
          <p:cNvSpPr/>
          <p:nvPr/>
        </p:nvSpPr>
        <p:spPr>
          <a:xfrm>
            <a:off x="1763640" y="4149720"/>
            <a:ext cx="2881440" cy="936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zunehmender </a:t>
            </a:r>
            <a:br>
              <a:rPr sz="1800"/>
            </a:br>
            <a:r>
              <a:rPr b="0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Stof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als unterrichtlich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geb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8"/>
          <p:cNvGrpSpPr/>
          <p:nvPr/>
        </p:nvGrpSpPr>
        <p:grpSpPr>
          <a:xfrm>
            <a:off x="5051520" y="1413000"/>
            <a:ext cx="3155760" cy="4015440"/>
            <a:chOff x="5051520" y="1413000"/>
            <a:chExt cx="3155760" cy="4015440"/>
          </a:xfrm>
        </p:grpSpPr>
        <p:sp>
          <p:nvSpPr>
            <p:cNvPr id="583" name="Rectangle 9"/>
            <p:cNvSpPr/>
            <p:nvPr/>
          </p:nvSpPr>
          <p:spPr>
            <a:xfrm>
              <a:off x="5051520" y="1413000"/>
              <a:ext cx="3155760" cy="3840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0"/>
            <p:cNvSpPr/>
            <p:nvPr/>
          </p:nvSpPr>
          <p:spPr>
            <a:xfrm>
              <a:off x="6246720" y="5091120"/>
              <a:ext cx="963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cd0921"/>
                  </a:solidFill>
                  <a:latin typeface="Arial"/>
                  <a:ea typeface="ヒラギノ角ゴ Pro W3"/>
                </a:rPr>
                <a:t>Fok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feld 15"/>
          <p:cNvSpPr/>
          <p:nvPr/>
        </p:nvSpPr>
        <p:spPr>
          <a:xfrm>
            <a:off x="5830920" y="5603760"/>
            <a:ext cx="32767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Steuerungsverständnis neuer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           Kernlehrplä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2"/>
          <p:cNvSpPr/>
          <p:nvPr/>
        </p:nvSpPr>
        <p:spPr>
          <a:xfrm>
            <a:off x="5291280" y="2922480"/>
            <a:ext cx="2176200" cy="831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Kompet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9EEB-BD55-4017-ACF5-BC0D1211440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514440" indent="-514440" algn="ctr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Lernerfolgsüberprüfungen und Abiturprüf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A1FA-62C5-4F43-B4AE-DCF0A1018CC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D15A-34D1-4E98-B17E-66DA687AE03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1F01-EA1E-476B-BB97-147957A136A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575D-FC0D-4C5F-AAA6-E82290C5B09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feld 14"/>
          <p:cNvSpPr/>
          <p:nvPr/>
        </p:nvSpPr>
        <p:spPr>
          <a:xfrm>
            <a:off x="204840" y="838080"/>
            <a:ext cx="37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Lernerfolgsüberprüf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9"/>
          <p:cNvSpPr/>
          <p:nvPr/>
        </p:nvSpPr>
        <p:spPr>
          <a:xfrm>
            <a:off x="1779480" y="2141640"/>
            <a:ext cx="540396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Überprüfungsformen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 Seite 49 ff. KLP)</a:t>
            </a: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: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arstellungsaufgaben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Analyseaufgaben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Erörterungsaufgaben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Handlungsaufgab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328A-7CF9-4180-BB5F-700B0B2D929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E2E4-6190-4E36-82B1-5E45311EC40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C9A4-7A05-4B7F-871B-2EF54599E40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feld 14"/>
          <p:cNvSpPr/>
          <p:nvPr/>
        </p:nvSpPr>
        <p:spPr>
          <a:xfrm>
            <a:off x="0" y="838080"/>
            <a:ext cx="28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Abiturprüf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9"/>
          <p:cNvSpPr/>
          <p:nvPr/>
        </p:nvSpPr>
        <p:spPr>
          <a:xfrm>
            <a:off x="828720" y="1639800"/>
            <a:ext cx="774684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Schriftliche Abiturprüfung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 Seite 53 f. KLP)</a:t>
            </a: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Die Aufgaben im Rahmen der schriftlichen Abiturprüfung im Fach Geographie verlangen von den Studierenden eine materialgestützte argumentative Entfaltung einer raumrelevanten Problematik, deren fachlicher Hintergrund aus dem Unterricht bekannt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Die Abituraufgaben bestehen aus einer problemorientierten Themenformulierung, den darauf bezogenen Teilaufgaben und den für die Bearbeitung notwendigen fachspezifischen Materiali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Die Teilaufgaben rekurrieren auf die Überprüfungsform […] </a:t>
            </a: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Arial"/>
              </a:rPr>
              <a:t>Alle Überprüfungsformen mit Ausnahme der Handlungsaufgabe kommen für die Abituraufgaben in Frage.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 […]“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539280" y="2236320"/>
            <a:ext cx="8440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romanUcPeriod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nformationen zum Konzept und zur Gestaltung v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</a:t>
            </a: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ten Kernlehrpl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title"/>
          </p:nvPr>
        </p:nvSpPr>
        <p:spPr>
          <a:xfrm>
            <a:off x="498240" y="1574280"/>
            <a:ext cx="80643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9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0EB1-82EC-4CCE-A935-7FC794E286D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0"/>
          <p:cNvSpPr/>
          <p:nvPr/>
        </p:nvSpPr>
        <p:spPr>
          <a:xfrm>
            <a:off x="539640" y="3243240"/>
            <a:ext cx="8440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.  Fachspezifische Erläuterungen zum neuen KLP Geograp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10"/>
          <p:cNvSpPr/>
          <p:nvPr/>
        </p:nvSpPr>
        <p:spPr>
          <a:xfrm>
            <a:off x="539640" y="4029120"/>
            <a:ext cx="8440920" cy="89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I. Schulinterne Lehrpläne und Unterstützungsange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01C0-EB8C-4BCE-83F4-AA7B1568CD8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D71B-DF04-4557-8A23-7420FACEED0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1A11-F7C5-484A-A4F9-03965B5F424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2" descr="http://www.caritas-zentrum-neustadt.de/shared_data/forms_layout/dicvspe/330486_1_2_2__Frauencaf%C3%A9_Kaffeetasse.jpg"/>
          <p:cNvPicPr/>
          <p:nvPr/>
        </p:nvPicPr>
        <p:blipFill>
          <a:blip r:embed="rId1"/>
          <a:stretch/>
        </p:blipFill>
        <p:spPr>
          <a:xfrm>
            <a:off x="1276200" y="1684440"/>
            <a:ext cx="4286520" cy="428616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10"/>
          <p:cNvSpPr/>
          <p:nvPr/>
        </p:nvSpPr>
        <p:spPr>
          <a:xfrm>
            <a:off x="5964120" y="2994120"/>
            <a:ext cx="2505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3600" spc="-1" strike="noStrike">
                <a:solidFill>
                  <a:srgbClr val="6d4300"/>
                </a:solidFill>
                <a:latin typeface="Comic Sans MS"/>
                <a:ea typeface="Times New Roman"/>
              </a:rPr>
              <a:t>Genieß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3600" spc="-1" strike="noStrike">
                <a:solidFill>
                  <a:srgbClr val="6d4300"/>
                </a:solidFill>
                <a:latin typeface="Comic Sans MS"/>
                <a:ea typeface="Times New Roman"/>
              </a:rPr>
              <a:t>S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3600" spc="-1" strike="noStrike">
                <a:solidFill>
                  <a:srgbClr val="6d4300"/>
                </a:solidFill>
                <a:latin typeface="Comic Sans MS"/>
                <a:ea typeface="Times New Roman"/>
              </a:rPr>
              <a:t>die Pau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III. Schulinterne Lehrpläne und Unterstützungsangeb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C1A8-AA94-4C2C-85AA-72B7961CBDA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D80A-CFFF-40FF-9EA5-759020D452E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0096-47CD-4C03-A010-E0BBC2814651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1276200" y="1509840"/>
            <a:ext cx="6400800" cy="45021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Von der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Input-Steuerung und „Stofforientie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 am Ende dieses Bildungsabschnitt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genom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und behandelt worden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z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Ergebnis- bzw. „Output-Steuerung“ und </a:t>
            </a:r>
            <a:br>
              <a:rPr sz="2000"/>
            </a:b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Kompetenzorientier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en die Studierenden a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de eines Bildungsabschnit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ön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   </a:t>
            </a:r>
            <a:r>
              <a:rPr b="0" lang="de-DE" sz="1600" spc="-1" strike="noStrike">
                <a:solidFill>
                  <a:srgbClr val="003760"/>
                </a:solidFill>
                <a:latin typeface="Arial"/>
                <a:ea typeface="ヒラギノ角ゴ Pro W3"/>
              </a:rPr>
              <a:t>aber a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i der Behandlung welcher Inhalte sollen 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udierenden diese Fähigkeiten erreichen</a:t>
            </a:r>
            <a:r>
              <a:rPr b="0" lang="de-DE" sz="1600" spc="-1" strike="noStrike">
                <a:solidFill>
                  <a:srgbClr val="003760"/>
                </a:solidFill>
                <a:latin typeface="Arial"/>
                <a:ea typeface="ヒラギノ角ゴ Pro W3"/>
              </a:rPr>
              <a:t>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feld 7"/>
          <p:cNvSpPr/>
          <p:nvPr/>
        </p:nvSpPr>
        <p:spPr>
          <a:xfrm>
            <a:off x="26820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559A-D887-4E99-BD6C-74908E9A119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9641-9138-42EA-A0FB-D270682D5CD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7D49-2A3C-4696-BABA-BF8926195A81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257720" y="2303640"/>
            <a:ext cx="436716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2001a"/>
                </a:solidFill>
                <a:latin typeface="Arial"/>
                <a:ea typeface="ヒラギノ角ゴ Pro W3"/>
              </a:rPr>
              <a:t>Sch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daktisch-pädagogische Prozesse in der Verantwortung der 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staltungsräume der Schul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besonders auch die zeitlichen Rahmenbedingungen in der EPH betreff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nkretisierung in unterrichtlichen Kontexten und Umsetzung in aufeinander abgestimmte Unterrichtsvorhaben (Progression, Kumulativitä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5"/>
          <p:cNvSpPr/>
          <p:nvPr/>
        </p:nvSpPr>
        <p:spPr>
          <a:xfrm>
            <a:off x="368280" y="1446120"/>
            <a:ext cx="8120160" cy="503712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E896-FF49-4BA2-B478-FD86DB8E8D5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hteck 6"/>
          <p:cNvSpPr/>
          <p:nvPr/>
        </p:nvSpPr>
        <p:spPr>
          <a:xfrm>
            <a:off x="641520" y="1574640"/>
            <a:ext cx="75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e2001a"/>
                </a:solidFill>
                <a:uFillTx/>
                <a:latin typeface="Arial"/>
                <a:ea typeface="ヒラギノ角ゴ Pro W3"/>
              </a:rPr>
              <a:t>Anforderungen an die Schulen angesichts  </a:t>
            </a:r>
            <a:br>
              <a:rPr sz="1800"/>
            </a:br>
            <a:r>
              <a:rPr b="1" lang="de-DE" sz="1800" spc="-1" strike="noStrike" u="sng">
                <a:solidFill>
                  <a:srgbClr val="e2001a"/>
                </a:solidFill>
                <a:uFillTx/>
                <a:latin typeface="Arial"/>
                <a:ea typeface="ヒラギノ角ゴ Pro W3"/>
              </a:rPr>
              <a:t>kompetenzorientierter Kernlehrplä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hteck 7"/>
          <p:cNvSpPr/>
          <p:nvPr/>
        </p:nvSpPr>
        <p:spPr>
          <a:xfrm>
            <a:off x="511200" y="2347920"/>
            <a:ext cx="38415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2001a"/>
                </a:solidFill>
                <a:latin typeface="Arial"/>
                <a:ea typeface="ヒラギノ角ゴ Pro W3"/>
              </a:rPr>
              <a:t>KL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rgabe zu erreich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schränkung auf 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bereich fachli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forderung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rmulierung v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erwartungen 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haltlichen Schwerpunkten 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inem bestimmten Zeitpunkt e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ldungsgang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8469-6BA1-41D7-BF4A-699194DCF07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9872-44EB-4962-9D4E-EE8CCBA785B4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204840" y="1351080"/>
            <a:ext cx="8761320" cy="483048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58EF-0DD4-417C-8293-40AE52BB8BA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hteck 6"/>
          <p:cNvSpPr/>
          <p:nvPr/>
        </p:nvSpPr>
        <p:spPr>
          <a:xfrm>
            <a:off x="314280" y="1563840"/>
            <a:ext cx="8556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80" indent="-46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	</a:t>
            </a:r>
            <a:r>
              <a:rPr b="1" lang="de-DE" sz="1800" spc="-1" strike="noStrike" u="sng">
                <a:solidFill>
                  <a:srgbClr val="e2001a"/>
                </a:solidFill>
                <a:uFillTx/>
                <a:latin typeface="Arial"/>
                <a:ea typeface="ヒラギノ角ゴ Pro W3"/>
              </a:rPr>
              <a:t>Anforderungen an die Schulen angesichts  </a:t>
            </a:r>
            <a:br>
              <a:rPr sz="1800"/>
            </a:br>
            <a:r>
              <a:rPr b="1" lang="de-DE" sz="1800" spc="-1" strike="noStrike" u="sng">
                <a:solidFill>
                  <a:srgbClr val="e2001a"/>
                </a:solidFill>
                <a:uFillTx/>
                <a:latin typeface="Arial"/>
                <a:ea typeface="ヒラギノ角ゴ Pro W3"/>
              </a:rPr>
              <a:t>kompetenzorientierter Kernlehrplä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80" indent="-4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hteck 7"/>
          <p:cNvSpPr/>
          <p:nvPr/>
        </p:nvSpPr>
        <p:spPr>
          <a:xfrm>
            <a:off x="287280" y="2548080"/>
            <a:ext cx="4230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2001a"/>
                </a:solidFill>
                <a:latin typeface="Arial"/>
                <a:ea typeface="ヒラギノ角ゴ Pro W3"/>
              </a:rPr>
              <a:t>KL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estlegung des Umfangs v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erwartungen und da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bundener Fachkenntniss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ssagen zur Leistungserfassung 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bewert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hteck 8"/>
          <p:cNvSpPr/>
          <p:nvPr/>
        </p:nvSpPr>
        <p:spPr>
          <a:xfrm>
            <a:off x="4462560" y="2606760"/>
            <a:ext cx="441468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2001a"/>
                </a:solidFill>
                <a:latin typeface="Arial"/>
                <a:ea typeface="ヒラギノ角ゴ Pro W3"/>
              </a:rPr>
              <a:t>Sch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gruppenadäquate Umsetzung und Konkretisier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einbarungen und Absprachen über Kriterien der Leistungsbewe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pflichtung der Schulen schuleigene Curricula (Lehrpläne/ Arbeitspläne) zu erstellen laut Schulges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FE03-9E29-480C-8281-D2A45F3C998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DBAB-3CF3-4170-90C1-771DEEAF76E2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1691-52AB-4D1B-B978-F349F85F2DF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568440" y="1616040"/>
          <a:ext cx="8064360" cy="3956040"/>
        </p:xfrm>
        <a:graphic>
          <a:graphicData uri="http://schemas.openxmlformats.org/drawingml/2006/table">
            <a:tbl>
              <a:tblPr/>
              <a:tblGrid>
                <a:gridCol w="863640"/>
                <a:gridCol w="7200720"/>
              </a:tblGrid>
              <a:tr h="3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Kap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liederungspun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Die Fachgruppe Erdkunde in der Y-Sch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ntscheidungen zum Unterricht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Unterrichtsvorhaben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Übersichtsraster Unterrichtsvorhaben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.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nkretisierte Unterrichtsvorhaben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rundsätze der fachmethodischen und fachdidaktischen Arb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rundsätze der Leistungsbewertung und Leistungsrückmeld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ehr- und Lernmit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ntscheidungen zu fach- und unterrichtsübergreifenden Fragen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Qualitätssicherung und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37C1-1C55-48B7-9DD3-0BDFE7CA11A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5D3C-72A2-4E98-B5C1-984B3A48A76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87360" y="2189160"/>
            <a:ext cx="3780000" cy="192564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In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Verantwortung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der Lehrkra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inhaltliche Schwerpunktsetzung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 </a:t>
            </a: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Lernarrangem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Problem-, Anwendungsorientieru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etc.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828720" y="4476600"/>
            <a:ext cx="7539120" cy="174816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In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Verantwortung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der Lehrkraft </a:t>
            </a:r>
            <a:r>
              <a:rPr b="0" i="1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und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der Studieren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Lernergebnisse</a:t>
            </a:r>
            <a:br>
              <a:rPr sz="1600"/>
            </a:b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Lernerfolg</a:t>
            </a:r>
            <a:br>
              <a:rPr sz="1800"/>
            </a:b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(langfristig entwickelte Kompet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4705200" y="2200320"/>
            <a:ext cx="4010040" cy="192564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In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Verantwortung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der Studierend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Nutzung des Angebots ganz im Sinne des eigenverantwortlichen, selbstständigen Ler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684360" y="1498680"/>
            <a:ext cx="76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Gemeinsame Verantwortung für den Lernproz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feld 16"/>
          <p:cNvSpPr/>
          <p:nvPr/>
        </p:nvSpPr>
        <p:spPr>
          <a:xfrm>
            <a:off x="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44E5-35BA-4922-814A-E7718C84CF6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7DA6-DAE8-4C88-97BB-89FB61AF4C5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5621-A789-45E6-A959-D952011068A9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74C5-C72A-48B3-B294-138B5DBE851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50760" y="2243160"/>
          <a:ext cx="9093240" cy="4836960"/>
        </p:xfrm>
        <a:graphic>
          <a:graphicData uri="http://schemas.openxmlformats.org/drawingml/2006/table">
            <a:tbl>
              <a:tblPr/>
              <a:tblGrid>
                <a:gridCol w="3013200"/>
                <a:gridCol w="3038400"/>
                <a:gridCol w="3041640"/>
              </a:tblGrid>
              <a:tr h="483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E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…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Q1, 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…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Q2, 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Q1, 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…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Q2, 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</a:tbl>
          </a:graphicData>
        </a:graphic>
      </p:graphicFrame>
      <p:sp>
        <p:nvSpPr>
          <p:cNvPr id="935" name="Rechteck 7"/>
          <p:cNvSpPr/>
          <p:nvPr/>
        </p:nvSpPr>
        <p:spPr>
          <a:xfrm>
            <a:off x="573120" y="1441440"/>
            <a:ext cx="79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Beispiel: Übersichtsraster Unterrichtsvorhabe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8EEF-CC36-4F8E-8B48-4D9CC18C489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46A5-5977-4B54-A9A5-F174AC7E2D1A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E85C-151F-43E4-8A59-9D02EF07E89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hteck 5"/>
          <p:cNvSpPr/>
          <p:nvPr/>
        </p:nvSpPr>
        <p:spPr>
          <a:xfrm>
            <a:off x="1446120" y="1419120"/>
            <a:ext cx="634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2001a"/>
                </a:solidFill>
                <a:latin typeface="Arial-BoldMT"/>
                <a:ea typeface="Arial"/>
              </a:rPr>
              <a:t>„</a:t>
            </a:r>
            <a:r>
              <a:rPr b="1" lang="de-DE" sz="2400" spc="-1" strike="noStrike">
                <a:solidFill>
                  <a:srgbClr val="e2001a"/>
                </a:solidFill>
                <a:latin typeface="Arial-BoldMT"/>
                <a:ea typeface="Arial"/>
              </a:rPr>
              <a:t>Der Lehrplannavigator</a:t>
            </a:r>
            <a:r>
              <a:rPr b="1" lang="ja-JP" sz="2400" spc="-1" strike="noStrike">
                <a:solidFill>
                  <a:srgbClr val="e2001a"/>
                </a:solidFill>
                <a:latin typeface="Arial-BoldMT"/>
                <a:ea typeface="MS PGothic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2001a"/>
                </a:solidFill>
                <a:latin typeface="Arial-BoldMT"/>
                <a:ea typeface="Arial"/>
              </a:rPr>
              <a:t>Ein Lehrplaninformationssystem mit Unterstützungsmaterialien zur Kernlehrplan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hteck 6"/>
          <p:cNvSpPr/>
          <p:nvPr/>
        </p:nvSpPr>
        <p:spPr>
          <a:xfrm>
            <a:off x="736560" y="3963960"/>
            <a:ext cx="762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schulentwicklung.nrw.de/lehrplaene/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lehrplannavigator-weiterbildungskolle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BF78-39A2-440E-8AA7-61597B52D3C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87D1-5A03-47D9-86F2-B5718F689213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FEE0-9FD7-45EC-866A-E7F64BA05F9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2" descr=""/>
          <p:cNvPicPr/>
          <p:nvPr/>
        </p:nvPicPr>
        <p:blipFill>
          <a:blip r:embed="rId1"/>
          <a:stretch/>
        </p:blipFill>
        <p:spPr>
          <a:xfrm>
            <a:off x="258840" y="1420920"/>
            <a:ext cx="8480520" cy="47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C7B1-1775-4A97-8C36-CDCDC5F1B60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9023-7121-4437-BD4F-B8894B145E8A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FA83-A718-4366-9F4B-D16B291E752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2" descr=""/>
          <p:cNvPicPr/>
          <p:nvPr/>
        </p:nvPicPr>
        <p:blipFill>
          <a:blip r:embed="rId1"/>
          <a:stretch/>
        </p:blipFill>
        <p:spPr>
          <a:xfrm>
            <a:off x="163440" y="1436760"/>
            <a:ext cx="8817120" cy="49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1296-2DFB-4D01-9172-48A4467C11F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38FA-65D8-46FC-9A31-08A56038EEF6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099B-1182-420A-9C4B-D262B753D0A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2" descr=""/>
          <p:cNvPicPr/>
          <p:nvPr/>
        </p:nvPicPr>
        <p:blipFill>
          <a:blip r:embed="rId1"/>
          <a:stretch/>
        </p:blipFill>
        <p:spPr>
          <a:xfrm>
            <a:off x="368280" y="1425600"/>
            <a:ext cx="854568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5930-173B-4F34-9D4C-687093899AD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BDF4-0349-4A46-A359-147CA879A72D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66640" y="272880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-BoldMT"/>
              </a:rPr>
              <a:t>Herzlichen Dank für Ihre Aufmerksamkeit</a:t>
            </a:r>
            <a:endParaRPr b="1" lang="en-US" sz="3200" spc="-1" strike="noStrike">
              <a:solidFill>
                <a:srgbClr val="000000"/>
              </a:solidFill>
              <a:latin typeface="Arial-BoldMT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8064720" cy="2160720"/>
          </a:xfrm>
          <a:prstGeom prst="rect">
            <a:avLst/>
          </a:prstGeom>
          <a:ln w="0">
            <a:noFill/>
          </a:ln>
        </p:spPr>
      </p:pic>
      <p:sp>
        <p:nvSpPr>
          <p:cNvPr id="96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D812-5085-4EAF-8492-2BF8D162B9D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B078-3560-4300-B142-EF64A31F05FB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9EC2-8458-4C86-ABA1-3BEAF38E5175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477720" y="1593720"/>
            <a:ext cx="81378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begriff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der Kernlehrplä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feld 11"/>
          <p:cNvSpPr/>
          <p:nvPr/>
        </p:nvSpPr>
        <p:spPr>
          <a:xfrm>
            <a:off x="-255600" y="83340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feld 2"/>
          <p:cNvSpPr/>
          <p:nvPr/>
        </p:nvSpPr>
        <p:spPr>
          <a:xfrm>
            <a:off x="517680" y="2179800"/>
            <a:ext cx="81374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ch Weinert (2001) versteht man Kompetenzen als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e bei Individuen verfügbaren oder durch sie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erlernbaren kognitiven Fähigkeiten und Fertigkeiten, um bestimmte Probleme zu lös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sowie die damit verbundenen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motivationalen, volitionalen und sozialen Bereitschaften und Fähigkei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um die Problemlösungen in variablen Situationen erfolgreich und verantwortungsvoll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nutz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zu können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477720" y="5132520"/>
            <a:ext cx="8217000" cy="1008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Eine Kompetenz ist eine Disposition, die dazu befähigt, </a:t>
            </a:r>
            <a:br>
              <a:rPr sz="2000"/>
            </a:br>
            <a:r>
              <a:rPr b="1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variable Anforderungssituationen in einem bestimmten Lern- oder Handlungsbereich erfolgreich und verantwortlich zu bewält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89FD-BD4A-4636-B333-911F0828EE9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855B-8334-41C6-9AD9-7D285FC113E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1"/>
          <p:cNvSpPr/>
          <p:nvPr/>
        </p:nvSpPr>
        <p:spPr>
          <a:xfrm>
            <a:off x="514440" y="1811160"/>
            <a:ext cx="6791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feld 15"/>
          <p:cNvSpPr/>
          <p:nvPr/>
        </p:nvSpPr>
        <p:spPr>
          <a:xfrm>
            <a:off x="-365040" y="85716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feld 4"/>
          <p:cNvSpPr/>
          <p:nvPr/>
        </p:nvSpPr>
        <p:spPr>
          <a:xfrm>
            <a:off x="539640" y="2481120"/>
            <a:ext cx="8061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nennen individuelle fachspezifische Fähigkeiten und Fertigkeiten von Studierenden (Inhaltsdimension verknüpft mit Handlungsdimension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tabLst>
                <a:tab algn="l" pos="0"/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rden in einem längeren Entwicklungsprozess erworb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tabLst>
                <a:tab algn="l" pos="0"/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nd Grundlage für das selbstständige Lösen von Problemen und für neue Fragestellungen und Aufg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tabLst>
                <a:tab algn="l" pos="0"/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B2DE-57EF-47D4-8439-80A6C5B8A46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D410-5813-4512-BA1A-B297E79DB9A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419040" y="2363760"/>
            <a:ext cx="83631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 Kompetenz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ollen bis zum Ende des Bildungsabschnitts entwickelt werden (KLP-Vorgaben, Schulcurriculum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n Inhaltsfelder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ollen diese Kompetenzen entwickelt wer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r Unterrichtsgegenstand ist geeigne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um diese Kompetenzen zu entwickeln? In welch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wendungs- und Handlungssituation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ist die Kompetenz releva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 muss auf dieser Grundlage das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arrange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gestaltet sein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95400" y="1461960"/>
            <a:ext cx="89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erwartungen als Ausgangspunk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für die Unterrichtspla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1709640" y="4979880"/>
            <a:ext cx="5781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„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Nach ___Stunden zum Thema ____ erwarte ich, 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dass die Studierenden…, …, …, … und  … können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feld 8"/>
          <p:cNvSpPr/>
          <p:nvPr/>
        </p:nvSpPr>
        <p:spPr>
          <a:xfrm>
            <a:off x="-184320" y="77616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94F6-18A0-495B-BDC6-7A3924129BF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06:56:38Z</dcterms:created>
  <dc:creator>Musiol</dc:creator>
  <dc:description/>
  <dc:language>en-US</dc:language>
  <cp:lastModifiedBy>Sohnius, Axel</cp:lastModifiedBy>
  <cp:lastPrinted>2013-05-14T13:09:49Z</cp:lastPrinted>
  <dcterms:modified xsi:type="dcterms:W3CDTF">2014-10-27T09:40:01Z</dcterms:modified>
  <cp:revision>661</cp:revision>
  <dc:subject/>
  <dc:title>Folie 1</dc:title>
</cp:coreProperties>
</file>