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17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A912644-5509-4120-B1CC-86FC4EA48F8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C2B1934-37CD-4CB8-B79E-66F2914E6EC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FD7F6B4-1017-4AFA-A425-340D3658ED1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D312AFB-508C-456A-BAEE-B6D4A63DEBB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0C7DB9F-219A-4E5C-B02E-B9A48F29A84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E4F8F29-E57B-407F-87C4-92AFEBBF5BF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5A61816-5F51-473F-9427-E77B4D618CD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C98022C-48C6-40E1-A290-B2BED248456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3824A88-B750-4A88-BCE6-DDBC08AC925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A6370EA-66AE-4C06-BF3F-4DE48C99EFB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035AA7A-2905-4E81-9400-98684EF576D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5237B18-C609-4268-9D7B-2D8A8FC2F44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AB3D724-F2AF-4ECF-88D2-9A20EEE7AC8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0971981-FD03-43C2-A14E-E7E4344F2B3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539F20A-203A-47C4-A139-6F3CA36FBE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2D70015-C23D-4C72-B290-F3133045E3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C298F3C-517A-43B7-B6AB-996FC7CD96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E86BC37-A005-4B3F-A5E8-14874D78C1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9247E8B-D703-4889-911F-A335E6A872D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B9E88F8-4039-4F49-B62A-C0197821E7C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72C273A-27AA-4855-8AD7-20AA712F35A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1D0B4F9-9E41-4FAC-8040-2AA7A3CD985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394E7CC-5C3E-4A31-BEF8-EE2243BC02D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AB5BA79-F5FF-4053-A3C8-5DF3E0BAA4F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8F1CD6A-4264-4FB6-8E99-C863AEC5E22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DF45A32-E13A-4246-A37F-CC0F0928459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3961C8A-9CF5-4C5C-A25E-A81181791CF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F704F2D-6A21-4DC3-84A4-9E067AF1717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1E348E5-8A18-4B82-A81B-78A1A8E2456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C581E86-B25A-4802-B4F8-A9A5F284382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1DCE3FE-F8A5-447A-8488-8A72E5C9BC8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FED58AA-B6AB-43CB-9877-7AA854C4BB0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CE0D9D1-3F57-428F-A4C0-BBC73104768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E738A0A-8F70-4D16-A0D7-5D943015A16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1E8C6EC-ACB6-4FBC-99B5-87212F46AC7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04C319B-A055-4CB0-B767-BBFE17624D9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6BB3EB3-1A8C-456B-9321-F85E82EC0BA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D361C75-43EC-4175-A421-151AA80A4FF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61B4679-717F-4ECA-9626-4B3E27D2B71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09CCA01-EC65-41E9-B494-114F7E55C4E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34D7FAA-3977-452E-B85F-3DF8B063457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54267A9-38CB-410F-A208-85B5F5DCA64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15854DA-73EE-449D-98A8-C36B1F830D8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71C1D51-DB41-47AE-A87C-7739C025B44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B78F318-CD02-47BB-BD54-9872C8EE8C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9B8F8B3-131E-4767-BCBB-ABEAA4005C7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FABD32E-3F3C-4A6E-AA4F-FE25CA4CE16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429EF0F-50B3-40BF-AC60-BE2A2F079B1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861FD3A-2098-46AC-B334-5146F55D3BE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8C0C70A-A131-4B28-91C4-5AC35F5780F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FF05564-D4A0-473F-B436-8B68E24B886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D9EE281-D1ED-48B4-89DC-64BE0AA51BF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7636E91-B4C3-41F4-BB44-437B57672AB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319DA86-9C06-4D1B-8355-7A72B212181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AF5A9E5-4E5F-4AD7-98EA-177728963F3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1633FA5-20F8-4BFE-914C-F89E38D098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B60A396-964E-4136-8031-A8CF1AC713F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CFF1877-4C05-4762-9A5F-0467F462807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D5C7D57-9773-4AA6-A46E-5B9160A8913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66571D1-5AF6-4AF2-BE38-D8EDAFC5FA6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FE44375-F2D7-4A8D-82B9-C66E982A3CE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DD420F6-FACF-482B-8F4B-07742EF89C4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F2738D0-E151-44DE-8AE8-FF73216BB6B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A08878E-721A-4FD6-AFE6-2D841A81F8D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FEAC80F-9132-4E20-8A3E-BE53A6A6926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838DAEB-D57A-4985-94F4-939A1ED73D5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1CB68CB-8F4C-408F-AB8C-9298B0FABE0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0545ABD-B9F9-439E-8757-E1AB2CF7E50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CAEC4D6-4D94-47D2-9267-7AE11AA6AB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D5352B7-6FA8-44CC-AF23-44705902504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E02CE3F-88DB-4ED1-959D-30AE33329D5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8EAE2A6-25AF-4FC2-B551-C035AC280D4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A475210-6D56-4606-959E-EFD4CCD736F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DCF61CC-FF32-47EE-8B28-0C75FA7F90F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313367A-1500-4124-89CD-CDD677266B5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60F97C0-AF2A-4F0F-96FD-697A5268A61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EBDA5BD-477F-4E1C-A7FE-A9B3A73553C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BB665FF-307F-432C-BA81-C4D922A1F47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332B468-E1A1-4D07-A215-561F2CC7B9D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B500D60-97CF-435B-903C-94D215256E4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D4D614E-4FAC-412C-AC15-121C1E9E649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5AD4-3260-416E-8F89-797F35709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EB62-B50F-4437-9501-87052DC2E78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67762-95D7-40B5-A836-C326DDAD3EC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A03F8-7B78-467B-BB26-0AA452AA40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46632-E0C8-4E6E-831C-01A83D8AA4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2FC2E-C5DD-4127-9F1C-B7FB0EAC011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00CF1-9EBF-4266-A11A-24EAEDD5FB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139B3-6080-49A6-A4AF-94A960CC0B9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6FF9D-4F47-4AE2-8458-F2581A7C57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78B10-E6EB-464A-9CF5-53D7986E1AE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F3414-1D5E-432A-B6F1-0219095A65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DA3DC-78AE-4DD3-B50E-857FFC37F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9AEE-E856-4F38-9EFE-080A5ED3F5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DF5FC-7D1E-4831-A8A7-245432A48B0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8E3B1-7A5A-4DD4-8F2E-D3DC99BC8F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5CC2E-13F2-4732-94A1-6552BE6ECB8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6D6E8-DF51-4D79-81C3-344626FD75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67AF6-A8C5-4710-8772-EC39627BC05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5C2B6-F729-4FC6-A457-4F4E1E5EAD8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3192A-6CFD-4D33-99A9-690C6C97B5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5917F-336E-4FFF-8152-91C5731A754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45750-3ADD-4015-9C29-00A0B2910C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27F15-176C-4FEC-945D-8E37AAE7A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FEE0-15DF-493D-A92F-13E7E71D19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C71DA-F2E0-4800-B1FE-902A523521B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EB35D-67F8-4A34-9282-ED69DD541D3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CF09F-75EA-4DA1-951A-FD906EDE357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9F0ED-E559-4D6B-83F3-C407864FEE4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2B9C-045A-4AF8-9DEB-004978B6FFF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CE94-D4BE-4979-AF43-5AA06B94E8C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F57BC-310A-4E0B-84FC-039F640C682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C24D-E5AB-4463-AE01-B6EF26E4522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E68C-E626-4E17-A22C-C6D74EA9F9D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327A-8083-4D6E-88A6-ADBB59FF0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479-478F-4C1E-A4D5-ADAEE4AF75C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7A1A-974D-4B7A-B8E8-0F2374AF62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8258E-4CA0-48AE-8462-73EB9B12314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5033-47B0-4EE3-B4C0-68351CD0B56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D7F3EC-C16D-4B27-9B67-ED4195A1D4D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B3CF3F-85F5-49EB-A084-17B798974EF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C4A05-EA24-4EC9-B312-F72E381750D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02389B-3395-4C4F-98A4-F2D8B023D56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51BBC5-F694-4EBE-9C26-7A150245356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AF549D-CE13-4C59-9EDE-2C6A5D866C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65EF6A-DB3D-4CD1-8B05-4CA8065E51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AFD-8341-4E50-965B-205A5559949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CAE455-2345-47BF-9A72-590ABED5B16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F3CBE-08F7-40DD-B8DA-61763E01304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C1BCA-6F4A-4A6B-9C7A-66317303A0A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7598A-3B85-40CB-A3E0-0907F259DC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A51CA6-4537-4300-B459-54F08842C89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D13E6-AB59-47E0-9435-B82D3C62B1D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A8561-10D1-40EB-BD24-6962AAD5935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F7443-B34B-4F42-877A-C0FCF1DB689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AC93D-DE4A-4E73-9C91-0783D49DC1F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19B8B-9394-4A98-8554-4DA11E57AB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589-D1CA-4DC3-BCBA-1B7C88EFE25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B4E9B-8C05-4A6D-BED3-EF3456B53F9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6CDA8-8079-4885-B73D-D7FECB3CD04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3EC32-1485-4F18-ADCF-A77B31B7B9C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5487A-26C6-4268-A24A-06F033ABF50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2A258-9D1C-4356-806A-BD8E9FDFA5D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49826-97B5-46D6-BB2F-6F6EF9DEC46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50945-6804-4A05-87A4-1B2BFBC114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9D4-0EC3-42BF-83A3-CFD28EA2F3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436-7D10-47FD-B6FF-1F5FACB1B5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138-6C11-4710-AE08-BC100FD4DF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F49-DDA2-4473-82C7-5390E14A3A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1493-37C3-44F1-938C-9E1681BFA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0CC-1BD3-4F33-AACF-8F7D31ED22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4BF-8717-4784-83B8-2F8F004159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D5E-3A6B-49A3-978F-CF2373228C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3AD-A321-4BAE-BAD8-3938D3BEB4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FBB-4F91-44C4-B89C-7AEC974534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E65F3-D882-4DAD-A408-15F536F2DD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8245F-1E87-4F31-A6D4-412B6C8DAD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BF5CC-0916-4F67-B8D7-D1B92F15CD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B72C4-06ED-4F4E-BD8C-90EBCD4F76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CFFA3-AAC8-413C-9995-7A68979D29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645E-406E-4546-B209-3A609DAD23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8C7A3-B204-4128-AAAE-988A6E0002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A48BC-B34F-41C3-82A2-EBF8929F84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29170-4E41-465E-9B02-041E0BFA2A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7E4B7-E807-417F-930E-979D808AFE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9326C-C76F-4C39-9ACA-8BBAC89B88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18D1E-4850-4223-8D8D-6808FD0037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C409A-5361-4821-9EB7-34CCD85AA8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EFDA8-78C4-41FE-87B8-C271C79882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DAE9D-C23C-4A9B-8821-950BDE9017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12181-1402-468F-B8B8-8B497B0FE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C894-F2E5-44B5-A97D-9446E2FCFE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2E8BD-E5D5-4433-B0CC-8E1D906CAF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C71DA-D92D-4E48-BF54-25747EA4CC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1DF70-CF75-470F-81AD-AD9553E2A4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AB7F9-6445-4DF7-A6AE-540169CCF4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BBFD4-3B0C-4D2B-A058-56A356C894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0475D-DF10-47FD-B331-EC5A892CB3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2E595-C9A6-40A7-BD0B-21D2F83E96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F82AD-55B1-4D15-9E12-6BF92AD4FC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23250-FA7C-4EC8-B4EC-9A1D81B533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4D71-A387-4088-839D-BC8A3216C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ECF4-8C2A-471A-B116-43E1D288764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19CA-6C81-4C33-8602-03F6E32EC54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B993-06C7-45F4-B443-225A6EEE01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244A-AEB6-401B-A4E3-04BC8D0B585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67E8-FF44-4AEF-802F-D429F4C007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831F-2A1B-4BFD-9DB6-A4141F2D95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6CCC-0F0A-4444-9B8F-CA2AD57E83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795B-3945-4969-AF17-11CF6FB332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5C04-142D-43AC-BBBE-7CB594D2388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B82D-6AE5-4AF9-99E1-9AFF8B6C0E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5B7B-2808-427B-9476-36E50A2A3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6246-9C97-4748-96F9-276D831D19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D92E-2341-4720-9954-E7FD224AFCD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73E9F-F98F-4493-9D92-39CA054204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D80B6-02B2-43D5-9D4A-EE8895673C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B642AC-34BD-47DF-BB2F-F5A8C741F5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58CA6-5F5A-45EC-8344-84FD273E09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86335-3D39-4ADB-BC9D-53BBA6E291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4D743-35D9-4DEE-A906-6742437EB29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6E880-97F6-4672-884C-278AF777030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B405C-8D55-46D8-9BFC-414002CFA6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76BB8-1BCF-4106-BC18-1BCBB06A5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7E53-DDD2-4835-BA49-433A0FE4DE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D53A1-C553-46FF-ADD6-CB7B779D24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08916-C588-4298-8F5B-2D1E8A24B3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86BDB-0010-467C-8415-E77AC4F8EA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340F7-D095-45F0-9D16-1EE78AAE03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CBFE2-C380-4D7D-9410-A8F0DB13FC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F29BC-11C2-4590-9BA6-A47601A85C8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74B9C-4B4C-4C72-A070-D7F4E83FAA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79B4A-60B3-4194-87F3-C9258C43DB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05080-26FD-43C6-97BF-7F91ABEBB3D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82135-5890-47BB-B9B2-2891519C1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C1E1-035F-4012-B000-A7EA6670D47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48A22-971F-463A-9206-C234D0DE61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0922F-83C8-44E9-BF67-7E9951B717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3F007-96D0-4A15-BC99-6B8C37C648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77C8D-3720-4A6B-AD8B-A2BD750B945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4E975-7EB0-4E6B-84FA-D262115A82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C555-CB6B-4BC2-BA9A-A79A202166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2D93-C88A-40B4-8E9C-02056E5C394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1AD1-C013-45B7-ABB2-6A2BB2EF457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B879-114F-412A-81AF-59296039A3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6AA2-193B-4969-A849-BA4DCE996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3347-0603-483F-B3F2-8A4FE8329B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2D96-FF96-42C4-99CC-9F38EFA752C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242C-3B73-4D8C-A2E8-89602F0934C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21BF7-781D-4000-AD2D-A2EB53578F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9A62-9724-4D40-81E1-A46A78A535A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FEC7-98AA-482C-B9E2-F6868D0F1C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E6C0-6E35-4AA3-8F12-05FF86DD29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A6E3-FB00-41E4-8A81-DFE41D8E170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D1A10-D6EA-4830-A1C9-66BFAB5404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BF0BA-E572-4B80-8987-C4D8F09648B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CA81D-9EC3-4EF3-A733-FDB34EF8A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  <a:defRPr b="1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Soest, 25.08.20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B9AC-D1B1-4181-9439-946E1EDA285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1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9CBA-A47C-4505-AB15-ECA9A6B2B15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562D-6715-42B4-9BD8-4FDC15DE3D9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83A7-7335-4E4D-9FA2-2FEAB464CA7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457D-04B7-4D46-B60D-873773E932E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5225-0A70-45E1-A2F0-4E22E36F21A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B178-BB37-481A-9B71-6F84F4EE9836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5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9AAD-F38D-4A10-843C-DBE5A7ABDD8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DF8F-0B93-4AF8-B908-717FCD0001D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7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E381-1C9A-4209-9FED-8DC7E2F408B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AE96-B52E-4006-A018-F351CA5B4D6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9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D059-1BDB-4888-BC69-06E283E324C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V:\BIBLIOTHEK\Abi-online\Allgemeines\QUA-LiS-Logo_klein.jpg"/>
          <p:cNvPicPr/>
          <p:nvPr/>
        </p:nvPicPr>
        <p:blipFill>
          <a:blip r:embed="rId2"/>
          <a:stretch/>
        </p:blipFill>
        <p:spPr>
          <a:xfrm>
            <a:off x="5729400" y="117360"/>
            <a:ext cx="2936880" cy="10224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EDB5-48F5-4C0D-B4FE-8AE42A92F57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-7920" y="124128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68400" y="2733840"/>
            <a:ext cx="898992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  <a:ea typeface="Arial"/>
              </a:rPr>
              <a:t>Neue Kernlehrpläne für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  <a:ea typeface="Arial"/>
              </a:rPr>
              <a:t>Abendgymnasium und Kolleg in </a:t>
            </a:r>
            <a:br>
              <a:rPr sz="2800"/>
            </a:br>
            <a:r>
              <a:rPr b="0" lang="de-DE" sz="2800" spc="-1" strike="noStrike">
                <a:solidFill>
                  <a:srgbClr val="002060"/>
                </a:solidFill>
                <a:latin typeface="Arial"/>
                <a:ea typeface="Arial"/>
              </a:rPr>
              <a:t>Nordrhein Westfa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  <a:ea typeface="Arial"/>
              </a:rPr>
              <a:t>Kernlehrplan Ge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eck 1"/>
          <p:cNvSpPr/>
          <p:nvPr/>
        </p:nvSpPr>
        <p:spPr>
          <a:xfrm>
            <a:off x="2286000" y="14097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2060"/>
                </a:solidFill>
                <a:latin typeface="Arial-BoldMT"/>
              </a:rPr>
              <a:t>HERZLICH WILLKOM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2320" y="26938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 Kernlehrpläne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1D1-1EC4-4111-9B53-F56F2F84724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520560" y="1420920"/>
          <a:ext cx="8064720" cy="4672080"/>
        </p:xfrm>
        <a:graphic>
          <a:graphicData uri="http://schemas.openxmlformats.org/drawingml/2006/table">
            <a:tbl>
              <a:tblPr/>
              <a:tblGrid>
                <a:gridCol w="863640"/>
                <a:gridCol w="7201080"/>
              </a:tblGrid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bemerk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ufgaben und Ziele des Fache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, Inhaltsfelder und Kompetenzerwartun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 und Inhaltsfelder des Faches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Einführung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Qualifikation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istungs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ernerfolgsüberprüfung und Leistungsbewertung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turprüf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h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Textfeld 7"/>
          <p:cNvSpPr/>
          <p:nvPr/>
        </p:nvSpPr>
        <p:spPr>
          <a:xfrm>
            <a:off x="31680" y="7650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21DD-64F4-4711-82CD-AA37256875E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560" y="129060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</a:t>
            </a:r>
            <a:r>
              <a:rPr b="1" lang="de-DE" sz="2400" spc="-1" strike="noStrike">
                <a:solidFill>
                  <a:srgbClr val="002060"/>
                </a:solidFill>
                <a:latin typeface="Arial-BoldMT"/>
              </a:rPr>
              <a:t>Struktur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21" name="Line 7"/>
          <p:cNvSpPr/>
          <p:nvPr/>
        </p:nvSpPr>
        <p:spPr>
          <a:xfrm>
            <a:off x="4427640" y="2565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48000" y="4443480"/>
            <a:ext cx="2286000" cy="48564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Konkretisie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895320" y="5234040"/>
            <a:ext cx="7070760" cy="91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können 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  <a:ea typeface="Arial"/>
              </a:rPr>
              <a:t>Maßnahmen für eine nachhaltige Stadtentwicklung im Spannungsfeld von Mobilität und Lebensqualität </a:t>
            </a:r>
            <a:r>
              <a:rPr b="0" lang="de-DE" sz="1600" spc="-1" strike="noStrike">
                <a:solidFill>
                  <a:srgbClr val="b56f00"/>
                </a:solidFill>
                <a:latin typeface="Arial"/>
                <a:ea typeface="Arial"/>
              </a:rPr>
              <a:t>bewerten.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1042920" y="3068640"/>
            <a:ext cx="2305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(Prozess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2340000" y="1773360"/>
            <a:ext cx="4176720" cy="79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(z.B. raumbezogene Handlungskompeten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2"/>
          <p:cNvSpPr/>
          <p:nvPr/>
        </p:nvSpPr>
        <p:spPr>
          <a:xfrm flipH="1">
            <a:off x="2268000" y="2852640"/>
            <a:ext cx="21625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3"/>
          <p:cNvSpPr/>
          <p:nvPr/>
        </p:nvSpPr>
        <p:spPr>
          <a:xfrm>
            <a:off x="4427640" y="2852640"/>
            <a:ext cx="2232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268360" y="2852640"/>
            <a:ext cx="0" cy="2160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5"/>
          <p:cNvSpPr/>
          <p:nvPr/>
        </p:nvSpPr>
        <p:spPr>
          <a:xfrm flipH="1">
            <a:off x="6659280" y="2852640"/>
            <a:ext cx="11160" cy="21600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6"/>
          <p:cNvSpPr/>
          <p:nvPr/>
        </p:nvSpPr>
        <p:spPr>
          <a:xfrm>
            <a:off x="2268360" y="3645000"/>
            <a:ext cx="0" cy="10429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7"/>
          <p:cNvSpPr/>
          <p:nvPr/>
        </p:nvSpPr>
        <p:spPr>
          <a:xfrm flipH="1">
            <a:off x="6651720" y="3645000"/>
            <a:ext cx="7920" cy="104292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8"/>
          <p:cNvSpPr/>
          <p:nvPr/>
        </p:nvSpPr>
        <p:spPr>
          <a:xfrm>
            <a:off x="2268360" y="4687920"/>
            <a:ext cx="10796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9"/>
          <p:cNvSpPr/>
          <p:nvPr/>
        </p:nvSpPr>
        <p:spPr>
          <a:xfrm flipH="1">
            <a:off x="5651640" y="4687920"/>
            <a:ext cx="1008000" cy="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5508720" y="3068640"/>
            <a:ext cx="2286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Inhaltsfel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(Gegenständ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feld 19"/>
          <p:cNvSpPr/>
          <p:nvPr/>
        </p:nvSpPr>
        <p:spPr>
          <a:xfrm>
            <a:off x="-339840" y="641520"/>
            <a:ext cx="55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7"/>
          <p:cNvSpPr/>
          <p:nvPr/>
        </p:nvSpPr>
        <p:spPr>
          <a:xfrm>
            <a:off x="4506840" y="492912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92F0-D836-4EFF-939C-A6C3E696F46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feld 2"/>
          <p:cNvSpPr/>
          <p:nvPr/>
        </p:nvSpPr>
        <p:spPr>
          <a:xfrm>
            <a:off x="1084320" y="3678120"/>
            <a:ext cx="2220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Übergeordnete 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493920" y="735120"/>
            <a:ext cx="557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149400" y="1916280"/>
            <a:ext cx="887724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etenzbereich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ystematisieren die kognitiven Prozesse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ch-,Methoden-,Urteils-,Handlung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sfelder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tisieren die Gegenstände, sind nicht mit Unterrichtsvorhaben gleichzusetzen - 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4 Bedeutungswandel von Standortfakt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5. Stadtentwicklung und Stadtstruktu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liche Schwerpunkt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gliederungselemente der         Inhaltsfelder – Beispiele zu I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erkmale, innere Differenzierung und Wandel von Städ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etropolisierung und Marginalisierung als Elemente eines weltweiten                      Verstädterungsproz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emographischer und sozialer Wandel als Herausforderung für                                     zukunftsorientierte Stadtentwick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feld 1"/>
          <p:cNvSpPr/>
          <p:nvPr/>
        </p:nvSpPr>
        <p:spPr>
          <a:xfrm>
            <a:off x="374760" y="1420920"/>
            <a:ext cx="86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3C22-EE2D-4CE8-9275-FE9FA573B3A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550800" y="2382480"/>
            <a:ext cx="806472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57400"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eordnete  Kompetenzerwartungen: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übergreifende Kompetenzerwartungen aus allen Kompetenzbereichen, mit Prog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kretisierte Kompetenzerwartungen :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bezogene Kompetenzerwartungen als             heruntergebrochene Zusammenführung von Prozessen                                 und Gegenständen (Sach- und Urteilskompete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57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-517680" y="750960"/>
            <a:ext cx="5700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feld 2"/>
          <p:cNvSpPr/>
          <p:nvPr/>
        </p:nvSpPr>
        <p:spPr>
          <a:xfrm>
            <a:off x="500040" y="1552680"/>
            <a:ext cx="81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00B9-30A5-4E41-A34F-1C294A9260B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558720" y="2138400"/>
            <a:ext cx="806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ach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feld 12"/>
          <p:cNvSpPr/>
          <p:nvPr/>
        </p:nvSpPr>
        <p:spPr>
          <a:xfrm>
            <a:off x="-571680" y="73332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2814480" y="1476360"/>
            <a:ext cx="355284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Textfeld 4" descr=""/>
          <p:cNvPicPr/>
          <p:nvPr/>
        </p:nvPicPr>
        <p:blipFill>
          <a:blip r:embed="rId1"/>
          <a:stretch/>
        </p:blipFill>
        <p:spPr>
          <a:xfrm>
            <a:off x="1414440" y="2530440"/>
            <a:ext cx="6675480" cy="3754440"/>
          </a:xfrm>
          <a:prstGeom prst="rect">
            <a:avLst/>
          </a:prstGeom>
          <a:ln w="0">
            <a:noFill/>
          </a:ln>
        </p:spPr>
      </p:pic>
      <p:sp>
        <p:nvSpPr>
          <p:cNvPr id="65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1257-4B9C-4F4A-B313-5A9E201F826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B0E4-75D7-40BE-B1FC-D2DD5AF3BDA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447840" y="698400"/>
            <a:ext cx="5273640" cy="639720"/>
          </a:xfrm>
          <a:prstGeom prst="rect">
            <a:avLst/>
          </a:prstGeom>
          <a:ln w="0">
            <a:noFill/>
          </a:ln>
        </p:spPr>
      </p:pic>
      <p:sp>
        <p:nvSpPr>
          <p:cNvPr id="654" name="Rechteck 2"/>
          <p:cNvSpPr/>
          <p:nvPr/>
        </p:nvSpPr>
        <p:spPr>
          <a:xfrm>
            <a:off x="3255120" y="24177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rteils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2"/>
          <a:stretch/>
        </p:blipFill>
        <p:spPr>
          <a:xfrm>
            <a:off x="2604960" y="1635120"/>
            <a:ext cx="3603600" cy="639720"/>
          </a:xfrm>
          <a:prstGeom prst="rect">
            <a:avLst/>
          </a:prstGeom>
          <a:ln w="0">
            <a:noFill/>
          </a:ln>
        </p:spPr>
      </p:pic>
      <p:sp>
        <p:nvSpPr>
          <p:cNvPr id="656" name="Rechteck 4"/>
          <p:cNvSpPr/>
          <p:nvPr/>
        </p:nvSpPr>
        <p:spPr>
          <a:xfrm>
            <a:off x="447840" y="2863800"/>
            <a:ext cx="45720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eordnete Kompetenzerwartung:</a:t>
            </a:r>
            <a:br>
              <a:rPr sz="2000"/>
            </a:br>
            <a:br>
              <a:rPr sz="1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könn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komplexere raumbezog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achverhalte, Problemlagen und Maßnahmen unter explizi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nennung und Anwendung der zu Grunde gelegten Wertmaßstä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zw. Werte und Normen bewer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hteck 5"/>
          <p:cNvSpPr/>
          <p:nvPr/>
        </p:nvSpPr>
        <p:spPr>
          <a:xfrm>
            <a:off x="4572000" y="3002040"/>
            <a:ext cx="42084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nkretisierte Kompetenzerwartung:</a:t>
            </a:r>
            <a:br>
              <a:rPr sz="2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könn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Maßnahmen zur Verringerung von Bodendegradation und Desertifikation hinsichtlich ökonomischer, ökologischer und sozialer Aspekte bewer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4"/>
          <p:cNvSpPr/>
          <p:nvPr/>
        </p:nvSpPr>
        <p:spPr>
          <a:xfrm>
            <a:off x="558720" y="1886040"/>
            <a:ext cx="806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12"/>
          <p:cNvSpPr/>
          <p:nvPr/>
        </p:nvSpPr>
        <p:spPr>
          <a:xfrm>
            <a:off x="-700200" y="820800"/>
            <a:ext cx="58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3A69-C799-489F-9F63-4D2C16D6434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hteck 2"/>
          <p:cNvSpPr/>
          <p:nvPr/>
        </p:nvSpPr>
        <p:spPr>
          <a:xfrm>
            <a:off x="1300320" y="1560600"/>
            <a:ext cx="6146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gression einer übergeordneten Methodenkompeten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önnen aus Modellvorstellungen allgemeingeographische Kernaussagen herausarbeiten (EPH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önnen Modellen allgemeingeographische Kernaussagen entnehmen und diese mit konkreten Raumbeispielen vergleichen (GK – QPH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önnen komplexen Modellen allgemeingeographische Kernaussagen entnehmen und diese anhand konkreter Raumbeispiele überprüfen (LK – QP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60DB-06E3-4F6C-B53A-725641435C0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hteck 2"/>
          <p:cNvSpPr/>
          <p:nvPr/>
        </p:nvSpPr>
        <p:spPr>
          <a:xfrm>
            <a:off x="1126080" y="809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hteck 3"/>
          <p:cNvSpPr/>
          <p:nvPr/>
        </p:nvSpPr>
        <p:spPr>
          <a:xfrm>
            <a:off x="187200" y="1314360"/>
            <a:ext cx="86821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greifen die Bildungsstandards vollständig auf bzw. definieren Standards (zu erreichende Zie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orientie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tehen aus fachbezogenen Kompetenzerwart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Lernergebn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möglichkei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didaktisier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der zu erreichenden Ergebnisse und treffen keine Aussagen zu Wegen und Verfahren der Zielerreichung (außer in Ansätzen in der Primarstuf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I. Fachspezifische Erläuterungen zum neuen KLP Ge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34EC-201E-4C12-A3AF-FC66C422E0F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280" y="2236320"/>
            <a:ext cx="844092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romanUcPeriod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formationen zum Konzept und zur Gestaltung v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 Fachspezifische Erläuterungen zum neuen KLP Ge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Schulinterne Curricula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98240" y="1574280"/>
            <a:ext cx="80643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3799-A75E-43EA-A547-0339F62836A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539280" y="2236320"/>
            <a:ext cx="8440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romanUcPeriod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formationen zum Konzept und zur Gestaltung v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Schulinterne Lehrpläne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498240" y="1574280"/>
            <a:ext cx="80643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6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FCB7-C376-4B24-9E7A-E748ECFCFC6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539640" y="3243240"/>
            <a:ext cx="8440920" cy="9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 Fachspezifische Erläuterungen zum neuen KLP Ge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e wichtigsten Merkmale des neu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Kernlehrplanes WbK Ge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E2B3-37A0-46DE-BDCB-6D9ADCAA6FB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5EAC-7943-4EC5-AB82-C6F20A836F3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A73B-8E05-4314-991A-248648C72C64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wichtigsten 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B36C-7DC9-45EF-A2AF-F5C1CE18BF0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hteck 3"/>
          <p:cNvSpPr/>
          <p:nvPr/>
        </p:nvSpPr>
        <p:spPr>
          <a:xfrm>
            <a:off x="676440" y="1598760"/>
            <a:ext cx="78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eue Fachbezeichnung: Geographie statt Erd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hteck 4"/>
          <p:cNvSpPr/>
          <p:nvPr/>
        </p:nvSpPr>
        <p:spPr>
          <a:xfrm>
            <a:off x="684360" y="220824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rücksichtigung des aktuellen fachdidaktischen und fach-wissenschaftliche Forschungsstandes (u.a. Raumkonzepte, Raumwahrnehm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hteck 5"/>
          <p:cNvSpPr/>
          <p:nvPr/>
        </p:nvSpPr>
        <p:spPr>
          <a:xfrm>
            <a:off x="684360" y="339408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stmögliche Erfassung der zentralen Fragestellungen der Gegenwar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d – soweit vorhersehbar – der Zukunft 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erausforderungen des 21.Jahrhunderts“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hteck 6"/>
          <p:cNvSpPr/>
          <p:nvPr/>
        </p:nvSpPr>
        <p:spPr>
          <a:xfrm>
            <a:off x="684360" y="459756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nsequente Output-Orientierung und Konzentration auf den fachlichen Kern („Was können Studierende im Fach Geographie hinterher mehr als vorher?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F8A9-32E6-4655-9C64-CDB32064AD3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2453-5FC6-4D4C-8600-00E51A180DEF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wichtigsten Merk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89D0-D02A-476C-8A84-36734CA807C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hteck 3"/>
          <p:cNvSpPr/>
          <p:nvPr/>
        </p:nvSpPr>
        <p:spPr>
          <a:xfrm>
            <a:off x="676440" y="159876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gängige Kompetenzorientierung und expliziter Ausweis der vier Kompetenzbereiche (Sach-, Methoden-, Urteils- und Handlungskompeten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hteck 2"/>
          <p:cNvSpPr/>
          <p:nvPr/>
        </p:nvSpPr>
        <p:spPr>
          <a:xfrm>
            <a:off x="676440" y="2727360"/>
            <a:ext cx="789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verbindliche Zuordnung von Inhaltsfeldern zur Einführungsphase bzw. Qualifikation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hteck 4"/>
          <p:cNvSpPr/>
          <p:nvPr/>
        </p:nvSpPr>
        <p:spPr>
          <a:xfrm>
            <a:off x="676440" y="3608280"/>
            <a:ext cx="789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In Qualifikationsphase: Inhaltsfelder weitgehend an bisherigen Inhalten der Abiturvorgaben orient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hteck 5"/>
          <p:cNvSpPr/>
          <p:nvPr/>
        </p:nvSpPr>
        <p:spPr>
          <a:xfrm>
            <a:off x="684360" y="5010120"/>
            <a:ext cx="78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iziter Ausweis von Anforderungen im GK und LK (Differenzierung über übergeordnete und über konkretisierte Kompetenzerwartung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hteck 6"/>
          <p:cNvSpPr/>
          <p:nvPr/>
        </p:nvSpPr>
        <p:spPr>
          <a:xfrm>
            <a:off x="704520" y="4464000"/>
            <a:ext cx="48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MS PGothic"/>
              </a:rPr>
              <a:t>keine Festlegung von Raum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er Aufbau des neuen Kernlehrplanes WbK Ge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EBE-4553-417B-A179-E9A5DDC2CBE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80C2-6760-47F4-8F1D-41727C8ECCF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4503-F50C-40C7-B0C1-6FB61254143D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FD22-1D7A-4A97-91D7-00B6509E868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2"/>
          <p:cNvGrpSpPr/>
          <p:nvPr/>
        </p:nvGrpSpPr>
        <p:grpSpPr>
          <a:xfrm>
            <a:off x="878040" y="755640"/>
            <a:ext cx="8042040" cy="5266800"/>
            <a:chOff x="878040" y="755640"/>
            <a:chExt cx="8042040" cy="5266800"/>
          </a:xfrm>
        </p:grpSpPr>
        <p:sp>
          <p:nvSpPr>
            <p:cNvPr id="699" name="AutoShape 3"/>
            <p:cNvSpPr/>
            <p:nvPr/>
          </p:nvSpPr>
          <p:spPr>
            <a:xfrm>
              <a:off x="878040" y="755640"/>
              <a:ext cx="8042040" cy="44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4"/>
            <p:cNvSpPr/>
            <p:nvPr/>
          </p:nvSpPr>
          <p:spPr>
            <a:xfrm>
              <a:off x="2930040" y="987480"/>
              <a:ext cx="3223080" cy="6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Übergreifende fachliche Kompetenz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Bef>
                  <a:spcPts val="300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"Raumbezogene Handlungskompetenz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5"/>
            <p:cNvSpPr/>
            <p:nvPr/>
          </p:nvSpPr>
          <p:spPr>
            <a:xfrm>
              <a:off x="1146600" y="2294640"/>
              <a:ext cx="2762280" cy="13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bere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Prozess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ch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thoden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rteil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ndlung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5167440" y="2315520"/>
              <a:ext cx="2762280" cy="12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er 1 -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Gegenständ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ebensräume und deren naturbedingte sowie anthropogen bedingte Gefährd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…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7"/>
            <p:cNvSpPr/>
            <p:nvPr/>
          </p:nvSpPr>
          <p:spPr>
            <a:xfrm>
              <a:off x="962280" y="4338000"/>
              <a:ext cx="71989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erwartu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Verknüpfung von Prozessen und Gegenständen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ziehen sich auf beobachtbare Handlungen und sind auf die Bewältigung von Anforderungssituationen ausgerichtet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tellen im Sinne von Regelstandards die erwarteten Kenntnisse, Fähigkeiten und Fertigkeiten auf einem mittleren Abstraktionsgrad dar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rmöglichen die Darstellung einer Progression vom Anfang der Einführungsphase bis zum Ende der Qualifikationsphase  und zielen auf kumulatives, systematisch vernetztes Lernen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önnen in Aufgabenstellungen umgesetzt und überprüft wer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8"/>
            <p:cNvSpPr/>
            <p:nvPr/>
          </p:nvSpPr>
          <p:spPr>
            <a:xfrm>
              <a:off x="4557960" y="16189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9"/>
            <p:cNvSpPr/>
            <p:nvPr/>
          </p:nvSpPr>
          <p:spPr>
            <a:xfrm flipH="1">
              <a:off x="2564280" y="1973520"/>
              <a:ext cx="1995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0"/>
            <p:cNvSpPr/>
            <p:nvPr/>
          </p:nvSpPr>
          <p:spPr>
            <a:xfrm flipH="1">
              <a:off x="4560840" y="1975680"/>
              <a:ext cx="199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1"/>
            <p:cNvSpPr/>
            <p:nvPr/>
          </p:nvSpPr>
          <p:spPr>
            <a:xfrm>
              <a:off x="2565000" y="197676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2"/>
            <p:cNvSpPr/>
            <p:nvPr/>
          </p:nvSpPr>
          <p:spPr>
            <a:xfrm>
              <a:off x="6557400" y="19807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"/>
            <p:cNvSpPr/>
            <p:nvPr/>
          </p:nvSpPr>
          <p:spPr>
            <a:xfrm>
              <a:off x="4558680" y="399312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4"/>
            <p:cNvSpPr/>
            <p:nvPr/>
          </p:nvSpPr>
          <p:spPr>
            <a:xfrm flipH="1">
              <a:off x="2518560" y="3996000"/>
              <a:ext cx="403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6"/>
            <p:cNvSpPr/>
            <p:nvPr/>
          </p:nvSpPr>
          <p:spPr>
            <a:xfrm>
              <a:off x="2518200" y="3606120"/>
              <a:ext cx="72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7"/>
            <p:cNvSpPr/>
            <p:nvPr/>
          </p:nvSpPr>
          <p:spPr>
            <a:xfrm>
              <a:off x="6556320" y="3619800"/>
              <a:ext cx="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6B87-69EB-4FB1-98DC-6814BBA4001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C458-B9B6-48C5-9AAF-70A97C7A5907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758-5C1E-4D93-98E6-20E75D89FA0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2"/>
          <p:cNvGrpSpPr/>
          <p:nvPr/>
        </p:nvGrpSpPr>
        <p:grpSpPr>
          <a:xfrm>
            <a:off x="878040" y="755640"/>
            <a:ext cx="8042040" cy="5266800"/>
            <a:chOff x="878040" y="755640"/>
            <a:chExt cx="8042040" cy="5266800"/>
          </a:xfrm>
        </p:grpSpPr>
        <p:sp>
          <p:nvSpPr>
            <p:cNvPr id="718" name="AutoShape 3"/>
            <p:cNvSpPr/>
            <p:nvPr/>
          </p:nvSpPr>
          <p:spPr>
            <a:xfrm>
              <a:off x="878040" y="755640"/>
              <a:ext cx="8042040" cy="44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4"/>
            <p:cNvSpPr/>
            <p:nvPr/>
          </p:nvSpPr>
          <p:spPr>
            <a:xfrm>
              <a:off x="2930040" y="987480"/>
              <a:ext cx="3223080" cy="6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Übergreifende fachliche Kompetenz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Bef>
                  <a:spcPts val="300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"Raumbezogene Handlungskompetenz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5"/>
            <p:cNvSpPr/>
            <p:nvPr/>
          </p:nvSpPr>
          <p:spPr>
            <a:xfrm>
              <a:off x="1146600" y="2294640"/>
              <a:ext cx="2762280" cy="13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bere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Prozess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ch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thoden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rteil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ndlung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6"/>
            <p:cNvSpPr/>
            <p:nvPr/>
          </p:nvSpPr>
          <p:spPr>
            <a:xfrm>
              <a:off x="5167440" y="2315520"/>
              <a:ext cx="2762280" cy="12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Inhaltsfelder 1 -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(Gegenständ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Inhaltsfeld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Lebensräume und deren naturbedingte sowie anthropogen bedingte Gefährd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…</a:t>
              </a: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"/>
            <p:cNvSpPr/>
            <p:nvPr/>
          </p:nvSpPr>
          <p:spPr>
            <a:xfrm>
              <a:off x="962280" y="4338000"/>
              <a:ext cx="71989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erwartu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Verknüpfung von Prozessen und Gegenständen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ziehen sich auf beobachtbare Handlungen und sind auf die Bewältigung von Anforderungssituationen ausgerichtet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tellen im Sinne von Regelstandards die erwarteten Kenntnisse, Fähigkeiten und Fertigkeiten auf einem mittleren Abstraktionsgrad dar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rmöglichen die Darstellung einer Progression vom Anfang der Einführungsphase bis zum Ende der Qualifikationsphase  und zielen auf kumulatives, systematisch vernetztes Lernen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önnen in Aufgabenstellungen umgesetzt und überprüft wer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8"/>
            <p:cNvSpPr/>
            <p:nvPr/>
          </p:nvSpPr>
          <p:spPr>
            <a:xfrm>
              <a:off x="4557960" y="16189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9"/>
            <p:cNvSpPr/>
            <p:nvPr/>
          </p:nvSpPr>
          <p:spPr>
            <a:xfrm flipH="1">
              <a:off x="2564280" y="1973520"/>
              <a:ext cx="1995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 flipH="1">
              <a:off x="4560840" y="1975680"/>
              <a:ext cx="199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1"/>
            <p:cNvSpPr/>
            <p:nvPr/>
          </p:nvSpPr>
          <p:spPr>
            <a:xfrm>
              <a:off x="2565000" y="197676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2"/>
            <p:cNvSpPr/>
            <p:nvPr/>
          </p:nvSpPr>
          <p:spPr>
            <a:xfrm>
              <a:off x="6557400" y="19807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3"/>
            <p:cNvSpPr/>
            <p:nvPr/>
          </p:nvSpPr>
          <p:spPr>
            <a:xfrm>
              <a:off x="4558680" y="399312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4"/>
            <p:cNvSpPr/>
            <p:nvPr/>
          </p:nvSpPr>
          <p:spPr>
            <a:xfrm flipH="1">
              <a:off x="2518560" y="3996000"/>
              <a:ext cx="403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6"/>
            <p:cNvSpPr/>
            <p:nvPr/>
          </p:nvSpPr>
          <p:spPr>
            <a:xfrm>
              <a:off x="2518200" y="3606120"/>
              <a:ext cx="72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7"/>
            <p:cNvSpPr/>
            <p:nvPr/>
          </p:nvSpPr>
          <p:spPr>
            <a:xfrm>
              <a:off x="6556320" y="3619800"/>
              <a:ext cx="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234B-32E8-41FA-9349-79F0D3B72C4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F1C7-0669-402C-B057-123AB94C9A2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2A7D-6186-42C7-B0CC-4EC427698C0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657360" y="142560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er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Einführungsphase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1.       Lebensräume und deren naturbedingte sowie anthropo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bedingte Gefährd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2.       Raumwirksamkeit von Energieträgern und Energienutzung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Qualifikationsphase:</a:t>
            </a:r>
            <a:br>
              <a:rPr sz="2000"/>
            </a:b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3.       Landwirtschaftliche Strukturen in verschiedenen Klima- und </a:t>
            </a:r>
            <a:br>
              <a:rPr sz="2000"/>
            </a:b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          Vegetationsz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4.       Bedeutungswandel von Standortfaktor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5.       Stadtentwicklung und Stadtstruktur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6.       Sozioökonomische Entwicklungsstände von Räu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7.       Dienstleistungen in ihrer Bedeutung für Wirtschafts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Beschäftigungsstrukturen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EFB9-8E58-4BF0-97DC-52C3E045D2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8FEC-8393-4A57-B0D2-C9FE72C3176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9DFE-7E74-4001-8594-D92A21FA822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647640" y="1557360"/>
            <a:ext cx="813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Exemplarische Konkretisierung eines Inhaltsfel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(Inhaltliche Schwerpunk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3: 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Landwirtschaftliche Strukturen in verschiede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lima- und Vegetationszone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liche Schwer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Landwirtschaftliche Produktion in den Tropen vor dem Hintergr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weltwirtschaftlicher Proz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tensivierung der landwirtschaftlichen Produktion in der gemäßigten Zone und in den Subtr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-Bold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Landwirtschaft im Spannungsfeld zwischen Ressourcengefährdung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und Nachhaltigkei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1F87-D5A7-4653-89D6-CE0D46AA297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CA6F-D716-4C60-8C53-C46790F6DB18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7D41-2B5D-4F16-BC0A-4677AC1EB61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2"/>
          <p:cNvGrpSpPr/>
          <p:nvPr/>
        </p:nvGrpSpPr>
        <p:grpSpPr>
          <a:xfrm>
            <a:off x="878040" y="755640"/>
            <a:ext cx="8042040" cy="5266800"/>
            <a:chOff x="878040" y="755640"/>
            <a:chExt cx="8042040" cy="5266800"/>
          </a:xfrm>
        </p:grpSpPr>
        <p:sp>
          <p:nvSpPr>
            <p:cNvPr id="747" name="AutoShape 3"/>
            <p:cNvSpPr/>
            <p:nvPr/>
          </p:nvSpPr>
          <p:spPr>
            <a:xfrm>
              <a:off x="878040" y="755640"/>
              <a:ext cx="8042040" cy="44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4"/>
            <p:cNvSpPr/>
            <p:nvPr/>
          </p:nvSpPr>
          <p:spPr>
            <a:xfrm>
              <a:off x="2930040" y="987480"/>
              <a:ext cx="3223080" cy="6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Übergreifende fachliche Kompetenz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Bef>
                  <a:spcPts val="300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"Raumbezogene Handlungskompetenz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5"/>
            <p:cNvSpPr/>
            <p:nvPr/>
          </p:nvSpPr>
          <p:spPr>
            <a:xfrm>
              <a:off x="1146600" y="2294640"/>
              <a:ext cx="2762280" cy="13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Kompetenzbere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(Prozess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Sach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Methoden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Urteil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ndlung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6"/>
            <p:cNvSpPr/>
            <p:nvPr/>
          </p:nvSpPr>
          <p:spPr>
            <a:xfrm>
              <a:off x="5167440" y="2315520"/>
              <a:ext cx="2762280" cy="12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er 1 -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Gegenständ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ebensräume und deren naturbedingte sowie anthropogen bedingte Gefährd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…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962280" y="4338000"/>
              <a:ext cx="71989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erwartu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Verknüpfung von Prozessen und Gegenständen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ziehen sich auf beobachtbare Handlungen und sind auf die Bewältigung von Anforderungssituationen ausgerichtet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tellen im Sinne von Regelstandards die erwarteten Kenntnisse, Fähigkeiten und Fertigkeiten auf einem mittleren Abstraktionsgrad dar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rmöglichen die Darstellung einer Progression vom Anfang der Einführungsphase bis zum Ende der Qualifikationsphase  und zielen auf kumulatives, systematisch vernetztes Lernen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önnen in Aufgabenstellungen umgesetzt und überprüft wer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8"/>
            <p:cNvSpPr/>
            <p:nvPr/>
          </p:nvSpPr>
          <p:spPr>
            <a:xfrm>
              <a:off x="4557960" y="16189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9"/>
            <p:cNvSpPr/>
            <p:nvPr/>
          </p:nvSpPr>
          <p:spPr>
            <a:xfrm flipH="1">
              <a:off x="2564280" y="1973520"/>
              <a:ext cx="1995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0"/>
            <p:cNvSpPr/>
            <p:nvPr/>
          </p:nvSpPr>
          <p:spPr>
            <a:xfrm flipH="1">
              <a:off x="4560840" y="1975680"/>
              <a:ext cx="199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1"/>
            <p:cNvSpPr/>
            <p:nvPr/>
          </p:nvSpPr>
          <p:spPr>
            <a:xfrm>
              <a:off x="2565000" y="197676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>
              <a:off x="6557400" y="19807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3"/>
            <p:cNvSpPr/>
            <p:nvPr/>
          </p:nvSpPr>
          <p:spPr>
            <a:xfrm>
              <a:off x="4558680" y="399312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4"/>
            <p:cNvSpPr/>
            <p:nvPr/>
          </p:nvSpPr>
          <p:spPr>
            <a:xfrm flipH="1">
              <a:off x="2518560" y="3996000"/>
              <a:ext cx="403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6"/>
            <p:cNvSpPr/>
            <p:nvPr/>
          </p:nvSpPr>
          <p:spPr>
            <a:xfrm>
              <a:off x="2518200" y="3606120"/>
              <a:ext cx="72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7"/>
            <p:cNvSpPr/>
            <p:nvPr/>
          </p:nvSpPr>
          <p:spPr>
            <a:xfrm>
              <a:off x="6556320" y="3619800"/>
              <a:ext cx="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feld 21"/>
          <p:cNvSpPr/>
          <p:nvPr/>
        </p:nvSpPr>
        <p:spPr>
          <a:xfrm>
            <a:off x="666720" y="3654360"/>
            <a:ext cx="378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de-DE" sz="15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de-DE" sz="1500" spc="-1" strike="noStrike">
                <a:solidFill>
                  <a:srgbClr val="ff0000"/>
                </a:solidFill>
                <a:latin typeface="Arial"/>
                <a:ea typeface="Arial"/>
              </a:rPr>
              <a:t>Übergeordnete 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. Informationen zum Konzept und zur Gestaltung von kompetenzorientierten Kernlehrplä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BA90-A8A1-4DB3-92A7-70A44D2A223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C052-826A-49CB-B5FF-9A9FBF20B6C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2BEF-06A4-4524-B087-41E1B2A6944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BEE0-BA20-4127-AC3B-F5756C2955C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9"/>
          <p:cNvSpPr/>
          <p:nvPr/>
        </p:nvSpPr>
        <p:spPr>
          <a:xfrm>
            <a:off x="647640" y="1557360"/>
            <a:ext cx="8136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as Zusammenwirken von Geofaktoren als System sowie deren Einfluss auf den menschlichen Lebensraum beschreiben (SK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Wirkungen und Folgen von Eingriffen des Menschen in das Geofaktorengefüge analysieren (SK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humangeographische Strukturen und Räume unterschiedlicher Maßstabsebenen sowie unterschiedlichen Entwicklungsstandes und damit zusammenhängende Disparitäten und Verflechtungen erläutern (SK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…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feil nach rechts 6"/>
          <p:cNvSpPr/>
          <p:nvPr/>
        </p:nvSpPr>
        <p:spPr>
          <a:xfrm rot="13223400">
            <a:off x="7719840" y="4233600"/>
            <a:ext cx="1354320" cy="2253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e2001a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AC0E-B6B0-40ED-8909-8475F0B9659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2405-0A11-4735-A6CF-15CAA9D4950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10D9-38BC-4A57-B21B-85F0B454EAE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9"/>
          <p:cNvSpPr/>
          <p:nvPr/>
        </p:nvSpPr>
        <p:spPr>
          <a:xfrm>
            <a:off x="647640" y="1515960"/>
            <a:ext cx="8217000" cy="48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Methoden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sich mit Hilfe von physischen und thematischen Karten sowie digitalen Kartendiensten orientieren (MK1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problemhaltige geographische Sachverhalte identifizieren und unter Nutzung des problemorientierten analytischen Wegs der Erkenntnis-gewinnung entsprechende Fragestellungen und Hypothesen entwickeln (MK2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auch komplexere Darstellungs- und Arbeitsmittel (Karte, Bild, Film, statistische Angaben, Grafiken, Text) in Materialzusammenstellungen analysieren, um raumbezogene Hypothesen zu überprüfen (MK3)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Grafik 2" descr=""/>
          <p:cNvPicPr/>
          <p:nvPr/>
        </p:nvPicPr>
        <p:blipFill>
          <a:blip r:embed="rId1"/>
          <a:stretch/>
        </p:blipFill>
        <p:spPr>
          <a:xfrm rot="20455800">
            <a:off x="4758840" y="3389400"/>
            <a:ext cx="107316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7163-69D8-46B9-B6C0-80919650F0E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2E36-884C-4D6E-89F1-704ABCC1BFF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9F9A-EAAF-47CA-9074-6004F714035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9"/>
          <p:cNvSpPr/>
          <p:nvPr/>
        </p:nvSpPr>
        <p:spPr>
          <a:xfrm>
            <a:off x="647640" y="1557360"/>
            <a:ext cx="82170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Methoden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geographische Sachverhalte mündlich und schriftlich unter Verwendung der Fachsprache problembezogen, sachlogisch strukturiert, aufgaben-, operatoren- und materialbezogen sowie differenziert darstellen (MK6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schriftliche und mündliche Aussagen durch angemessene und korrekte Materialverweise und Materialzitate belegen (MK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672B-2BEF-43D2-B6A8-8C39D22258A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4F3C-D2AB-42B9-A0EE-4FB133A1BD4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8F7A-E9F5-42DB-A8BE-E53D2A3A269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9"/>
          <p:cNvSpPr/>
          <p:nvPr/>
        </p:nvSpPr>
        <p:spPr>
          <a:xfrm>
            <a:off x="647640" y="1523880"/>
            <a:ext cx="8136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Urteils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omplexe raumbezogene Sachverhalte, Problemstellungen und Maßnahmen nach fachlichen Kriterien beurteilen (UK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omplexe raumbezogene Sachverhalte, Problemlagen und Maß-nahmen unter expliziter Benennung und Anwendung der zu Grunde gelegten Wertmaßstäbe bzw. Werte und Normen bewerten (UK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eigene Arbeitsergebnisse kritisch mit Bezug auf die zugrunde gelegte Fragestellung, den Arbeitsweg und die benutzten Quellen bewerten (UK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Grafik 2" descr=""/>
          <p:cNvPicPr/>
          <p:nvPr/>
        </p:nvPicPr>
        <p:blipFill>
          <a:blip r:embed="rId1"/>
          <a:stretch/>
        </p:blipFill>
        <p:spPr>
          <a:xfrm rot="20208000">
            <a:off x="7413480" y="3425760"/>
            <a:ext cx="107316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876E-D41E-4A37-ACCE-B5DEE67B44D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5799-5021-4A89-BBD2-80653224584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C8C3-0CA0-44B6-B8FA-7EE17AC8189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647640" y="1252440"/>
            <a:ext cx="8136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e Kompeten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Handlungskompetenz (Grund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 Raumnutzungskonflikten unterschiedliche Perspektiven und Positionen einnehmen und diese vertreten (HK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 einer Simulation vorbereitete Rollen von Akteurinnen und Akteuren eines raumbezogenen Konfliktes argumentativ abgesichert vertreten und eine Kompromisslösung finden (HK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themenbezogene Elemente von Unterrichtsgängen und Exkursionen planen und organisieren, diese durchführen und die Ergebnisse fachlich angemessen präsentieren (HK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Grafik 2" descr=""/>
          <p:cNvPicPr/>
          <p:nvPr/>
        </p:nvPicPr>
        <p:blipFill>
          <a:blip r:embed="rId1"/>
          <a:stretch/>
        </p:blipFill>
        <p:spPr>
          <a:xfrm rot="20508000">
            <a:off x="6654960" y="3549240"/>
            <a:ext cx="107316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1CA6-75CD-4FB8-9184-DB099E7D716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E62E-9759-49A9-BF10-9BFC3B0DAEF2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2CCA-CA19-479B-A1DC-08291B6BAFE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2"/>
          <p:cNvGrpSpPr/>
          <p:nvPr/>
        </p:nvGrpSpPr>
        <p:grpSpPr>
          <a:xfrm>
            <a:off x="878040" y="755640"/>
            <a:ext cx="8042040" cy="5266800"/>
            <a:chOff x="878040" y="755640"/>
            <a:chExt cx="8042040" cy="5266800"/>
          </a:xfrm>
        </p:grpSpPr>
        <p:sp>
          <p:nvSpPr>
            <p:cNvPr id="796" name="AutoShape 3"/>
            <p:cNvSpPr/>
            <p:nvPr/>
          </p:nvSpPr>
          <p:spPr>
            <a:xfrm>
              <a:off x="878040" y="755640"/>
              <a:ext cx="8042040" cy="44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4"/>
            <p:cNvSpPr/>
            <p:nvPr/>
          </p:nvSpPr>
          <p:spPr>
            <a:xfrm>
              <a:off x="2930040" y="987480"/>
              <a:ext cx="3223080" cy="6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Übergreifende fachliche Kompetenz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Bef>
                  <a:spcPts val="300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"Raumbezogene Handlungskompetenz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5"/>
            <p:cNvSpPr/>
            <p:nvPr/>
          </p:nvSpPr>
          <p:spPr>
            <a:xfrm>
              <a:off x="1146600" y="2294640"/>
              <a:ext cx="2762280" cy="13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6000"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ompetenzbere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Prozess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ch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thoden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rteil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andlungskompete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6"/>
            <p:cNvSpPr/>
            <p:nvPr/>
          </p:nvSpPr>
          <p:spPr>
            <a:xfrm>
              <a:off x="5167440" y="2315520"/>
              <a:ext cx="2762280" cy="12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er 1 -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Gegenstände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haltsfeld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ebensräume und deren naturbedingte sowie anthropogen bedingte Gefährd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…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.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7"/>
            <p:cNvSpPr/>
            <p:nvPr/>
          </p:nvSpPr>
          <p:spPr>
            <a:xfrm>
              <a:off x="962280" y="4338000"/>
              <a:ext cx="71989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(Konkretisierte) Kompetenzerwartun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(Verknüpfung von Prozessen und Gegenständen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ziehen sich auf </a:t>
              </a: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beobachtbare Handlungen 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nd sind auf die Bewältigung von Anforderungssituationen ausgerichtet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tellen im Sinne von </a:t>
              </a: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Regelstandards</a:t>
              </a: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die erwarteten Kenntnisse, Fähigkeiten und Fertigkeiten auf einem mittleren Abstraktionsgrad dar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rmöglichen die Darstellung einer Progression vom Anfang der Einführungsphase bis zum Ende der Qualifikationsphase  und zielen auf kumulatives, systematisch vernetztes Lernen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buClr>
                  <a:srgbClr val="ff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können in Aufgabenstellungen umgesetzt und überprüft werde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4557960" y="16189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 flipH="1">
              <a:off x="2564280" y="1973520"/>
              <a:ext cx="1995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H="1">
              <a:off x="4560840" y="1975680"/>
              <a:ext cx="199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>
              <a:off x="2565000" y="197676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2"/>
            <p:cNvSpPr/>
            <p:nvPr/>
          </p:nvSpPr>
          <p:spPr>
            <a:xfrm>
              <a:off x="6557400" y="1980720"/>
              <a:ext cx="72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4558680" y="3993120"/>
              <a:ext cx="72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4"/>
            <p:cNvSpPr/>
            <p:nvPr/>
          </p:nvSpPr>
          <p:spPr>
            <a:xfrm flipH="1">
              <a:off x="2518560" y="3996000"/>
              <a:ext cx="403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6"/>
            <p:cNvSpPr/>
            <p:nvPr/>
          </p:nvSpPr>
          <p:spPr>
            <a:xfrm>
              <a:off x="2518200" y="3606120"/>
              <a:ext cx="72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7"/>
            <p:cNvSpPr/>
            <p:nvPr/>
          </p:nvSpPr>
          <p:spPr>
            <a:xfrm>
              <a:off x="6556320" y="3619800"/>
              <a:ext cx="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9B14-B261-4229-8828-2974666E6A1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4782-E43E-47AA-82BD-07A2D691064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166C-16CB-4AE1-9B38-92B9BDEADCB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"/>
          <p:cNvSpPr/>
          <p:nvPr/>
        </p:nvSpPr>
        <p:spPr>
          <a:xfrm>
            <a:off x="647640" y="1325520"/>
            <a:ext cx="81360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Konkretisierte Kompetenzerwart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3:  Landwirtschaftliche  Strukturen in verschiede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lima- und Vegetationsz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Leistungs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Weltmarktorientierte Wirtschaftsformen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und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Subsistenzwirtschaft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hinsichtlich ihrer Betriebsstrukturen und Marktausrichtung sowie ihrer Beschäftigungswirksamkeit und ökonomischen Bedeutung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vergleiche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Unterschiedliche Formen der Bewässerungslandwirtschaft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zur Überwindung der klimatischen Trockengrenz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analysiere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und si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hinsichtlich ihrer Effizienz des Wassereinsatzes unterscheide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4865-81F1-437F-93CA-1E3431D4052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E2DF-FF6E-44C5-9F75-FBFA3D2116A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42CE-8F8D-47AD-B1AB-43D5242D275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feld 14"/>
          <p:cNvSpPr/>
          <p:nvPr/>
        </p:nvSpPr>
        <p:spPr>
          <a:xfrm>
            <a:off x="204840" y="8380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er 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647640" y="1359000"/>
            <a:ext cx="81360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Konkretisierte Kompetenzerwart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3:  Landwirtschaftliche  Strukturen in verschiede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lima- und Vegetationsz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Urteilskompetenz (Leistungsk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Maßnahmen zur Verringerung von Bodendegradation und Desertifikation hinsichtlich ökonomischer, ökologischer und sozialer Aspekt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bewerte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en Zielkonflikt zwischen der steigenden Nachfrage nach Agrargütern einer wachsenden Weltbevölkerung und den Erfordernissen nachhaltigen Wirtschaftens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erörtern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e Besonderheiten der Einführungs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A69-67D2-4A4A-99A2-571590E0E12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D33E-58A1-46EC-996F-7D39F9871DB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023C-6DD3-4EE3-A95F-9F218ACAC83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7BF1-E903-4B32-906B-0A0BBA11034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647640" y="1359000"/>
            <a:ext cx="81360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Ausbildungs- und Prüfungsordnung Weiterbildungskolleg (APO-WbK – Stand: 15.06.2014) legt den Umfangs des Geographie-unterrichts in der Einführungsphase nicht konkret fes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§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Einführung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-Bold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 Im Bildungsgang des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Kollegs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 werden darüber hinaus Religions-lehre und im Rahmen der übrigen Wochenstunden (§ 15)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weitere Fächer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 nach Wahl der Studierenden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mindestens zweistündig unterrichtet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, darunter mindestens je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ein Fach aus den Aufgabenfeldern II 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und III. […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§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Wahl der Abiturfä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[…] Ein Fach kann nur dann Abiturfach sein, wenn es in der Ein-führungsphase </a:t>
            </a:r>
            <a:r>
              <a:rPr b="0" lang="de-DE" sz="1900" spc="-1" strike="noStrike">
                <a:solidFill>
                  <a:srgbClr val="ff0000"/>
                </a:solidFill>
                <a:latin typeface="Arial-BoldMT"/>
                <a:ea typeface="MS PGothic"/>
              </a:rPr>
              <a:t>mindestens ein Semester lang belegt </a:t>
            </a:r>
            <a:r>
              <a:rPr b="0" lang="de-DE" sz="1900" spc="-1" strike="noStrike">
                <a:solidFill>
                  <a:srgbClr val="000000"/>
                </a:solidFill>
                <a:latin typeface="Arial-BoldMT"/>
                <a:ea typeface="MS PGothic"/>
              </a:rPr>
              <a:t>worden ist. […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681D-C8B7-4012-ABA8-C628C9A20C4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C2B0-4776-4DE0-BF54-C2ECA5FD1793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1276200" y="1509840"/>
            <a:ext cx="6400800" cy="45021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Input-Steuerung und „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Ergebnis- bzw. „Output-Steuerung“ und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die Studierenden a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de eines 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4290-14AE-4506-B025-069D6275374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8771-5878-4B71-8B8F-496E47A38DB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9B7F-E684-4BE8-85C8-A4129107E9D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EEFA-045D-4EA4-BF1E-CB7B7923A45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9"/>
          <p:cNvSpPr/>
          <p:nvPr/>
        </p:nvSpPr>
        <p:spPr>
          <a:xfrm>
            <a:off x="812880" y="1836720"/>
            <a:ext cx="8136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araus ergeben sich deutliche Diskrepanzen in der SWS-Zah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mit der Geographie an den verschiedenen Weiterbildungskolle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in der Einführungsphase unterrichtet wir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as Spektrum reicht v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6 SWS (zwei Semester Geographieunterricht à 3 Stun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bis 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2 SWS (ein Semester Geographieunterricht à 2 Stun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-BoldMT"/>
                <a:ea typeface="MS PGothic"/>
              </a:rPr>
              <a:t>(Umfrage im Facharbeitskreis Erdkunde; Stand Mai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40CF-C8ED-4970-85D7-E2A6C524E64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E2D-BE4E-4644-9B39-9E7D394A59A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7DF4-CCE6-44D2-A146-E681275BF08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9"/>
          <p:cNvSpPr/>
          <p:nvPr/>
        </p:nvSpPr>
        <p:spPr>
          <a:xfrm>
            <a:off x="647640" y="1359000"/>
            <a:ext cx="813600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Kernlehrplan WbK Geographie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trägt diesem Faktum Rechn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Seite 11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ie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Kompetenzerwartungen sind für die Einführungsphase weniger konkret formuliert als für die Qualifikationsphase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. Dies trägt den aus den Vorgaben der APO WbK resultierenden Differenzen in der Stundentafel des Faches in der Einführungsphase Rechnung.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Je nach zur Verfügung stehendem Stundenkontingent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 sowie nach Vorkenntnis-stand der Studierenden zu Beginn der Einführungsphase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kann der vorgegeben Kompetenzrahmen in unterschiedlicher Tiefe und Weite ausgefüllt werden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. Dabei stellen die für die Einführungsphase aus-gewiesenen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Kompetenzerwartungen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 des Kernlehrplans eine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in der Sache verbindliche, in der zeitlichen Umsetzung aber flexible Vorgabe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ar. Es besteht die Verpflichtung, die an dieser Stelle aufgeführten Kompetenzerwartungen bei den Lernenden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spätestens bis zum Ende der Qualifikationsphase auszubilden und zu entwickeln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. […]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feld 2"/>
          <p:cNvSpPr/>
          <p:nvPr/>
        </p:nvSpPr>
        <p:spPr>
          <a:xfrm>
            <a:off x="8427960" y="227340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feld 7"/>
          <p:cNvSpPr/>
          <p:nvPr/>
        </p:nvSpPr>
        <p:spPr>
          <a:xfrm>
            <a:off x="8427960" y="401148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feld 8"/>
          <p:cNvSpPr/>
          <p:nvPr/>
        </p:nvSpPr>
        <p:spPr>
          <a:xfrm>
            <a:off x="8429760" y="5251320"/>
            <a:ext cx="5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943-0047-45C8-89AB-5BBA78BF210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3AC-9F6D-473B-B17B-860898222B6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3C02-F948-48C3-99F5-C3C04B7A56F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647640" y="1787400"/>
            <a:ext cx="813600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…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und zud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Seite 19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[…] Die Einführungsphase am Weiterbildungskolleg dient aufgr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es durch diskontinuierliche Lernbiographien bedingten heterogenen Leistungsstands insbesondere auch der Vertiefung grundlegender Fähigkeiten und Fertigkeiten. Im Unterschied zu den verbindlich zu erreichenden Kompetenzerwartungen am Ende der Qualifikations-phase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haben daher die Kompetenzerwartungen am Ende der Einführungsphase orientierungsstiftenden Charakter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. […]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feld 6"/>
          <p:cNvSpPr/>
          <p:nvPr/>
        </p:nvSpPr>
        <p:spPr>
          <a:xfrm>
            <a:off x="8218440" y="423072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A4F-532F-435E-A357-800D11E8997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A7D4-D837-41B1-B6D7-C301A36D6B6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2D01-DC38-4EB1-8175-873B62EB0DC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feld 14"/>
          <p:cNvSpPr/>
          <p:nvPr/>
        </p:nvSpPr>
        <p:spPr>
          <a:xfrm>
            <a:off x="204840" y="83808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Die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9"/>
          <p:cNvSpPr/>
          <p:nvPr/>
        </p:nvSpPr>
        <p:spPr>
          <a:xfrm>
            <a:off x="647640" y="1986120"/>
            <a:ext cx="8136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Was diese Vorgaben des Kernlehrplanes für die Erstellung des jeweiligen schulinternen Lehrplans und die unterrichtliche Praxis bedeuten, wird im TOP 3 der heutigen Implementationsveranstaltung an einem konkreten Beispiel vo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e Differenzierung zwischen Grun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und Leistungsk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3DA0-74EA-4F8C-80E8-12B5634F28E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7251-0A04-4E9F-A790-07C14C2A83F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09D5-3929-428B-A1F9-A9CF21948A2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7E12-725D-43BE-8DD3-AF5980B7B95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9"/>
          <p:cNvSpPr/>
          <p:nvPr/>
        </p:nvSpPr>
        <p:spPr>
          <a:xfrm>
            <a:off x="515880" y="1927080"/>
            <a:ext cx="813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-BoldMT"/>
                <a:ea typeface="MS PGothic"/>
              </a:rPr>
              <a:t>Grundkurs  </a:t>
            </a:r>
            <a:r>
              <a:rPr b="1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de-DE" sz="2800" spc="-1" strike="noStrike">
                <a:solidFill>
                  <a:srgbClr val="000000"/>
                </a:solidFill>
                <a:latin typeface="Arial-BoldMT"/>
                <a:ea typeface="MS PGothic"/>
              </a:rPr>
              <a:t>  Leistungsk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541440" y="2825640"/>
            <a:ext cx="813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6000"/>
          </a:bodyPr>
          <a:p>
            <a:pPr marL="329040" indent="-329040">
              <a:lnSpc>
                <a:spcPts val="3197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Behandlung der gleichen Inhaltsfelder mit den gleichen inhaltlichen  Schwerpun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9"/>
          <p:cNvSpPr/>
          <p:nvPr/>
        </p:nvSpPr>
        <p:spPr>
          <a:xfrm>
            <a:off x="541440" y="3956040"/>
            <a:ext cx="8136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 marL="343080" indent="-343080">
              <a:lnSpc>
                <a:spcPts val="3197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Leistungsdifferenzierung erfolgt auf der Ebene der übergeordneten sowie der konkretisierten Kompetenzerwart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2C41-1EF6-46A4-8008-E2565897122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CB22-D333-4D49-91C3-F8C3FF39B39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8B46-8479-4E41-9762-7AE84910308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9"/>
          <p:cNvSpPr/>
          <p:nvPr/>
        </p:nvSpPr>
        <p:spPr>
          <a:xfrm>
            <a:off x="539640" y="1425600"/>
            <a:ext cx="81360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 Kompetenzerwa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Grund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das Zusammenwirken von Geofaktoren als System sowie deren Einfluss auf den menschlichen Lebensraum beschreiben (SK1), 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Strukturen und Prozesse in räumliche Orientierungsraster auf lokaler, regionaler und globaler Maßstabsebene einordnen (SK6), […]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Leistungs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das Zusammenwirken von Geofaktoren als System sowie deren Einfluss auf den menschlichen Lebensraum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differenziert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beschreiben (SK1), 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Strukturen und Prozess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selbstständig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 in räumliche Orientierungsraster auf lokaler, regionaler und globaler Maßstabsebene einordnen (SK6), 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5DDF-BD43-4AC5-A762-5E36E2816FC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4DFC-D64D-4791-8DDA-62F0B2C2C5C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3F82-517F-41A7-816D-54080F32240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9"/>
          <p:cNvSpPr/>
          <p:nvPr/>
        </p:nvSpPr>
        <p:spPr>
          <a:xfrm>
            <a:off x="539640" y="1293840"/>
            <a:ext cx="820116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Übergeordnet Kompetenzerwa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Handlungskompetenz (Grund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Arbeitsergebnisse zu komplexen raumbezogenen Sachverhalten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im Unterricht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sach-, problem- und adressatenbezogen sowie fachsprachlich angemessen präsentieren (HK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in Raumnutzungskonflikten unterschiedliche Perspektiven und Positionen einnehmen und diese vertreten (HK2), […]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Handlungskompetenz (Leistungs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Arbeitsergebnisse zu komplexen raumbezogenen Sachverhalten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im (schul-) öffentlichen Rahmen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sach-, problem- und adressatenbezogen sowie fachsprachlich angemessen präsentieren (HK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in Raumnutzungskonflikten unterschiedliche Perspektiven und Positionen einnehmen und diese </a:t>
            </a:r>
            <a:r>
              <a:rPr b="0" lang="de-DE" sz="1800" spc="-1" strike="noStrike">
                <a:solidFill>
                  <a:srgbClr val="ff0000"/>
                </a:solidFill>
                <a:latin typeface="Arial-BoldMT"/>
                <a:ea typeface="Arial"/>
              </a:rPr>
              <a:t>differenziert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Arial"/>
              </a:rPr>
              <a:t> vertreten (HK2), 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83FA-92A4-42FC-86D0-1FB6A9AFF62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6352-6108-488E-818B-F4F444C1827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173-F778-4CE3-B179-13163C0083B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"/>
          <p:cNvSpPr/>
          <p:nvPr/>
        </p:nvSpPr>
        <p:spPr>
          <a:xfrm>
            <a:off x="539640" y="1325520"/>
            <a:ext cx="83743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-BoldMT"/>
                <a:ea typeface="MS PGothic"/>
              </a:rPr>
              <a:t>Konkretisierte Kompetenzerwa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4:  Bedeutungswandel von Standortfakto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Grund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die Veränderung von lokalen und globalen Standortgefügen aufgrund der Einrichtung von Sonderwirtschafts-, Freihandels- und wirtschaftlichen Integrationszonen erläutern.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Leistungs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die Veränderung von lokalen und globalen Standortgefügen aufgrund der Einrichtung von Sonderwirtschafts-, Freihandels- und wirtschaftlichen Integrationszonen erläuter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eine hochentwickelte Verkehrs- und Kommunikationsinfrastruktur sowie die räumliche Nähe zu Forschungs- und Entwicklungseinrichtungen als wesentliche Voraussetzungen für die Entwicklung von Hightech-Clustern darstellen.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4CA0-3143-4100-A138-9DABE232927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7C98-1C1E-4269-B052-C598C28CB4E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AAD6-6094-40E9-A00C-B1F2A5F4FA4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feld 14"/>
          <p:cNvSpPr/>
          <p:nvPr/>
        </p:nvSpPr>
        <p:spPr>
          <a:xfrm>
            <a:off x="204840" y="8380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rundkurs - Leistungs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9"/>
          <p:cNvSpPr/>
          <p:nvPr/>
        </p:nvSpPr>
        <p:spPr>
          <a:xfrm>
            <a:off x="539640" y="1293840"/>
            <a:ext cx="8136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-BoldMT"/>
                <a:ea typeface="MS PGothic"/>
              </a:rPr>
              <a:t>Konkretisierte Kom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Inhaltsfeld 7:  Dienstleistungen in ihrer Bedeutung für Wirtschafts-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         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Beschäftigungsstruktu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Grund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 […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die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Entwicklung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 einer touristischen Destination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unter Einbezug eines einfachen Modells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 analysie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Folgen unterschiedlicher Formen des Tourismus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in das Dreieck der Nachhaltigkeit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einordnen.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Sachkompetenz (Leistungsk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MS PGothic"/>
              </a:rPr>
              <a:t>Die Studierenden können […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unter Einbezug verschiedener Modelle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Bedeutung und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raumzeitliche Entwicklung 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des Tourismus erklä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Folgen unterschiedlicher Formen des Tourismus </a:t>
            </a:r>
            <a:r>
              <a:rPr b="0" lang="de-DE" sz="1600" spc="-1" strike="noStrike">
                <a:solidFill>
                  <a:srgbClr val="ff0000"/>
                </a:solidFill>
                <a:latin typeface="Arial-BoldMT"/>
                <a:ea typeface="Arial"/>
              </a:rPr>
              <a:t>in verschiedene Konzepte zum Erreichen der Nachhaltigkeit</a:t>
            </a:r>
            <a:r>
              <a:rPr b="0" lang="de-DE" sz="1600" spc="-1" strike="noStrike">
                <a:solidFill>
                  <a:srgbClr val="000000"/>
                </a:solidFill>
                <a:latin typeface="Arial-BoldMT"/>
                <a:ea typeface="Arial"/>
              </a:rPr>
              <a:t> einord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BC56-61DA-4236-AF57-D1DFF3959BF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9442800">
            <a:off x="1692000" y="167760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57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309A-CB08-4BC1-9651-85405821B41B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1881360" y="250812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sgestal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Arbeitsproz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5384880" y="1413000"/>
            <a:ext cx="273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unterrich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ichen Ange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feld 14"/>
          <p:cNvSpPr/>
          <p:nvPr/>
        </p:nvSpPr>
        <p:spPr>
          <a:xfrm>
            <a:off x="20484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2"/>
          <p:cNvSpPr/>
          <p:nvPr/>
        </p:nvSpPr>
        <p:spPr>
          <a:xfrm>
            <a:off x="76320" y="1413000"/>
            <a:ext cx="3276360" cy="642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Steuerungsverständnis alter 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grafik_transparent"/>
          <p:cNvPicPr/>
          <p:nvPr/>
        </p:nvPicPr>
        <p:blipFill>
          <a:blip r:embed="rId2"/>
          <a:srcRect l="-4997" t="8422" r="-606" b="54452"/>
          <a:stretch/>
        </p:blipFill>
        <p:spPr>
          <a:xfrm rot="20242800">
            <a:off x="2072880" y="3798360"/>
            <a:ext cx="5221440" cy="20415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12"/>
          <p:cNvSpPr/>
          <p:nvPr/>
        </p:nvSpPr>
        <p:spPr>
          <a:xfrm>
            <a:off x="5292720" y="2924280"/>
            <a:ext cx="2176560" cy="831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9"/>
          <p:cNvGrpSpPr/>
          <p:nvPr/>
        </p:nvGrpSpPr>
        <p:grpSpPr>
          <a:xfrm>
            <a:off x="1692360" y="2448000"/>
            <a:ext cx="3024000" cy="3649320"/>
            <a:chOff x="1692360" y="2448000"/>
            <a:chExt cx="3024000" cy="3649320"/>
          </a:xfrm>
        </p:grpSpPr>
        <p:sp>
          <p:nvSpPr>
            <p:cNvPr id="579" name="Rectangle 10"/>
            <p:cNvSpPr/>
            <p:nvPr/>
          </p:nvSpPr>
          <p:spPr>
            <a:xfrm>
              <a:off x="1692360" y="2448000"/>
              <a:ext cx="3024000" cy="3477960"/>
            </a:xfrm>
            <a:prstGeom prst="rect">
              <a:avLst/>
            </a:prstGeom>
            <a:noFill/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2638440" y="5760000"/>
              <a:ext cx="990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70c0"/>
                  </a:solidFill>
                  <a:latin typeface="Arial"/>
                  <a:ea typeface="ヒラギノ角ゴ Pro W3"/>
                </a:rPr>
                <a:t>Fo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6"/>
          <p:cNvSpPr/>
          <p:nvPr/>
        </p:nvSpPr>
        <p:spPr>
          <a:xfrm>
            <a:off x="1763640" y="4149720"/>
            <a:ext cx="2881440" cy="936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zunehmender </a:t>
            </a:r>
            <a:br>
              <a:rPr sz="1800"/>
            </a:br>
            <a:r>
              <a:rPr b="0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Stof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ls 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5051520" y="1413000"/>
            <a:ext cx="3155760" cy="4015440"/>
            <a:chOff x="5051520" y="1413000"/>
            <a:chExt cx="3155760" cy="4015440"/>
          </a:xfrm>
        </p:grpSpPr>
        <p:sp>
          <p:nvSpPr>
            <p:cNvPr id="583" name="Rectangle 9"/>
            <p:cNvSpPr/>
            <p:nvPr/>
          </p:nvSpPr>
          <p:spPr>
            <a:xfrm>
              <a:off x="5051520" y="1413000"/>
              <a:ext cx="3155760" cy="3840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"/>
            <p:cNvSpPr/>
            <p:nvPr/>
          </p:nvSpPr>
          <p:spPr>
            <a:xfrm>
              <a:off x="6246720" y="5091120"/>
              <a:ext cx="963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feld 15"/>
          <p:cNvSpPr/>
          <p:nvPr/>
        </p:nvSpPr>
        <p:spPr>
          <a:xfrm>
            <a:off x="5830920" y="5603760"/>
            <a:ext cx="3276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Steuerungsverständnis neuer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5291280" y="2922480"/>
            <a:ext cx="2176200" cy="831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Kompet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754B-8CED-40D4-80AF-DFCCECC33DE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14440" indent="-514440" algn="ctr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Lernerfolgsüberprüfungen und Abiturprüf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979A-EB3B-461E-AE62-E64C000B5E1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7281-E98E-4F43-A772-C0196DF994B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2003-EA35-4A10-8E8D-89D54982165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1E0F-612E-427E-92F3-AD9D94886E3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feld 14"/>
          <p:cNvSpPr/>
          <p:nvPr/>
        </p:nvSpPr>
        <p:spPr>
          <a:xfrm>
            <a:off x="204840" y="838080"/>
            <a:ext cx="37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Lernerfolgsüber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1779480" y="2141640"/>
            <a:ext cx="540396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Überprüfungsformen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Seite 49 ff. KLP)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: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Darstellungsaufgabe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Analyseaufgabe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Erörterungsaufgabe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Handlungsaufgab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21D9-D5A8-4C46-ABEA-2D815DED350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D51B-061C-4115-927A-7DD0E1BE3BB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924F-3431-446F-9703-31E6211F5B9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feld 14"/>
          <p:cNvSpPr/>
          <p:nvPr/>
        </p:nvSpPr>
        <p:spPr>
          <a:xfrm>
            <a:off x="0" y="83808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Abitur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9"/>
          <p:cNvSpPr/>
          <p:nvPr/>
        </p:nvSpPr>
        <p:spPr>
          <a:xfrm>
            <a:off x="828720" y="1639800"/>
            <a:ext cx="774684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Schriftliche Abiturprüfung 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 Seite 53 f. KLP)</a:t>
            </a:r>
            <a:r>
              <a:rPr b="1" lang="de-DE" sz="2000" spc="-1" strike="noStrike">
                <a:solidFill>
                  <a:srgbClr val="000000"/>
                </a:solidFill>
                <a:latin typeface="Arial-BoldMT"/>
                <a:ea typeface="MS PGothic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ie Aufgaben im Rahmen der schriftlichen Abiturprüfung im Fach Geographie verlangen von den Studierenden eine materialgestützte argumentative Entfaltung einer raumrelevanten Problematik, deren fachlicher Hintergrund aus dem Unterricht bekannt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ie Abituraufgaben bestehen aus einer problemorientierten Themenformulierung, den darauf bezogenen Teilaufgaben und den für die Bearbeitung notwendigen fachspezifischen Materiali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Die Teilaufgaben rekurrieren auf die Überprüfungsform […] </a:t>
            </a:r>
            <a:r>
              <a:rPr b="0" lang="de-DE" sz="2000" spc="-1" strike="noStrike">
                <a:solidFill>
                  <a:srgbClr val="ff0000"/>
                </a:solidFill>
                <a:latin typeface="Arial-BoldMT"/>
                <a:ea typeface="Arial"/>
              </a:rPr>
              <a:t>Alle Überprüfungsformen mit Ausnahme der Handlungsaufgabe kommen für die Abituraufgaben in Frage.</a:t>
            </a:r>
            <a:r>
              <a:rPr b="0" lang="de-DE" sz="2000" spc="-1" strike="noStrike">
                <a:solidFill>
                  <a:srgbClr val="000000"/>
                </a:solidFill>
                <a:latin typeface="Arial-BoldMT"/>
                <a:ea typeface="Arial"/>
              </a:rPr>
              <a:t> […]“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539280" y="2236320"/>
            <a:ext cx="8440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romanUcPeriod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formationen zum Konzept und zur Gestaltung v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</a:t>
            </a: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title"/>
          </p:nvPr>
        </p:nvSpPr>
        <p:spPr>
          <a:xfrm>
            <a:off x="498240" y="1574280"/>
            <a:ext cx="80643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9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FEE8-6203-4BBD-B54D-7D13810B3E7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0"/>
          <p:cNvSpPr/>
          <p:nvPr/>
        </p:nvSpPr>
        <p:spPr>
          <a:xfrm>
            <a:off x="539640" y="3243240"/>
            <a:ext cx="8440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 Fachspezifische Erläuterungen zum neuen KLP Ge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0"/>
          <p:cNvSpPr/>
          <p:nvPr/>
        </p:nvSpPr>
        <p:spPr>
          <a:xfrm>
            <a:off x="539640" y="4029120"/>
            <a:ext cx="8440920" cy="89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Schulinterne Lehrpläne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24D5-19C8-4D11-A342-4BE70060A6E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A274-316B-4791-BD49-FC70AE45E99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42FB-B790-49B0-AEBA-E486E8C615B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2" descr="http://www.caritas-zentrum-neustadt.de/shared_data/forms_layout/dicvspe/330486_1_2_2__Frauencaf%C3%A9_Kaffeetasse.jpg"/>
          <p:cNvPicPr/>
          <p:nvPr/>
        </p:nvPicPr>
        <p:blipFill>
          <a:blip r:embed="rId1"/>
          <a:stretch/>
        </p:blipFill>
        <p:spPr>
          <a:xfrm>
            <a:off x="1276200" y="1684440"/>
            <a:ext cx="4286520" cy="428616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10"/>
          <p:cNvSpPr/>
          <p:nvPr/>
        </p:nvSpPr>
        <p:spPr>
          <a:xfrm>
            <a:off x="5964120" y="2994120"/>
            <a:ext cx="2505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3600" spc="-1" strike="noStrike">
                <a:solidFill>
                  <a:srgbClr val="6d4300"/>
                </a:solidFill>
                <a:latin typeface="Comic Sans MS"/>
                <a:ea typeface="Times New Roman"/>
              </a:rPr>
              <a:t>Genieß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3600" spc="-1" strike="noStrike">
                <a:solidFill>
                  <a:srgbClr val="6d4300"/>
                </a:solidFill>
                <a:latin typeface="Comic Sans MS"/>
                <a:ea typeface="Times New Roman"/>
              </a:rPr>
              <a:t>S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3600" spc="-1" strike="noStrike">
                <a:solidFill>
                  <a:srgbClr val="6d4300"/>
                </a:solidFill>
                <a:latin typeface="Comic Sans MS"/>
                <a:ea typeface="Times New Roman"/>
              </a:rPr>
              <a:t>die Pau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II. Schulinterne Lehrpläne und Unterstützungsangeb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8C35-1CF3-49A8-9217-DB8C7B79005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D332-3AA3-401E-AA72-99B6634445D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6653-4B7B-4751-BBE3-9BA92B694CA8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1276200" y="1509840"/>
            <a:ext cx="6400800" cy="450216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Input-Steuerung und „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Ergebnis- bzw. „Output-Steuerung“ und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die Studierenden a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de eines 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   </a:t>
            </a:r>
            <a:r>
              <a:rPr b="0" lang="de-DE" sz="1600" spc="-1" strike="noStrike">
                <a:solidFill>
                  <a:srgbClr val="003760"/>
                </a:solidFill>
                <a:latin typeface="Arial"/>
                <a:ea typeface="ヒラギノ角ゴ Pro W3"/>
              </a:rPr>
              <a:t>aber a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i der Behandlung welcher Inhalte sollen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udierenden diese Fähigkeiten erreichen</a:t>
            </a:r>
            <a:r>
              <a:rPr b="0" lang="de-DE" sz="1600" spc="-1" strike="noStrike">
                <a:solidFill>
                  <a:srgbClr val="003760"/>
                </a:solidFill>
                <a:latin typeface="Arial"/>
                <a:ea typeface="ヒラギノ角ゴ Pro W3"/>
              </a:rPr>
              <a:t>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feld 7"/>
          <p:cNvSpPr/>
          <p:nvPr/>
        </p:nvSpPr>
        <p:spPr>
          <a:xfrm>
            <a:off x="268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6249-4077-46E6-8A1A-7C59F811C0E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FC9C-4A10-46A3-B9F0-C48667BEFED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EBA-6610-46D1-9276-E723767A23C3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257720" y="2303640"/>
            <a:ext cx="436716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2001a"/>
                </a:solidFill>
                <a:latin typeface="Arial"/>
                <a:ea typeface="ヒラギノ角ゴ Pro W3"/>
              </a:rPr>
              <a:t>Sch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daktisch-pädagogische Prozesse in der Verantwortung der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staltungsräume der Schul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besonders auch die zeitlichen Rahmenbedingungen in der EPH betreff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kretisierung in unterrichtlichen Kontexten und Umsetzung in aufeinander abgestimmte Unterrichtsvorhaben (Progression, Kumulativitä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5"/>
          <p:cNvSpPr/>
          <p:nvPr/>
        </p:nvSpPr>
        <p:spPr>
          <a:xfrm>
            <a:off x="368280" y="1446120"/>
            <a:ext cx="8120160" cy="503712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8597-A20D-4D5F-ADA4-5B5E1CE79FD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hteck 6"/>
          <p:cNvSpPr/>
          <p:nvPr/>
        </p:nvSpPr>
        <p:spPr>
          <a:xfrm>
            <a:off x="641520" y="1574640"/>
            <a:ext cx="75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e2001a"/>
                </a:solidFill>
                <a:uFillTx/>
                <a:latin typeface="Arial"/>
                <a:ea typeface="ヒラギノ角ゴ Pro W3"/>
              </a:rPr>
              <a:t>Anforderungen an die Schulen angesichts  </a:t>
            </a:r>
            <a:br>
              <a:rPr sz="1800"/>
            </a:br>
            <a:r>
              <a:rPr b="1" lang="de-DE" sz="1800" spc="-1" strike="noStrike" u="sng">
                <a:solidFill>
                  <a:srgbClr val="e2001a"/>
                </a:solidFill>
                <a:uFillTx/>
                <a:latin typeface="Arial"/>
                <a:ea typeface="ヒラギノ角ゴ Pro W3"/>
              </a:rPr>
              <a:t>kompetenzorientierter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hteck 7"/>
          <p:cNvSpPr/>
          <p:nvPr/>
        </p:nvSpPr>
        <p:spPr>
          <a:xfrm>
            <a:off x="511200" y="2347920"/>
            <a:ext cx="38415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2001a"/>
                </a:solidFill>
                <a:latin typeface="Arial"/>
                <a:ea typeface="ヒラギノ角ゴ Pro W3"/>
              </a:rPr>
              <a:t>KL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gabe zu erreich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chränkung auf 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bereich fachli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forderung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mulierung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rwartungen 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haltlichen Schwerpunkten 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inem bestimmten Zeitpunkt e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ldungsgang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76FD-1124-4C2C-B540-EFB350D5722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7A4A-0F9C-4CEE-B0E2-29D158F0789A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204840" y="1351080"/>
            <a:ext cx="8761320" cy="483048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B0E2-60E6-4012-8315-7E2E7469697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hteck 6"/>
          <p:cNvSpPr/>
          <p:nvPr/>
        </p:nvSpPr>
        <p:spPr>
          <a:xfrm>
            <a:off x="314280" y="1563840"/>
            <a:ext cx="8556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80" indent="-46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	</a:t>
            </a:r>
            <a:r>
              <a:rPr b="1" lang="de-DE" sz="1800" spc="-1" strike="noStrike" u="sng">
                <a:solidFill>
                  <a:srgbClr val="e2001a"/>
                </a:solidFill>
                <a:uFillTx/>
                <a:latin typeface="Arial"/>
                <a:ea typeface="ヒラギノ角ゴ Pro W3"/>
              </a:rPr>
              <a:t>Anforderungen an die Schulen angesichts  </a:t>
            </a:r>
            <a:br>
              <a:rPr sz="1800"/>
            </a:br>
            <a:r>
              <a:rPr b="1" lang="de-DE" sz="1800" spc="-1" strike="noStrike" u="sng">
                <a:solidFill>
                  <a:srgbClr val="e2001a"/>
                </a:solidFill>
                <a:uFillTx/>
                <a:latin typeface="Arial"/>
                <a:ea typeface="ヒラギノ角ゴ Pro W3"/>
              </a:rPr>
              <a:t>kompetenzorientierter Kernlehrplä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80" indent="-4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hteck 7"/>
          <p:cNvSpPr/>
          <p:nvPr/>
        </p:nvSpPr>
        <p:spPr>
          <a:xfrm>
            <a:off x="287280" y="2548080"/>
            <a:ext cx="423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2001a"/>
                </a:solidFill>
                <a:latin typeface="Arial"/>
                <a:ea typeface="ヒラギノ角ゴ Pro W3"/>
              </a:rPr>
              <a:t>KL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estlegung des Umfangs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rwartungen und da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undener Fachkenntniss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sagen zur Leistungserfassung 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bewert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hteck 8"/>
          <p:cNvSpPr/>
          <p:nvPr/>
        </p:nvSpPr>
        <p:spPr>
          <a:xfrm>
            <a:off x="4462560" y="2606760"/>
            <a:ext cx="441468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2001a"/>
                </a:solidFill>
                <a:latin typeface="Arial"/>
                <a:ea typeface="ヒラギノ角ゴ Pro W3"/>
              </a:rPr>
              <a:t>Sch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gruppenadäquate Umsetzung und Konkretisie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einbarungen und Absprachen über Kriterien der Leistungs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pflichtung der Schulen schuleigene Curricula (Lehrpläne/ Arbeitspläne) zu erstellen laut Schul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2293-04C6-47DD-B39F-16BE2DD6482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BBDF-AEFF-44E3-A785-F7363D7001E3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D2B7-CD24-4FF3-887E-05BCC7C2471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568440" y="1616040"/>
          <a:ext cx="8064360" cy="3956040"/>
        </p:xfrm>
        <a:graphic>
          <a:graphicData uri="http://schemas.openxmlformats.org/drawingml/2006/table">
            <a:tbl>
              <a:tblPr/>
              <a:tblGrid>
                <a:gridCol w="863640"/>
                <a:gridCol w="7200720"/>
              </a:tblGrid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ie Fachgruppe Erdkunde in der Y-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m Unterricht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Unterrichtsvorhaben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Übersichtsraster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nkretisierte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rundsätze der fachmethodischen und fachdidaktischen Arb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Grundsätze der Leistungsbewertung und Leistungsrückmeld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ehr- und Lern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 fach- und unterrichtsübergreifenden Fra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Qualitätssicherung und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E615-B262-455C-A9C4-B47752DDECF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768-6DB4-4C66-8DDD-7D956307431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87360" y="2189160"/>
            <a:ext cx="3780000" cy="19256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Lehrkra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haltliche Schwerpunktsetzu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 </a:t>
            </a: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arrange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Problem-, Anwendungsorientieru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etc.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828720" y="4476600"/>
            <a:ext cx="7539120" cy="174816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Lehrkraft </a:t>
            </a:r>
            <a:r>
              <a:rPr b="0" i="1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und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Studieren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ergebnisse</a:t>
            </a:r>
            <a:br>
              <a:rPr sz="1600"/>
            </a:b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rnerfolg</a:t>
            </a:r>
            <a:br>
              <a:rPr sz="1800"/>
            </a:b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(langfristig entwickelte Kompet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4705200" y="2200320"/>
            <a:ext cx="4010040" cy="19256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In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Verantwortung</a:t>
            </a:r>
            <a:r>
              <a:rPr b="0" lang="de-DE" sz="18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der Studierend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Nutzung des Angebots ganz im Sinne des eigenverantwortlichen, selbstständigen Ler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684360" y="1498680"/>
            <a:ext cx="76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Gemeinsame Verantwortung für den Lern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feld 16"/>
          <p:cNvSpPr/>
          <p:nvPr/>
        </p:nvSpPr>
        <p:spPr>
          <a:xfrm>
            <a:off x="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40B4-5FC4-4EA0-87B2-46CBA3FD32B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ABB-3FA3-4555-8EDB-FD613C5825C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A2E8-5C84-4584-A414-0CF5758BDF57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221C-5D59-4B1E-A3FD-2B7EFEEEE1E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50760" y="2243160"/>
          <a:ext cx="9093240" cy="4836960"/>
        </p:xfrm>
        <a:graphic>
          <a:graphicData uri="http://schemas.openxmlformats.org/drawingml/2006/table">
            <a:tbl>
              <a:tblPr/>
              <a:tblGrid>
                <a:gridCol w="3013200"/>
                <a:gridCol w="3038400"/>
                <a:gridCol w="3041640"/>
              </a:tblGrid>
              <a:tr h="483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E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Q1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Q2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Q1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Q2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  <p:sp>
        <p:nvSpPr>
          <p:cNvPr id="935" name="Rechteck 7"/>
          <p:cNvSpPr/>
          <p:nvPr/>
        </p:nvSpPr>
        <p:spPr>
          <a:xfrm>
            <a:off x="573120" y="1441440"/>
            <a:ext cx="79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Beispiel: Übersichtsraster Unterrichtsvorhab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2B10-EDA6-4BFB-A2FD-935E8F9F3F3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0756-A96C-46CA-8874-1BF478B9BFF7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5DC4-9C6A-444D-8AF9-89190E03A4A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hteck 5"/>
          <p:cNvSpPr/>
          <p:nvPr/>
        </p:nvSpPr>
        <p:spPr>
          <a:xfrm>
            <a:off x="1446120" y="1419120"/>
            <a:ext cx="63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2001a"/>
                </a:solidFill>
                <a:latin typeface="Arial-BoldMT"/>
                <a:ea typeface="Arial"/>
              </a:rPr>
              <a:t>„</a:t>
            </a:r>
            <a:r>
              <a:rPr b="1" lang="de-DE" sz="2400" spc="-1" strike="noStrike">
                <a:solidFill>
                  <a:srgbClr val="e2001a"/>
                </a:solidFill>
                <a:latin typeface="Arial-BoldMT"/>
                <a:ea typeface="Arial"/>
              </a:rPr>
              <a:t>Der Lehrplannavigator</a:t>
            </a:r>
            <a:r>
              <a:rPr b="1" lang="ja-JP" sz="2400" spc="-1" strike="noStrike">
                <a:solidFill>
                  <a:srgbClr val="e2001a"/>
                </a:solidFill>
                <a:latin typeface="Arial-BoldMT"/>
                <a:ea typeface="MS PGothic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2001a"/>
                </a:solidFill>
                <a:latin typeface="Arial-BoldMT"/>
                <a:ea typeface="Arial"/>
              </a:rPr>
              <a:t>Ein Lehrplaninformationssystem mit Unterstützungsmaterialien zur Kernlehrplan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hteck 6"/>
          <p:cNvSpPr/>
          <p:nvPr/>
        </p:nvSpPr>
        <p:spPr>
          <a:xfrm>
            <a:off x="736560" y="3963960"/>
            <a:ext cx="76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schulentwicklung.nrw.de/lehrplaene/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ehrplannavigator-weiterbildungskolle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5304-C811-427A-ACBE-0CC19A09FF3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6A3D-CC09-4D90-BD3F-BD306831F014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7169-8E4D-4067-A95D-8F706BA3E10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2" descr=""/>
          <p:cNvPicPr/>
          <p:nvPr/>
        </p:nvPicPr>
        <p:blipFill>
          <a:blip r:embed="rId1"/>
          <a:stretch/>
        </p:blipFill>
        <p:spPr>
          <a:xfrm>
            <a:off x="258840" y="1420920"/>
            <a:ext cx="8480520" cy="47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0131-F3CB-4914-9AB2-F08B88C157D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B635-B1E0-4EB1-9971-846A8E4DD0EA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5339-E601-405C-AA99-A79506C787D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2" descr=""/>
          <p:cNvPicPr/>
          <p:nvPr/>
        </p:nvPicPr>
        <p:blipFill>
          <a:blip r:embed="rId1"/>
          <a:stretch/>
        </p:blipFill>
        <p:spPr>
          <a:xfrm>
            <a:off x="163440" y="1436760"/>
            <a:ext cx="8817120" cy="49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BBF0-8A0E-4975-A84D-261C8FD766C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226F-8624-4B9D-BC55-907DCBD256D2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395E-68F2-415A-8EE3-E637CA109E6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2" descr=""/>
          <p:cNvPicPr/>
          <p:nvPr/>
        </p:nvPicPr>
        <p:blipFill>
          <a:blip r:embed="rId1"/>
          <a:stretch/>
        </p:blipFill>
        <p:spPr>
          <a:xfrm>
            <a:off x="368280" y="1425600"/>
            <a:ext cx="854568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ED5F-D1B8-4C25-848A-1BF7D1C70B2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12A3-10F9-4A4D-B9C3-6EAF7F89D26B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66640" y="27288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-BoldMT"/>
              </a:rPr>
              <a:t>Herzlichen Dank für Ihre Aufmerksamkeit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064720" cy="2160720"/>
          </a:xfrm>
          <a:prstGeom prst="rect">
            <a:avLst/>
          </a:prstGeom>
          <a:ln w="0">
            <a:noFill/>
          </a:ln>
        </p:spPr>
      </p:pic>
      <p:sp>
        <p:nvSpPr>
          <p:cNvPr id="96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9DAC-8357-42A8-8DDE-0DC1FA8B4E6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AA21-2964-4CD0-ACF7-BDE11D11942A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B408-2DB3-4444-93DE-765808597212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477720" y="1593720"/>
            <a:ext cx="81378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begriff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der Kernlehrplä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feld 11"/>
          <p:cNvSpPr/>
          <p:nvPr/>
        </p:nvSpPr>
        <p:spPr>
          <a:xfrm>
            <a:off x="-255600" y="83340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2"/>
          <p:cNvSpPr/>
          <p:nvPr/>
        </p:nvSpPr>
        <p:spPr>
          <a:xfrm>
            <a:off x="517680" y="2179800"/>
            <a:ext cx="81374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ch Weinert (2001) versteht man Kompetenzen als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e bei Individuen verfügbaren oder durch sie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erlernbaren kognitiven Fähigkeiten und Fertigkeiten, um bestimmte Probleme zu lös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sowie die damit verbundenen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motivationalen, volitionalen und sozialen Bereitschaften und Fähigk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 Problemlösungen in variablen Situationen erfolgreich und verantwortungsvoll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nut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zu können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77720" y="5132520"/>
            <a:ext cx="8217000" cy="1008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E3D6-15AD-4857-B205-79C0FB9A29E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E5A2-3B62-4F8E-B10B-9B62ABC4CA4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514440" y="1811160"/>
            <a:ext cx="679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15"/>
          <p:cNvSpPr/>
          <p:nvPr/>
        </p:nvSpPr>
        <p:spPr>
          <a:xfrm>
            <a:off x="-365040" y="8571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feld 4"/>
          <p:cNvSpPr/>
          <p:nvPr/>
        </p:nvSpPr>
        <p:spPr>
          <a:xfrm>
            <a:off x="539640" y="2481120"/>
            <a:ext cx="8061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ennen individuelle fachspezifische Fähigkeiten und Fertigkeiten von Studierenden (Inhaltsdimension verknüpft mit Handlungsdimensio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rden in einem längeren Entwicklungsprozess erwor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Grundlage für das selbstständige Lösen von Problemen und für neue Fragestellungen und Auf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56F8-CFF2-4653-B5D4-9CDD9F0AA0E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43B8-BA93-422E-828C-28C431A87F7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419040" y="2363760"/>
            <a:ext cx="83631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abschnitts entwickelt werden (KLP-Vorgaben, Schulcurriculum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n Inhaltsfelder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llen diese Kompetenzen entwickelt wer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Unterrichtsgegenstand ist geeigne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 Kompetenzen zu entwickeln? In welch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ist die Kompetenz releva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as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arrange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95400" y="1461960"/>
            <a:ext cx="89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rwartungen als Ausgangspunk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für die Unterrichtspla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1709640" y="4979880"/>
            <a:ext cx="5781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Nach ___Stunden zum Thema ____ erwarte ich, 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dass die Studierenden…, …, …, … und 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feld 8"/>
          <p:cNvSpPr/>
          <p:nvPr/>
        </p:nvSpPr>
        <p:spPr>
          <a:xfrm>
            <a:off x="-184320" y="77616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D069-E426-43ED-AAF5-DE598228D71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6:56:38Z</dcterms:created>
  <dc:creator>Musiol</dc:creator>
  <dc:description/>
  <dc:language>en-US</dc:language>
  <cp:lastModifiedBy>Sohnius, Axel</cp:lastModifiedBy>
  <cp:lastPrinted>2013-05-14T13:09:49Z</cp:lastPrinted>
  <dcterms:modified xsi:type="dcterms:W3CDTF">2014-10-27T09:40:01Z</dcterms:modified>
  <cp:revision>661</cp:revision>
  <dc:subject/>
  <dc:title>Folie 1</dc:title>
</cp:coreProperties>
</file>