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1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26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27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28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40B5-B218-4A01-87EC-CFBCA507360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CD56-DD80-4C78-9C5C-2D769CC4375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96BB-89DE-4EF6-83A3-0DB4C681B9E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0624-4CBB-46C7-A547-B1CCDC8FDB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891-EB99-4A32-B2E6-981DCE55C3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E46-1E7B-47DD-BADE-DECC8D02573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2EE7-7D64-443A-ABDF-D7700B66DC0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637-1836-4ABE-BE3B-1304B4827C4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F48-F509-49F1-85D8-AD62CEFDE223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2D0-6524-4296-9902-B85123F957A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F8B-E1E3-4583-845F-CFADF705704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1004-B8BC-4D5B-9F3E-B732604FF79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2A3AF9F2-E542-43E2-A115-5710145C89C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44C1-B08A-4E73-A3E8-2EC140FCC57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6F1E-3F79-437B-B386-BD639FA40EE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Ggf. ER abweichend formuliert – hält Struktur des KLP SI durc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K: Wahrnehmungs- und Deu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K: Dialog- und Gestal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07AD-8CD7-4408-A01C-19C3DA4DC17B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E15A-0EF4-4015-BDBB-062837D120F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21C-46F9-4A2A-9227-A91661A6C00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DA79-EC7E-4D5E-9939-AA404D8801D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7F8-ED81-47EF-B8E2-DB6C1EADC06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A5C-4350-480A-9705-A6A0E65F6BF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DAA9-9C33-47F2-A34B-1AFD2D208B7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98E-9AE6-4C8A-8552-F5B4200F5998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B1BE-0C4C-4237-A6AF-70B987D0928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7366-00D3-476E-95AB-FB61F9C5AD7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3C95-6A0B-4828-890C-AE69CD5717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752-EB82-48C8-AFC9-380DA4DA54B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ichts Neues – war schon immer Aufgabe der Fachkonferen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0F1-0561-43C9-8192-ECE1955AF6F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3AD-2C8A-4A76-80D4-3D1CA1B5BF2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0A2-2C10-4027-97F4-1B4703C855A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aktische Arbeit bei dieser Veranstalt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zelarbeit (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10 Minu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) – es geht um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naue Lektür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r KompErw und um „Füllung“ mit  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thodisch-didaktische Einfäll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zelarbeit, kurzer Austausch im Plenum, Fragen klären zu KE; Aus zeitlichen Gründen: als Übung hier nur konkretisierte KompErw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bindlich: beides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kretisiert und übergeord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liegen zu prüfen, was genau die KompErw verlang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muss ja nicht dem entsprechen, was schon immer gemacht wurde – kann auch entlas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derspiegelung der Arbeit der Kommi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pErw auf Kärtchen; Ideen zu den KompERw notiert auf Kärtch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rain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thematischer Schwerpunkte aus den KompErw und Ideen (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Clustern, Strukturierung: „Erschließungsplausibilitäten“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spitzung auf Themen von UV (unter Einbeziehung der inhaltlichen Schwerpunkte, das aber erst an dieser Stelle, um nicht Schwerpunkte zu Reihenthemen zu mach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netzung ernst nehme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hrere UV für EF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 exemplarisch vorstellen (U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3C80-3761-4EE6-AA99-AEFD2C90E201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863-4582-4E2F-B489-4D33FDEB701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e zum Lesen des schulinternen Curriculums 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Zeit zum Lesen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seanleitung: Was genau ist obligatorisch festgelegt, was sind Ideen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Ggf.,“ … erläu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e der LP-Kommission: Hilfen über Literaturhinwe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EE3F-31A7-434F-9760-DBD7A062924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liegen dieses Schrittes verdeutlic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wicklung konkreter Vorstellungen, wie gearbeitet werden k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mmlung von Ideen und Anregungen für die Fachkonferenz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Wer möchte, kann abfotografieren und mitne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Karten aufkleben? Oder Nr aufschreiben? Kärtchen aufkl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 zeitlichen Gründen: als Übung hier nur konkretisierte KompErw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bindlich: beides: konkretisiert und übergeordnet evtl. auch übergeordnete reinrei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GA (ggf. kurz fassen, je nach dem, wieviel Zeit 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Gruppen stellen ihre Ergebnisse vor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enum: Austausch von Fragen, Erfahrungen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t die Anzahl der in einem UV anvisierten Kompetenzen realistisch (Gefahr der Überfrachtung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rden – und das gilt insbesondere für den Bereich der Methodenkompetenz-  nur die Kompetenzen berücksichtigt, die wirklich relevant bzw. Schwerpunkt der Erarbeitung si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sprechen die gesetzten inhaltlichen und methodischen Akzente den Kompetenzerwartun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leibt bei aller Notwendigkeit von Absprachen noch Freiraum für eine Gestaltung von Unterrichtsprozessen, die individuell auf Fragen und Interessen der Studierenden einge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der Arbeit der Kommi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pErw auf Kärtchen; Ideen zu den KompERw notiert auf Kärtch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Brain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thematischer Schwerpunkte aus den KompErw und Ideen (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Clustern, Strukturierung: „Erschließungsplausibilitäten“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spitzung auf Themen von UV (unter Einbeziehung der inhaltlichen Schwerpunkte, das aber erst an dieser Stelle, um nicht Schwerpunkte zu Reihenthemen zu mach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netzung ernst nehme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 UV für EF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 exemplarisch vorstellen (U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E353-0312-4FEF-80EE-6FCE98E6F5E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e zum Lesen des schulinternen Curriculums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Zeit zum Les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gf., … erläu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seanleitung: Was genau ist obligatorisch festgelegt, was sind Ideen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e der LP-K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 auf Beispiel für schulinternen Lehrplan, Checkliste 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3BD-BDB9-4088-A722-FBD370FE889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248F-0280-4D06-B70E-9954E649511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 Verweis auf den KLP Kap.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toren auch 3 AFB mitzudenken; „Analyse“ – Kompromiss mit anderen Fächern; eher: „Kontextualisierung“ – vergleichende Analyse, Abgleich m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 der Kombination von Überprüfungsformen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ufgabenkonstruktionen …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er Einübung dieser Schritte im Kontext von Unterricht, auch bei AB, ..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orbereitung auch auf Klausurfor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BE39-5521-4A71-ACE9-6ECF4A52AF2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gf. noch einmal wiederholen: übergeordnete und konkretisierte KompEr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353-5B24-4DD8-A560-EECAEB0F786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DC18E5F-5412-4AA1-8B51-69E955BE554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C40416E-245D-4B49-8336-F28CF17F132C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81D-8AF4-4C5C-9AF0-C98A24B4F79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13E-3906-4B1B-BD64-C8D279335C22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F243-471C-468E-86C5-A1C05751CC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oliennummernplatzhalt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FEFB-B91E-4904-B381-58E0FFE2CF6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4E220C7-F17C-4364-B52F-2D4805B6446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AA6CCFF-EB61-47D9-8076-1F164A280F5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820232-CA10-4FAF-AD61-5CD0B202D68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AA6F5CE-7209-4259-BB12-0EF16889E3E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87040" y="4714560"/>
            <a:ext cx="48942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r Stofforientierung (Inputsteuer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r Ergebnis- und Outputsteuerung / Kompetenzorientier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Kopfzeilenplatzhalter 3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KLP Katholische Religionslehre SII 2. Halbjahr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liennummernplatzhalter 4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02C7-7FE8-49FC-9E49-DF2E302E4174}" type="slidenum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A14AC94-06F3-4A54-BF0C-3846EBC40BC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311E038-1087-4F2C-A928-B3860283CEA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5B21-1163-49C9-B4D6-38AEBA01E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CE88-F140-4A83-962A-D0BFFEA55F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41F2A9-12AE-4910-9FCD-CB40FD199D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EA5F0-B116-4F75-B543-B7E31A3995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E84CB-41FB-4534-92C6-D4AD6A29BA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243E0-F663-4529-A38F-3E6BA156D4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1EF71-5462-4E06-990F-F248BACEFF5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C83BE-E181-4BCE-8F42-C0D6B86AA4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3E9F5-D8BA-4D2D-BD60-FA50222936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072DC7-4C68-4DB7-A717-CFB9321AE2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168D4-5F7E-43A4-A6E2-CFD4F2B4CFC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41C8-ABA3-43F6-994F-DF54CA2DF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AB89-CD4B-49A5-9E2E-24A90EDEF0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26A6-851A-4D61-ACAB-6E3B177212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7C7E-C068-49E1-9132-7EC287BAAA7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5A1A-5381-410A-984F-7EB00831336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D322C-D698-460F-B010-FD2631CBDB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8795-7539-4D9E-A24D-FA3F84F4089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0B86F-D831-457D-BAA6-8AAA3C5296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559C-FB7C-4FF8-BF05-E13CDB3218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611F-ABC7-41E7-AE2D-039999166E3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F7CA-F8E9-4C35-A79A-03E7BD61B4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FEDE-83D5-465F-82F1-2A48B7F79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AAC0-BEED-46D6-B242-F5059896F78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F7EF-C46F-457B-8327-32EC81DB90E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806D4-36F9-4623-BFF6-CDE4B9C253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F9687-4F16-4131-A8C3-38E259BA03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9CADD-6CC3-4ACD-A105-560C4ADC88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1E68E-1DAB-4310-84E4-7131C0ACC49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ACA53-00D0-483F-A2EF-444CF39466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DB5FB-B5E8-494C-B8B2-BF381225D2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01B7E-C5AB-42F8-94F4-4E9BDB4391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0F093-02AD-402A-A470-D6B02FE958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55E50-3C3B-4DFC-B2EE-D7F983FED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2DCB6-6DEE-47BF-9F5F-90A2BEEA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477FC-94AB-42C2-BF52-548C988247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1E96E-E68D-4785-B30E-F9759273A0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334BB-C0B8-469F-91E3-138B49189E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5E880-B222-4346-B096-A5C97DABBFE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A005D-4AD6-4712-B616-E21D21809F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E418C-9EEA-4DE4-ABB1-2B976C8534C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A91E2C-7B37-4123-A38C-C984AE695B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B2E94-8C60-4F71-929E-E818A85EE8C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576E68-8B26-4F69-8A8F-71FB8B61EA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030F3-2B1A-4D40-A51E-79D32309D3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D8C0-9D4A-430F-A585-B67C0F1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86F8A-1067-48B7-A295-C36D403106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32DD8-B5C6-4F4B-9F55-EA28951C5FE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000363-AB94-4B31-8518-2B4455B9647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7B821F-07E5-43E4-B9D3-482BA2EDA68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20D7F-5AC4-4A0C-A7A3-B1EE60F52D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BD5B-1DCC-4A65-80F6-FE12F75A2A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3066D-6DE6-49C5-B216-503A398C8C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EEE64-2D9C-4A48-A39C-16D76305CC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0312A-33F8-4AEE-8B94-CC1CEFFFAD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F95D-8FB7-4920-B883-2FACA7327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061C-B495-479E-9B4D-4703D5CC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CDAE-82B4-486F-9943-4D2F3BDE1F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C5DC-9CBA-488E-898D-A30944E125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8BAF-EB19-4765-B0BA-264D18D476C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B477-45A0-439D-86BE-B993AED49F9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9D47F-AD76-4717-8729-E8DA337424E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DA70-C514-406A-9931-5D74681C73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09449-C902-45E3-B776-654FA3DA4D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E3AA-AA66-4B99-91C1-BBED261D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FB49-1BAD-4664-A16C-F9E0EFF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C729B-9940-4AC5-BFD1-DC1A658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94150-E39A-44E0-B5B7-1FD742C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5174-92C7-4616-8864-84C34F6B8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522E-86D4-4B3C-96C7-E0B03AC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63B6-F2A0-4590-BB48-4E7F09D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947EB-11F7-4DDC-B1D2-0B68CAA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A4581-FC35-4CEF-B4D1-59D77EDE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F202B-8D52-4CDC-9089-D212DF91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A649-40F8-4B34-B8B7-49A3E9F487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799E-1D51-4A27-844B-E07B4B6AA4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181-49A1-4CA9-B722-DAE5E2D39A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0D7-BA6D-46A1-8BF2-367974FB7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606F-A09C-46A5-8A9C-15DADF484C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FE0-41FD-47DA-B8D1-5DD932D5AF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60AD-BA30-4CD0-B581-A656D7148E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CF8-C3B3-45A5-A405-DB637DB15D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ABE-77DC-432F-B59C-5C81E05C39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53AD-4FA8-4B37-AAA2-D79DBE6FEB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00D-DBCD-4CD0-927C-7E75D6BF3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E93-FD29-4C77-AC9C-8B986D9F7C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0983-E30C-429D-B151-EA032AF0E9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F1CB-9DC5-43B0-910D-4CB74A3586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6BB2D-322F-4100-9CAA-3C1F4425F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AA48-FD81-4AFE-93B8-93F9FF3D84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36C44-15AC-4838-A3B6-326B831A8B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3BF28-0881-4F3A-B42F-641EEBF40A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DA92F-FA7F-44BF-A33B-155CDBD6C1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0D59B-BBA4-4351-8D7F-AB1399146F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90A3E-8098-44ED-832C-D6ADFB066C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AB3F7-47AC-4E87-AA76-98C176F077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531E-F2EB-43C3-ADE2-5A0BE43628F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2A04D-ED1E-4E56-B058-85B27C1055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26818-C136-4B3B-99F5-F74FE82C4A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37B99-3CCD-49AB-843E-0CBF679C0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F4CE-6A84-496E-B030-8032F97641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BBECD-DF75-4ADC-9CF3-A8E45758E1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69451-F3DD-4C30-BC49-BA0801A1FD8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A3200-56B5-4319-91E7-2437C759CB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D9993-09AC-484C-9482-BD4D65816A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CDA9A-212E-46C8-A2B6-7F3FA99877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93AB2-B635-48E4-A2D7-0B3EBF7B20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5A99C5-DD5A-4CE9-81E7-0CC1FF5AEE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FBF75-D5D9-4F20-9722-A8C4566094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16017-1CF4-42F0-ADB3-7E859B96D1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EF30A-EDF8-461C-BAA9-C94485491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1BF8-710A-4BF5-9886-75C371C8CE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8E8DD-733B-4877-8BCA-174D43C23F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AD1ED-9E25-4A35-BE73-E76C0A480D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912DE-EBED-42B8-9FDB-848BD971E6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E0C9-43CC-4278-9B57-D13BE61C20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4ABC-9B93-4919-81BF-3B32C9D8CC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9C6B-9A5E-4C5E-ACF2-1DEBF9BB4F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9883D-FAD1-43D1-8B78-A01ACF5A21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54BC3-F036-46D8-A971-4432D37A69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F531D-618B-4729-BE54-A163A4B2487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30A3-3E47-4B85-8C58-78616833B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5BCA-D332-447A-B352-ECBA067115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F344-E467-4F47-9A69-5060DF9300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05DD-47F4-4556-B640-DF7452A5E6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FDFC-59BD-4D11-8CD9-AD93CA2F59B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7E8D-822D-430F-942B-1AB10C2163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072C-BD5D-4B1D-99EF-3D6AF613B40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2BF3AE-EDC8-4752-A614-EBA62B07F9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07400-A062-450C-AECB-362E847212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8BDC7-6C15-4B5E-8DF0-1FE4620D4B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16184-674B-4464-B1C8-1C10A9B24F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C4385-8D16-4FDC-8985-3A2FD9C70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6C9A-1799-4CF7-BA71-547D6A1B1C7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B6BB3-E00F-4C28-BD6B-FB402CDB93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35128-A743-43EA-BD82-DFB38A15F9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63E6C-19C9-490D-9146-ADC7EF5A97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B28EF-30BE-4053-BD8E-D608EE4999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9640" y="3910320"/>
            <a:ext cx="80647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8D9FE-68C0-43BF-859D-EA93578635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9159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96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2440" y="3910320"/>
            <a:ext cx="393552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5E55D-42FE-4A83-8CFA-6ECE1BE284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6664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93280" y="19159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9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6664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93280" y="3910320"/>
            <a:ext cx="25966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E0E2F-03F5-4BF1-8D49-842D0C45FC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C13CD-4362-4C45-9007-83CD9520D1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0D05AB-2E43-4FB2-82D4-4F6E533188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8D940-8B7B-4AA1-8450-FEAFD1D8B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78EC-5033-4510-8634-84A84E49B48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8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7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9E7-34FB-48BB-8E25-1957224DEBE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3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2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807-3BF5-44AD-AE06-89EC94BF931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148-F117-4074-8E44-49029979433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517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feld 8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sldNum" idx="2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E6EB-C36F-48C8-B470-0C2351FF63E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29E9-A0DD-4E82-9AB9-50DACEB70B53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NRW_SK_CMYK"/>
          <p:cNvPicPr/>
          <p:nvPr/>
        </p:nvPicPr>
        <p:blipFill>
          <a:blip r:embed="rId2"/>
          <a:stretch/>
        </p:blipFill>
        <p:spPr>
          <a:xfrm>
            <a:off x="5769000" y="404640"/>
            <a:ext cx="2835360" cy="57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3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85" name="Textfeld 2"/>
          <p:cNvSpPr/>
          <p:nvPr/>
        </p:nvSpPr>
        <p:spPr>
          <a:xfrm>
            <a:off x="529920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2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B55A-11CC-4015-B1CC-C3422EF5EC3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17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8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E367-9503-4201-BACE-9F958884ECB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9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1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0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EDD-CEE5-4EDD-9DC4-CAFC164C7BD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160-1AD9-401A-BE19-33D9D1307A6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00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E4F-0573-42E4-AC68-563434BB798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1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2880000" cy="590760"/>
          </a:xfrm>
          <a:prstGeom prst="rect">
            <a:avLst/>
          </a:prstGeom>
          <a:ln w="0">
            <a:noFill/>
          </a:ln>
        </p:spPr>
      </p:pic>
      <p:sp>
        <p:nvSpPr>
          <p:cNvPr id="343" name="Textfeld 2"/>
          <p:cNvSpPr/>
          <p:nvPr/>
        </p:nvSpPr>
        <p:spPr>
          <a:xfrm>
            <a:off x="5280120" y="365040"/>
            <a:ext cx="27288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Qualitäts- und UnterstützungsAgent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Landesinstitut für 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des Landes Nordrhein-Westfal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1268280"/>
            <a:ext cx="9144000" cy="5040360"/>
          </a:xfrm>
          <a:prstGeom prst="rect">
            <a:avLst/>
          </a:prstGeom>
          <a:solidFill>
            <a:srgbClr val="eff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2"/>
          <p:cNvSpPr/>
          <p:nvPr/>
        </p:nvSpPr>
        <p:spPr>
          <a:xfrm>
            <a:off x="755640" y="260280"/>
            <a:ext cx="272880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Kernlehrplanentwicklu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Calibri"/>
              </a:rPr>
              <a:t>Wahlpflichtfächer Realschule und Gesamtsch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6"/>
          </p:nvPr>
        </p:nvSpPr>
        <p:spPr>
          <a:xfrm>
            <a:off x="53928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D776-A0DD-4C2D-B8BB-BCFAEB10A2F6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89964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mailto:cordula.hartwig@qua-lis.nrw.de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539640" y="3573360"/>
            <a:ext cx="806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NRW_Guillochen_PowerPoint-Titel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-4680" y="2565000"/>
            <a:ext cx="914400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rnlehrplan Abendgymnasium und Kolle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vangelische Religionslehre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0" name="Foliennummernplatzhalter 4"/>
          <p:cNvSpPr/>
          <p:nvPr/>
        </p:nvSpPr>
        <p:spPr>
          <a:xfrm>
            <a:off x="444600" y="6415200"/>
            <a:ext cx="288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feld 1"/>
          <p:cNvSpPr/>
          <p:nvPr/>
        </p:nvSpPr>
        <p:spPr>
          <a:xfrm>
            <a:off x="2195640" y="3583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auftaktveranstal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m 28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F056-D7C0-49E1-816D-DCB63AD8D9E5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681120" y="5229360"/>
            <a:ext cx="7723080" cy="102204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Eine Kompetenz ist eine Disposition, die dazu befähigt, </a:t>
            </a:r>
            <a:br>
              <a:rPr sz="2000"/>
            </a:br>
            <a:r>
              <a:rPr b="0" lang="de-DE" sz="2000" spc="-1" strike="noStrike">
                <a:solidFill>
                  <a:srgbClr val="2d2d8a"/>
                </a:solidFill>
                <a:latin typeface="Arial"/>
                <a:ea typeface="ヒラギノ角ゴ Pro W3"/>
              </a:rPr>
              <a:t>variable Anforderungssituationen in einem bestimmten Lern- oder Handlungsbereich erfolgreich und verantwortlich zu bewält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BCAB-A24F-4298-B01D-69CB484464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4920" y="1322280"/>
            <a:ext cx="766908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-BoldMT"/>
                <a:ea typeface="MS PGothic"/>
              </a:rPr>
              <a:t>Kompetenzbegriff nach Weinert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50560" y="1843200"/>
            <a:ext cx="8064360" cy="38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 versteht man 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„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die bei Individuen verfügbaren oder durch sie erlernbaren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kognitiven Fähigkeiten und Fertigkeiten, um bestimmte Probleme zu lösen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, sowie die damit verbundenen </a:t>
            </a:r>
            <a:r>
              <a:rPr b="1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motivationalen, volitionalen und sozialen Bereitschaften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und Fähigkeiten, um die Problemlösungen in variablen Situationen erfolgreich und verantwortungsvoll nutzen zu können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Weinert 2001, S. 27f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2225-7462-4884-8AE0-79DB844F55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E4C-4FCD-4BCE-8CC8-069A6A7752F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1928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Merkmale kompetenzorientierter Kern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andardorientiert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definieren Standards (zu erreichende Zie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tehen aus fachbezogenen Kompetenzerwart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utputorientiert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die erwarteten Lernergebn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verbindlich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Kernlehrpläne beschreiben eine landesweit verbindliche Obligatorik; sie formulieren klare Ergebniserwartungen und keine Wahl-möglichk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itgehend „entdidaktisiert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“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ernlehrpläne beschränken sich auf die Formulierung der zu erreichenden Ergebnisse und treffen keine Aussagen zu Wegen und Verfahren der Zielerreichung. Didaktische wie auch methodische   Entscheidungen werden in den Schulen – u. a. bei der Erstellung des schulinternen Lehrplans – getroffe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hteck 5"/>
          <p:cNvSpPr/>
          <p:nvPr/>
        </p:nvSpPr>
        <p:spPr>
          <a:xfrm>
            <a:off x="5364000" y="1484280"/>
            <a:ext cx="2592720" cy="720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d2d8a"/>
                </a:solidFill>
                <a:latin typeface="Arial"/>
              </a:rPr>
              <a:t>Der neue KLP AGy und Kol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hteck 4"/>
          <p:cNvSpPr/>
          <p:nvPr/>
        </p:nvSpPr>
        <p:spPr>
          <a:xfrm>
            <a:off x="603360" y="2492280"/>
            <a:ext cx="3463920" cy="187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rnberei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rsprung und Auftrag von Kirche, ihre Erscheinungsformen und ihr Handeln in Geschichte und Gegenwart, in der Auseinandersetzung mit anderen Institutionen und geistigen Strömun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1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hteck 3"/>
          <p:cNvSpPr/>
          <p:nvPr/>
        </p:nvSpPr>
        <p:spPr>
          <a:xfrm>
            <a:off x="932040" y="1488960"/>
            <a:ext cx="2663640" cy="792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Der „alte“ LP AGy und Kolle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hteck 6"/>
          <p:cNvSpPr/>
          <p:nvPr/>
        </p:nvSpPr>
        <p:spPr>
          <a:xfrm>
            <a:off x="4464000" y="2457360"/>
            <a:ext cx="4356000" cy="19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sfeld 4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Kirche und ihre Aufgaben in der 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r Schwerpun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Auftrag der Kirche in einer sich wandelnden W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itel 5"/>
          <p:cNvSpPr/>
          <p:nvPr/>
        </p:nvSpPr>
        <p:spPr>
          <a:xfrm>
            <a:off x="372960" y="307800"/>
            <a:ext cx="428940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m „alten“ Lehrplan zum Kernlehrplan: Kontinuität und Fortschreibung   -  ein 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"/>
          <p:cNvSpPr/>
          <p:nvPr/>
        </p:nvSpPr>
        <p:spPr>
          <a:xfrm>
            <a:off x="611280" y="4890960"/>
            <a:ext cx="3463920" cy="131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bligatorische Inhal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un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 der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feld 2"/>
          <p:cNvSpPr/>
          <p:nvPr/>
        </p:nvSpPr>
        <p:spPr>
          <a:xfrm>
            <a:off x="4464000" y="4888080"/>
            <a:ext cx="4356000" cy="1008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kretisierte Sach- und Urteilskompet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und zw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feil nach unten 8"/>
          <p:cNvSpPr/>
          <p:nvPr/>
        </p:nvSpPr>
        <p:spPr>
          <a:xfrm>
            <a:off x="2154240" y="4392720"/>
            <a:ext cx="363600" cy="4492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3366cc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feil nach unten 12"/>
          <p:cNvSpPr/>
          <p:nvPr/>
        </p:nvSpPr>
        <p:spPr>
          <a:xfrm>
            <a:off x="6459480" y="4408560"/>
            <a:ext cx="365040" cy="45072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3366cc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107640" y="764640"/>
            <a:ext cx="856764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ch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in Auszü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Wahrnehmungs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fferenzieren zwischen theologischem Selbstverständnis der Kirche und ihren gesellschaftlichen Aktivitä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reiben den Aufbau und die Gliederung der Evangelischen Kirche in Deutschland he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eutungs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läutern an Beispielen unterschiedliche Formen des gesellschaftlichen Engagements der Kirche in ihrem jeweiligen historischen Kontex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sieren Bedingungen, Möglichkeiten und Grenzen kirchlichen Handelns angesichts der Herausforderungen im 21. Jahrhund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rteilskompetenz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(Beispiel)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werten Möglichkeiten und Grenzen kirchlichen Handelns angesichts aktueller und zukünftiger Herausforder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6AF-E9D9-4CC5-890C-83B9854E27CA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1042920" y="1725480"/>
            <a:ext cx="777708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 Kompetenz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ollen bis zum Ende des Bildungs-abschnitts entwickelt werden (KLP-Vorgabe, schulinterner Lehrpla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auf konzentrieren wir uns zunäch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elcher Inhalt / welche Sache ist geeigne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, um dieses Können (diese Kompetenzen) zu entwickeln? + In wel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wendungs- und Handlungssituatio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sind die Kompetenzen relevan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e muss auf dieser Grundlage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rwerbs- bzw. Lernsitu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gestaltet sein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133200" y="1255680"/>
            <a:ext cx="893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828720" y="5324400"/>
            <a:ext cx="7742160" cy="843120"/>
          </a:xfrm>
          <a:prstGeom prst="rect">
            <a:avLst/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„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Am Ende des Unterrichtsabschnittes____ erwarte ich, dass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Studierenden …, …., …. und … könn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F65-71EA-42E1-A8A4-F4C5CA3E6E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8000" y="1628280"/>
            <a:ext cx="8928000" cy="27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Umgang mit Kompetenzerwartungen („Vernetzung“)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5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E55-09C2-42F3-A586-80AFBF0831B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1115640" y="2060640"/>
            <a:ext cx="3816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lIns="0" rIns="0" tIns="0" bIns="0" anchor="t">
            <a:normAutofit/>
          </a:bodyPr>
          <a:p>
            <a:pPr lvl="2" marL="60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Studierenden bewerten Möglichkeiten und Grenzen kirchlichen Handelns angesichts aktueller und zukünftiger Herausforderun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feld 2"/>
          <p:cNvSpPr/>
          <p:nvPr/>
        </p:nvSpPr>
        <p:spPr>
          <a:xfrm>
            <a:off x="2124000" y="4221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as kann eine Studierende/ ein Studierender, die/der das kan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 welche konkreten Kenntnisse und Fähigkeiten muss eine Studierende/ ein Studierender verfü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elche Inhalte und Methoden bedienen diese Kompetenzerwart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208080" y="608040"/>
            <a:ext cx="875664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als Ausgangspunkt für die Unterrichtspla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1712-27F5-4FDD-8EA2-D402BF079D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72C-D570-49DB-8C66-9F99B78CDB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egende mit Linie 2 5"/>
          <p:cNvSpPr/>
          <p:nvPr/>
        </p:nvSpPr>
        <p:spPr>
          <a:xfrm>
            <a:off x="250920" y="1727280"/>
            <a:ext cx="2334960" cy="649080"/>
          </a:xfrm>
          <a:prstGeom prst="borderCallout2">
            <a:avLst>
              <a:gd name="adj1" fmla="val 18750"/>
              <a:gd name="adj2" fmla="val -8333"/>
              <a:gd name="adj3" fmla="val 85300"/>
              <a:gd name="adj4" fmla="val 112999"/>
              <a:gd name="adj5" fmla="val 81273"/>
              <a:gd name="adj6" fmla="val 111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forderungs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egende mit Linie 2 3"/>
          <p:cNvSpPr/>
          <p:nvPr/>
        </p:nvSpPr>
        <p:spPr>
          <a:xfrm>
            <a:off x="4237200" y="1346040"/>
            <a:ext cx="2496960" cy="468360"/>
          </a:xfrm>
          <a:prstGeom prst="borderCallout2">
            <a:avLst>
              <a:gd name="adj1" fmla="val 18750"/>
              <a:gd name="adj2" fmla="val -8333"/>
              <a:gd name="adj3" fmla="val 164481"/>
              <a:gd name="adj4" fmla="val 34851"/>
              <a:gd name="adj5" fmla="val 121740"/>
              <a:gd name="adj6" fmla="val 362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je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nhaltsplatzhalter 1"/>
          <p:cNvSpPr/>
          <p:nvPr/>
        </p:nvSpPr>
        <p:spPr>
          <a:xfrm>
            <a:off x="2101680" y="2637000"/>
            <a:ext cx="491832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60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bewerten Möglichkeiten und Grenzen kirchlichen Handelns angesichts aktueller und zukünftiger Herausforderun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egende mit Linie 1 7"/>
          <p:cNvSpPr/>
          <p:nvPr/>
        </p:nvSpPr>
        <p:spPr>
          <a:xfrm>
            <a:off x="7380360" y="2924280"/>
            <a:ext cx="1380960" cy="1144440"/>
          </a:xfrm>
          <a:prstGeom prst="borderCallout1">
            <a:avLst>
              <a:gd name="adj1" fmla="val 18750"/>
              <a:gd name="adj2" fmla="val -8333"/>
              <a:gd name="adj3" fmla="val 57328"/>
              <a:gd name="adj4" fmla="val -156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haltlich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egende mit Linie 1 12"/>
          <p:cNvSpPr/>
          <p:nvPr/>
        </p:nvSpPr>
        <p:spPr>
          <a:xfrm>
            <a:off x="6516720" y="5149800"/>
            <a:ext cx="1290600" cy="482760"/>
          </a:xfrm>
          <a:prstGeom prst="borderCallout1">
            <a:avLst>
              <a:gd name="adj1" fmla="val 18750"/>
              <a:gd name="adj2" fmla="val -8333"/>
              <a:gd name="adj3" fmla="val -20365"/>
              <a:gd name="adj4" fmla="val -281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egende mit Linie 1 10"/>
          <p:cNvSpPr/>
          <p:nvPr/>
        </p:nvSpPr>
        <p:spPr>
          <a:xfrm>
            <a:off x="816120" y="5230800"/>
            <a:ext cx="3055680" cy="960480"/>
          </a:xfrm>
          <a:prstGeom prst="borderCallout1">
            <a:avLst>
              <a:gd name="adj1" fmla="val 18750"/>
              <a:gd name="adj2" fmla="val -8333"/>
              <a:gd name="adj3" fmla="val -15157"/>
              <a:gd name="adj4" fmla="val 76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netz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Bild 2" descr="coloring page"/>
          <p:cNvPicPr/>
          <p:nvPr/>
        </p:nvPicPr>
        <p:blipFill>
          <a:blip r:embed="rId1"/>
          <a:srcRect l="5589" t="1249" r="55695" b="72780"/>
          <a:stretch/>
        </p:blipFill>
        <p:spPr>
          <a:xfrm>
            <a:off x="142920" y="1914480"/>
            <a:ext cx="5076720" cy="4319640"/>
          </a:xfrm>
          <a:prstGeom prst="rect">
            <a:avLst/>
          </a:prstGeom>
          <a:ln w="0">
            <a:noFill/>
          </a:ln>
        </p:spPr>
      </p:pic>
      <p:sp>
        <p:nvSpPr>
          <p:cNvPr id="666" name="Rechteck 1"/>
          <p:cNvSpPr/>
          <p:nvPr/>
        </p:nvSpPr>
        <p:spPr>
          <a:xfrm>
            <a:off x="971640" y="220500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bewerten Möglichkeiten und Grenzen kirchlichen Handelns angesichts aktueller und zukünftiger Herausforder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feld 4"/>
          <p:cNvSpPr/>
          <p:nvPr/>
        </p:nvSpPr>
        <p:spPr>
          <a:xfrm>
            <a:off x="5364000" y="3179880"/>
            <a:ext cx="3168720" cy="1069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en werden nicht isoliert, sondern im Verbund erwor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50920" y="603360"/>
            <a:ext cx="8611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Kompetenz(erwartungen) „auslegen“ und verne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8C48-FC4C-44FF-8D7F-6A116C8A04F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Resim 2" descr=""/>
          <p:cNvPicPr/>
          <p:nvPr/>
        </p:nvPicPr>
        <p:blipFill>
          <a:blip r:embed="rId1"/>
          <a:srcRect l="1011" t="3537" r="608" b="5624"/>
          <a:stretch/>
        </p:blipFill>
        <p:spPr>
          <a:xfrm>
            <a:off x="52560" y="1268280"/>
            <a:ext cx="9001080" cy="4969080"/>
          </a:xfrm>
          <a:prstGeom prst="rect">
            <a:avLst/>
          </a:prstGeom>
          <a:ln w="0">
            <a:noFill/>
          </a:ln>
        </p:spPr>
      </p:pic>
      <p:sp>
        <p:nvSpPr>
          <p:cNvPr id="671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56A-F4AE-40B1-941F-C8A6733F63B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hteck 1"/>
          <p:cNvSpPr/>
          <p:nvPr/>
        </p:nvSpPr>
        <p:spPr>
          <a:xfrm>
            <a:off x="216000" y="1370160"/>
            <a:ext cx="29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Die Studierenden bewerten Möglichkeiten und Grenzen kirchlichen Handelns angesichts aktueller und zukünft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ger Herausforder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feld 3"/>
          <p:cNvSpPr/>
          <p:nvPr/>
        </p:nvSpPr>
        <p:spPr>
          <a:xfrm>
            <a:off x="3635280" y="1300320"/>
            <a:ext cx="2613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läu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n Beispielen unterschiedliche Formen des gesellschaftlichen  En-gagements der Kirc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 ihrem jeweiligen historischen Kontext. (IF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443640" y="1473120"/>
            <a:ext cx="223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nalysier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Bedingungen, Möglichkeiten und Grenzen kirchlichen Handelns angesichts der Herausforde-rungen im 21. Jahr-hund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5"/>
          <p:cNvSpPr/>
          <p:nvPr/>
        </p:nvSpPr>
        <p:spPr>
          <a:xfrm>
            <a:off x="3544920" y="3013200"/>
            <a:ext cx="2776680" cy="23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fferenzieren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wischen theologischem Selbstver-ständnis der Kirche und ihren gesellschaftlichen         Aktivitä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feld 6"/>
          <p:cNvSpPr/>
          <p:nvPr/>
        </p:nvSpPr>
        <p:spPr>
          <a:xfrm>
            <a:off x="826920" y="3978360"/>
            <a:ext cx="2521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dentifizier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hristliche Beiträge von Personen und Instituti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nen in der gesell-schaftlichen Diskussion zu Gerechtigkeit und Frieden. (IF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feld 7"/>
          <p:cNvSpPr/>
          <p:nvPr/>
        </p:nvSpPr>
        <p:spPr>
          <a:xfrm>
            <a:off x="4932360" y="4724280"/>
            <a:ext cx="266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örter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öglichkei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d Grenzen 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sellschaftspolitis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ngagements v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hristinnen und Christen für Gerechtigkeit und Frieden. (IF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7F34-0BD2-4A89-80DF-2555778C31F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19280" y="1341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as Sie heute erwartet – Schwerpunkte der Arb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etenzorientierung – ein Orientierungswechsel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mgang mit Kompetenzerwartungen („Vernetzung“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ie Struktur des neuen KLP Evangelische Religionsleh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gaben der Fachkonferen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Wie eine Fachkonferenz arbeiten kann (Übung und Beispiele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Überprüfungsformen und Abitu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er Lehrplannavigator: Unterstützungsangebot für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beit der Fachkonferenzen/ Lehrerinnen und Lehr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8C7-FDC7-4395-A022-48B3F64C391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ie Struktur des Kernlehrplans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Evangelische Religionslehr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4"/>
          <p:cNvSpPr/>
          <p:nvPr/>
        </p:nvSpPr>
        <p:spPr>
          <a:xfrm>
            <a:off x="539640" y="6453360"/>
            <a:ext cx="43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A52-4B3D-4AC9-99C4-46BA7B428E0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539640" y="1254240"/>
          <a:ext cx="7777440" cy="5127480"/>
        </p:xfrm>
        <a:graphic>
          <a:graphicData uri="http://schemas.openxmlformats.org/drawingml/2006/table">
            <a:tbl>
              <a:tblPr/>
              <a:tblGrid>
                <a:gridCol w="911160"/>
                <a:gridCol w="686628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i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ederungspunk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bemerkun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Aufgaben und Ziele des Faches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, Inhaltsfelder und Kompetenzerwartungen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bereiche und Inhaltsfelder des Faches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Einführung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Kompetenzerwartungen und inhaltliche Schwerpunkte bis zum Ende der Qualifikationsp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nd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istungsk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Lernerfolgsüberprüfung und Leistungsbewertung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turprüfu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ha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14"/>
          <p:cNvSpPr/>
          <p:nvPr/>
        </p:nvSpPr>
        <p:spPr>
          <a:xfrm>
            <a:off x="179280" y="228600"/>
            <a:ext cx="49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20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3"/>
          <p:cNvSpPr/>
          <p:nvPr/>
        </p:nvSpPr>
        <p:spPr>
          <a:xfrm>
            <a:off x="5772240" y="2514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4"/>
          <p:cNvGrpSpPr/>
          <p:nvPr/>
        </p:nvGrpSpPr>
        <p:grpSpPr>
          <a:xfrm>
            <a:off x="250920" y="981000"/>
            <a:ext cx="8458200" cy="5435280"/>
            <a:chOff x="250920" y="981000"/>
            <a:chExt cx="8458200" cy="5435280"/>
          </a:xfrm>
        </p:grpSpPr>
        <p:cxnSp>
          <p:nvCxnSpPr>
            <p:cNvPr id="686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7" name="Text Box 46"/>
            <p:cNvSpPr/>
            <p:nvPr/>
          </p:nvSpPr>
          <p:spPr>
            <a:xfrm>
              <a:off x="2778120" y="5956560"/>
              <a:ext cx="38559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petenzerwartun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8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9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0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2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93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 Box 54"/>
          <p:cNvSpPr/>
          <p:nvPr/>
        </p:nvSpPr>
        <p:spPr>
          <a:xfrm>
            <a:off x="1908000" y="981000"/>
            <a:ext cx="5400720" cy="45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reifende fachliche 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9C3-F72B-4F66-BD07-3C0D4FD10A3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feld 1"/>
          <p:cNvSpPr/>
          <p:nvPr/>
        </p:nvSpPr>
        <p:spPr>
          <a:xfrm>
            <a:off x="539640" y="14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feld 1"/>
          <p:cNvSpPr/>
          <p:nvPr/>
        </p:nvSpPr>
        <p:spPr>
          <a:xfrm>
            <a:off x="684360" y="2708280"/>
            <a:ext cx="1726920" cy="14655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ligiöse 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feld 2"/>
          <p:cNvSpPr/>
          <p:nvPr/>
        </p:nvSpPr>
        <p:spPr>
          <a:xfrm>
            <a:off x="3635280" y="1405080"/>
            <a:ext cx="4824360" cy="4940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einem verantwortlichen Umga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m christlichen Glau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anderen Religionen und Weltanschau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eigenen Religiositä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der pluralen Welt sow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ähigkeit zu verantwortlichem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eln in Gesellschaft und 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ap.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ichtungspfeil 4"/>
          <p:cNvSpPr/>
          <p:nvPr/>
        </p:nvSpPr>
        <p:spPr>
          <a:xfrm>
            <a:off x="2604960" y="3349800"/>
            <a:ext cx="792360" cy="252360"/>
          </a:xfrm>
          <a:custGeom>
            <a:avLst/>
            <a:gdLst>
              <a:gd name="textAreaLeft" fmla="*/ 0 w 792360"/>
              <a:gd name="textAreaRight" fmla="*/ 792720 w 7923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9" y="0"/>
                </a:lnTo>
                <a:lnTo>
                  <a:pt x="21600" y="10800"/>
                </a:lnTo>
                <a:lnTo>
                  <a:pt x="18159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F754-8D75-4A21-97F9-08240512C39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14"/>
          <p:cNvSpPr/>
          <p:nvPr/>
        </p:nvSpPr>
        <p:spPr>
          <a:xfrm>
            <a:off x="276120" y="228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2"/>
          <p:cNvSpPr/>
          <p:nvPr/>
        </p:nvSpPr>
        <p:spPr>
          <a:xfrm>
            <a:off x="250920" y="2276640"/>
            <a:ext cx="3673440" cy="2683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ahrnehm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Deu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alog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Gestal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705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6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7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8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9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1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12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 Box 54"/>
          <p:cNvSpPr/>
          <p:nvPr/>
        </p:nvSpPr>
        <p:spPr>
          <a:xfrm>
            <a:off x="2195640" y="981000"/>
            <a:ext cx="46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8CDC-FEC7-4102-9558-494393AAB6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4"/>
          <p:cNvSpPr/>
          <p:nvPr/>
        </p:nvSpPr>
        <p:spPr>
          <a:xfrm>
            <a:off x="250920" y="228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718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9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0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1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2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3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4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25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54"/>
          <p:cNvSpPr/>
          <p:nvPr/>
        </p:nvSpPr>
        <p:spPr>
          <a:xfrm>
            <a:off x="2522520" y="10000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hteck 1"/>
          <p:cNvSpPr/>
          <p:nvPr/>
        </p:nvSpPr>
        <p:spPr>
          <a:xfrm>
            <a:off x="5127480" y="2276640"/>
            <a:ext cx="3581640" cy="2377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Evangelium von Jesus Chris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Kirche und ihre Aufgabe in der W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A1B1-7B71-45D6-A0BA-5263C25DE8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14"/>
          <p:cNvSpPr/>
          <p:nvPr/>
        </p:nvSpPr>
        <p:spPr>
          <a:xfrm>
            <a:off x="160200" y="177840"/>
            <a:ext cx="48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2"/>
          <p:cNvSpPr/>
          <p:nvPr/>
        </p:nvSpPr>
        <p:spPr>
          <a:xfrm>
            <a:off x="422280" y="2298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4"/>
          <p:cNvGrpSpPr/>
          <p:nvPr/>
        </p:nvGrpSpPr>
        <p:grpSpPr>
          <a:xfrm>
            <a:off x="250920" y="981000"/>
            <a:ext cx="8458200" cy="5437080"/>
            <a:chOff x="250920" y="981000"/>
            <a:chExt cx="8458200" cy="5437080"/>
          </a:xfrm>
        </p:grpSpPr>
        <p:cxnSp>
          <p:nvCxnSpPr>
            <p:cNvPr id="733" name="AutoShape 45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4" name="Text Box 46"/>
            <p:cNvSpPr/>
            <p:nvPr/>
          </p:nvSpPr>
          <p:spPr>
            <a:xfrm>
              <a:off x="2778120" y="595656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AutoShape 47"/>
            <p:cNvCxnSpPr/>
            <p:nvPr/>
          </p:nvCxnSpPr>
          <p:spPr>
            <a:xfrm>
              <a:off x="4454640" y="185868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6" name="AutoShape 48"/>
            <p:cNvCxnSpPr/>
            <p:nvPr/>
          </p:nvCxnSpPr>
          <p:spPr>
            <a:xfrm rot="5400000">
              <a:off x="2838960" y="65448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7" name="Text Box 49"/>
            <p:cNvSpPr/>
            <p:nvPr/>
          </p:nvSpPr>
          <p:spPr>
            <a:xfrm>
              <a:off x="2597400" y="9810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8" name="AutoShape 50"/>
            <p:cNvCxnSpPr/>
            <p:nvPr/>
          </p:nvCxnSpPr>
          <p:spPr>
            <a:xfrm rot="10800000">
              <a:off x="1924920" y="507636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9" name="AutoShape 51"/>
            <p:cNvCxnSpPr/>
            <p:nvPr/>
          </p:nvCxnSpPr>
          <p:spPr>
            <a:xfrm flipH="1" flipV="1" rot="5400000">
              <a:off x="5384160" y="4303800"/>
              <a:ext cx="869760" cy="241848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40" name="Rectangle 52"/>
            <p:cNvSpPr/>
            <p:nvPr/>
          </p:nvSpPr>
          <p:spPr>
            <a:xfrm>
              <a:off x="250920" y="2297880"/>
              <a:ext cx="365760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53"/>
            <p:cNvSpPr/>
            <p:nvPr/>
          </p:nvSpPr>
          <p:spPr>
            <a:xfrm>
              <a:off x="5127840" y="2297880"/>
              <a:ext cx="3581280" cy="2780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54"/>
          <p:cNvSpPr/>
          <p:nvPr/>
        </p:nvSpPr>
        <p:spPr>
          <a:xfrm>
            <a:off x="2060640" y="100188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hteck 1"/>
          <p:cNvSpPr/>
          <p:nvPr/>
        </p:nvSpPr>
        <p:spPr>
          <a:xfrm>
            <a:off x="5219640" y="2298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feld 1"/>
          <p:cNvSpPr/>
          <p:nvPr/>
        </p:nvSpPr>
        <p:spPr>
          <a:xfrm>
            <a:off x="2778120" y="5950080"/>
            <a:ext cx="3855960" cy="459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feld 2"/>
          <p:cNvSpPr/>
          <p:nvPr/>
        </p:nvSpPr>
        <p:spPr>
          <a:xfrm>
            <a:off x="422280" y="4527720"/>
            <a:ext cx="2681280" cy="64260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übergeordnete Kom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feld 17"/>
          <p:cNvSpPr/>
          <p:nvPr/>
        </p:nvSpPr>
        <p:spPr>
          <a:xfrm>
            <a:off x="6588000" y="5634000"/>
            <a:ext cx="2556000" cy="916920"/>
          </a:xfrm>
          <a:prstGeom prst="rect">
            <a:avLst/>
          </a:prstGeom>
          <a:solidFill>
            <a:srgbClr val="99999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nkretisierte Kom-petenzerwar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SK, U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9DE-944C-4D13-BC99-5C67573DDC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4"/>
          <p:cNvSpPr/>
          <p:nvPr/>
        </p:nvSpPr>
        <p:spPr>
          <a:xfrm>
            <a:off x="169920" y="187200"/>
            <a:ext cx="49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2"/>
          <p:cNvSpPr/>
          <p:nvPr/>
        </p:nvSpPr>
        <p:spPr>
          <a:xfrm>
            <a:off x="236520" y="2349360"/>
            <a:ext cx="3657600" cy="2683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Kompetenzbere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ach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ahrnehm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Deu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rteils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Handlungskompeten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alog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- Gestaltungskompet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thoden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44"/>
          <p:cNvGrpSpPr/>
          <p:nvPr/>
        </p:nvGrpSpPr>
        <p:grpSpPr>
          <a:xfrm>
            <a:off x="250920" y="995400"/>
            <a:ext cx="8458200" cy="5436720"/>
            <a:chOff x="250920" y="995400"/>
            <a:chExt cx="8458200" cy="5436720"/>
          </a:xfrm>
        </p:grpSpPr>
        <p:cxnSp>
          <p:nvCxnSpPr>
            <p:cNvPr id="751" name="AutoShape 45"/>
            <p:cNvCxnSpPr/>
            <p:nvPr/>
          </p:nvCxnSpPr>
          <p:spPr>
            <a:xfrm rot="5400000">
              <a:off x="2839320" y="668520"/>
              <a:ext cx="869400" cy="2418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2" name="Text Box 46"/>
            <p:cNvSpPr/>
            <p:nvPr/>
          </p:nvSpPr>
          <p:spPr>
            <a:xfrm>
              <a:off x="2778120" y="5970600"/>
              <a:ext cx="3855960" cy="46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3" name="AutoShape 47"/>
            <p:cNvCxnSpPr/>
            <p:nvPr/>
          </p:nvCxnSpPr>
          <p:spPr>
            <a:xfrm>
              <a:off x="4454640" y="1872720"/>
              <a:ext cx="241848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AutoShape 48"/>
            <p:cNvCxnSpPr/>
            <p:nvPr/>
          </p:nvCxnSpPr>
          <p:spPr>
            <a:xfrm rot="5400000">
              <a:off x="2839320" y="668520"/>
              <a:ext cx="869400" cy="2418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Text Box 49"/>
            <p:cNvSpPr/>
            <p:nvPr/>
          </p:nvSpPr>
          <p:spPr>
            <a:xfrm>
              <a:off x="2597400" y="995400"/>
              <a:ext cx="38559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6" name="AutoShape 50"/>
            <p:cNvCxnSpPr/>
            <p:nvPr/>
          </p:nvCxnSpPr>
          <p:spPr>
            <a:xfrm rot="10800000">
              <a:off x="1924920" y="5090400"/>
              <a:ext cx="2766240" cy="439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7" name="AutoShape 51"/>
            <p:cNvCxnSpPr/>
            <p:nvPr/>
          </p:nvCxnSpPr>
          <p:spPr>
            <a:xfrm flipH="1" flipV="1" rot="5400000">
              <a:off x="5384520" y="4317480"/>
              <a:ext cx="869400" cy="2418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58" name="Rectangle 52"/>
            <p:cNvSpPr/>
            <p:nvPr/>
          </p:nvSpPr>
          <p:spPr>
            <a:xfrm>
              <a:off x="250920" y="2312280"/>
              <a:ext cx="3657600" cy="277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53"/>
            <p:cNvSpPr/>
            <p:nvPr/>
          </p:nvSpPr>
          <p:spPr>
            <a:xfrm>
              <a:off x="5127840" y="2312280"/>
              <a:ext cx="3581280" cy="277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 Box 54"/>
          <p:cNvSpPr/>
          <p:nvPr/>
        </p:nvSpPr>
        <p:spPr>
          <a:xfrm>
            <a:off x="2340000" y="981000"/>
            <a:ext cx="43927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übergreifende fachlic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hteck 1"/>
          <p:cNvSpPr/>
          <p:nvPr/>
        </p:nvSpPr>
        <p:spPr>
          <a:xfrm>
            <a:off x="5127480" y="2298600"/>
            <a:ext cx="3581640" cy="2377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Mensch in christlicher Perspek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hristliche Antworten auf die Gottesf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Evangelium von Jesus Chris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Kirche und ihre Aufgabe in der W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antwortliches Handeln aus christlicher Mo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christliche Hoffnung auf Vollendu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feld 1"/>
          <p:cNvSpPr/>
          <p:nvPr/>
        </p:nvSpPr>
        <p:spPr>
          <a:xfrm>
            <a:off x="2813040" y="6019920"/>
            <a:ext cx="3786120" cy="3988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mpetenzerwar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ECD5-15B7-4DA8-B628-4B4B83626D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960-87A0-498C-B6B1-C76EA84C79E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11280" y="1413000"/>
            <a:ext cx="827856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Kompetenzerwartung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ind jeweils ausgewiesen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das Ende der Einführungsphase und – differenziert nach Gk und Lk – das Ende der Qualifikations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übergeordnete Kompetenzerwartungen für alle Kompetenz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 konkretisierte, inhaltsfeldbezogene Kompetenzerwartungen für die Sach- und Urteils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179280" y="2286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Struktur des Kernlehrp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BFB-E4A5-4BCE-8616-CAA55C7F771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972720" y="1196640"/>
            <a:ext cx="81709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e Kompetenzerwar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im Wortlaut verbind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et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ken nicht das Ganze des Religionsunterrichts 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feil nach oben und unten 2"/>
          <p:cNvSpPr/>
          <p:nvPr/>
        </p:nvSpPr>
        <p:spPr>
          <a:xfrm>
            <a:off x="1908000" y="2819520"/>
            <a:ext cx="287640" cy="753840"/>
          </a:xfrm>
          <a:prstGeom prst="upDownArrow">
            <a:avLst>
              <a:gd name="adj1" fmla="val 50000"/>
              <a:gd name="adj2" fmla="val 499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feld 4"/>
          <p:cNvSpPr/>
          <p:nvPr/>
        </p:nvSpPr>
        <p:spPr>
          <a:xfrm>
            <a:off x="2484360" y="2819520"/>
            <a:ext cx="431964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lance von Verbindlichkeit und Freirä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06472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Kompetenzorientierung -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ein Orientierungswechsel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57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3226-9238-4CC2-AEF6-39F33241FF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D3A-1220-4311-8459-0FC681B1EE0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9280" y="1773360"/>
            <a:ext cx="8496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lastung der Einführungsphase (IF 1; 5;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4 („Die Kirche und ihre Aufgabe in der Welt“) in der Q –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 Inhaltsfelder in 4 Semestern Q1/Q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K: intensivere Bearbeitung möglich, zusätzliche inhaltliche Akz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hteck 4"/>
          <p:cNvSpPr/>
          <p:nvPr/>
        </p:nvSpPr>
        <p:spPr>
          <a:xfrm>
            <a:off x="250920" y="476280"/>
            <a:ext cx="475272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Grundsatzentscheid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58D-EAAB-4FF9-9CB7-7C786468BD9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574560" y="1341360"/>
            <a:ext cx="856944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en der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uristische Funk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merksame Wahrnehmung der Studierenden in ihren Glaubenshaltungen und Denkprozessen, in der Entwicklung ihrer religiösen Sprach- und Urteilsfähigkeit und in ihren Interess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 des RU in der Qualifikationsphas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seinen komplexeren Inhalten und Arbeitsweisen, seinem höheren Maß an Abstraktion und seiner anspruchsvolleren Reflexions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itel 5"/>
          <p:cNvSpPr/>
          <p:nvPr/>
        </p:nvSpPr>
        <p:spPr>
          <a:xfrm>
            <a:off x="260280" y="262080"/>
            <a:ext cx="45356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EDD-1AE8-47DB-A9FC-90496CD11BF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50560" y="1557000"/>
            <a:ext cx="88930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equenzen für die 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zierte Anzahl von Kompetenzerwart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zur thematischen Ausgestaltung und Konkretisierung der Lernproz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raum für methodische Grundlegungen (z. B. Textarb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457200">
              <a:spcBef>
                <a:spcPts val="326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ücksichtigung der verschiedenen religiösen Haltungen der Studierenden, ihrer Interessen und ihrer F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itel 5"/>
          <p:cNvSpPr/>
          <p:nvPr/>
        </p:nvSpPr>
        <p:spPr>
          <a:xfrm>
            <a:off x="162000" y="271440"/>
            <a:ext cx="4626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11268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felder und inhaltliche 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Diagramm 2" descr=""/>
          <p:cNvPicPr/>
          <p:nvPr/>
        </p:nvPicPr>
        <p:blipFill>
          <a:blip r:embed="rId1"/>
          <a:stretch/>
        </p:blipFill>
        <p:spPr>
          <a:xfrm>
            <a:off x="743040" y="1901880"/>
            <a:ext cx="7370640" cy="4462560"/>
          </a:xfrm>
          <a:prstGeom prst="rect">
            <a:avLst/>
          </a:prstGeom>
          <a:ln w="0">
            <a:noFill/>
          </a:ln>
        </p:spPr>
      </p:pic>
      <p:sp>
        <p:nvSpPr>
          <p:cNvPr id="782" name="Titel 5"/>
          <p:cNvSpPr/>
          <p:nvPr/>
        </p:nvSpPr>
        <p:spPr>
          <a:xfrm>
            <a:off x="179280" y="260280"/>
            <a:ext cx="4176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70c0"/>
                </a:solidFill>
                <a:latin typeface="Arial"/>
              </a:rPr>
              <a:t>Zur Gestaltung der Einführungs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2FD-4483-4CAA-A33A-C3BF0AE4CD0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Aufgaben der Fachkonferenzen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1E3-169F-421E-8CAB-9A0B181B46E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0920" y="144756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Grundlagen - SchulG § 70 (3 und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rä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über alle das Fach oder die Fachrichtung betreffenden Angelegenheiten einschließlich 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arbeit mit anderen Fäch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Sie trägt Verantwortung für die schulinterne Qualitätssicherung und -entwicklung der fachlichen Arbeit und berät üb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iele, Arbeitspläne, Evaluationsmaßnahm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ergebnisse und Rechenschaftsleg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4) Die Fachkonferenz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ntscheide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 ihrem Fach insbesondere ü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sätze zur fachmethodischen und fachdidaktischen Arbe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Grundsätze zur Leistungsbewertu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Vorschläge an die Lehrerkonferenz zur Einführung von Lernmitt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8592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6B6-972D-4044-9A85-08078835AD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hteck 2"/>
          <p:cNvSpPr/>
          <p:nvPr/>
        </p:nvSpPr>
        <p:spPr>
          <a:xfrm>
            <a:off x="239760" y="1557360"/>
            <a:ext cx="8713800" cy="66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nforderungen an die Schulen angesichts kompetenzorientierter (Kern-)Lehr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legu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Umfangs von Kompetenzerwartungen im LP,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lerngruppen-adäquate Umsetzung und Konkretisi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fgabe der Lehr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sagen zur Leistungsförderung und -bewertung im LP,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Vereinbarungen und Absprachen über Kriteri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den Schu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Verpflichtung der Schulen, auf der Grundlage der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Arial"/>
              </a:rPr>
              <a:t>Kernlehrpläne </a:t>
            </a:r>
            <a:r>
              <a:rPr b="0" lang="de-DE" sz="1800" spc="-1" strike="noStrike" u="sng">
                <a:solidFill>
                  <a:srgbClr val="ff0000"/>
                </a:solidFill>
                <a:uFillTx/>
                <a:latin typeface="Arial"/>
              </a:rPr>
              <a:t>schulinterne Lehrplän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zu erstellen (Schulgese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131112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1311120" y="2935440"/>
            <a:ext cx="726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324000" y="1676520"/>
          <a:ext cx="8640720" cy="4144680"/>
        </p:xfrm>
        <a:graphic>
          <a:graphicData uri="http://schemas.openxmlformats.org/drawingml/2006/table">
            <a:tbl>
              <a:tblPr/>
              <a:tblGrid>
                <a:gridCol w="3625560"/>
                <a:gridCol w="5015160"/>
              </a:tblGrid>
              <a:tr h="41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17784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chulinterne Lehrplan ordnet den Semestern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ligatorische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u (Kumulativität, schulbezogene Schwerpunktsetzunge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richtsvorhab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eisen au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erwart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rreicht werden so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liche und methodische Akz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nüpfungen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t anderen Fäch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f. außerschulische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2682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lichkeiten der 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etenzüberprüf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Text Box 12"/>
          <p:cNvSpPr/>
          <p:nvPr/>
        </p:nvSpPr>
        <p:spPr>
          <a:xfrm>
            <a:off x="150840" y="4046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itel 5"/>
          <p:cNvSpPr/>
          <p:nvPr/>
        </p:nvSpPr>
        <p:spPr>
          <a:xfrm>
            <a:off x="250920" y="422280"/>
            <a:ext cx="48974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ufgaben der Fachkonfere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feld 6"/>
          <p:cNvSpPr/>
          <p:nvPr/>
        </p:nvSpPr>
        <p:spPr>
          <a:xfrm>
            <a:off x="6875640" y="6093000"/>
            <a:ext cx="165708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Formular U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D2B-36D8-448C-AFC1-1C5E47BB288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134136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Wie eine Fachkonferenz arbeiten kann (Übung und Beispiele)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938-BD98-4497-9C2C-4AF3A0673C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50560" y="2492280"/>
            <a:ext cx="79786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ichten Sie die (konkretisierten) Kompetenzerwartungen der Einführungsphase und notieren Sie sich Ideen zu einer möglichen inhaltlichen und  methodischen Füllu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Plenum: Gelegenheit zur Klärung von Fragen zu Kompetenzerwartu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612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Wie kommen wir von den Kompetenzerwartungen und Inhaltsfeldern - mit ihren inhaltlichen Schwerpunkten - des KLP zu Unterrichtsvorhaben?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02" name="Textfeld 4"/>
          <p:cNvSpPr/>
          <p:nvPr/>
        </p:nvSpPr>
        <p:spPr>
          <a:xfrm>
            <a:off x="5386320" y="5877000"/>
            <a:ext cx="324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konkretisierte Komp.erw. Einführungs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9EEE-E9BC-4A4D-890B-780491AB606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17928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082520" y="1341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Typisches aus der traditionellen Stoff- bzw. Inhaltsorientierung  </a:t>
            </a:r>
            <a:r>
              <a:rPr b="1" i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(etwas überspitzt formuliert)</a:t>
            </a:r>
            <a:r>
              <a:rPr b="0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5724360" y="2192400"/>
            <a:ext cx="3097440" cy="1368360"/>
          </a:xfrm>
          <a:prstGeom prst="wedgeRoundRectCallout">
            <a:avLst>
              <a:gd name="adj1" fmla="val -99509"/>
              <a:gd name="adj2" fmla="val -54870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under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habe 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on gema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395280" y="2708280"/>
            <a:ext cx="2376360" cy="1441440"/>
          </a:xfrm>
          <a:prstGeom prst="wedgeRoundRectCallout">
            <a:avLst>
              <a:gd name="adj1" fmla="val 100768"/>
              <a:gd name="adj2" fmla="val -86231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Hattest Du sch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Auf-erstehung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076720" y="4221000"/>
            <a:ext cx="3745080" cy="1368720"/>
          </a:xfrm>
          <a:prstGeom prst="wedgeRoundRectCallout">
            <a:avLst>
              <a:gd name="adj1" fmla="val -73972"/>
              <a:gd name="adj2" fmla="val -195824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ch mache im 5. Semester gerade 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irche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fert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250920" y="4292640"/>
            <a:ext cx="4608360" cy="2016000"/>
          </a:xfrm>
          <a:prstGeom prst="wedgeRoundRectCallout">
            <a:avLst>
              <a:gd name="adj1" fmla="val 27277"/>
              <a:gd name="adj2" fmla="val -144643"/>
              <a:gd name="adj3" fmla="val 16667"/>
            </a:avLst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ir müssen noch die Kompetenzen aus dem KLP hinter unser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„Themen“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chrei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1"/>
          <p:cNvSpPr/>
          <p:nvPr/>
        </p:nvSpPr>
        <p:spPr>
          <a:xfrm>
            <a:off x="250920" y="620640"/>
            <a:ext cx="3384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Orientierungswechsel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BBB5-8DB9-4ED8-94DA-6195070F11D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8"/>
          <p:cNvSpPr/>
          <p:nvPr/>
        </p:nvSpPr>
        <p:spPr>
          <a:xfrm>
            <a:off x="250920" y="1370520"/>
            <a:ext cx="827064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ulinterner Lehrplan Evangelische Religionslehre  (Beispi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s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terrichtsvorhaben 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Wer bin ich?“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 Christliches Menschenbild und seine Konsequenzen für den Umgang mit dem Mit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itel 5"/>
          <p:cNvSpPr/>
          <p:nvPr/>
        </p:nvSpPr>
        <p:spPr>
          <a:xfrm>
            <a:off x="0" y="458640"/>
            <a:ext cx="5184720" cy="63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richtsvorhaben für die EF – Bs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feld 4"/>
          <p:cNvSpPr/>
          <p:nvPr/>
        </p:nvSpPr>
        <p:spPr>
          <a:xfrm>
            <a:off x="6084720" y="4908600"/>
            <a:ext cx="2880000" cy="580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opi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rteikarte“ UV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C51E-9CAD-4209-89FB-6A0CEDF9EA7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06BF-61C6-40D3-9512-3B51BEF056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79280" y="1557000"/>
            <a:ext cx="805032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) Entwickeln Sie ausgehend von den Kompetenzerwartungen und den Inhaltsfeldern mit den inhaltlichen Schwerpunkten (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mschlag) sowie von Ihren Ideen gemeinsam ein mögliches Unterrichtsvorhaben der EF und kleben Sie Ihr „Puzzle“ au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) Füllen Sie die „Karteikarte Unterrichtsvorhaben“ gemeinsam a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okus: Was wollen Sie hier in Ihrer „Fachkonferenz“ verbindlich festlege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47512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0" name="Textfeld 4"/>
          <p:cNvSpPr/>
          <p:nvPr/>
        </p:nvSpPr>
        <p:spPr>
          <a:xfrm>
            <a:off x="6443640" y="5589720"/>
            <a:ext cx="2424240" cy="459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ärtchen: KompErw EF, vergrößertes Leerformular 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60A-6B01-4264-8C35-E07F21BA68B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3640" y="162864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er bin ich?“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Christliches Menschenbild und seine Konsequenzen für den Umgang mit dem Mit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ach mir die Sintflut?“ –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Mensch zwischen christlichen Zukunftsperspektiven und ihren Konsequenzen für den Umgang mit der Schö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87138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70c0"/>
                </a:solidFill>
                <a:latin typeface="Arial-BoldMT"/>
              </a:rPr>
              <a:t>UV der Einführungsphase im Beispiel für einen schulinternen Lehrplan:</a:t>
            </a:r>
            <a:r>
              <a:rPr b="1" lang="de-DE" sz="3200" spc="-1" strike="noStrike">
                <a:solidFill>
                  <a:srgbClr val="0070c0"/>
                </a:solidFill>
                <a:latin typeface="Arial-BoldM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14" name="Textfeld 4"/>
          <p:cNvSpPr/>
          <p:nvPr/>
        </p:nvSpPr>
        <p:spPr>
          <a:xfrm>
            <a:off x="4643280" y="5389560"/>
            <a:ext cx="3097440" cy="824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4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itere UV der 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: Checkli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6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V auf einen B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C8BB-A232-44A5-9D8A-DC893ADB4D6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Arial"/>
              </a:rPr>
              <a:t>Überprüfungsformen/Abitur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el 5"/>
          <p:cNvSpPr/>
          <p:nvPr/>
        </p:nvSpPr>
        <p:spPr>
          <a:xfrm>
            <a:off x="179280" y="411120"/>
            <a:ext cx="51134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Überprüfungsfor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(mündlich und schriftl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900000" y="1881360"/>
          <a:ext cx="5432400" cy="3219120"/>
        </p:xfrm>
        <a:graphic>
          <a:graphicData uri="http://schemas.openxmlformats.org/drawingml/2006/table">
            <a:tbl>
              <a:tblPr/>
              <a:tblGrid>
                <a:gridCol w="2716200"/>
                <a:gridCol w="2716200"/>
              </a:tblGrid>
              <a:tr h="657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Überprüfungsfor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urzbeschreibung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ispi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stell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ört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al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19" name="Textfeld 4"/>
          <p:cNvSpPr/>
          <p:nvPr/>
        </p:nvSpPr>
        <p:spPr>
          <a:xfrm>
            <a:off x="6389640" y="1380960"/>
            <a:ext cx="27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tudierende haben auf unterschiedliche Art und Weise Gelegenheit, diese Formen einzuüben bzw. auch Leistungsnachweise zu erbringen, die die aufgeführten Schwerpunkte berücksichtigen (z. B. Referat, Präsentation, Portfolio, …)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vgl. KLP, Ka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feld 1"/>
          <p:cNvSpPr/>
          <p:nvPr/>
        </p:nvSpPr>
        <p:spPr>
          <a:xfrm flipH="1">
            <a:off x="5292720" y="5589720"/>
            <a:ext cx="295128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7 – Überprüfungsformen und Operat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oliennummernplatzhalter 5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5E7-7A7C-4E6B-AB5D-8E3D2415CA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24A1-4426-43E0-B72A-4AD644998B3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23640" y="1341360"/>
            <a:ext cx="77403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Abiturprüfung (KLP, Kap.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lt die APO-Wb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hlich beziehen sich alle Teile der Abiturprüfung auf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 Kapitel 2 dieses Kernlehrplans für das Ende der Qualifikationsphase festgelegten Kompetenzerwart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464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8AAF-311C-41E6-8F9A-2BB165B98D7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50920" y="1915920"/>
            <a:ext cx="86040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über hinaus gelten für die Abiturprüfung die Festlegungen in Kapitel 4 des Kernlehrplans, die für das Jahr 2017 in Bezug auf die nachfolgenden Punkte konkretisiert werden: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Verpflichtung zur Beachtung der gesamten Obligatorik des Faches gemäß Kapitel 2 des Kernlehrplans bleibt von diesen Fokussierungen allerdings unberührt. Die Realisierung der Obligatorik insgesamt liegt in der Verantwortung der Lehrkräf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0643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-BoldMT"/>
              </a:rPr>
              <a:t>    </a:t>
            </a: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28" name="Textfeld 3"/>
          <p:cNvSpPr/>
          <p:nvPr/>
        </p:nvSpPr>
        <p:spPr>
          <a:xfrm>
            <a:off x="5508720" y="5661000"/>
            <a:ext cx="2448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iturvor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409680" y="336600"/>
            <a:ext cx="8712000" cy="65390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"/>
          <p:cNvPicPr/>
          <p:nvPr/>
        </p:nvPicPr>
        <p:blipFill>
          <a:blip r:embed="rId2"/>
          <a:stretch/>
        </p:blipFill>
        <p:spPr>
          <a:xfrm>
            <a:off x="468360" y="247680"/>
            <a:ext cx="8494560" cy="60609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"/>
          <p:cNvPicPr/>
          <p:nvPr/>
        </p:nvPicPr>
        <p:blipFill>
          <a:blip r:embed="rId3"/>
          <a:stretch/>
        </p:blipFill>
        <p:spPr>
          <a:xfrm>
            <a:off x="468360" y="455760"/>
            <a:ext cx="855504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95280" y="2421000"/>
          <a:ext cx="7834320" cy="3398760"/>
        </p:xfrm>
        <a:graphic>
          <a:graphicData uri="http://schemas.openxmlformats.org/drawingml/2006/table">
            <a:tbl>
              <a:tblPr/>
              <a:tblGrid>
                <a:gridCol w="1028880"/>
                <a:gridCol w="4935240"/>
                <a:gridCol w="1870200"/>
              </a:tblGrid>
              <a:tr h="3142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844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2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beschreiben u. a. an biblischen Texten Gottes- und Menschenbilder in ihren dunklen und hellen Seite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skizzieren die Wirkungsgeschichte ausgewählter biblischer Gottes- und Menschenbild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udierenden beurteilen die verschiedenen Gottes- und Menschenbilder hinsichtlich der lebenspraktischen Konsequenzen in ihrer Lebenswel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tesbilder der Exoduserzähl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781344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5" name=""/>
          <p:cNvGraphicFramePr/>
          <p:nvPr/>
        </p:nvGraphicFramePr>
        <p:xfrm>
          <a:off x="250920" y="1989000"/>
          <a:ext cx="8229600" cy="4416480"/>
        </p:xfrm>
        <a:graphic>
          <a:graphicData uri="http://schemas.openxmlformats.org/drawingml/2006/table">
            <a:tbl>
              <a:tblPr/>
              <a:tblGrid>
                <a:gridCol w="1079280"/>
                <a:gridCol w="5185080"/>
                <a:gridCol w="1965240"/>
              </a:tblGrid>
              <a:tr h="31464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petenzerwartun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gabe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18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t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identifizieren christliche Beiträge von Personen und Institutionen in der gesellschaftlichen Diskussion zu Gerechtigkeit und Fried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rowSpan="3"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s Gottes Frieden leben – für gerechten Frieden sorgen. Eine Denkschrift des Rates der Evangelischen Kirche in Deutschland, 2007, Kapite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216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erörtern Möglichkeiten und Grenzen des gesellschaftlichen Engagements von Christinnen bzw. Christen für Gerechtigkeit und Fried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88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e Studierenden  beurteilen theologische und anthropologische Aussagen für eine christliche Ethik unter dem Aspekt der Reichweite bzw. des Erfolgs eines Einsatzes für Gerechtigkeit und Fried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74036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-BoldMT"/>
              </a:rPr>
              <a:t>Abiturprüfung – Vorgaben (Beispiel)</a:t>
            </a:r>
            <a:endParaRPr b="1" lang="en-US" sz="20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A33-64D7-4009-9360-8E2E66B4F3C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9442800">
            <a:off x="1692000" y="167760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58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D25D-CAB6-4E82-A9C0-2B40CEB0C4D1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1763640" y="4149720"/>
            <a:ext cx="2881440" cy="936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zunehmen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off als 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1619280" y="2421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sgestalt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d Arbeitsproz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9"/>
          <p:cNvGrpSpPr/>
          <p:nvPr/>
        </p:nvGrpSpPr>
        <p:grpSpPr>
          <a:xfrm>
            <a:off x="1692360" y="2448000"/>
            <a:ext cx="3024000" cy="3683520"/>
            <a:chOff x="1692360" y="2448000"/>
            <a:chExt cx="3024000" cy="3683520"/>
          </a:xfrm>
        </p:grpSpPr>
        <p:sp>
          <p:nvSpPr>
            <p:cNvPr id="592" name="Rectangle 10"/>
            <p:cNvSpPr/>
            <p:nvPr/>
          </p:nvSpPr>
          <p:spPr>
            <a:xfrm>
              <a:off x="1692360" y="2448000"/>
              <a:ext cx="3024000" cy="3477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1908000" y="5671800"/>
              <a:ext cx="252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Rectangle 12"/>
          <p:cNvSpPr/>
          <p:nvPr/>
        </p:nvSpPr>
        <p:spPr>
          <a:xfrm>
            <a:off x="5292720" y="2924280"/>
            <a:ext cx="2016000" cy="503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"/>
          <p:cNvSpPr/>
          <p:nvPr/>
        </p:nvSpPr>
        <p:spPr>
          <a:xfrm>
            <a:off x="5580000" y="141300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feld 14"/>
          <p:cNvSpPr/>
          <p:nvPr/>
        </p:nvSpPr>
        <p:spPr>
          <a:xfrm>
            <a:off x="395280" y="838080"/>
            <a:ext cx="83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 „Stofforientierung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80F-F56E-4F87-82A7-240587198C7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C5D2-6D14-4C50-88EE-BBDC90E96F8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8920" y="1267920"/>
            <a:ext cx="7885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-BoldMT"/>
              </a:rPr>
              <a:t>Abiturprüfung: Vorgaben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323640" y="1915920"/>
            <a:ext cx="77403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Vorgaben konkretisieren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einige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ander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Kompetenzerwartungen sind ebenfalls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verbindlich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, können aber – je nach unterrichtlichen Voraussetzungen und Bedingungen - unterschiedlich bedient wer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Bsp: „Die Studierenden erläutern Handlungsoptionen aus unterschiedlichen ethischen Modellen für ausgewählte ethische Handlungssituationen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"/>
          <p:cNvSpPr/>
          <p:nvPr/>
        </p:nvSpPr>
        <p:spPr>
          <a:xfrm>
            <a:off x="457200" y="3306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0AE-741B-452B-83A3-53FC15B3FB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de-DE" sz="4000" spc="-1" strike="noStrike">
                <a:solidFill>
                  <a:srgbClr val="ff0000"/>
                </a:solidFill>
                <a:latin typeface="Arial-BoldMT"/>
              </a:rPr>
              <a:t>Der Lehrplannavigator: Unterstützungsangebot für die Arbeit der Fachkonferenzen/ Lehrerinnen und Lehrer</a:t>
            </a:r>
            <a:endParaRPr b="1" lang="en-US" sz="40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539280" y="1341000"/>
            <a:ext cx="842508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Unterstützungsangebot „Lehrplannavigator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Arial"/>
              </a:rPr>
              <a:t>http://www.schulentwicklung.nrw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E2A9-C6E6-460A-9AA7-0716881FE93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Resim 3" descr=""/>
          <p:cNvPicPr/>
          <p:nvPr/>
        </p:nvPicPr>
        <p:blipFill>
          <a:blip r:embed="rId1"/>
          <a:stretch/>
        </p:blipFill>
        <p:spPr>
          <a:xfrm>
            <a:off x="6443640" y="4292640"/>
            <a:ext cx="1762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oliennummernplatzhalter 1"/>
          <p:cNvSpPr/>
          <p:nvPr/>
        </p:nvSpPr>
        <p:spPr>
          <a:xfrm>
            <a:off x="900000" y="6453360"/>
            <a:ext cx="7775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ctr" pos="3676680"/>
                <a:tab algn="r" pos="7781760"/>
                <a:tab algn="l" pos="8229600"/>
                <a:tab algn="l" pos="9144000"/>
                <a:tab algn="l" pos="10058400"/>
              </a:tabLst>
            </a:pPr>
            <a:fld id="{7F6E5E21-4F0F-45DA-8A52-DA14F29AF530}" type="slidenum">
              <a:rPr b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de-DE" sz="2200" spc="-1" strike="noStrike">
                <a:solidFill>
                  <a:srgbClr val="0070c0"/>
                </a:solidFill>
                <a:latin typeface="Arial-BoldMT"/>
              </a:rPr>
              <a:t>Bitte melden Sie sich, wenn Sie Fragen haben: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-BoldMT"/>
              </a:rPr>
              <a:t>Kontaktdaten: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Qualitäts- und Unterstützungsagentur (QUA-LiS)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Landesinstitut für Schule NRW</a:t>
            </a:r>
            <a:br>
              <a:rPr sz="2200"/>
            </a:b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Arbeitsbereich 4 (Curriculumentwicklung)</a:t>
            </a:r>
            <a:br>
              <a:rPr sz="2200"/>
            </a:br>
            <a:br>
              <a:rPr sz="2200"/>
            </a:br>
            <a:r>
              <a:rPr b="0" lang="de-DE" sz="2200" spc="-1" strike="noStrike" u="sng">
                <a:solidFill>
                  <a:srgbClr val="009999"/>
                </a:solidFill>
                <a:uFillTx/>
                <a:latin typeface="Arial-BoldMT"/>
                <a:hlinkClick r:id="rId1"/>
              </a:rPr>
              <a:t>cordula.hartwig@qua-lis.nrw.d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Tel.: 02921 683-316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-BoldMT"/>
              </a:rPr>
              <a:t>Zentrale: poststelle@qua-lis.nrw.de</a:t>
            </a:r>
            <a:endParaRPr b="1" lang="en-US" sz="22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064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000" spc="-1" strike="noStrike">
              <a:solidFill>
                <a:srgbClr val="ff0000"/>
              </a:solidFill>
              <a:latin typeface="Arial-BoldMT"/>
            </a:endParaRPr>
          </a:p>
        </p:txBody>
      </p:sp>
      <p:sp>
        <p:nvSpPr>
          <p:cNvPr id="850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9F5C-9687-40FF-8C02-19D9E057E84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Inhaltsplatzhalter 8" descr="Dokument1 - Microsoft Word"/>
          <p:cNvPicPr/>
          <p:nvPr/>
        </p:nvPicPr>
        <p:blipFill>
          <a:blip r:embed="rId1"/>
          <a:stretch/>
        </p:blipFill>
        <p:spPr>
          <a:xfrm>
            <a:off x="1409760" y="1916280"/>
            <a:ext cx="6324480" cy="3817800"/>
          </a:xfrm>
          <a:prstGeom prst="rect">
            <a:avLst/>
          </a:prstGeom>
          <a:ln w="0">
            <a:noFill/>
          </a:ln>
        </p:spPr>
      </p:pic>
      <p:pic>
        <p:nvPicPr>
          <p:cNvPr id="852" name="Grafik 9" descr="Bildschirmausschnitt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429-8C99-430D-801D-06AEBD644D4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2B9-9A8E-4477-A918-97EFA69D047E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538200" y="34034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als Steuerungsprinzip und als didaktisches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539640" y="2637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Kompetenzorientierung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  <a:ea typeface="ヒラギノ角ゴ Pro W3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feld 10"/>
          <p:cNvSpPr/>
          <p:nvPr/>
        </p:nvSpPr>
        <p:spPr>
          <a:xfrm>
            <a:off x="324000" y="838080"/>
            <a:ext cx="83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19536600">
            <a:off x="2266560" y="3449520"/>
            <a:ext cx="5221440" cy="204156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2"/>
          <p:cNvSpPr/>
          <p:nvPr/>
        </p:nvSpPr>
        <p:spPr>
          <a:xfrm>
            <a:off x="2416320" y="2035080"/>
            <a:ext cx="52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2b01"/>
                </a:solidFill>
                <a:latin typeface="Arial-BoldMT"/>
                <a:ea typeface="ヒラギノ角ゴ Pro W3"/>
              </a:rPr>
              <a:t>Denken vom Ergebnis he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E8F8-BDE7-4525-8AA8-82AC0E0ED7F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E74-DDB3-4FD2-81DC-C75628CBDAE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grafik_transparent"/>
          <p:cNvPicPr/>
          <p:nvPr/>
        </p:nvPicPr>
        <p:blipFill>
          <a:blip r:embed="rId1"/>
          <a:srcRect l="-4997" t="8422" r="-606" b="54452"/>
          <a:stretch/>
        </p:blipFill>
        <p:spPr>
          <a:xfrm rot="20242800">
            <a:off x="2133360" y="3534840"/>
            <a:ext cx="5221080" cy="2041560"/>
          </a:xfrm>
          <a:prstGeom prst="rect">
            <a:avLst/>
          </a:prstGeom>
          <a:ln w="0">
            <a:noFill/>
          </a:ln>
        </p:spPr>
      </p:pic>
      <p:sp>
        <p:nvSpPr>
          <p:cNvPr id="608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9D2-E32C-4EC4-9B6D-1C1114DD177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826920" y="2571840"/>
            <a:ext cx="3529080" cy="20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nterrichtlich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ngebot i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haltlicher Schwerpunktsetzun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arrangemen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oblem-, Anwendungsorientieru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tc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8"/>
          <p:cNvGrpSpPr/>
          <p:nvPr/>
        </p:nvGrpSpPr>
        <p:grpSpPr>
          <a:xfrm>
            <a:off x="4668840" y="1671480"/>
            <a:ext cx="3168360" cy="4427280"/>
            <a:chOff x="4668840" y="1671480"/>
            <a:chExt cx="3168360" cy="4427280"/>
          </a:xfrm>
        </p:grpSpPr>
        <p:sp>
          <p:nvSpPr>
            <p:cNvPr id="611" name="Rectangle 9"/>
            <p:cNvSpPr/>
            <p:nvPr/>
          </p:nvSpPr>
          <p:spPr>
            <a:xfrm>
              <a:off x="4668840" y="1671480"/>
              <a:ext cx="3168360" cy="428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0"/>
            <p:cNvSpPr/>
            <p:nvPr/>
          </p:nvSpPr>
          <p:spPr>
            <a:xfrm>
              <a:off x="4894560" y="5639040"/>
              <a:ext cx="264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cd0921"/>
                  </a:solidFill>
                  <a:latin typeface="Arial"/>
                  <a:ea typeface="ヒラギノ角ゴ Pro W3"/>
                </a:rPr>
                <a:t>Fokus der Verantwortung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11"/>
          <p:cNvSpPr/>
          <p:nvPr/>
        </p:nvSpPr>
        <p:spPr>
          <a:xfrm>
            <a:off x="5003640" y="1832040"/>
            <a:ext cx="2521080" cy="12970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gebnis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ernerfol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langfristig entwickel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ompete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5219640" y="3919680"/>
            <a:ext cx="273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utzung des Angebot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itens der Studier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6"/>
          <p:cNvSpPr/>
          <p:nvPr/>
        </p:nvSpPr>
        <p:spPr>
          <a:xfrm>
            <a:off x="250920" y="838080"/>
            <a:ext cx="84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…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 „Kompetenz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5B6-BA0B-4365-8019-BEF0D667BB0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2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B8CE-6213-43DD-B233-528F0F9B2A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liennummernplatzhalter 4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873-B31C-4752-B7DB-8B9B896185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352520" y="2876400"/>
            <a:ext cx="721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1403280" y="1413000"/>
            <a:ext cx="6400800" cy="43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Von der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„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Stofforientie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 am Ende dieses Bildungsabschnitt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urchgenomm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und behandelt worden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70c0"/>
                </a:solidFill>
                <a:latin typeface="Arial"/>
                <a:ea typeface="ヒラギノ角ゴ Pro W3"/>
              </a:rPr>
              <a:t>z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ヒラギノ角ゴ Pro W3"/>
              </a:rPr>
              <a:t>Ergebnis-  und Kompetenzorient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as sollen Studierende a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de eines Bildungsabschnitt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kön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7903-0ABC-43A4-AF56-BA9B96961A3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ABA-3FDB-4A23-953A-8CFB947920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liennummernplatzhalter 1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2E3-AD74-4113-9B2F-FDE95BFEAE7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50920" y="1318680"/>
            <a:ext cx="78134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MS PGothic"/>
              </a:rPr>
              <a:t>Kompetenzorientierung</a:t>
            </a: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50920" y="1833120"/>
            <a:ext cx="78134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Kompetenzen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 (in Anlehnung an </a:t>
            </a:r>
            <a:r>
              <a:rPr b="0" lang="de-DE" sz="2100" spc="-1" strike="noStrike">
                <a:solidFill>
                  <a:srgbClr val="0070c0"/>
                </a:solidFill>
                <a:latin typeface="Arial"/>
                <a:ea typeface="MS PGothic"/>
              </a:rPr>
              <a:t>Franz Weinert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)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benennen individuelle fachspezifische Fähigkeiten und Fertigkeiten einer Person, keine reinen Unterrichtsinhal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werden in einem längeren Entwicklungsprozess erworben, sie  sind nicht zwingend identisch mit Stundenziel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stärkenorientiert, nicht defizitorienti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  <a:ea typeface="MS PGothic"/>
              </a:rPr>
              <a:t>sind Grundlage für das selbstständige Lösen von Problemen und für das Hervorbringen von Neuem</a:t>
            </a:r>
            <a:br>
              <a:rPr sz="2100"/>
            </a:b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ußzeilenplatzhalter 3"/>
          <p:cNvSpPr/>
          <p:nvPr/>
        </p:nvSpPr>
        <p:spPr>
          <a:xfrm>
            <a:off x="900000" y="6453360"/>
            <a:ext cx="2087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liennummernplatzhalter 3"/>
          <p:cNvSpPr/>
          <p:nvPr/>
        </p:nvSpPr>
        <p:spPr>
          <a:xfrm>
            <a:off x="539640" y="6453360"/>
            <a:ext cx="289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95EA-81BF-4D21-8828-C65A03A61CCE}" type="slidenum">
              <a:rPr b="0" lang="de-DE" sz="8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9:37:45Z</dcterms:created>
  <dc:creator>Bela Kurek</dc:creator>
  <dc:description/>
  <dc:language>en-US</dc:language>
  <cp:lastModifiedBy>Sohnius, Axel</cp:lastModifiedBy>
  <cp:lastPrinted>2014-10-27T07:08:02Z</cp:lastPrinted>
  <dcterms:modified xsi:type="dcterms:W3CDTF">2014-10-31T06:29:55Z</dcterms:modified>
  <cp:revision>308</cp:revision>
  <dc:subject/>
  <dc:title>Headline erste Zeile. Mehrzeilige Subheadline bis maximal dreizeilig.  Ort, Datum</dc:title>
</cp:coreProperties>
</file>