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8F9B923-E331-421F-9B2E-EA4AFD299C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9CE7A9E-A2E4-4AB6-9144-5FEB933DA1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BE3E08D-CB12-4C28-933E-26744297F9A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B0B3206-9490-4470-A511-D7BF487C35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E26A0A-9E37-4613-81B5-B630E31ED1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907BA7-F88B-4299-8F9C-0500684DD4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CED308-99E0-4AC0-96AD-668ECF74B1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0D09BCA-9377-4773-94D5-4F2267D2C2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CB936CF-B1A9-44D4-A928-90758D17C9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33FAEAC-115B-479C-A080-A2E3A9CA9E4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5C96134-091D-4575-B04C-1B5BB3A2C7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4205936-A10A-4BAD-977E-66FC04AF3F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86234C5-371C-4DE1-A6DD-564A971CC6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FAA4918-B63E-4BF6-AA93-F6179B2B16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B81D-37CA-477A-A571-5F64341E3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6616-6FD2-49BA-AD9D-33D6EC3A29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E2224-CB5F-4ED1-93AB-45193A085C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5D5AB-4388-432B-9E32-9EDBB79638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9731B-0A01-4EA9-93AA-C3EB084612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04C17-04E4-4550-AD7B-BE32DE837B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D5EDF-F7D9-4FAF-8C57-A96EFCA674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83F46-EB57-41AB-BA4A-0648493CAB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2A9B1-77E2-4B8A-9EC4-D6A3599D8D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08469-D2FB-466A-9E7A-ED30DEA75F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3FC2E-F3F2-4A70-8B57-1533B86F20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A4C71-94DA-49E9-89E6-E333C218A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1C38-C40A-448B-BC7D-FBF923E4DE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4B240-0BB4-4B85-8B7C-7886F9B0C7C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64DFE-5AF9-4473-983E-60488B4C05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9B24F-F8DB-4A9D-87C8-2D6F81B5DA2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620F4-4E12-4E02-B6FE-C31857FD90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DC504-3E9F-4EDD-8A68-89C165F2D6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D7418-98C4-4605-9A46-F473695B9B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C1878-7843-4598-8973-01D8BE39AD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9ECC9-C780-4C1A-B156-8166AD0E41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60A30-CB41-460F-A4F1-CB0C323F273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CBFC7-4F14-4782-85B8-F76446788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4F82-61F7-4ECC-AB25-4A0AC4435D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FA8A8-7DA5-4A25-8CDC-BB45D4EF95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D7EE-1286-46A1-ACF4-58408F6715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DA41D-5062-4605-BDE5-F694F800DD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C47C-2527-4437-8395-0418E72443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6EA3-AE61-4E01-8E17-EBD813216F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69B7-9A66-47ED-8153-E49E037251C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0B3B-19F4-4C79-BE7F-11EE13AD80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4B33-BDB5-4240-92B7-BBEF3BA9EB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E639-FD64-498A-BD8A-1968A287CB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F418-BF30-4F08-94E2-EE643B42C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9D6-0A74-481F-B457-65A7C6C205B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3928-1C5F-4656-AEB3-EFDB2842725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8009-DAD0-4D99-96DE-65A1B0EC9DE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22E3-E807-42B4-875F-D44B7CC33A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39280-7A03-49B1-81CE-8EE2341491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21F3B-5E3B-474D-B1C4-EC71D6264E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EC316-20D5-44BE-9C3C-385D897370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752EE-B126-4606-977F-EEB1F363C2C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D5A00-4977-4003-BBF9-C347316503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626A7-7A43-4A2C-B6CB-15678B0E205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944A8-AA88-4CEB-A35E-CCECD8546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644-E4E1-4A58-8207-92E187A3E3E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BFC0A-4236-4DFC-80BC-59E9DFA2C8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D0AF7-82BC-4544-8B1B-7C6E18AFAE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BA68C3-E273-4BD2-8370-A8D6EF13E9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C42C1-FDEC-419D-91DF-82E36BE70E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FDA5F-F983-4B06-A835-C069FC88EAA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7BE23-AA7E-4D02-949D-51D56C990D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A4028-E58D-44D4-9377-D50CE033EC5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63A2C-8A00-4229-A020-0933E69233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A04E8-2EB8-465C-8863-9EC23ADB1B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7C5BE-9E59-4869-8289-2159CCF1A5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EE4-71EA-4C49-89DF-FDCB1A7C371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38528-331A-4A9D-AFAA-9448EC88F0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68C70-6D94-40CD-B178-E275BC41C9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734E6-E855-47E0-9D24-BB2BB0C5E6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3EC2A-761A-4D02-A52A-93E268D191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26E52-91B6-4314-9181-85D1F295530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68E51-8EBE-427F-8F55-B5B7885E36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8E285-D98D-4D5F-9D50-204E0A477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33C-DB11-4772-8DB3-B586858E4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ADB-68BD-4AC0-AD78-2BA601B3E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545-D3D4-43F2-8BE7-EE62AF34D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357-C211-4013-88EE-8A3495900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87C6-3C2D-417C-9E33-98AE3E13C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4CA-38DE-41F6-8CC2-4C94BEBD41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3C4-69FE-4D18-8671-9B23D032E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A3E-8E48-4344-A15F-19189B47E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514-3F09-4231-BDCE-0BCC0AA062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422-3761-4265-9403-9515AC43AE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77E95-D47E-4AC0-8F14-6E996CC52A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EBFB-2A06-47C8-82FF-7DC5C79060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DDE2-1794-4278-999B-53B897ADF7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56F2D-228C-4010-8ED3-A9C34CE299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85C01-E10E-4559-9FDF-9493A9772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C619-365B-4BFE-8B27-8F97651F8A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707F4-BD9D-4A9C-8CEA-111CEF4DB6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1A312-558F-494F-B669-430AD7D167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C52F8-4F76-4DF0-BD50-A0C4C73AC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EFA13-243E-4FD4-95C3-E06A15730F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C3800-0141-4B0C-9EBB-A42F8335F2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B2AF-BB50-48BB-BC61-541870504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4DB11-FAA6-4548-8A35-55DA403A4A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132C-01C3-417E-9A1B-CB9A67D7CB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991C7-C49F-424A-98F3-4B32ED70FE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8BFF-A55F-4AE3-9B5A-4C6FB3A01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B9E6-1387-4D75-B8A7-F1CDFF4709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8EEEA-9D16-4068-B621-0F855D967E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3824-9B99-4947-A57A-57E7B15A1A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B4A75-E34E-4EA5-92FB-217AE58DF8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DF65-19B1-4EBE-9E8A-4AE6F11B40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C2D63-F49D-4996-A561-499C4C9AC1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A9C71-B28F-46E2-8489-F5FCFB3CAD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C770-4EAB-47FE-B047-22776F00E8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C7CF-6FEF-4321-AE45-75F883D1CA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0718-5B0F-4657-BFB6-69CC5671F4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C92-0B53-4247-B9F7-7AB600958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F543-A97E-4B7B-83EB-06D54AAA1B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B475-9B68-430B-981E-CCD1BD909D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CB92-58B5-46BD-AD06-4A472C0922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863-C823-438D-B7EA-4B340458AA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F682-430E-4C69-BA84-32255A921C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19A6-C054-47DF-A3E1-DAB24CC7FB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7809-0C91-4B10-BF4B-153257ED6E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4212-5AC9-43BC-B196-62394ECBC8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923A-3553-499A-B21E-64F9156822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EE7B-935F-41C3-8059-55D2D4B85F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2078-C2FB-4DEE-A4D0-117567A39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AE37-5D9A-4901-963F-3A48C1551F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BA10-2970-4609-811C-1F7C9ADD1B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6363C-A975-4063-AC8F-32AFFFC08B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03A98-6637-4EB2-9C23-E2E9BEC7AD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F29F5-A895-4E55-86A9-CDE76C64BF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AF71C-EB4D-4E48-867E-D4C6C5C95C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DE498-3E5E-49CA-8AEA-B42F0FB739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F316D-D40E-43ED-A323-97DAE3A680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FFF9B-FAD1-4FC0-8778-D6F436B8F0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D26E5-09FD-442B-88E9-FD799558C2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4BDEF-3DE7-4D40-BD3D-B7287CF27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B69E-0C7B-4C14-BE9C-66AEEE23E3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667F2-4862-4545-9DD4-4B2106B214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A72DE-D268-481C-BBFA-FB8E0EA64E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A0C99-6167-4FB0-BDD0-CCC3CFD1D2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FC403-C75E-4C2A-B56B-AB25593B77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234E7-9B8C-451F-A0B5-B69BA0B97D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67D0F-5791-47DD-A51A-EED129EE89A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E4C15-E3BE-46E9-A980-D712A8865CC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3B78A-D664-45A6-9B69-BC56557088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36B81-B30D-426B-ABE1-FE0859A2F1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8D292-66C5-4CF2-9CE5-12CAE97F7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A419-E59E-4110-BD03-F279B24950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FB0F5-9F28-4296-A8D0-9ABB7D51C7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18334-5D4F-48F1-B755-E68B1CED38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42799-298A-499C-A675-C5A5398491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06A48-0A70-4986-B9E5-E3AB64DB44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0A4BD-BBF5-43D9-A0C8-353CCB95AC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3E56-F74D-4825-B992-181B7EE6EC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E500-A9D3-4E88-99A3-10D26494894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F259-9E40-4115-B307-880DCF8610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6630-B5FA-4348-97B8-3C1F2D0EDF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DFFC-7738-4C50-9FAD-C1A91DE61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B47F-2B42-4888-8605-6B9C652C01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8AF2-B026-4D5B-8CBD-C72C9A19B0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38D4-6E4A-4EFA-8725-BBDB276508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FB2D-FCE0-423E-8BF4-E9E91D16E7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9B5B-36DA-4AA4-B21E-52BD4B7E69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D9C2-C2C1-43A4-81D5-21ED02505D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CC6C-8D6F-4B3B-B8F6-7BD203A6E7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4033-586D-49AC-9C1E-3284E8EF53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314CF-9F83-45CF-B42F-C29DDD5381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A5A89-A13E-49EF-AFF6-F559ED3285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415A4-2F4A-4877-A609-E2194F666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8190-2962-413C-AD28-14ACE318C6B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82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FF8-C3AA-4685-BEBD-DFA0921E492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504B-372E-4349-AFF5-3C860D35060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66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F29-8AA5-41FF-90A3-13E0F059370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0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330-2D11-4D8C-8E91-8A3C4CE12EE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5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CCE-6909-41CE-A274-48B59BF2F0E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8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966-9A71-4E39-A624-345AA8E5526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30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38C-1E72-4DB1-B907-16C119CD8E6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747-7CE9-4944-A125-76B56F9DFAE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14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7907-D3CF-4577-BD42-19EEA6C5F3A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0423-7974-471C-AD7D-C084ED9A18B6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9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21D-7245-42EF-9899-1BD68E07DC4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40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812-FBDA-4304-84FF-4145EAC409B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25560" y="13906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Neue Kernlehrpläne fü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das Abendgymnasium und Kol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Kernlehrplan Erziehungswissen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1"/>
          <p:cNvSpPr/>
          <p:nvPr/>
        </p:nvSpPr>
        <p:spPr>
          <a:xfrm>
            <a:off x="2286000" y="113976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AFC-2F9E-4FC2-944C-F772BEC9262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CE73-581B-4ED5-BF5C-D16CE4EE1CCD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54160" y="1446120"/>
            <a:ext cx="86421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399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dig auf bzw.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“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e Entscheidungen werden in den Schulen – u.a. bei der Erstellung des schulinternen Lehrplans – getrof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5"/>
          <p:cNvSpPr/>
          <p:nvPr/>
        </p:nvSpPr>
        <p:spPr>
          <a:xfrm>
            <a:off x="3195720" y="98424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E8B-F750-428D-B7C8-A63D2385D5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938B-5B96-413A-965B-BB9D539D8EB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2320" y="1814400"/>
            <a:ext cx="8064360" cy="27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. Schulinterne Lehrpläne: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Konstrukt, Struktur und zentrale Elemente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(Unterstützungsmaterialien zur Kernlehrplanimplementation, das Lehrplaninformationssystem „Lehrplannavigator“)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FB2C-76CA-4CE0-B2A4-A96CE3F84F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536400" y="1428840"/>
            <a:ext cx="820116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ufgabe schulinterner Lehrpläne: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die verbindlichen Vorgaben der Kernlehrpläne auf die Situation der Schule bezogen konkretisieren und Freiräume ausgest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6"/>
          <p:cNvSpPr/>
          <p:nvPr/>
        </p:nvSpPr>
        <p:spPr>
          <a:xfrm>
            <a:off x="3467160" y="1044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E922-759C-4BE7-B709-FA6751E0D9E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664-F94A-4F5A-A483-D3F4769D609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7"/>
          <p:cNvSpPr/>
          <p:nvPr/>
        </p:nvSpPr>
        <p:spPr>
          <a:xfrm>
            <a:off x="5327640" y="0"/>
            <a:ext cx="38163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"/>
          <p:cNvGrpSpPr/>
          <p:nvPr/>
        </p:nvGrpSpPr>
        <p:grpSpPr>
          <a:xfrm>
            <a:off x="5473800" y="777960"/>
            <a:ext cx="3051000" cy="2890800"/>
            <a:chOff x="5473800" y="777960"/>
            <a:chExt cx="3051000" cy="2890800"/>
          </a:xfrm>
        </p:grpSpPr>
        <p:sp>
          <p:nvSpPr>
            <p:cNvPr id="625" name="Document"/>
            <p:cNvSpPr/>
            <p:nvPr/>
          </p:nvSpPr>
          <p:spPr>
            <a:xfrm>
              <a:off x="5473800" y="777960"/>
              <a:ext cx="2928960" cy="268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Schulintern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Lehrpla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4"/>
            <p:cNvSpPr/>
            <p:nvPr/>
          </p:nvSpPr>
          <p:spPr>
            <a:xfrm>
              <a:off x="5673600" y="1758960"/>
              <a:ext cx="28512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undmuster,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estandteil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Konstruktionshinweise, „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lgorithm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usterbeispi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eine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schulinternen Fachlehrplan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und einer Jahrgangsparti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5"/>
          <p:cNvGrpSpPr/>
          <p:nvPr/>
        </p:nvGrpSpPr>
        <p:grpSpPr>
          <a:xfrm>
            <a:off x="2771640" y="733320"/>
            <a:ext cx="3029040" cy="2914560"/>
            <a:chOff x="2771640" y="733320"/>
            <a:chExt cx="3029040" cy="2914560"/>
          </a:xfrm>
        </p:grpSpPr>
        <p:sp>
          <p:nvSpPr>
            <p:cNvPr id="628" name="Document"/>
            <p:cNvSpPr/>
            <p:nvPr/>
          </p:nvSpPr>
          <p:spPr>
            <a:xfrm>
              <a:off x="2771640" y="733320"/>
              <a:ext cx="2895840" cy="29145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Kernlehrpl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"/>
            <p:cNvSpPr/>
            <p:nvPr/>
          </p:nvSpPr>
          <p:spPr>
            <a:xfrm>
              <a:off x="2847960" y="1876320"/>
              <a:ext cx="2581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bindli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mpetenz-erwartung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am Ende bestimmter Phasen des Bildungsg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"/>
            <p:cNvSpPr/>
            <p:nvPr/>
          </p:nvSpPr>
          <p:spPr>
            <a:xfrm>
              <a:off x="3390840" y="3066840"/>
              <a:ext cx="240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ligatoris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haltlich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chwerpunk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9"/>
          <p:cNvGrpSpPr/>
          <p:nvPr/>
        </p:nvGrpSpPr>
        <p:grpSpPr>
          <a:xfrm>
            <a:off x="1865160" y="1216080"/>
            <a:ext cx="4267080" cy="2276280"/>
            <a:chOff x="1865160" y="1216080"/>
            <a:chExt cx="4267080" cy="2276280"/>
          </a:xfrm>
        </p:grpSpPr>
        <p:sp>
          <p:nvSpPr>
            <p:cNvPr id="632" name="Line 10"/>
            <p:cNvSpPr/>
            <p:nvPr/>
          </p:nvSpPr>
          <p:spPr>
            <a:xfrm>
              <a:off x="5170320" y="1257480"/>
              <a:ext cx="961920" cy="936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"/>
            <p:cNvSpPr/>
            <p:nvPr/>
          </p:nvSpPr>
          <p:spPr>
            <a:xfrm>
              <a:off x="1871640" y="1216080"/>
              <a:ext cx="9360" cy="227628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1865160" y="1228680"/>
              <a:ext cx="1628640" cy="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4"/>
          <p:cNvGrpSpPr/>
          <p:nvPr/>
        </p:nvGrpSpPr>
        <p:grpSpPr>
          <a:xfrm>
            <a:off x="0" y="3666960"/>
            <a:ext cx="8991720" cy="2457720"/>
            <a:chOff x="0" y="3666960"/>
            <a:chExt cx="8991720" cy="2457720"/>
          </a:xfrm>
        </p:grpSpPr>
        <p:sp>
          <p:nvSpPr>
            <p:cNvPr id="636" name="File"/>
            <p:cNvSpPr/>
            <p:nvPr/>
          </p:nvSpPr>
          <p:spPr>
            <a:xfrm>
              <a:off x="86040" y="3695760"/>
              <a:ext cx="8905680" cy="2428920"/>
            </a:xfrm>
            <a:custGeom>
              <a:avLst/>
              <a:gdLst>
                <a:gd name="textAreaLeft" fmla="*/ 447480 w 8905680"/>
                <a:gd name="textAreaRight" fmla="*/ 8507520 w 8905680"/>
                <a:gd name="textAreaTop" fmla="*/ 520560 h 2428920"/>
                <a:gd name="textAreaBottom" fmla="*/ 228132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lnTo>
                    <a:pt x="19790" y="324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16"/>
            <p:cNvGrpSpPr/>
            <p:nvPr/>
          </p:nvGrpSpPr>
          <p:grpSpPr>
            <a:xfrm>
              <a:off x="0" y="3666960"/>
              <a:ext cx="8909280" cy="2311560"/>
              <a:chOff x="0" y="3666960"/>
              <a:chExt cx="8909280" cy="2311560"/>
            </a:xfrm>
          </p:grpSpPr>
          <p:sp>
            <p:nvSpPr>
              <p:cNvPr id="638" name="Text Box 17"/>
              <p:cNvSpPr/>
              <p:nvPr/>
            </p:nvSpPr>
            <p:spPr>
              <a:xfrm>
                <a:off x="1095480" y="3666960"/>
                <a:ext cx="14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99"/>
                    </a:solidFill>
                    <a:latin typeface="Arial"/>
                  </a:rPr>
                  <a:t>Datenba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18"/>
              <p:cNvGrpSpPr/>
              <p:nvPr/>
            </p:nvGrpSpPr>
            <p:grpSpPr>
              <a:xfrm>
                <a:off x="7442280" y="4137120"/>
                <a:ext cx="1467000" cy="1809720"/>
                <a:chOff x="7442280" y="4137120"/>
                <a:chExt cx="1467000" cy="1809720"/>
              </a:xfrm>
            </p:grpSpPr>
            <p:sp>
              <p:nvSpPr>
                <p:cNvPr id="640" name="Documents"/>
                <p:cNvSpPr/>
                <p:nvPr/>
              </p:nvSpPr>
              <p:spPr>
                <a:xfrm>
                  <a:off x="7452000" y="41371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20"/>
                <p:cNvSpPr/>
                <p:nvPr/>
              </p:nvSpPr>
              <p:spPr>
                <a:xfrm>
                  <a:off x="7442280" y="4365720"/>
                  <a:ext cx="144792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intergrund-materiali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, „Tools“,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stützungs-mater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Documents"/>
              <p:cNvSpPr/>
              <p:nvPr/>
            </p:nvSpPr>
            <p:spPr>
              <a:xfrm>
                <a:off x="6016680" y="4168800"/>
                <a:ext cx="1457280" cy="1809720"/>
              </a:xfrm>
              <a:custGeom>
                <a:avLst/>
                <a:gdLst>
                  <a:gd name="textAreaLeft" fmla="*/ 110880 w 1457280"/>
                  <a:gd name="textAreaRight" fmla="*/ 1114560 w 1457280"/>
                  <a:gd name="textAreaTop" fmla="*/ 349200 h 1809720"/>
                  <a:gd name="textAreaBottom" fmla="*/ 1451160 h 18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014"/>
                    </a:moveTo>
                    <a:lnTo>
                      <a:pt x="0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68" y="1428"/>
                    </a:lnTo>
                    <a:lnTo>
                      <a:pt x="3468" y="0"/>
                    </a:lnTo>
                    <a:lnTo>
                      <a:pt x="21653" y="0"/>
                    </a:lnTo>
                    <a:lnTo>
                      <a:pt x="21653" y="18828"/>
                    </a:lnTo>
                    <a:lnTo>
                      <a:pt x="19954" y="188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16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  <a:path w="21600" h="21600">
                    <a:moveTo>
                      <a:pt x="3486" y="1428"/>
                    </a:moveTo>
                    <a:lnTo>
                      <a:pt x="19954" y="14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86" y="1428"/>
                    </a:lnTo>
                    <a:close/>
                  </a:path>
                  <a:path w="21600" h="21600">
                    <a:moveTo>
                      <a:pt x="0" y="18014"/>
                    </a:moveTo>
                    <a:lnTo>
                      <a:pt x="4434" y="180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22"/>
              <p:cNvGrpSpPr/>
              <p:nvPr/>
            </p:nvGrpSpPr>
            <p:grpSpPr>
              <a:xfrm>
                <a:off x="4499280" y="4156200"/>
                <a:ext cx="1476360" cy="1809720"/>
                <a:chOff x="4499280" y="4156200"/>
                <a:chExt cx="1476360" cy="1809720"/>
              </a:xfrm>
            </p:grpSpPr>
            <p:sp>
              <p:nvSpPr>
                <p:cNvPr id="644" name="Documents"/>
                <p:cNvSpPr/>
                <p:nvPr/>
              </p:nvSpPr>
              <p:spPr>
                <a:xfrm>
                  <a:off x="4518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24"/>
                <p:cNvSpPr/>
                <p:nvPr/>
              </p:nvSpPr>
              <p:spPr>
                <a:xfrm>
                  <a:off x="4499280" y="4384800"/>
                  <a:ext cx="13716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iagnose-bögen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und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valuations-instrum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25"/>
              <p:cNvGrpSpPr/>
              <p:nvPr/>
            </p:nvGrpSpPr>
            <p:grpSpPr>
              <a:xfrm>
                <a:off x="2975040" y="4156200"/>
                <a:ext cx="1533600" cy="1809720"/>
                <a:chOff x="2975040" y="4156200"/>
                <a:chExt cx="1533600" cy="1809720"/>
              </a:xfrm>
            </p:grpSpPr>
            <p:sp>
              <p:nvSpPr>
                <p:cNvPr id="647" name="Documents"/>
                <p:cNvSpPr/>
                <p:nvPr/>
              </p:nvSpPr>
              <p:spPr>
                <a:xfrm>
                  <a:off x="3051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27"/>
                <p:cNvSpPr/>
                <p:nvPr/>
              </p:nvSpPr>
              <p:spPr>
                <a:xfrm>
                  <a:off x="2975040" y="4384800"/>
                  <a:ext cx="138132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schülerver-ständliche Ausformulie-rung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von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8"/>
              <p:cNvGrpSpPr/>
              <p:nvPr/>
            </p:nvGrpSpPr>
            <p:grpSpPr>
              <a:xfrm>
                <a:off x="1587600" y="4149720"/>
                <a:ext cx="1457280" cy="1809720"/>
                <a:chOff x="1587600" y="4149720"/>
                <a:chExt cx="1457280" cy="1809720"/>
              </a:xfrm>
            </p:grpSpPr>
            <p:sp>
              <p:nvSpPr>
                <p:cNvPr id="650" name="Documents"/>
                <p:cNvSpPr/>
                <p:nvPr/>
              </p:nvSpPr>
              <p:spPr>
                <a:xfrm>
                  <a:off x="1587600" y="41497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30"/>
                <p:cNvSpPr/>
                <p:nvPr/>
              </p:nvSpPr>
              <p:spPr>
                <a:xfrm>
                  <a:off x="1616400" y="4378320"/>
                  <a:ext cx="127620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richts- und Lernarran-gements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zu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31"/>
              <p:cNvGrpSpPr/>
              <p:nvPr/>
            </p:nvGrpSpPr>
            <p:grpSpPr>
              <a:xfrm>
                <a:off x="0" y="4152960"/>
                <a:ext cx="1571760" cy="1809720"/>
                <a:chOff x="0" y="4152960"/>
                <a:chExt cx="1571760" cy="1809720"/>
              </a:xfrm>
            </p:grpSpPr>
            <p:sp>
              <p:nvSpPr>
                <p:cNvPr id="653" name="Documents"/>
                <p:cNvSpPr/>
                <p:nvPr/>
              </p:nvSpPr>
              <p:spPr>
                <a:xfrm>
                  <a:off x="114120" y="4152960"/>
                  <a:ext cx="1457640" cy="1809720"/>
                </a:xfrm>
                <a:custGeom>
                  <a:avLst/>
                  <a:gdLst>
                    <a:gd name="textAreaLeft" fmla="*/ 110880 w 1457640"/>
                    <a:gd name="textAreaRight" fmla="*/ 1114920 w 145764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33"/>
                <p:cNvSpPr/>
                <p:nvPr/>
              </p:nvSpPr>
              <p:spPr>
                <a:xfrm>
                  <a:off x="0" y="4400640"/>
                  <a:ext cx="1467000" cy="14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eispiel-aufgaben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(Lernaufgaben / Testaufgaben) zu konkreten 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Text Box 34"/>
              <p:cNvSpPr/>
              <p:nvPr/>
            </p:nvSpPr>
            <p:spPr>
              <a:xfrm>
                <a:off x="5981760" y="4362480"/>
                <a:ext cx="135252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Konkretisie-rungen zum Schulinternen Lehrplan: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Beispiele zu Unterrichts-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    vorha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Textfeld 37"/>
          <p:cNvSpPr/>
          <p:nvPr/>
        </p:nvSpPr>
        <p:spPr>
          <a:xfrm>
            <a:off x="3825720" y="763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Unterstützungsangebot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hrplan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feld 38"/>
          <p:cNvSpPr/>
          <p:nvPr/>
        </p:nvSpPr>
        <p:spPr>
          <a:xfrm>
            <a:off x="133200" y="6364440"/>
            <a:ext cx="81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ttp://www.standardsicherung.schulministerium.nrw.de/lehrplaene/lehrplan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2"/>
          <p:cNvGrpSpPr/>
          <p:nvPr/>
        </p:nvGrpSpPr>
        <p:grpSpPr>
          <a:xfrm>
            <a:off x="2484000" y="1068480"/>
            <a:ext cx="4114800" cy="3345840"/>
            <a:chOff x="2484000" y="1068480"/>
            <a:chExt cx="4114800" cy="3345840"/>
          </a:xfrm>
        </p:grpSpPr>
        <p:sp>
          <p:nvSpPr>
            <p:cNvPr id="659" name="Line 38"/>
            <p:cNvSpPr/>
            <p:nvPr/>
          </p:nvSpPr>
          <p:spPr>
            <a:xfrm flipH="1">
              <a:off x="5076720" y="1068480"/>
              <a:ext cx="9050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39"/>
            <p:cNvGrpSpPr/>
            <p:nvPr/>
          </p:nvGrpSpPr>
          <p:grpSpPr>
            <a:xfrm>
              <a:off x="2484000" y="3395520"/>
              <a:ext cx="4114800" cy="1018800"/>
              <a:chOff x="2484000" y="3395520"/>
              <a:chExt cx="4114800" cy="1018800"/>
            </a:xfrm>
          </p:grpSpPr>
          <p:sp>
            <p:nvSpPr>
              <p:cNvPr id="661" name="Line 40"/>
              <p:cNvSpPr/>
              <p:nvPr/>
            </p:nvSpPr>
            <p:spPr>
              <a:xfrm flipH="1">
                <a:off x="6589080" y="3395520"/>
                <a:ext cx="9720" cy="10188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41"/>
              <p:cNvSpPr/>
              <p:nvPr/>
            </p:nvSpPr>
            <p:spPr>
              <a:xfrm flipH="1">
                <a:off x="2484000" y="3888720"/>
                <a:ext cx="40957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oup 53"/>
          <p:cNvGrpSpPr/>
          <p:nvPr/>
        </p:nvGrpSpPr>
        <p:grpSpPr>
          <a:xfrm>
            <a:off x="2266920" y="3538440"/>
            <a:ext cx="4851360" cy="325440"/>
            <a:chOff x="2266920" y="3538440"/>
            <a:chExt cx="4851360" cy="325440"/>
          </a:xfrm>
        </p:grpSpPr>
        <p:sp>
          <p:nvSpPr>
            <p:cNvPr id="664" name="Line 34"/>
            <p:cNvSpPr/>
            <p:nvPr/>
          </p:nvSpPr>
          <p:spPr>
            <a:xfrm flipV="1">
              <a:off x="42418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5"/>
            <p:cNvSpPr/>
            <p:nvPr/>
          </p:nvSpPr>
          <p:spPr>
            <a:xfrm flipV="1">
              <a:off x="70930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6"/>
            <p:cNvSpPr/>
            <p:nvPr/>
          </p:nvSpPr>
          <p:spPr>
            <a:xfrm flipH="1" flipV="1">
              <a:off x="2266920" y="3735000"/>
              <a:ext cx="4851360" cy="1908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37"/>
            <p:cNvSpPr/>
            <p:nvPr/>
          </p:nvSpPr>
          <p:spPr>
            <a:xfrm flipV="1">
              <a:off x="2268360" y="3754440"/>
              <a:ext cx="0" cy="10944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16D-8CAA-407B-8028-D6E22DC05AE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92D-D93F-4613-9599-40CA429471D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000" y="16840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Inhaltsfelder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1. Bildungs- und Erziehungsproze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2. Lernen und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3. Entwicklung, Sozialisation und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4. Identit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5. Werte, Normen und Ziele in Erziehung und Bild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6. Pädagogische Professionalisierung in verschiedenen Institution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 IF 1-2 sind der EPH zugeordnet, die IF 3-6 der QP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Eine Zuordnung zu Kurshalbjahren ist nicht zwingend vorgeschrieben; insbesondere in der QPH können die Kompetenzerwartungen der einzelnen IF anhand geeigneter Unterrichtsvorhaben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vernetz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bearbeitet werden.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B0E0-0E82-4CE5-9730-F9DD4C6BFA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0720" y="1422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Exemplarische Konkretisierung eines Inhaltsfeldes: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6. Pädagogische Professionalisierung in verschiedenen Institutionen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Inhaltliche Schwerpunkt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Institutionalisierung von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Vielfalt und Wandelbarkeit pädagogischer Berufsfelder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Beschreib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 Auseinandersetzung mit diesem Inhaltsfeld ermöglicht den Studierenden exemplarische Einblicke in Vielfalt und Wandelbarkeit pädagogischer Berufsfelder und den organisatorischen Rahmen, in dem professionelles pädagogisches Handeln stattfindet.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ses Inhaltsfeld eignet sich zur Vernetzung mit anderen inhaltlichen Schwerpunkten.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448-2713-49F6-8338-67AD65C813A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2001a"/>
                </a:solidFill>
                <a:latin typeface="Arial-BoldMT"/>
              </a:rPr>
              <a:t>Vorschlag für eine Verteilung von Unterrichtsvorhaben:</a:t>
            </a:r>
            <a:br>
              <a:rPr sz="1600"/>
            </a:b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-BoldMT"/>
              </a:rPr>
              <a:t>EP:</a:t>
            </a:r>
            <a:br>
              <a:rPr sz="16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: „Alle reden über Erziehung – wir auch!“ Erziehung und Bildung im Spannungsfeld von Personalisation, Sozialisation und Enkulturation (IF 1)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I: „Erziehen ja, aber wie?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Erziehungsstile und Erziehungsziele im historischen und kulturellen Kontext (IF 1)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II: „Wie lernen wir? – Vom Nürnberger Trichter zum lebenslangen Lernen (IF 2)</a:t>
            </a:r>
            <a:endParaRPr b="1" lang="en-US" sz="1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30B-FD5F-47E6-9DB6-882902E8EF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547200" y="1692360"/>
            <a:ext cx="3956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GK (Q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: „Freud und Leid in der kindlichen Entwicklung“ - Eine pädagogische Sicht auf Modelle psychosexueller und psychosozialer Entwicklung (Freud und Erikson)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: „Hilf mir, es selbst zu tun“ – Die Pädagogik Maria Montessoris (IF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Wer bin ich und wer will ich sein?“ – Eine pädagogische Sicht auf interaktionistische Sozialisationsmodelle (Mead und Krappmann)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Schwerstarbeit Erwachsenwerden“ – Das Modell der produktiven Realitätsverarbeitung nach Hurrelmann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V: „Ich schlage, also bin ich“ - Pädagogische Prä- und Interventionsmöglichkeiten bei Gewalt auf der Grundlage unterschiedlicher Erklärungs-ansätze (Heitmeyer; Rauchfleisch) (IF 3, 4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622400" y="1641600"/>
            <a:ext cx="39560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LK (Q 1) zusätzli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Waldorfpädagogik, eine Alternative in der heutigen Zeit?“ (IF 3,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Spielend Sprechen lernen“ - Förderung kindlicher Bildungsprozesse nach Gerd E. Schäfer (IF 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VIII: „Niemand ist alleine schuld.“ – Analyse und pädagogische Förderung von Entwicklungsprozessen aus systemischer Sicht (Stierlin) (IF 3, 4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D70-CB40-494E-A47D-6E6D35DA447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514080" y="1778040"/>
            <a:ext cx="39560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GK (Q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:„Ich denke, also bin ich“ –  Das Modell kognitiver Entwicklung nach Piaget (IF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: „Das tut man nicht!“ – Werteerziehung mit Blick auf das Modell moralischer Entwicklung nach Kohlberg (IF 3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Schule beschäftigt alle“ -  Lernort, Arbeitsplatz, Politikum (IF 3,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Du bist nichts, dein Volk ist alles!“ - Erziehung im Nationalsozialismus (IF 3, 4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630320" y="1657080"/>
            <a:ext cx="39560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LK (Q 2): zusätz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schlechtergerechte Perspektiv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tionale Vergleichsstudie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entwicklung und Qualitätssich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EE7E-2820-4E5D-BEDD-0D08D5685B1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539280" y="197460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 – von der Stoff- zur Ergebnis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Der neue KLP Erziehungswissenschaft im Über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V. Workshop-Phase zur Konkretisierung von Unterrichtsvor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52200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8E6-2DB4-4D35-AAB4-CFF58A6728E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Lernerfolgsüberprüfung, Leistungsbewertung und Abiturprüfung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505F-D90D-4618-B148-8674C6910F1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6412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Lernerfolgsüberprüfung und Leistungsbewert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Überprüfungsformen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Darstellung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Analyse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Beurteilung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Gestaltungs- bzw. Produktion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Handlungsaufgabe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A38-E3C8-4BF9-92D2-2DFF26EED09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0080" y="1709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Abiturprüf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Aufgabentypen bzw. -kombinationen im Zentralabitur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materialgebundene Aufgabe mit untergliederter Aufgabenstell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a) Kombinationen von Darstellungsaufgabe und Analyseaufgabe mi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  Beurteilungsaufgab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o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b) Kombinationen von Darstellungsaufgabe und Analyseaufgabe mi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Gestaltungs- bzw. Produktionsaufgabe</a:t>
            </a:r>
            <a:br>
              <a:rPr sz="1800"/>
            </a:b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-BoldMT"/>
              </a:rPr>
              <a:t>(s. Kurzbeschreibung der Überprüfungsformen KLP, S. 40)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F0F4-13E2-40A1-8CF1-48D7D5A48D3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-7920" y="15606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"/>
              </a:rPr>
              <a:t>Ihre Aufmerksamk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r freuen uns auf Ihre Fra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hteck 1"/>
          <p:cNvSpPr/>
          <p:nvPr/>
        </p:nvSpPr>
        <p:spPr>
          <a:xfrm>
            <a:off x="2286000" y="11397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HERZLIC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D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4E77-181A-4AB7-B2C4-9BF842273AD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419-F4AA-4D46-A81D-02FA45B0D8C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0EE-09A1-4BBA-A6CA-8C828B48949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585-872C-4CE8-A934-E87F704997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276200" y="1697040"/>
            <a:ext cx="640080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Ende e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feld 7"/>
          <p:cNvSpPr/>
          <p:nvPr/>
        </p:nvSpPr>
        <p:spPr>
          <a:xfrm>
            <a:off x="4300560" y="10684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0B5E-7A1B-4693-984F-25F0FE22CA6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08FC-E017-478C-8E96-E9DBD6C15D8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E5B1-8466-4326-B286-68A76B7ACEE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457200" y="2271600"/>
            <a:ext cx="81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einer Person (keine reinen Unterrichtsinhal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457200" y="3057480"/>
            <a:ext cx="7910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 (sind nicht identisch mit Stundenzi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374760" y="3838680"/>
            <a:ext cx="8229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das Hervorbringen von Neu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374760" y="4676760"/>
            <a:ext cx="693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stärkenorientiert (nicht defizitorienti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feld 15"/>
          <p:cNvSpPr/>
          <p:nvPr/>
        </p:nvSpPr>
        <p:spPr>
          <a:xfrm>
            <a:off x="4594320" y="9669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660-49B3-41D0-B84D-76D45C9D4DD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D9C-C1EE-42DB-8862-27C3D0859D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042920" y="190512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33200" y="1512720"/>
            <a:ext cx="89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(erwartungen) als Ausgangspunkt für die 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979640" y="5445000"/>
            <a:ext cx="5781600" cy="10083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dass die Studierenden 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feld 8"/>
          <p:cNvSpPr/>
          <p:nvPr/>
        </p:nvSpPr>
        <p:spPr>
          <a:xfrm>
            <a:off x="4560840" y="105084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2ED7-1838-4F33-9849-8622FCF174F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348000" y="4581360"/>
            <a:ext cx="2286000" cy="48600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042920" y="5392800"/>
            <a:ext cx="6819840" cy="9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 einer konkretisierten Urteilskompetenz zu IF 1: 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tudierenden </a:t>
            </a: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beurteilen </a:t>
            </a:r>
            <a:r>
              <a:rPr b="0" lang="de-DE" sz="1400" spc="-1" strike="noStrike">
                <a:solidFill>
                  <a:srgbClr val="23ff76"/>
                </a:solidFill>
                <a:latin typeface="Arial"/>
              </a:rPr>
              <a:t>einfache Fallbeispiele zum pädagogischen Verhältnis hinsichtlich der Möglichkeiten, Grenzen und Folgen eines damit verbundenen Handel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042920" y="3068640"/>
            <a:ext cx="2305080" cy="495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reifende fachliche Kompetenz (Kap.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z.B. reflektierte pädagogische Kompet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2268360" y="3645000"/>
            <a:ext cx="0" cy="1152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6659640" y="3645000"/>
            <a:ext cx="0" cy="115236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2268360" y="479736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5651640" y="479736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5508720" y="3068640"/>
            <a:ext cx="22860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feld 19"/>
          <p:cNvSpPr/>
          <p:nvPr/>
        </p:nvSpPr>
        <p:spPr>
          <a:xfrm>
            <a:off x="3238560" y="100188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4502160" y="5067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717-4A72-40F4-9DDC-C425671CFE8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420840" y="1677960"/>
            <a:ext cx="85597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mpetenzbereiche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ystematisieren die kognitiven Prozesse: Sach-, Methoden-, Urteils- und Handlungskompeten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– Beispie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Bildungs- und Erziehungsproz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Lernen und Erzie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liche Schwerpunkte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ind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tergliederungselemente der Inhaltsfelder – Beispiele zu IF 2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bedürftigkeit und Lernfähigkeit des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theorien und ihre Implikationen für pädagogisches Han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steuerung und Selbstverantwortlichkeit in Lernproz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D5B-5317-4EB3-A4AD-0DC1E2C2314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64840" y="1830240"/>
            <a:ext cx="806436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z.B. SK 3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beschreiben und erklären </a:t>
            </a:r>
            <a:r>
              <a:rPr b="0" lang="de-DE" sz="1600" spc="-1" strike="noStrike">
                <a:solidFill>
                  <a:srgbClr val="e2001a"/>
                </a:solidFill>
                <a:latin typeface="Arial"/>
              </a:rPr>
              <a:t>element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ziehungswissenschaftliche Phänomene (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beschreiben und erklären erziehungswissenschaftliche Phänomene (G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rklären </a:t>
            </a:r>
            <a:r>
              <a:rPr b="0" lang="de-DE" sz="1600" spc="-1" strike="noStrike">
                <a:solidFill>
                  <a:srgbClr val="e2001a"/>
                </a:solidFill>
                <a:latin typeface="Arial"/>
              </a:rPr>
              <a:t>komplex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ziehungswissenschaftliche Phänomene (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nkretisier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Rolle und Gruppe als zentrale Aspekte von Sozialisation (GK und 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rklären die Bedeutung des Spiels im Kindes- und Jugendalter (nur 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9528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084-D8FE-47FF-AC7F-D56128EE134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Ulrich, Andrea</cp:lastModifiedBy>
  <cp:lastPrinted>2013-05-14T13:09:49Z</cp:lastPrinted>
  <dcterms:modified xsi:type="dcterms:W3CDTF">2014-07-01T08:57:38Z</dcterms:modified>
  <cp:revision>471</cp:revision>
  <dc:subject/>
  <dc:title>Folie 1</dc:title>
</cp:coreProperties>
</file>