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15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17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7BC3709-4DF7-4184-BE4F-A9F12B1771B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8A21977-6F22-4B0F-9020-930279E90F1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F34FD7D-E08A-4CD4-A70B-449B607941F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D600367-3319-4E6F-A554-D9E9A295B87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E66CF8F-53B0-4FD3-BAAF-C7C05CB9E23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4E82453-88B7-47E9-8C1E-9D5AD684E95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18241FF-2BA5-47BB-91CE-71522AC39D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FB92FD2-A323-489F-BF7F-AC2DC5B1EDF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0976F9B-9ED4-4728-BEF3-BB5F7EE037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3B48AB6-67E9-4A55-98D2-2C42731AC0D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8879AE3-19A8-4C50-AB96-119425D1DF7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1630A6B-A5DE-4CE2-871F-7EF6882C673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7770994-FFFF-48E3-A634-1BCD55B878B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1465D42-B1E8-4151-9A3E-D9B744A0283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1E450-8FFB-45CA-9C2F-51D7C8427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52089-FBB3-4FDC-BB2C-2283AB4C33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2F79FB-9D68-46FA-BB8B-6EC3BB9DCC0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219FE7-2CCC-4058-A526-F940A1D5675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1F3ED4-0363-40E3-B06A-EF4554E15A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87887-A655-4AD6-9623-D2F0D0A88A9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02F16-2757-4C66-A84A-F73AEE32AE9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F1A206-CCF7-454B-9F8B-805A5C71117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90691-5713-4E9C-8BE2-4E0E10B1616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54E53B-B9C7-4532-8D35-80EA05E8550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CB5FF-1DDF-4EE8-83D6-CB5B7F1A5F4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0B4A80-87D4-413F-ACCC-77A4DC6DB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0F64-0F7E-40BE-A863-B7E131F1A5D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D9823-5B9F-4C29-9449-A8FDB1614B9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C0ABC-A749-4B52-AC0D-6B3FB7F2B7C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127162-97E0-44BB-8797-E80746B5466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0F117-77A1-4AB6-B309-CB286BDF791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F7C6D1-34B5-49EE-9688-28BE52DE1F0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ADCA3-7F55-415D-8F0A-B0B7D0C6D18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61888-84FF-48A5-8D44-4FF002F88E8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EE4429-29D4-4036-B55A-63B6B12E900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08117C-5A2D-4A20-B147-85C87D6EFC9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7BB56E-52EB-4AFC-832D-8D42CC205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E599-8DE3-4F51-AEEB-44C18C6A636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B7732-8DCE-4EC9-80B3-0E90FF2ABC6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98FC2-6DB6-43E0-BCEA-4E21F042D60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1314B-71A6-4475-8612-EE814616F5A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524F0-7E55-4E5F-A593-90F14F49F6E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92AAA-8D4E-4F25-AFA6-7579FA29757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D8EB5-4188-4694-9890-4FC3CFAD9E6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4E6FE-9D3E-4CCC-B682-A2DF1D712E5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A51A0-23BF-49D7-8F01-E48223DC1F0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2079D-13D8-4C53-A3B6-B781CFF7278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7A71F-3ABD-4B79-AED2-C45C7A354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C5E9-3051-4DC3-90FC-CA9DDA91ECF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19206-C097-4B92-AA24-AA9B180B46F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AF488-7C51-4C19-B6FE-4F43FB93A56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F37F2-DFBA-4279-A69C-963F6263435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0E3E93-FE22-4580-A8CB-32B10ED97AF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8C78A1-46C3-4DEE-A196-9F10FADA30E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90C9A6-04B4-4327-A24E-667D7D5AA79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84A1A4-2D69-4637-8569-C1AADF105A7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7A3EFA-7A4D-43E3-8175-39B2D6C6144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8AAE62-5B5F-4249-BF69-DD214322A5D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2CB38C-B687-4CB3-82F5-C36199D3A8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75C-C3DD-4F9D-BA18-8828E8C7FF3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A6A5D0-B854-418D-94C6-97BFE465A9E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A9A8CA-44C6-4618-9499-29FFDA3E26F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754CDF-4694-43C7-8DA2-CA2A7C7DAE2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A6F031-BFB1-43CA-B39A-BA02D818491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CBE565-1F09-4EC9-9BAF-41594878950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BCF41-6112-4596-B4B7-0A0EA5665E3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99DE74-24AB-4949-A556-55F9D940250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ECEAE-067B-45D3-B421-4ACC3BAF54E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342A4-2931-4689-BACF-F5558534A7E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C10B7-DC9B-4882-ACAA-9D3A49FCED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4D5-7E72-4A59-9A68-025587601FA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A6596-6C73-48AF-A4D2-EC81069E6F0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37168D-76BE-4F2A-9B16-53C57AC751D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3CA51-2666-4052-8F3F-A0FDCC31310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052E2-46C0-4CE7-9CD9-F8F0941543D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BCECD-D6E0-48DD-BD50-1EEF6E02977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9813E-61DC-411B-B249-D36A4A9B5D7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E2B1D-4625-4F0B-BF07-DF657C3824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A00-004C-4B4E-AF6B-F1EBAFCFD8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19D-C20A-4409-A754-1756357618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4EF-06F4-45A8-BCD4-A401EBBEC5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0EE2-94C9-498C-97CC-690D26654C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AF01D-834C-4731-9284-7B5F5B308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C05-3FBE-4D36-8660-13132CA7FA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892-373C-430D-99E7-2A286F7DAD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BD2-6232-4F64-B2BA-C0817BBC8B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16A-C2F3-4DF8-9A12-670A78DFAB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23B7-1AFE-4D58-86DF-55447FA8D7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F1EE4-5087-4AFB-9133-764EC18E5C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C5049-13E9-41F9-9869-1508FA922D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87643-3B83-4F41-BC2C-630B601704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0FCD4-27AF-4F25-844C-EDE04CC855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4ADEA-1D5F-4E42-A290-A16624C82A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83E8-B54E-47E3-B241-AD6A2A40F6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A1F1F-FC02-46C8-BAF7-7028C5BEE6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C2F3F-5568-4A3D-9034-1CE5BA6BFC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6BBFF-9258-4509-B539-32B28ACC30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57CE1-8373-47D0-8EDE-ECAA140A38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5331E-7B27-4248-9705-A71616D694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8F6E1-9016-4589-A083-31EC59FD7A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5CE0D-48D6-46D3-B090-093B879D19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16B92-E568-41A6-9B14-82F3E700DE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2D342-4AAB-4342-A99F-58FE0EE3B1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B8E32-4707-4D87-A88F-FBCF9BAFD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56A0-AB90-42F0-A7AC-5610F59BB8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543FF-FE1D-4A7C-9B4A-4FC2176C0C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38469-B686-464D-962B-664715B092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714EC-DAAA-4FEB-B929-7A8687418F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9A58C-AA97-4BDC-8387-5AE18A3BCA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D5C8F-17AF-4665-A6ED-F72DFC3B6A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60630-9EE0-434E-9274-DC9AC708F1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35253-FAB8-4F4F-9FCA-60751AF2E1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EFE1E-046A-45D3-B503-E1A6F79BAD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B8677-F10D-423C-8852-F84E83F5D34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6F08-506B-434F-B8E4-D2D68C297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5D8D-B831-43BF-9A7A-8197C242DEE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646C-6125-4916-BC99-2C1E19D2B9E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B0F4-4C60-4569-9D50-B0AD0865F8F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98E7-D6DB-44FD-ABF6-5818DE4900C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6440-A383-44AE-B363-8888AE59013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530B-58C8-4C36-8072-13E5D541548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FFD8-573F-4117-A819-9A153C4AEFC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E95D-5193-4FAD-BDA4-BF0D54BD7D2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9BC7-C7B6-4FD1-AAF8-683CF103504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1217-92CD-4099-9528-553A16B3723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17F7-40B4-4746-8F7F-8FE0223F9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7EC7-E00E-4FAD-9559-3DF4BFEFADC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54A5-67E1-454E-B940-4F5252560AE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3984B2-ED03-445F-819A-22EBDF5EAE4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C0D29B-FAAF-467C-BC3E-F3EDD23C27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45B1DA-D3EF-4903-8757-E8FED74803D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D8BB0B-73E8-42F7-B245-CAA521DAED2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1F1402-3E0B-4BF5-BD9C-A13CEA40964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C1DE79-56A6-4897-903F-EFFB9C6A94D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5DA1D6-7E80-4250-B611-11590816090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CA76F8-C936-42B6-B9AE-05B28E78918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3F5272-7851-41C7-8D7D-DEF46FE0C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B79A9-D5DF-4994-9541-59A84B74450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8E2516-DD63-4B6B-99E8-3DED61A67AD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64C177-3CF1-41A1-AC11-AA208E2C30E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7FE216-DC83-499F-B59B-36CE885AA23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EBAC2-29F3-4205-B518-9020B2E24F3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5E9C7-05CF-4E01-B351-CCF2A8172C3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0C6E3-8BBB-417D-88BF-914EBE635AC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0E84A-0E8E-49CB-96E2-28E7C6B09B3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8D717-EB66-4409-979A-A893F5A4596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85DF7-9129-4BD3-97EE-D83D863CD22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B7F12-6D10-4098-9BC8-EF328481D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6070-3E3B-4E69-9758-45D9326EEF3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C22B6-9D61-4FA0-9CC4-4B14DC5D8F6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13BC6-11E4-4ABF-AA2A-C7D78F8B336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12641-CEAC-41A1-8DD6-04CF40816A2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CDE95-A895-4AE9-BF5A-8FCB4F75872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075BE-CA75-409C-AEBD-8C18305CFEE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25381-5FE9-4810-A615-814E235C200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1F16F-82D5-4FC3-9E83-BFE276BE74F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160F1-C764-4D31-857B-7096F209317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6CD74-7DDC-4F5E-BBB8-9461454974C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04197-B6AB-4678-A25B-99B277C93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39907-EC0D-45EF-81D0-C77C1B2005A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A3813-BE78-4494-83A7-22866FF5241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19E6-B16E-48C4-BC7C-22778A44E2D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597D1-47A0-46C5-8FF2-ECE66FCE3CE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AA16D-6778-488B-9960-502EBBFE550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DEF3-E4CC-4EE3-8D8C-326A46F5562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C5476-9DC6-42D3-9642-75BAF0FD9D3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ECF38-0C32-403F-AC7D-305CBE45473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8D1ABC-F364-4797-9F26-4C324A384DD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7A66DC-ECCD-4D35-B66E-EAC13BFB444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CF013F-35E3-4254-8AA4-1F87DD3E6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99640" y="6453360"/>
            <a:ext cx="77504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D8AD-A723-4DD6-B0FF-1F746AC98C7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5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382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Num" idx="11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A9D8-B9E4-4D07-9D44-1D9222FAAEF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424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Num" idx="1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1F95-944C-40CF-A9A9-558DF17EE4C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466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ldNum" idx="13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FB1D-1136-468F-868D-1AA6F971B1CE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508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ldNum" idx="1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A451-3726-4C68-8458-3CC078EF2B9A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45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3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2038-C1C2-49BF-A12B-1BD7BB2F7790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88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3D6A-29BC-489D-A84B-754EE97E167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130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Num" idx="5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F149-8C3F-4361-8401-3F9DC425882B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172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Num" idx="6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FB36-ACE3-475F-BD55-1A2B3E4379D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214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Num" idx="7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9233-8A20-491E-B08B-4B5DB802B58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256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Num" idx="8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1F8A-7224-41AD-890C-AB59188EF78A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298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Num" idx="9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8006-614D-470A-B956-229C0D0A4A6A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340" name="Textfeld 2"/>
          <p:cNvSpPr/>
          <p:nvPr/>
        </p:nvSpPr>
        <p:spPr>
          <a:xfrm>
            <a:off x="5275440" y="3794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1555920"/>
            <a:ext cx="9144000" cy="48891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Num" idx="10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5826-B3DB-457F-9F4E-9F05172BE9B3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25560" y="1390680"/>
            <a:ext cx="9144000" cy="50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NRW_Guillochen_PowerPoint-Titel"/>
          <p:cNvPicPr/>
          <p:nvPr/>
        </p:nvPicPr>
        <p:blipFill>
          <a:blip r:embed="rId1"/>
          <a:stretch/>
        </p:blipFill>
        <p:spPr>
          <a:xfrm>
            <a:off x="11160" y="301932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68400" y="2846520"/>
            <a:ext cx="89899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Neue Kernlehrpläne fü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das Abendgymnasium und Kol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Kernlehrplan Erziehungswissensc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eck 1"/>
          <p:cNvSpPr/>
          <p:nvPr/>
        </p:nvSpPr>
        <p:spPr>
          <a:xfrm>
            <a:off x="2286000" y="113976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2060"/>
                </a:solidFill>
                <a:latin typeface="Arial-BoldMT"/>
              </a:rPr>
              <a:t>HERZLICH WILLKOM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9014-3458-41FB-B42F-9F32C4BABA7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AC2C-924D-448C-8B7F-6F583505921F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254160" y="1446120"/>
            <a:ext cx="864216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99960" indent="-3999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Merk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ndardorientiert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greifen die Bildungsstandards vollständig auf bzw. definieren Standards (zu erreichende Zie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orientier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tehen aus fachbezogenen Kompetenzerwartu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utputorientier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die erwarteten Lernergebni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bindlich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eine landesweit verbindliche Obligatorik; sie formulieren klare Ergebniserwartungen und keine Wahlmöglichkei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didaktisiert“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äne beschränken sich auf die Formulierung der zu erreichenden Ergebnisse und treffen keine Aussagen zu Wegen und Verfahren der Zielerreichung. Didaktische Entscheidungen werden in den Schulen – u.a. bei der Erstellung des schulinternen Lehrplans – getroff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feld 5"/>
          <p:cNvSpPr/>
          <p:nvPr/>
        </p:nvSpPr>
        <p:spPr>
          <a:xfrm>
            <a:off x="3195720" y="984240"/>
            <a:ext cx="55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E86B-DC41-400B-ADAB-3E92C5DC376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E594-AB8B-4019-ADF7-1C7EEBEF9AA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2320" y="1814400"/>
            <a:ext cx="8064360" cy="27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e2001a"/>
                </a:solidFill>
                <a:latin typeface="Arial-BoldMT"/>
              </a:rPr>
              <a:t>II. Schulinterne Lehrpläne:</a:t>
            </a:r>
            <a:br>
              <a:rPr sz="2800"/>
            </a:br>
            <a:r>
              <a:rPr b="1" lang="de-DE" sz="2800" spc="-1" strike="noStrike">
                <a:solidFill>
                  <a:srgbClr val="e2001a"/>
                </a:solidFill>
                <a:latin typeface="Arial-BoldMT"/>
              </a:rPr>
              <a:t>Konstrukt, Struktur und zentrale Elemente</a:t>
            </a:r>
            <a:br>
              <a:rPr sz="2800"/>
            </a:br>
            <a:r>
              <a:rPr b="1" lang="de-DE" sz="2800" spc="-1" strike="noStrike">
                <a:solidFill>
                  <a:srgbClr val="e2001a"/>
                </a:solidFill>
                <a:latin typeface="Arial-BoldMT"/>
              </a:rPr>
              <a:t>(Unterstützungsmaterialien zur Kernlehrplanimplementation, das Lehrplaninformationssystem „Lehrplannavigator“)</a:t>
            </a: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A217-710E-4904-AE52-06CA54E107D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536400" y="1428840"/>
            <a:ext cx="820116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Aufgabe schulinterner Lehrpläne: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die verbindlichen Vorgaben der Kernlehrpläne auf die Situation der Schule bezogen konkretisieren und Freiräume ausgesta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ulG § 29 - Unterrichtsvor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)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steriu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rlässt in der Regel schulformspezifische Vor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den Unterricht (Richtlinien, Rahmenvorgaben, Lehrpläne). Diese legen insbesondere die Ziele und Inhalte für die Bildungsgänge, Unterrichtsfächer und Lernbereiche fest und bestimmen 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warteten Lernergebnis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ildungsstandard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2) 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u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timmen auf der Grundlage der Unterrichtsvorgaben nach Absatz 1 in Verbindung mit ihrem Schulprogramm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schuleigene Unterrichtsvor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3) Unterrichtsvorgaben nach den Absätzen 1 und 2 sind so zu fa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s für die Lehrerinnen und Lehrer ei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pädagogischer Gestaltungsspielraum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leib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feld 6"/>
          <p:cNvSpPr/>
          <p:nvPr/>
        </p:nvSpPr>
        <p:spPr>
          <a:xfrm>
            <a:off x="3467160" y="104472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Schulinterne 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2800-CD8E-4D7E-994D-78A4C06DD20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3C68-3730-4E20-84E5-3273A92A00D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7"/>
          <p:cNvSpPr/>
          <p:nvPr/>
        </p:nvSpPr>
        <p:spPr>
          <a:xfrm>
            <a:off x="5327640" y="0"/>
            <a:ext cx="381636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2"/>
          <p:cNvGrpSpPr/>
          <p:nvPr/>
        </p:nvGrpSpPr>
        <p:grpSpPr>
          <a:xfrm>
            <a:off x="5473800" y="777960"/>
            <a:ext cx="3051000" cy="2890800"/>
            <a:chOff x="5473800" y="777960"/>
            <a:chExt cx="3051000" cy="2890800"/>
          </a:xfrm>
        </p:grpSpPr>
        <p:sp>
          <p:nvSpPr>
            <p:cNvPr id="625" name="Document"/>
            <p:cNvSpPr/>
            <p:nvPr/>
          </p:nvSpPr>
          <p:spPr>
            <a:xfrm>
              <a:off x="5473800" y="777960"/>
              <a:ext cx="2928960" cy="26859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</a:rPr>
                <a:t>Schulintern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</a:rPr>
                <a:t>Lehrplan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 HTML-Form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4"/>
            <p:cNvSpPr/>
            <p:nvPr/>
          </p:nvSpPr>
          <p:spPr>
            <a:xfrm>
              <a:off x="5673600" y="1758960"/>
              <a:ext cx="28512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Vorgabe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rundmuster,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estandteile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 Konstruktionshinweise, „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lgorithme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usterbeispiel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eines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schulinternen Fachlehrplans 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und einer Jahrgangspartit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5"/>
          <p:cNvGrpSpPr/>
          <p:nvPr/>
        </p:nvGrpSpPr>
        <p:grpSpPr>
          <a:xfrm>
            <a:off x="2771640" y="733320"/>
            <a:ext cx="3029040" cy="2914560"/>
            <a:chOff x="2771640" y="733320"/>
            <a:chExt cx="3029040" cy="2914560"/>
          </a:xfrm>
        </p:grpSpPr>
        <p:sp>
          <p:nvSpPr>
            <p:cNvPr id="628" name="Document"/>
            <p:cNvSpPr/>
            <p:nvPr/>
          </p:nvSpPr>
          <p:spPr>
            <a:xfrm>
              <a:off x="2771640" y="733320"/>
              <a:ext cx="2895840" cy="29145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</a:rPr>
                <a:t>Kernlehrpla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TML-Form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"/>
            <p:cNvSpPr/>
            <p:nvPr/>
          </p:nvSpPr>
          <p:spPr>
            <a:xfrm>
              <a:off x="2847960" y="1876320"/>
              <a:ext cx="2581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erbindliche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ompetenz-erwartunge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am Ende bestimmter Phasen des Bildungsgan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8"/>
            <p:cNvSpPr/>
            <p:nvPr/>
          </p:nvSpPr>
          <p:spPr>
            <a:xfrm>
              <a:off x="3390840" y="3066840"/>
              <a:ext cx="2409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bligatorische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haltliche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Schwerpunk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9"/>
          <p:cNvGrpSpPr/>
          <p:nvPr/>
        </p:nvGrpSpPr>
        <p:grpSpPr>
          <a:xfrm>
            <a:off x="1865160" y="1216080"/>
            <a:ext cx="4267080" cy="2276280"/>
            <a:chOff x="1865160" y="1216080"/>
            <a:chExt cx="4267080" cy="2276280"/>
          </a:xfrm>
        </p:grpSpPr>
        <p:sp>
          <p:nvSpPr>
            <p:cNvPr id="632" name="Line 10"/>
            <p:cNvSpPr/>
            <p:nvPr/>
          </p:nvSpPr>
          <p:spPr>
            <a:xfrm>
              <a:off x="5170320" y="1257480"/>
              <a:ext cx="961920" cy="9360"/>
            </a:xfrm>
            <a:prstGeom prst="line">
              <a:avLst/>
            </a:prstGeom>
            <a:ln w="4140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1"/>
            <p:cNvSpPr/>
            <p:nvPr/>
          </p:nvSpPr>
          <p:spPr>
            <a:xfrm>
              <a:off x="1871640" y="1216080"/>
              <a:ext cx="9360" cy="2276280"/>
            </a:xfrm>
            <a:prstGeom prst="line">
              <a:avLst/>
            </a:prstGeom>
            <a:ln w="4140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2"/>
            <p:cNvSpPr/>
            <p:nvPr/>
          </p:nvSpPr>
          <p:spPr>
            <a:xfrm>
              <a:off x="1865160" y="1228680"/>
              <a:ext cx="1628640" cy="0"/>
            </a:xfrm>
            <a:prstGeom prst="line">
              <a:avLst/>
            </a:prstGeom>
            <a:ln w="41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14"/>
          <p:cNvGrpSpPr/>
          <p:nvPr/>
        </p:nvGrpSpPr>
        <p:grpSpPr>
          <a:xfrm>
            <a:off x="0" y="3666960"/>
            <a:ext cx="8991720" cy="2457720"/>
            <a:chOff x="0" y="3666960"/>
            <a:chExt cx="8991720" cy="2457720"/>
          </a:xfrm>
        </p:grpSpPr>
        <p:sp>
          <p:nvSpPr>
            <p:cNvPr id="636" name="File"/>
            <p:cNvSpPr/>
            <p:nvPr/>
          </p:nvSpPr>
          <p:spPr>
            <a:xfrm>
              <a:off x="86040" y="3695760"/>
              <a:ext cx="8905680" cy="2428920"/>
            </a:xfrm>
            <a:custGeom>
              <a:avLst/>
              <a:gdLst>
                <a:gd name="textAreaLeft" fmla="*/ 447480 w 8905680"/>
                <a:gd name="textAreaRight" fmla="*/ 8507520 w 8905680"/>
                <a:gd name="textAreaTop" fmla="*/ 520560 h 2428920"/>
                <a:gd name="textAreaBottom" fmla="*/ 228132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90" y="3240"/>
                  </a:moveTo>
                  <a:cubicBezTo>
                    <a:pt x="10981" y="3240"/>
                    <a:pt x="9171" y="3240"/>
                    <a:pt x="9050" y="3086"/>
                  </a:cubicBezTo>
                  <a:cubicBezTo>
                    <a:pt x="9050" y="2931"/>
                    <a:pt x="8930" y="2777"/>
                    <a:pt x="8930" y="2469"/>
                  </a:cubicBezTo>
                  <a:cubicBezTo>
                    <a:pt x="8930" y="2160"/>
                    <a:pt x="8809" y="1851"/>
                    <a:pt x="8688" y="1389"/>
                  </a:cubicBezTo>
                  <a:cubicBezTo>
                    <a:pt x="8568" y="1080"/>
                    <a:pt x="8326" y="771"/>
                    <a:pt x="8085" y="463"/>
                  </a:cubicBezTo>
                  <a:cubicBezTo>
                    <a:pt x="7723" y="154"/>
                    <a:pt x="7361" y="0"/>
                    <a:pt x="7361" y="0"/>
                  </a:cubicBezTo>
                  <a:cubicBezTo>
                    <a:pt x="7361" y="0"/>
                    <a:pt x="2293" y="0"/>
                    <a:pt x="2051" y="154"/>
                  </a:cubicBezTo>
                  <a:cubicBezTo>
                    <a:pt x="1689" y="309"/>
                    <a:pt x="1448" y="463"/>
                    <a:pt x="1327" y="771"/>
                  </a:cubicBezTo>
                  <a:cubicBezTo>
                    <a:pt x="1207" y="1080"/>
                    <a:pt x="1086" y="1389"/>
                    <a:pt x="965" y="1697"/>
                  </a:cubicBezTo>
                  <a:cubicBezTo>
                    <a:pt x="845" y="2160"/>
                    <a:pt x="724" y="2314"/>
                    <a:pt x="724" y="2469"/>
                  </a:cubicBezTo>
                  <a:cubicBezTo>
                    <a:pt x="603" y="2623"/>
                    <a:pt x="603" y="2777"/>
                    <a:pt x="483" y="2931"/>
                  </a:cubicBezTo>
                  <a:cubicBezTo>
                    <a:pt x="483" y="3086"/>
                    <a:pt x="362" y="3240"/>
                    <a:pt x="241" y="3240"/>
                  </a:cubicBezTo>
                  <a:lnTo>
                    <a:pt x="0" y="3394"/>
                  </a:lnTo>
                  <a:lnTo>
                    <a:pt x="0" y="3703"/>
                  </a:lnTo>
                  <a:lnTo>
                    <a:pt x="0" y="10800"/>
                  </a:lnTo>
                  <a:lnTo>
                    <a:pt x="0" y="21600"/>
                  </a:lnTo>
                  <a:lnTo>
                    <a:pt x="10981" y="21600"/>
                  </a:lnTo>
                  <a:lnTo>
                    <a:pt x="21600" y="21600"/>
                  </a:lnTo>
                  <a:lnTo>
                    <a:pt x="21600" y="10800"/>
                  </a:lnTo>
                  <a:lnTo>
                    <a:pt x="21600" y="5246"/>
                  </a:lnTo>
                  <a:lnTo>
                    <a:pt x="21600" y="4783"/>
                  </a:lnTo>
                  <a:cubicBezTo>
                    <a:pt x="21479" y="4320"/>
                    <a:pt x="21359" y="4011"/>
                    <a:pt x="21117" y="3703"/>
                  </a:cubicBezTo>
                  <a:cubicBezTo>
                    <a:pt x="20876" y="3549"/>
                    <a:pt x="20514" y="3394"/>
                    <a:pt x="20152" y="3240"/>
                  </a:cubicBezTo>
                  <a:lnTo>
                    <a:pt x="19790" y="324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Group 16"/>
            <p:cNvGrpSpPr/>
            <p:nvPr/>
          </p:nvGrpSpPr>
          <p:grpSpPr>
            <a:xfrm>
              <a:off x="0" y="3666960"/>
              <a:ext cx="8909280" cy="2311560"/>
              <a:chOff x="0" y="3666960"/>
              <a:chExt cx="8909280" cy="2311560"/>
            </a:xfrm>
          </p:grpSpPr>
          <p:sp>
            <p:nvSpPr>
              <p:cNvPr id="638" name="Text Box 17"/>
              <p:cNvSpPr/>
              <p:nvPr/>
            </p:nvSpPr>
            <p:spPr>
              <a:xfrm>
                <a:off x="1095480" y="3666960"/>
                <a:ext cx="14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99"/>
                    </a:solidFill>
                    <a:latin typeface="Arial"/>
                  </a:rPr>
                  <a:t>Datenban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9" name="Group 18"/>
              <p:cNvGrpSpPr/>
              <p:nvPr/>
            </p:nvGrpSpPr>
            <p:grpSpPr>
              <a:xfrm>
                <a:off x="7442280" y="4137120"/>
                <a:ext cx="1467000" cy="1809720"/>
                <a:chOff x="7442280" y="4137120"/>
                <a:chExt cx="1467000" cy="1809720"/>
              </a:xfrm>
            </p:grpSpPr>
            <p:sp>
              <p:nvSpPr>
                <p:cNvPr id="640" name="Documents"/>
                <p:cNvSpPr/>
                <p:nvPr/>
              </p:nvSpPr>
              <p:spPr>
                <a:xfrm>
                  <a:off x="7452000" y="413712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20"/>
                <p:cNvSpPr/>
                <p:nvPr/>
              </p:nvSpPr>
              <p:spPr>
                <a:xfrm>
                  <a:off x="7442280" y="4365720"/>
                  <a:ext cx="144792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Hintergrund-materialien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, „Tools“,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Unterstützungs-materia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Documents"/>
              <p:cNvSpPr/>
              <p:nvPr/>
            </p:nvSpPr>
            <p:spPr>
              <a:xfrm>
                <a:off x="6016680" y="4168800"/>
                <a:ext cx="1457280" cy="1809720"/>
              </a:xfrm>
              <a:custGeom>
                <a:avLst/>
                <a:gdLst>
                  <a:gd name="textAreaLeft" fmla="*/ 110880 w 1457280"/>
                  <a:gd name="textAreaRight" fmla="*/ 1114560 w 1457280"/>
                  <a:gd name="textAreaTop" fmla="*/ 349200 h 1809720"/>
                  <a:gd name="textAreaBottom" fmla="*/ 1451160 h 180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8014"/>
                    </a:moveTo>
                    <a:lnTo>
                      <a:pt x="0" y="2800"/>
                    </a:lnTo>
                    <a:lnTo>
                      <a:pt x="1645" y="2800"/>
                    </a:lnTo>
                    <a:lnTo>
                      <a:pt x="1645" y="1428"/>
                    </a:lnTo>
                    <a:lnTo>
                      <a:pt x="3468" y="1428"/>
                    </a:lnTo>
                    <a:lnTo>
                      <a:pt x="3468" y="0"/>
                    </a:lnTo>
                    <a:lnTo>
                      <a:pt x="21653" y="0"/>
                    </a:lnTo>
                    <a:lnTo>
                      <a:pt x="21653" y="18828"/>
                    </a:lnTo>
                    <a:lnTo>
                      <a:pt x="19954" y="18828"/>
                    </a:lnTo>
                    <a:lnTo>
                      <a:pt x="19954" y="20214"/>
                    </a:lnTo>
                    <a:lnTo>
                      <a:pt x="18256" y="20214"/>
                    </a:lnTo>
                    <a:lnTo>
                      <a:pt x="18256" y="21600"/>
                    </a:lnTo>
                    <a:lnTo>
                      <a:pt x="4434" y="21600"/>
                    </a:lnTo>
                    <a:lnTo>
                      <a:pt x="0" y="18014"/>
                    </a:lnTo>
                    <a:close/>
                  </a:path>
                  <a:path w="21600" h="21600">
                    <a:moveTo>
                      <a:pt x="3486" y="1428"/>
                    </a:moveTo>
                    <a:lnTo>
                      <a:pt x="19954" y="1428"/>
                    </a:lnTo>
                    <a:lnTo>
                      <a:pt x="19954" y="20214"/>
                    </a:lnTo>
                    <a:lnTo>
                      <a:pt x="18256" y="20214"/>
                    </a:lnTo>
                    <a:lnTo>
                      <a:pt x="18256" y="2800"/>
                    </a:lnTo>
                    <a:lnTo>
                      <a:pt x="1645" y="2800"/>
                    </a:lnTo>
                    <a:lnTo>
                      <a:pt x="1645" y="1428"/>
                    </a:lnTo>
                    <a:lnTo>
                      <a:pt x="3486" y="1428"/>
                    </a:lnTo>
                    <a:close/>
                  </a:path>
                  <a:path w="21600" h="21600">
                    <a:moveTo>
                      <a:pt x="0" y="18014"/>
                    </a:moveTo>
                    <a:lnTo>
                      <a:pt x="4434" y="18000"/>
                    </a:lnTo>
                    <a:lnTo>
                      <a:pt x="4434" y="21600"/>
                    </a:lnTo>
                    <a:lnTo>
                      <a:pt x="0" y="18014"/>
                    </a:lnTo>
                    <a:close/>
                  </a:path>
                </a:pathLst>
              </a:cu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Group 22"/>
              <p:cNvGrpSpPr/>
              <p:nvPr/>
            </p:nvGrpSpPr>
            <p:grpSpPr>
              <a:xfrm>
                <a:off x="4499280" y="4156200"/>
                <a:ext cx="1476360" cy="1809720"/>
                <a:chOff x="4499280" y="4156200"/>
                <a:chExt cx="1476360" cy="1809720"/>
              </a:xfrm>
            </p:grpSpPr>
            <p:sp>
              <p:nvSpPr>
                <p:cNvPr id="644" name="Documents"/>
                <p:cNvSpPr/>
                <p:nvPr/>
              </p:nvSpPr>
              <p:spPr>
                <a:xfrm>
                  <a:off x="4518360" y="415620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24"/>
                <p:cNvSpPr/>
                <p:nvPr/>
              </p:nvSpPr>
              <p:spPr>
                <a:xfrm>
                  <a:off x="4499280" y="4384800"/>
                  <a:ext cx="1371600" cy="11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Diagnose-bögen</a:t>
                  </a:r>
                  <a:br>
                    <a:rPr sz="14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und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Evaluations-instrum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Group 25"/>
              <p:cNvGrpSpPr/>
              <p:nvPr/>
            </p:nvGrpSpPr>
            <p:grpSpPr>
              <a:xfrm>
                <a:off x="2975040" y="4156200"/>
                <a:ext cx="1533600" cy="1809720"/>
                <a:chOff x="2975040" y="4156200"/>
                <a:chExt cx="1533600" cy="1809720"/>
              </a:xfrm>
            </p:grpSpPr>
            <p:sp>
              <p:nvSpPr>
                <p:cNvPr id="647" name="Documents"/>
                <p:cNvSpPr/>
                <p:nvPr/>
              </p:nvSpPr>
              <p:spPr>
                <a:xfrm>
                  <a:off x="3051360" y="415620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27"/>
                <p:cNvSpPr/>
                <p:nvPr/>
              </p:nvSpPr>
              <p:spPr>
                <a:xfrm>
                  <a:off x="2975040" y="4384800"/>
                  <a:ext cx="1381320" cy="14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schülerver-ständliche Ausformulie-rungen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br>
                    <a:rPr sz="14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von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Kompetenz-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     erwartun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Group 28"/>
              <p:cNvGrpSpPr/>
              <p:nvPr/>
            </p:nvGrpSpPr>
            <p:grpSpPr>
              <a:xfrm>
                <a:off x="1587600" y="4149720"/>
                <a:ext cx="1457280" cy="1809720"/>
                <a:chOff x="1587600" y="4149720"/>
                <a:chExt cx="1457280" cy="1809720"/>
              </a:xfrm>
            </p:grpSpPr>
            <p:sp>
              <p:nvSpPr>
                <p:cNvPr id="650" name="Documents"/>
                <p:cNvSpPr/>
                <p:nvPr/>
              </p:nvSpPr>
              <p:spPr>
                <a:xfrm>
                  <a:off x="1587600" y="414972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30"/>
                <p:cNvSpPr/>
                <p:nvPr/>
              </p:nvSpPr>
              <p:spPr>
                <a:xfrm>
                  <a:off x="1616400" y="4378320"/>
                  <a:ext cx="1276200" cy="14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Unterrichts- und Lernarran-gements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br>
                    <a:rPr sz="14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zu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Kompetenz-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   erwartun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Group 31"/>
              <p:cNvGrpSpPr/>
              <p:nvPr/>
            </p:nvGrpSpPr>
            <p:grpSpPr>
              <a:xfrm>
                <a:off x="0" y="4152960"/>
                <a:ext cx="1571760" cy="1809720"/>
                <a:chOff x="0" y="4152960"/>
                <a:chExt cx="1571760" cy="1809720"/>
              </a:xfrm>
            </p:grpSpPr>
            <p:sp>
              <p:nvSpPr>
                <p:cNvPr id="653" name="Documents"/>
                <p:cNvSpPr/>
                <p:nvPr/>
              </p:nvSpPr>
              <p:spPr>
                <a:xfrm>
                  <a:off x="114120" y="4152960"/>
                  <a:ext cx="1457640" cy="1809720"/>
                </a:xfrm>
                <a:custGeom>
                  <a:avLst/>
                  <a:gdLst>
                    <a:gd name="textAreaLeft" fmla="*/ 110880 w 1457640"/>
                    <a:gd name="textAreaRight" fmla="*/ 1114920 w 145764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33"/>
                <p:cNvSpPr/>
                <p:nvPr/>
              </p:nvSpPr>
              <p:spPr>
                <a:xfrm>
                  <a:off x="0" y="4400640"/>
                  <a:ext cx="1467000" cy="148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Beispiel-aufgaben</a:t>
                  </a: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(Lernaufgaben / Testaufgaben) zu konkreten Kompetenz-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     erwartun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5" name="Text Box 34"/>
              <p:cNvSpPr/>
              <p:nvPr/>
            </p:nvSpPr>
            <p:spPr>
              <a:xfrm>
                <a:off x="5981760" y="4362480"/>
                <a:ext cx="135252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Konkretisie-rungen zum Schulinternen Lehrplan: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Beispiele zu Unterrichts-</a:t>
                </a:r>
                <a:br>
                  <a:rPr sz="1400"/>
                </a:b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     vorhab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6" name="Textfeld 37"/>
          <p:cNvSpPr/>
          <p:nvPr/>
        </p:nvSpPr>
        <p:spPr>
          <a:xfrm>
            <a:off x="3825720" y="7632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Unterstützungsangebot 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Lehrplannavig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feld 38"/>
          <p:cNvSpPr/>
          <p:nvPr/>
        </p:nvSpPr>
        <p:spPr>
          <a:xfrm>
            <a:off x="133200" y="6364440"/>
            <a:ext cx="818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060"/>
                </a:solidFill>
                <a:latin typeface="Arial"/>
              </a:rPr>
              <a:t>http://www.standardsicherung.schulministerium.nrw.de/lehrplaene/lehrplannavig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52"/>
          <p:cNvGrpSpPr/>
          <p:nvPr/>
        </p:nvGrpSpPr>
        <p:grpSpPr>
          <a:xfrm>
            <a:off x="2484000" y="1068480"/>
            <a:ext cx="4114800" cy="3345840"/>
            <a:chOff x="2484000" y="1068480"/>
            <a:chExt cx="4114800" cy="3345840"/>
          </a:xfrm>
        </p:grpSpPr>
        <p:sp>
          <p:nvSpPr>
            <p:cNvPr id="659" name="Line 38"/>
            <p:cNvSpPr/>
            <p:nvPr/>
          </p:nvSpPr>
          <p:spPr>
            <a:xfrm flipH="1">
              <a:off x="5076720" y="1068480"/>
              <a:ext cx="9050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39"/>
            <p:cNvGrpSpPr/>
            <p:nvPr/>
          </p:nvGrpSpPr>
          <p:grpSpPr>
            <a:xfrm>
              <a:off x="2484000" y="3395520"/>
              <a:ext cx="4114800" cy="1018800"/>
              <a:chOff x="2484000" y="3395520"/>
              <a:chExt cx="4114800" cy="1018800"/>
            </a:xfrm>
          </p:grpSpPr>
          <p:sp>
            <p:nvSpPr>
              <p:cNvPr id="661" name="Line 40"/>
              <p:cNvSpPr/>
              <p:nvPr/>
            </p:nvSpPr>
            <p:spPr>
              <a:xfrm flipH="1">
                <a:off x="6589080" y="3395520"/>
                <a:ext cx="9720" cy="10188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41"/>
              <p:cNvSpPr/>
              <p:nvPr/>
            </p:nvSpPr>
            <p:spPr>
              <a:xfrm flipH="1">
                <a:off x="2484000" y="3888720"/>
                <a:ext cx="409572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3" name="Group 53"/>
          <p:cNvGrpSpPr/>
          <p:nvPr/>
        </p:nvGrpSpPr>
        <p:grpSpPr>
          <a:xfrm>
            <a:off x="2266920" y="3538440"/>
            <a:ext cx="4851360" cy="325440"/>
            <a:chOff x="2266920" y="3538440"/>
            <a:chExt cx="4851360" cy="325440"/>
          </a:xfrm>
        </p:grpSpPr>
        <p:sp>
          <p:nvSpPr>
            <p:cNvPr id="664" name="Line 34"/>
            <p:cNvSpPr/>
            <p:nvPr/>
          </p:nvSpPr>
          <p:spPr>
            <a:xfrm flipV="1">
              <a:off x="4241880" y="3538440"/>
              <a:ext cx="0" cy="20016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35"/>
            <p:cNvSpPr/>
            <p:nvPr/>
          </p:nvSpPr>
          <p:spPr>
            <a:xfrm flipV="1">
              <a:off x="7093080" y="3538440"/>
              <a:ext cx="0" cy="20016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36"/>
            <p:cNvSpPr/>
            <p:nvPr/>
          </p:nvSpPr>
          <p:spPr>
            <a:xfrm flipH="1" flipV="1">
              <a:off x="2266920" y="3735000"/>
              <a:ext cx="4851360" cy="1908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37"/>
            <p:cNvSpPr/>
            <p:nvPr/>
          </p:nvSpPr>
          <p:spPr>
            <a:xfrm flipV="1">
              <a:off x="2268360" y="3754440"/>
              <a:ext cx="0" cy="10944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8C96-A160-466E-A564-E6276E59024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e2001a"/>
                </a:solidFill>
                <a:latin typeface="Arial-BoldMT"/>
              </a:rPr>
              <a:t>Der neue Kernlehrplan Erziehungswissenschaft im Überblick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7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FB61-6BFA-4065-8132-BE30B0F3DD4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68000" y="16840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Der neue Kernlehrplan Erziehungswissenschaft im Überblick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Inhaltsfelder: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1. Bildungs- und Erziehungsproze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2. Lernen und Erzieh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3. Entwicklung, Sozialisation und Erzieh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4. Identit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5. Werte, Normen und Ziele in Erziehung und Bild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6. Pädagogische Professionalisierung in verschiedenen Institution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Die IF 1-2 sind der EPH zugeordnet, die IF 3-6 der QPH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Eine Zuordnung zu Kurshalbjahren ist nicht zwingend vorgeschrieben; insbesondere in der QPH können die Kompetenzerwartungen der einzelnen IF anhand geeigneter Unterrichtsvorhaben </a:t>
            </a: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vernetzt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 bearbeitet werden.</a:t>
            </a: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7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B033-72AC-492C-B962-438B34D4593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0720" y="142200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Der neue Kernlehrplan Erziehungswissenschaft im Überblick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Exemplarische Konkretisierung eines Inhaltsfeldes: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6. Pädagogische Professionalisierung in verschiedenen Institutionen 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Inhaltliche Schwerpunkte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Institutionalisierung von Erzieh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Vielfalt und Wandelbarkeit pädagogischer Berufsfelder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Beschreibung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Die Auseinandersetzung mit diesem Inhaltsfeld ermöglicht den Studierenden exemplarische Einblicke in Vielfalt und Wandelbarkeit pädagogischer Berufsfelder und den organisatorischen Rahmen, in dem professionelles pädagogisches Handeln stattfindet. </a:t>
            </a: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Dieses Inhaltsfeld eignet sich zur Vernetzung mit anderen inhaltlichen Schwerpunkten.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7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7A25-81DC-4C39-A711-09CD04EA711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e2001a"/>
                </a:solidFill>
                <a:latin typeface="Arial-BoldMT"/>
              </a:rPr>
              <a:t>Vorschlag für eine Verteilung von Unterrichtsvorhaben:</a:t>
            </a:r>
            <a:br>
              <a:rPr sz="1600"/>
            </a:b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-BoldMT"/>
              </a:rPr>
              <a:t>EP:</a:t>
            </a:r>
            <a:br>
              <a:rPr sz="1600"/>
            </a:b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-BoldMT"/>
              </a:rPr>
              <a:t>UV I: „Alle reden über Erziehung – wir auch!“ Erziehung und Bildung im Spannungsfeld von Personalisation, Sozialisation und Enkulturation (IF 1)</a:t>
            </a:r>
            <a:br>
              <a:rPr sz="1400"/>
            </a:b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-BoldMT"/>
              </a:rPr>
              <a:t>UV II: „Erziehen ja, aber wie?“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-BoldMT"/>
              </a:rPr>
              <a:t>Erziehungsstile und Erziehungsziele im historischen und kulturellen Kontext (IF 1)</a:t>
            </a:r>
            <a:br>
              <a:rPr sz="1400"/>
            </a:b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-BoldMT"/>
              </a:rPr>
              <a:t>UV III: „Wie lernen wir? – Vom Nürnberger Trichter zum lebenslangen Lernen (IF 2)</a:t>
            </a:r>
            <a:endParaRPr b="1" lang="en-US" sz="1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76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D220-078D-48C5-8DB9-6FAF076F506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547200" y="1692360"/>
            <a:ext cx="3956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GK (Q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: „Freud und Leid in der kindlichen Entwicklung“ - Eine pädagogische Sicht auf Modelle psychosexueller und psychosozialer Entwicklung (Freud und Erikson) (IF 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I: „Hilf mir, es selbst zu tun“ – Die Pädagogik Maria Montessoris (IF 4, 5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II: „Wer bin ich und wer will ich sein?“ – Eine pädagogische Sicht auf interaktionistische Sozialisationsmodelle (Mead und Krappmann) (IF 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V: „Schwerstarbeit Erwachsenwerden“ – Das Modell der produktiven Realitätsverarbeitung nach Hurrelmann (IF 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V: „Ich schlage, also bin ich“ - Pädagogische Prä- und Interventionsmöglichkeiten bei Gewalt auf der Grundlage unterschiedlicher Erklärungs-ansätze (Heitmeyer; Rauchfleisch) (IF 3, 4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622400" y="1641600"/>
            <a:ext cx="39560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LK (Q 1) zusätzlic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II: „Waldorfpädagogik, eine Alternative in der heutigen Zeit?“ (IF 3, 4, 5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V: „Spielend Sprechen lernen“ - Förderung kindlicher Bildungsprozesse nach Gerd E. Schäfer (IF 3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VIII: „Niemand ist alleine schuld.“ – Analyse und pädagogische Förderung von Entwicklungsprozessen aus systemischer Sicht (Stierlin) (IF 3, 4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C6B9-A7F4-4F90-8102-E171BA6EAE0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514080" y="1778040"/>
            <a:ext cx="395604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GK (Q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:„Ich denke, also bin ich“ –  Das Modell kognitiver Entwicklung nach Piaget (IF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I: „Das tut man nicht!“ – Werteerziehung mit Blick auf das Modell moralischer Entwicklung nach Kohlberg (IF 3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II: „Schule beschäftigt alle“ -  Lernort, Arbeitsplatz, Politikum (IF 3, 4, 5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V: „Du bist nichts, dein Volk ist alles!“ - Erziehung im Nationalsozialismus (IF 3, 4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630320" y="1657080"/>
            <a:ext cx="39560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LK (Q 2): zusätz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V II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schlechtergerechte Perspektive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rnationale Vergleichsstudien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ulentwicklung und Qualitätssicher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7838-FED7-4D7C-9264-B59ED822C41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539280" y="1974600"/>
            <a:ext cx="844092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. Informationen zum Konzept und zur Gestaltung von kompetenzorientierten Kernlehrpl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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l – von der Stoff- zur Ergebnis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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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. Schulinterne Lehrpläne und Unterstützungsange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I. Der neue KLP Erziehungswissenschaft im Überb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V. Workshop-Phase zur Konkretisierung von Unterrichtsvor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522000" y="1397160"/>
            <a:ext cx="8064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6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DC03-2189-4C96-A439-EBE79E42339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e2001a"/>
                </a:solidFill>
                <a:latin typeface="Arial-BoldMT"/>
              </a:rPr>
              <a:t>Lernerfolgsüberprüfung, Leistungsbewertung und Abiturprüfung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8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4AED-29CA-4690-9927-F1FFF415437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42800" y="16412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Lernerfolgsüberprüfung und Leistungsbewertung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Überprüfungsformen: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Darstellungsaufgab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Analyseaufgab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Beurteilungsaufgab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Gestaltungs- bzw. Produktionsaufgab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Handlungsaufgabe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8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6207-11DC-4906-BA8D-FC2BBBB5223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0080" y="1709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Abiturprüfung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Aufgabentypen bzw. -kombinationen im Zentralabitur: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materialgebundene Aufgabe mit untergliederter Aufgabenstell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a) Kombinationen von Darstellungsaufgabe und Analyseaufgabe mi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    Beurteilungsaufgab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oder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b) Kombinationen von Darstellungsaufgabe und Analyseaufgabe mi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Gestaltungs- bzw. Produktionsaufgabe</a:t>
            </a:r>
            <a:br>
              <a:rPr sz="1800"/>
            </a:b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-BoldMT"/>
              </a:rPr>
              <a:t>(s. Kurzbeschreibung der Überprüfungsformen KLP, S. 40)</a:t>
            </a: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8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5A7F-C89B-4DA7-8548-A116ED1D9DB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4"/>
          <p:cNvSpPr/>
          <p:nvPr/>
        </p:nvSpPr>
        <p:spPr>
          <a:xfrm>
            <a:off x="-7920" y="1560600"/>
            <a:ext cx="9144000" cy="50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NRW_Guillochen_PowerPoint-Titel"/>
          <p:cNvPicPr/>
          <p:nvPr/>
        </p:nvPicPr>
        <p:blipFill>
          <a:blip r:embed="rId1"/>
          <a:stretch/>
        </p:blipFill>
        <p:spPr>
          <a:xfrm>
            <a:off x="11160" y="301932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3"/>
          <p:cNvSpPr/>
          <p:nvPr/>
        </p:nvSpPr>
        <p:spPr>
          <a:xfrm>
            <a:off x="68400" y="2846520"/>
            <a:ext cx="89899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2060"/>
                </a:solidFill>
                <a:latin typeface="Arial"/>
              </a:rPr>
              <a:t>Ihre Aufmerksamke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r freuen uns auf Ihre Frag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hteck 1"/>
          <p:cNvSpPr/>
          <p:nvPr/>
        </p:nvSpPr>
        <p:spPr>
          <a:xfrm>
            <a:off x="2286000" y="11397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2060"/>
                </a:solidFill>
                <a:latin typeface="Arial-BoldMT"/>
              </a:rPr>
              <a:t>HERZLIC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2060"/>
                </a:solidFill>
                <a:latin typeface="Arial-BoldMT"/>
              </a:rPr>
              <a:t>D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5074-FCD1-4A99-B047-6E43ABC7905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I. Informationen zum Konzept und zur Gestaltung von kompetenzorientierten Kernlehrplä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D056-B11C-44CA-8642-9859501B328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3E8F-6852-4CA2-B8C1-9EFD4A1292D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59C2-8659-4049-88CA-FC2D9354FC5D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1276200" y="1697040"/>
            <a:ext cx="640080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Von der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Input-Steuerung und „Stofforientie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 am Ende dieses Bildungsabschnitt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genom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und behandelt worden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z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Ergebnis- bzw. „Output-Steuerung“ und </a:t>
            </a:r>
            <a:br>
              <a:rPr sz="2000"/>
            </a:b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Kompetenz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en Studierende am Ende e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ldungsabschnit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ön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feld 7"/>
          <p:cNvSpPr/>
          <p:nvPr/>
        </p:nvSpPr>
        <p:spPr>
          <a:xfrm>
            <a:off x="4300560" y="10684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104E-B161-42C5-BCB2-21858EC2A84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EA5E-5237-4AF6-95A2-85FA9A1EA8A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8D61-CCA8-4CCB-BB2D-03CFDC1E98A5}" type="slidenum">
              <a:rPr b="0" lang="de-DE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457200" y="2271600"/>
            <a:ext cx="814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nennen individuelle fachspezifische Fähigkeiten und Fertigkeiten einer Person (keine reinen Unterrichtsinhal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1"/>
          <p:cNvSpPr/>
          <p:nvPr/>
        </p:nvSpPr>
        <p:spPr>
          <a:xfrm>
            <a:off x="514440" y="1811160"/>
            <a:ext cx="6791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2"/>
          <p:cNvSpPr/>
          <p:nvPr/>
        </p:nvSpPr>
        <p:spPr>
          <a:xfrm>
            <a:off x="457200" y="3057480"/>
            <a:ext cx="7910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rden in einem längeren Entwicklungsprozess erworben (sind nicht identisch mit Stundenzie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3"/>
          <p:cNvSpPr/>
          <p:nvPr/>
        </p:nvSpPr>
        <p:spPr>
          <a:xfrm>
            <a:off x="374760" y="3838680"/>
            <a:ext cx="8229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2606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nd Grundlage für das selbstständige Lösen von Problemen und für das Hervorbringen von Neu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4"/>
          <p:cNvSpPr/>
          <p:nvPr/>
        </p:nvSpPr>
        <p:spPr>
          <a:xfrm>
            <a:off x="374760" y="4676760"/>
            <a:ext cx="693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2606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nd stärkenorientiert (nicht defizitorienti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feld 15"/>
          <p:cNvSpPr/>
          <p:nvPr/>
        </p:nvSpPr>
        <p:spPr>
          <a:xfrm>
            <a:off x="4594320" y="96696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0756-2BED-4FAE-847C-2CBDA67A35C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8359-4637-4561-85F9-3D1F749F12B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1042920" y="1905120"/>
            <a:ext cx="7777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 Kompe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ollen bis zum Ende des Bildungsabschnitts entwickelt werden (KLP-Vorgabe, schulinterner Lehrplan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orauf konzentrieren wir uns zunäch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r Inhalt / welche Sache ist geeigne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um dieses Können (diese Kompetenzen) zu entwickeln? + In wel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wendungs- und Handlungssituati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ist die Kompetenz releva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 muss auf dieser Grundlage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werbs- bzw. Lernsitu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gestaltet sein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133200" y="1512720"/>
            <a:ext cx="89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(erwartungen) als Ausgangspunkt für die 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979640" y="5445000"/>
            <a:ext cx="5781600" cy="10083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„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Nach ___Stunden zum Thema ____ erwarte i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dass die Studierenden …, …, …, … und  … können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feld 8"/>
          <p:cNvSpPr/>
          <p:nvPr/>
        </p:nvSpPr>
        <p:spPr>
          <a:xfrm>
            <a:off x="4560840" y="105084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A3FC-DD0B-46F1-901F-76D5C7FE0D8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560" y="1290600"/>
            <a:ext cx="8064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</a:rPr>
              <a:t>  </a:t>
            </a:r>
            <a:r>
              <a:rPr b="1" lang="de-DE" sz="2400" spc="-1" strike="noStrike">
                <a:solidFill>
                  <a:srgbClr val="002060"/>
                </a:solidFill>
                <a:latin typeface="Arial-BoldMT"/>
              </a:rPr>
              <a:t>Struktur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88" name="Line 7"/>
          <p:cNvSpPr/>
          <p:nvPr/>
        </p:nvSpPr>
        <p:spPr>
          <a:xfrm>
            <a:off x="4427640" y="25653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348000" y="4581360"/>
            <a:ext cx="2286000" cy="486000"/>
          </a:xfrm>
          <a:prstGeom prst="rect">
            <a:avLst/>
          </a:prstGeom>
          <a:gradFill rotWithShape="0">
            <a:gsLst>
              <a:gs pos="0">
                <a:srgbClr val="ffcc00">
                  <a:alpha val="56078"/>
                </a:srgbClr>
              </a:gs>
              <a:gs pos="100000">
                <a:srgbClr val="cc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1042920" y="5392800"/>
            <a:ext cx="6819840" cy="9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 einer konkretisierten Urteilskompetenz zu IF 1: 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Studierenden </a:t>
            </a:r>
            <a:r>
              <a:rPr b="0" lang="de-DE" sz="1400" spc="-1" strike="noStrike">
                <a:solidFill>
                  <a:srgbClr val="ff9900"/>
                </a:solidFill>
                <a:latin typeface="Arial"/>
              </a:rPr>
              <a:t>beurteilen </a:t>
            </a:r>
            <a:r>
              <a:rPr b="0" lang="de-DE" sz="1400" spc="-1" strike="noStrike">
                <a:solidFill>
                  <a:srgbClr val="23ff76"/>
                </a:solidFill>
                <a:latin typeface="Arial"/>
              </a:rPr>
              <a:t>einfache Fallbeispiele zum pädagogischen Verhältnis hinsichtlich der Möglichkeiten, Grenzen und Folgen eines damit verbundenen Handel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1042920" y="3068640"/>
            <a:ext cx="2305080" cy="495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ompetenzberei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2340000" y="1773360"/>
            <a:ext cx="4176720" cy="792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Übergreifende fachliche Kompetenz (Kap.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(z.B. reflektierte pädagogische Kompetenz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"/>
          <p:cNvSpPr/>
          <p:nvPr/>
        </p:nvSpPr>
        <p:spPr>
          <a:xfrm flipH="1">
            <a:off x="2268000" y="2852640"/>
            <a:ext cx="216252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4427640" y="2852640"/>
            <a:ext cx="2232000" cy="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4"/>
          <p:cNvSpPr/>
          <p:nvPr/>
        </p:nvSpPr>
        <p:spPr>
          <a:xfrm>
            <a:off x="2268360" y="2852640"/>
            <a:ext cx="0" cy="2160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5"/>
          <p:cNvSpPr/>
          <p:nvPr/>
        </p:nvSpPr>
        <p:spPr>
          <a:xfrm flipH="1">
            <a:off x="6659280" y="2852640"/>
            <a:ext cx="11160" cy="216000"/>
          </a:xfrm>
          <a:prstGeom prst="line">
            <a:avLst/>
          </a:prstGeom>
          <a:ln w="255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6"/>
          <p:cNvSpPr/>
          <p:nvPr/>
        </p:nvSpPr>
        <p:spPr>
          <a:xfrm>
            <a:off x="2268360" y="3645000"/>
            <a:ext cx="0" cy="115236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7"/>
          <p:cNvSpPr/>
          <p:nvPr/>
        </p:nvSpPr>
        <p:spPr>
          <a:xfrm>
            <a:off x="6659640" y="3645000"/>
            <a:ext cx="0" cy="1152360"/>
          </a:xfrm>
          <a:prstGeom prst="line">
            <a:avLst/>
          </a:prstGeom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2268360" y="4797360"/>
            <a:ext cx="107964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9"/>
          <p:cNvSpPr/>
          <p:nvPr/>
        </p:nvSpPr>
        <p:spPr>
          <a:xfrm flipH="1">
            <a:off x="5651640" y="4797360"/>
            <a:ext cx="1008000" cy="0"/>
          </a:xfrm>
          <a:prstGeom prst="line">
            <a:avLst/>
          </a:prstGeom>
          <a:ln w="255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1"/>
          <p:cNvSpPr/>
          <p:nvPr/>
        </p:nvSpPr>
        <p:spPr>
          <a:xfrm>
            <a:off x="5508720" y="3068640"/>
            <a:ext cx="2286000" cy="49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Inhaltsfeld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feld 19"/>
          <p:cNvSpPr/>
          <p:nvPr/>
        </p:nvSpPr>
        <p:spPr>
          <a:xfrm>
            <a:off x="3238560" y="100188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7"/>
          <p:cNvSpPr/>
          <p:nvPr/>
        </p:nvSpPr>
        <p:spPr>
          <a:xfrm>
            <a:off x="4502160" y="50673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45FE-7BC0-41F2-9096-2C93E8D639D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064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-BoldMT"/>
                <a:ea typeface="ヒラギノ角ゴ Pro W3"/>
              </a:rPr>
              <a:t>Kompetenzorientierte Kernlehrplän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420840" y="1677960"/>
            <a:ext cx="85597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entrale Begriffe und Ebenen im Kernlehr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Kompetenzbereiche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ystematisieren die kognitiven Prozesse: Sach-, Methoden-, Urteils- und Handlungskompeten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Inhaltsfelder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ystematisieren die Gegenstände, sind nicht mit Unterrichtsvorhaben gleichzusetzen – Beispie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Bildungs- und Erziehungsproz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Lernen und Erzie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Inhaltliche Schwerpunkte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ind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Untergliederungselemente der Inhaltsfelder – Beispiele zu IF 2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bedürftigkeit und Lernfähigkeit des Men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theorien und ihre Implikationen für pädagogisches Hand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bststeuerung und Selbstverantwortlichkeit in Lernproz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buClr>
                <a:srgbClr val="ff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F503-7120-465B-88C5-B38CC281EC6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564840" y="1830240"/>
            <a:ext cx="806436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entrale Begriffe und Ebenen im Kernlehr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Übergeordnete Kompetenzerwartungen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: z.B. SK 3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beschreiben und erklären </a:t>
            </a:r>
            <a:r>
              <a:rPr b="0" lang="de-DE" sz="1600" spc="-1" strike="noStrike">
                <a:solidFill>
                  <a:srgbClr val="e2001a"/>
                </a:solidFill>
                <a:latin typeface="Arial"/>
              </a:rPr>
              <a:t>element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rziehungswissenschaftliche Phänomene (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beschreiben und erklären erziehungswissenschaftliche Phänomene (GK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rklären </a:t>
            </a:r>
            <a:r>
              <a:rPr b="0" lang="de-DE" sz="1600" spc="-1" strike="noStrike">
                <a:solidFill>
                  <a:srgbClr val="e2001a"/>
                </a:solidFill>
                <a:latin typeface="Arial"/>
              </a:rPr>
              <a:t>komplex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ziehungswissenschaftliche Phänomene (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Konkretisierte Kompetenzerwartungen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läutern Rolle und Gruppe als zentrale Aspekte von Sozialisation (GK und 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rklären die Bedeutung des Spiels im Kindes- und Jugendalter (nur 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95280" y="981000"/>
            <a:ext cx="80643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2E55-AF76-4D79-8B9A-B12FC0952BE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06:56:38Z</dcterms:created>
  <dc:creator>Musiol</dc:creator>
  <dc:description/>
  <dc:language>en-US</dc:language>
  <cp:lastModifiedBy>Ulrich, Andrea</cp:lastModifiedBy>
  <cp:lastPrinted>2013-05-14T13:09:49Z</cp:lastPrinted>
  <dcterms:modified xsi:type="dcterms:W3CDTF">2014-07-01T08:57:38Z</dcterms:modified>
  <cp:revision>471</cp:revision>
  <dc:subject/>
  <dc:title>Folie 1</dc:title>
</cp:coreProperties>
</file>