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5"/>
          </p:nvPr>
        </p:nvSpPr>
        <p:spPr>
          <a:xfrm>
            <a:off x="3882960" y="-360"/>
            <a:ext cx="29736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6"/>
          </p:nvPr>
        </p:nvSpPr>
        <p:spPr>
          <a:xfrm>
            <a:off x="-360" y="9445320"/>
            <a:ext cx="297324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7"/>
          </p:nvPr>
        </p:nvSpPr>
        <p:spPr>
          <a:xfrm>
            <a:off x="3882960" y="9445320"/>
            <a:ext cx="29736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FE015-6661-4AD5-9C59-2DC166D502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245A1-6269-448C-A727-B33FA6C53E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38424-6745-4D2D-A332-445964A138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E530F-5F13-4FB7-AF68-2CC5764F8E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B1F60-0080-4996-8773-09568EE799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56CFB-25F1-4680-85FA-EB202617C0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4D1ACA-9815-457F-B76E-C74E88DA80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2817A3-22B2-41A2-B823-A8AA4E07E1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35B00-7D6A-4150-A5D3-A26179BC2A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25170-FAD4-46C7-8EBF-37B2897E48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01D2E-F0A0-4E39-816C-861E412350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6AFCC-61C2-487C-B70E-72D58445EE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ABBA3-57B7-4978-A8F1-77F6776829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8E271F5-2CB1-4BDC-A699-1485799AFE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31CCBB3-3B4A-49E3-9FE6-EB6173FBB60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059D7-FC69-461C-908B-370690E1C5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2A2329-3183-41FF-BD54-8BE83A2285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4EFA3-970F-45C4-A4B0-388B789B05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BA87477-846D-4211-ABAB-F93F8ECFA2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2DCAA-3E96-490F-A7E4-506DD1EABC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D8EAF0-C1ED-462D-B8E9-8616B317AC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1B229-932D-4558-87F8-640B85633E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022C20-02A7-4FA5-AF95-8E64A5A1667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1888F-5009-48E2-8CD5-3B0D0A6B246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FAA493-872A-4DCD-8A4B-B268B7A47AF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62E11A-32A6-4735-BB06-F68756100DA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8F4A0-40BE-4096-B61D-58BBBDFEFD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3BA2990-8200-44CB-BF59-E08C1212B5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A1D8A3D-FDB5-4E8D-A4E4-9414E2B5334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2960" y="4723920"/>
            <a:ext cx="50320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69D33E-0C62-4454-9EF8-1214470889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99A719-9EB3-47B9-9590-6628507581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2960" y="4723920"/>
            <a:ext cx="50320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2960" y="9445680"/>
            <a:ext cx="2973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2FA75BE-2E6F-4D7E-B6E5-A906C87388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2960" y="9447120"/>
            <a:ext cx="2973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A8E209F-BF38-43F7-9905-84C40F91B47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209C-1CD3-4B1C-8AFD-ABE46CD78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D2DE-6184-43D5-B382-185879F0B2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A3635-30FA-422C-92EF-B608D87A21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6C3F3-4E85-450E-A885-EBBB17B48B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C50AC-DF37-4A24-84B4-879B66F88B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8DB04-D733-4CD9-B0D1-C90BC1B404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3073A-F488-407D-B27E-9EF916C5B2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98DCC-EAAF-4C68-B69F-1D1F0B17DB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58E55-9984-477F-B655-4E1FFA5A3C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E9776-C88B-4441-A5F0-F0FA5DF222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AE25C-0564-4681-B19B-D8D4C43C63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F1B56-2A25-4073-A60D-D291B647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AEED-2080-4654-82E9-D71084B760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A74CE-7C64-4C60-8E69-DA095AB8F2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69E17-48DA-4F9E-8AEF-24FD18D9A9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CFDFD-3A6F-419E-B232-160C993EF3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2A23B-4E2D-4895-BF9F-9CBB867D02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05B58-AF68-4944-A6BE-7F2E3F4F60B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46F04-EC68-4BE2-A3CD-1DD16E411C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5A153-4CAE-4B95-AFAA-441179005D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3E4E6-1823-47CD-9D5A-733E4420826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3C03B-9539-42B2-8ED1-97DC556230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8D7A8-66D0-4BBE-A8BB-2195A4847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E349-7A0A-4B42-A9A2-15BC40EA46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22641-9C5A-44BF-960B-DF43AA0505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06D0-9318-4004-9A4D-63E5907387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A774-F7DF-412A-9143-916DF362A3B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C29A-AFDB-46E5-811F-74106C6A6D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0EB7-272B-443C-ADB8-746B0D91E41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14D3-5670-4A72-AF6C-003B696F01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DFEA-0746-4B77-9EB6-62EBD7EF08F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5025-1E37-481D-ABCE-BE03DDC342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0B47-7035-486A-B577-83A796FA86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D428-8B6E-4F26-AA7F-7C667D3B8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7B2-16D4-4544-B554-99C47D55D9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C69A-1F5E-4A9A-9F6A-3B9C2399DF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D618-40AE-4FD9-BDC8-DC2720EB48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5E95-FE36-44D6-9F36-1DF090479C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CA6F9-9160-4FE9-AE33-8EC6B3932D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0FB84-26BA-4B36-9C72-2CF13694376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3BCCE-4397-4950-8B89-73A5B6D20B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188AE7-9D7C-41A4-9A2E-29D914D3F7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A05D4-D4CF-485D-806D-5CC0E90813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EDD93-7911-4CAF-8BAD-B1E108CBB5A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E417F2-CA7B-4BF9-AAEF-810855391B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27C-393D-4A56-9ED5-78B8B16C40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EDA29-4781-4AA3-AA55-C9382A6AFD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F40D8-6811-40E2-8470-B4CE6954B8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3DCF46-7A9F-4C68-86CB-C01B6F10F48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12910-D1AE-4DEB-9116-092A851823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67025-435E-4146-A974-4514DD255AB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46F61-2447-42BE-9471-640E886A55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D5DF2-A859-4C19-97AC-E7574B342E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7F45C-D3C6-49FE-A93C-04D1779788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95CB5-3A82-4DD2-90EF-483AF2E5772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AA74E-EF21-4544-861E-E0EFEAD4A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33C-E0F3-464D-BE62-B1772C2996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1FC26-F077-41D8-85A7-7FB098852CB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3D7BC-A607-4F4B-94B8-F9548025D8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956CB-4157-4956-9E18-209E73BDD08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D254E-7123-4380-B36D-972E0E71C5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B613D-40FD-4DBF-B921-D9FABF73F7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B2639-A186-4515-B5DC-7B0D15BDE62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12E07-0958-41F1-A263-B918A46AC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0CB-1773-4E2E-A27F-720CF787D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427-3D63-4E23-9DA0-43070A78C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36F-EC4C-4B07-9135-AE8F17B0E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4D8-B574-4366-9643-F1B3C5562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7CB6-6A5B-494D-8A78-FDF510718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EC2-A521-43C9-AAB0-9B9C6B58FB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889-FC8D-4997-82E7-913CEBFBD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206-2B36-4A9D-8125-7C9D7694AA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F68-3501-4855-A605-7315C1692D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CBC-D7EF-4FFD-A9D5-32482B7AD6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EB04-01FA-4F86-B9E7-32E23651A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1FB18-7A2F-487F-9CC6-BD268937B2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7351-9447-4A79-8D70-54DABB2843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C18BB-813E-4C17-94F9-0CD6A3F697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ED82B-B03D-41B5-B35A-84EB676B2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04E0-7B88-4CA0-BC6B-FAF3AAAD8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4958-B807-4307-89B7-2799C2E4C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569B1-0B8C-4E69-9CA0-697C19190F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6AB9-9DE6-4C32-A48F-1DDD73B600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57D2-2813-4EA2-B9E4-A3B4BE8E5A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7E61-8152-404B-82BD-EFC372CF22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0520E-9A18-42D0-95E1-A313EF16BD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B531-A9EB-4441-A798-8C850F8149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99A86-ADED-4317-8B38-B9FFF8D73F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6487B-ECB0-42BC-B398-9B13066DFE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70A7-51D0-430E-958F-DA20FFF2F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B629-831C-437C-9195-FC85635164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155E-F930-45EF-B978-5E1FBFC1A2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C24E-8ABD-44D6-AD82-24B29EF23F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0BFA8-B29A-4672-A9EF-CBB8ABE398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857B0-F4B3-49C3-81DB-D292DAAA56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E397-4D4B-40D7-B9D5-9D6939DB1A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3A9D9-E7DC-423F-A5F6-FD1A5300AC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6876-0F2B-4BAD-BDF9-EE0EABA5B5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3113-2154-4167-8619-3997A30513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53F4A-D8F2-431E-9E9B-DDC882DB2B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B06-CEE0-44CE-A2C2-B2F9ABA56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2494-2D9C-4C2B-AFE0-40BDB74454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348-3C73-4748-8618-1A2F4CC9EB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980-DAD5-488F-8ACD-C42F6C0AC8A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7145-35A1-4BE4-9A47-C4E4E7CD40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3B27-4656-4C5B-97C8-F2E94DB9EF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A0F6-7DA9-4304-A23A-2C6CAF3B90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65D-5CA0-4895-A3FF-A174D62BC9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A3DF-6E93-44DA-8761-7B1DCD5DD6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9DC-1BE1-4530-979F-D9188F895E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4DB4-92D5-4A61-BF8D-810E154E82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F86E-7D97-42E9-A41C-E990F2BDF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A02-144B-4919-ACAD-4BAB1EFDFC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1ED6-F2B1-4FAA-B10B-102579E2A7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AA8F5-16E0-404A-8982-9435B81009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230AC-F6E0-4AEF-8E44-C0F3DA343D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B087B-7A09-4648-8D45-1C8C0CFA77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B9F49-366F-480F-B1CC-C326896B58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4CFCF-68C3-4502-A80A-805A92790D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64DF57-9D71-43FF-AAE1-5B2361B652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10090-4552-4490-9C45-0A531280E3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5BA05-81BC-436C-8415-192B8A8771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4F998-A303-41ED-A98A-B6D6D58FB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172E-9F09-44B0-871F-76E4524454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215D3-ED2A-4324-BF0C-555B1D6D2D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B5CDF-9436-4D74-8075-8ED6F53EE9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7F1A8-C41F-45D9-AB9A-1CEB641E24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0524A-44A6-40F7-A681-176B820BCD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7B93D-D7FE-4E2D-B255-813DB8A617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215F1-0F67-4153-8B20-3B3ED1C8E1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F54C4-CD74-458A-8A47-EE3B0E4C33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4C3EB-1D88-40F8-9CF0-43F9641BB4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03530-ED0B-4D20-B65D-4FC44C7551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78D71-B25F-4159-A237-CF0149073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C2CF-2E1E-4A93-BE56-9B98BE7D3E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75969-4ED3-46AE-8029-677830D399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B14D0-E926-4787-A777-64B3020967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AF8B1-E4DC-49BB-B1F0-1E4F3FA40D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BB98A-1FBA-49EA-A884-672E6AB04D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F03AA-0CAB-401B-8D0D-E431EF905B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6DDF-40E7-4774-81D7-B82B7902A2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AE47-6B38-4C5A-8083-72BEC3D543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D502-0195-4F0A-9DEA-CDEC7F7B23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E3DE-C424-4A48-BF14-008B9502BD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2C6F-66B6-4E9E-BEEF-B6CA32D2B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FB33-5507-4D8F-B208-EEBCC73A8A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7D87-D0AF-456C-936C-319D632215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C0CD-BDA4-440F-B18D-D35C5FCE6B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7A77-E5A6-4249-BFA8-48604321E9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15DC-5C4E-449B-8431-C9B1362768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DE79-5BCC-459D-B4E4-E017999903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7391-FECC-456A-9397-B9EB8F997F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4995-8AE3-43D7-B120-0823F2464C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FB891-5ED7-4408-A903-1B0B6AE70F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A9FFE-40EE-4EBD-A4B5-4CE54B3E86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9887A-1C60-4F21-B78E-F39A8515F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  <a:defRPr b="1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Soest, 25.08.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73C-F407-4C2D-87F2-B843D808762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DF69-79F0-4902-ADFA-C3860B9679C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C49-7179-4243-A0BA-828ED6737B2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D49-D512-4B70-8A5E-9B45FFDADB8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EE9-DEB5-4F4C-BD4E-67AB9818339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836-ADD8-488A-9F75-8861216E641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C4F1-47DA-4F28-B8AD-D52272CD670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FC18-7A94-423B-B3F4-CB8E914CB00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1D1A-230E-4086-85AF-F453CE8C12F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17A-C2D0-4EC2-B92B-E6F94F8FC21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0BF-B336-44E3-B22E-A7DDA3C820E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56C7-604B-4518-847E-BCB13CC1B5B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010-CA88-463F-9339-67070DE675D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7920" y="12412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8400" y="2733840"/>
            <a:ext cx="89899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bendgymnasium und Kolleg in 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Nordrhein Westfa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ernlehrplan 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1"/>
          <p:cNvSpPr/>
          <p:nvPr/>
        </p:nvSpPr>
        <p:spPr>
          <a:xfrm>
            <a:off x="2286000" y="1409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2320" y="26938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 Kernlehrpläne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F265-7A45-4C1B-A31F-CA53760620D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520560" y="1420920"/>
          <a:ext cx="8064720" cy="46720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Textfeld 7"/>
          <p:cNvSpPr/>
          <p:nvPr/>
        </p:nvSpPr>
        <p:spPr>
          <a:xfrm>
            <a:off x="0" y="765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C0D-B869-45A0-B539-DDBC589028C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1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48000" y="4443480"/>
            <a:ext cx="2286000" cy="48564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nkretisie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95320" y="5234040"/>
            <a:ext cx="7070760" cy="91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naturwissenschaftlich-gesellschaftliche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Positio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zum therapeutischen Einsatz von Stammzellen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darstel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Interessen sowie Folgen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ethisch beurtei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(B3/B4-Q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1042920" y="3068640"/>
            <a:ext cx="230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Prozess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reifende fachliche Kompetenz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Vertiefte biologisch-naturwissenschaftliche Bild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6"/>
          <p:cNvSpPr/>
          <p:nvPr/>
        </p:nvSpPr>
        <p:spPr>
          <a:xfrm>
            <a:off x="2268360" y="3645000"/>
            <a:ext cx="0" cy="1042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 flipH="1">
            <a:off x="6651720" y="3645000"/>
            <a:ext cx="7920" cy="104292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8"/>
          <p:cNvSpPr/>
          <p:nvPr/>
        </p:nvSpPr>
        <p:spPr>
          <a:xfrm>
            <a:off x="2268360" y="468792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 flipH="1">
            <a:off x="5651640" y="468792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5508720" y="3068640"/>
            <a:ext cx="2286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Gegenständ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feld 19"/>
          <p:cNvSpPr/>
          <p:nvPr/>
        </p:nvSpPr>
        <p:spPr>
          <a:xfrm>
            <a:off x="-339840" y="641520"/>
            <a:ext cx="55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506840" y="49291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800C-2A9B-4C68-9DC3-3837FB7D76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feld 2"/>
          <p:cNvSpPr/>
          <p:nvPr/>
        </p:nvSpPr>
        <p:spPr>
          <a:xfrm>
            <a:off x="1084320" y="3678120"/>
            <a:ext cx="2220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493920" y="735120"/>
            <a:ext cx="557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149400" y="1916280"/>
            <a:ext cx="887724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etenzbereich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kognitiven Prozes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ang mit Fachwiss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kenntnisgewinnu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k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argestellt als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übergeordnete 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inhaltsfeldübergreifende Kompetenzerwartungen aus allen Kompetenz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argestellt als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kretisierte 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inhaltsfeldbezogene Kompetenzerwartungen als Zusammenführung von Prozessen und Gegenstä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"/>
          <p:cNvSpPr/>
          <p:nvPr/>
        </p:nvSpPr>
        <p:spPr>
          <a:xfrm>
            <a:off x="374760" y="1420920"/>
            <a:ext cx="86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Teil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F4F-3A57-40C8-A10A-0379EABB0C6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Grafik 5" descr="Bildschirmausschnitt"/>
          <p:cNvPicPr/>
          <p:nvPr/>
        </p:nvPicPr>
        <p:blipFill>
          <a:blip r:embed="rId1"/>
          <a:stretch/>
        </p:blipFill>
        <p:spPr>
          <a:xfrm>
            <a:off x="5002200" y="1916280"/>
            <a:ext cx="3979800" cy="213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550800" y="2382480"/>
            <a:ext cx="80647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574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–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 1: Biologie der Zelle (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 4: Neurobiologie (GK 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liederungselemente der Inhaltsfelder – Beispiel Inhaltsfeld 4: Neurobiologi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und Funktion von Neur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ronale Informationsverarbeitung und Grundlagen der Wah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stizität und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-517680" y="750960"/>
            <a:ext cx="5700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feld 2"/>
          <p:cNvSpPr/>
          <p:nvPr/>
        </p:nvSpPr>
        <p:spPr>
          <a:xfrm>
            <a:off x="500040" y="155268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Teil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344D-AECD-45E4-894D-CA4BA4423BD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4"/>
          <p:cNvSpPr/>
          <p:nvPr/>
        </p:nvSpPr>
        <p:spPr>
          <a:xfrm>
            <a:off x="558720" y="213840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ga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mit Fachwissen (E-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feld 12"/>
          <p:cNvSpPr/>
          <p:nvPr/>
        </p:nvSpPr>
        <p:spPr>
          <a:xfrm>
            <a:off x="-571680" y="73332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2814480" y="147636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Textfeld 4" descr=""/>
          <p:cNvPicPr/>
          <p:nvPr/>
        </p:nvPicPr>
        <p:blipFill>
          <a:blip r:embed="rId1"/>
          <a:stretch/>
        </p:blipFill>
        <p:spPr>
          <a:xfrm>
            <a:off x="128520" y="2676600"/>
            <a:ext cx="8936280" cy="3462120"/>
          </a:xfrm>
          <a:prstGeom prst="rect">
            <a:avLst/>
          </a:prstGeom>
          <a:ln w="0">
            <a:noFill/>
          </a:ln>
        </p:spPr>
      </p:pic>
      <p:sp>
        <p:nvSpPr>
          <p:cNvPr id="6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912-2D0E-43D4-B4AA-FD91F0BF0E8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4"/>
          <p:cNvSpPr/>
          <p:nvPr/>
        </p:nvSpPr>
        <p:spPr>
          <a:xfrm>
            <a:off x="558720" y="1992240"/>
            <a:ext cx="806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kenntnisgewinnung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feld 12"/>
          <p:cNvSpPr/>
          <p:nvPr/>
        </p:nvSpPr>
        <p:spPr>
          <a:xfrm>
            <a:off x="-636480" y="78408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2814480" y="1338120"/>
            <a:ext cx="3552840" cy="4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Textfeld 4" descr=""/>
          <p:cNvPicPr/>
          <p:nvPr/>
        </p:nvPicPr>
        <p:blipFill>
          <a:blip r:embed="rId1"/>
          <a:stretch/>
        </p:blipFill>
        <p:spPr>
          <a:xfrm>
            <a:off x="128520" y="2451240"/>
            <a:ext cx="8875800" cy="3700440"/>
          </a:xfrm>
          <a:prstGeom prst="rect">
            <a:avLst/>
          </a:prstGeom>
          <a:ln w="0">
            <a:noFill/>
          </a:ln>
        </p:spPr>
      </p:pic>
      <p:sp>
        <p:nvSpPr>
          <p:cNvPr id="65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7ED4-1268-4773-9889-CC94CD782E1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 nach rechts 6"/>
          <p:cNvSpPr/>
          <p:nvPr/>
        </p:nvSpPr>
        <p:spPr>
          <a:xfrm rot="9405000">
            <a:off x="7000560" y="3082680"/>
            <a:ext cx="1353960" cy="225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558720" y="188604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munikation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feld 12"/>
          <p:cNvSpPr/>
          <p:nvPr/>
        </p:nvSpPr>
        <p:spPr>
          <a:xfrm>
            <a:off x="-700200" y="82080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814480" y="128268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feld 4" descr=""/>
          <p:cNvPicPr/>
          <p:nvPr/>
        </p:nvPicPr>
        <p:blipFill>
          <a:blip r:embed="rId1"/>
          <a:stretch/>
        </p:blipFill>
        <p:spPr>
          <a:xfrm>
            <a:off x="128520" y="2243160"/>
            <a:ext cx="8875800" cy="3925800"/>
          </a:xfrm>
          <a:prstGeom prst="rect">
            <a:avLst/>
          </a:prstGeom>
          <a:ln w="0">
            <a:noFill/>
          </a:ln>
        </p:spPr>
      </p:pic>
      <p:sp>
        <p:nvSpPr>
          <p:cNvPr id="663" name="Pfeil nach rechts 5"/>
          <p:cNvSpPr/>
          <p:nvPr/>
        </p:nvSpPr>
        <p:spPr>
          <a:xfrm rot="13223400">
            <a:off x="7232400" y="4621320"/>
            <a:ext cx="1353960" cy="225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BF6-CBAC-4AF0-9DA0-00EEDA5665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558720" y="1833480"/>
            <a:ext cx="806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wertung (Q-Ph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2"/>
          <p:cNvSpPr/>
          <p:nvPr/>
        </p:nvSpPr>
        <p:spPr>
          <a:xfrm>
            <a:off x="-412920" y="74916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2814480" y="134784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Textfeld 4" descr=""/>
          <p:cNvPicPr/>
          <p:nvPr/>
        </p:nvPicPr>
        <p:blipFill>
          <a:blip r:embed="rId1"/>
          <a:stretch/>
        </p:blipFill>
        <p:spPr>
          <a:xfrm>
            <a:off x="36360" y="2286000"/>
            <a:ext cx="9088560" cy="4157640"/>
          </a:xfrm>
          <a:prstGeom prst="rect">
            <a:avLst/>
          </a:prstGeom>
          <a:ln w="0">
            <a:noFill/>
          </a:ln>
        </p:spPr>
      </p:pic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C587-10D6-47F6-809F-191CBAE2EF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676440" y="768240"/>
            <a:ext cx="615024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26600" y="2030400"/>
            <a:ext cx="8602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tudierenden könn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e zur Beschreibung, Erklärung und Vorhersage biologischer Vorgänge begründet auswählen und deren Grenzen und Gültigkeitsbereiche angeben.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6 – Modelle; am Ende der 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9900"/>
                </a:solidFill>
                <a:latin typeface="Arial"/>
              </a:rPr>
              <a:t>Anschauungsmodelle entwickeln sowie mithilfe von theoretischen Modellen, mathematischen Modellierungen und Simulationen biologische sowie biotechnische Prozesse erklären oder vorherzusagen. 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9900"/>
                </a:solidFill>
                <a:latin typeface="Arial"/>
              </a:rPr>
              <a:t>(E6 – Modelle; am Ende der Q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feil nach unten 3"/>
          <p:cNvSpPr/>
          <p:nvPr/>
        </p:nvSpPr>
        <p:spPr>
          <a:xfrm>
            <a:off x="3691080" y="3701880"/>
            <a:ext cx="952200" cy="74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feld 2"/>
          <p:cNvSpPr/>
          <p:nvPr/>
        </p:nvSpPr>
        <p:spPr>
          <a:xfrm>
            <a:off x="264960" y="1424160"/>
            <a:ext cx="86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gression einer übergeordneten Kompetenzerwar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FC5-8CC8-44E0-9F8A-242953C1C6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Schulinterne Curricula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Fachspezifische Erläuterungen zum neuen KLP 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BEF-F534-4819-BB77-24919F0E82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FB0-33B8-4C2D-B399-54E39B4392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250920" y="851040"/>
            <a:ext cx="864216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-dig auf bzw. definieren Standards (zu erreichende Ziel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-tenzerwartung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-nis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-möglichkeit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-methodische Entscheidungen werden in den Schulen – u. a. bei der Erstellung des schulinternen Lehrplans – getroff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feld 5"/>
          <p:cNvSpPr/>
          <p:nvPr/>
        </p:nvSpPr>
        <p:spPr>
          <a:xfrm>
            <a:off x="-398520" y="68112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08A-B385-4998-9AD2-3617AA55EF7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E171-EEAF-4FA8-BE33-1628D4911AF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2320" y="1814400"/>
            <a:ext cx="8064360" cy="27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. Schulinterne Curricula: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Konstrukt, Struktur und zentrale Element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C71-B99C-48A6-95FE-505BAE7E32F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536400" y="1400040"/>
            <a:ext cx="8201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ufgabe schulinterner Curricula: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die verbindlichen Vorgaben der Kernlehrpläne auf die Situation der Schule bezogen konkretisieren und Freiräume ausgest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feld 6"/>
          <p:cNvSpPr/>
          <p:nvPr/>
        </p:nvSpPr>
        <p:spPr>
          <a:xfrm>
            <a:off x="-1649520" y="7524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E7D5-92DD-49AB-92EE-08FD1765525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0A0-BE5D-448F-B095-D55C5BC83A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357120" y="1254240"/>
            <a:ext cx="84250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nforderungen an die Schulen angesichts  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feld 7"/>
          <p:cNvSpPr/>
          <p:nvPr/>
        </p:nvSpPr>
        <p:spPr>
          <a:xfrm>
            <a:off x="-1522440" y="792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Textfeld 1" descr=""/>
          <p:cNvPicPr/>
          <p:nvPr/>
        </p:nvPicPr>
        <p:blipFill>
          <a:blip r:embed="rId1"/>
          <a:stretch/>
        </p:blipFill>
        <p:spPr>
          <a:xfrm>
            <a:off x="457200" y="2163600"/>
            <a:ext cx="8169120" cy="1438560"/>
          </a:xfrm>
          <a:prstGeom prst="rect">
            <a:avLst/>
          </a:prstGeom>
          <a:ln w="0">
            <a:noFill/>
          </a:ln>
        </p:spPr>
      </p:pic>
      <p:pic>
        <p:nvPicPr>
          <p:cNvPr id="690" name="Textfeld 2" descr=""/>
          <p:cNvPicPr/>
          <p:nvPr/>
        </p:nvPicPr>
        <p:blipFill>
          <a:blip r:embed="rId2"/>
          <a:stretch/>
        </p:blipFill>
        <p:spPr>
          <a:xfrm>
            <a:off x="469800" y="3413160"/>
            <a:ext cx="8161560" cy="1042920"/>
          </a:xfrm>
          <a:prstGeom prst="rect">
            <a:avLst/>
          </a:prstGeom>
          <a:ln w="0">
            <a:noFill/>
          </a:ln>
        </p:spPr>
      </p:pic>
      <p:pic>
        <p:nvPicPr>
          <p:cNvPr id="691" name="Textfeld 4" descr=""/>
          <p:cNvPicPr/>
          <p:nvPr/>
        </p:nvPicPr>
        <p:blipFill>
          <a:blip r:embed="rId3"/>
          <a:stretch/>
        </p:blipFill>
        <p:spPr>
          <a:xfrm>
            <a:off x="469800" y="4334040"/>
            <a:ext cx="8247240" cy="3444840"/>
          </a:xfrm>
          <a:prstGeom prst="rect">
            <a:avLst/>
          </a:prstGeom>
          <a:ln w="0">
            <a:noFill/>
          </a:ln>
        </p:spPr>
      </p:pic>
      <p:sp>
        <p:nvSpPr>
          <p:cNvPr id="69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B89-B4E8-454A-8398-F688A3981E0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DD6-2602-4459-BEA6-A2207206CA5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395280" y="1496880"/>
            <a:ext cx="84247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nforderungen an die Schulen angesichts  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feld 7"/>
          <p:cNvSpPr/>
          <p:nvPr/>
        </p:nvSpPr>
        <p:spPr>
          <a:xfrm>
            <a:off x="-1378080" y="83664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Textfeld 1" descr=""/>
          <p:cNvPicPr/>
          <p:nvPr/>
        </p:nvPicPr>
        <p:blipFill>
          <a:blip r:embed="rId1"/>
          <a:stretch/>
        </p:blipFill>
        <p:spPr>
          <a:xfrm>
            <a:off x="317520" y="2475000"/>
            <a:ext cx="8180280" cy="2541600"/>
          </a:xfrm>
          <a:prstGeom prst="rect">
            <a:avLst/>
          </a:prstGeom>
          <a:ln w="0">
            <a:noFill/>
          </a:ln>
        </p:spPr>
      </p:pic>
      <p:pic>
        <p:nvPicPr>
          <p:cNvPr id="697" name="Textfeld 10" descr=""/>
          <p:cNvPicPr/>
          <p:nvPr/>
        </p:nvPicPr>
        <p:blipFill>
          <a:blip r:embed="rId2"/>
          <a:stretch/>
        </p:blipFill>
        <p:spPr>
          <a:xfrm>
            <a:off x="353880" y="4095720"/>
            <a:ext cx="8161560" cy="1579680"/>
          </a:xfrm>
          <a:prstGeom prst="rect">
            <a:avLst/>
          </a:prstGeom>
          <a:ln w="0">
            <a:noFill/>
          </a:ln>
        </p:spPr>
      </p:pic>
      <p:sp>
        <p:nvSpPr>
          <p:cNvPr id="698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F2C4-A050-4A6C-8688-F0E2A4CC9AD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536400" y="1601640"/>
            <a:ext cx="820116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Rechtliche 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G § 70 (3 u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)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konfer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er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über alle das Fach oder die Fachrichtung betreffenden Angelegenheiten einschließ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arbeit mit anderen Fäch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Sie trägt Verantwortung für die schulinterne Qualitätssicherung und -entwicklung der fachlichen Arbeit und berät üb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e, Arbeitspläne, Evaluations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ergebnisse und Rechenschaftsle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tscheide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ihrem Fach insbesondere ü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undsätze zur fachmethodischen und fachdidaktischen Arbe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undsätze zur Leistungsbewertu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Vorschläge an die Lehrerkonferenz zur Einführung von Lernmit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feld 6"/>
          <p:cNvSpPr/>
          <p:nvPr/>
        </p:nvSpPr>
        <p:spPr>
          <a:xfrm>
            <a:off x="-1562040" y="8064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6C0-5A55-4AEF-9D5E-16BF4F5208D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5CB6-0133-4DB6-953C-68C58FEFFE0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723960" y="845640"/>
            <a:ext cx="8064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truktur eines Schulcurriculums – Gliederung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539640" y="1901880"/>
          <a:ext cx="8064720" cy="395604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achgruppe X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6BA-34BD-4BE6-9BB8-48394F79D79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050-D7A1-4C67-8513-A35E66BBBD1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FFB-8793-41E7-87CA-643D7375A3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-1025640" y="893880"/>
            <a:ext cx="880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Übersichtsraster für die Einführungs- und Qualifikations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50760" y="1481040"/>
          <a:ext cx="9093240" cy="4837320"/>
        </p:xfrm>
        <a:graphic>
          <a:graphicData uri="http://schemas.openxmlformats.org/drawingml/2006/table">
            <a:tbl>
              <a:tblPr/>
              <a:tblGrid>
                <a:gridCol w="3013200"/>
                <a:gridCol w="3038400"/>
                <a:gridCol w="3041640"/>
              </a:tblGrid>
              <a:tr h="48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ntext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8fd"/>
                    </a:solidFill>
                  </a:tcPr>
                </a:tc>
              </a:tr>
            </a:tbl>
          </a:graphicData>
        </a:graphic>
      </p:graphicFrame>
      <p:sp>
        <p:nvSpPr>
          <p:cNvPr id="71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1DB1-E7CA-4C79-A356-9851DAF24B1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153-CE52-4751-955A-967DA1B4B76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40B-1F8A-4643-85AE-EC71625CE7D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-3214800" y="725400"/>
            <a:ext cx="83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Beispiel aus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feld 1"/>
          <p:cNvSpPr/>
          <p:nvPr/>
        </p:nvSpPr>
        <p:spPr>
          <a:xfrm>
            <a:off x="299880" y="1243080"/>
            <a:ext cx="8512200" cy="50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nterrichtsvorhaben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ma/Kon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Kein Leben ohne Zelle II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– Welche Bedeutung haben Zellkern und Nukleinsäuren für das Leb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werpunkte der Kompetenzentwick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F4 Verne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1    Probleme und Fragestell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6    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7    Arbeits- und Denkwei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4    Arg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1    Krite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4    Möglichkeiten und Gren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haltsfe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IF 1 (Biologie der Ze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haltliche Schwerpunk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 des Zellk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llverdopplung un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be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ca. 8 Std. à 45 Minu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660-844B-4C6D-93ED-720FAD9DC46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2320" y="1814040"/>
            <a:ext cx="80643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I. Fachspezifische Erläuterungen zum neuen KLP Biologi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B13-ED59-444B-BBAA-75686EF145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5B9-1B67-4E0C-B282-B670E6C8D6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12640" y="163656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. Wichtige Neuerung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8240" y="2028600"/>
            <a:ext cx="8064360" cy="36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ologie, Chemie, Physik mit weitgehend identischen übergeordneten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eis einer Kompetenzprogression in zwei St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liziter Ausweis von Anforderungen im GK und LK (übergeordnete Kompetenzerwartungen, inhaltliche Schwerpunkte, inhaltlich konkretisierte Kompetenzerwart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ug auf Basiskonzepte der 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Weitgehender) Verzicht auf Vorschriften oder Vorschläge zur Unterrichts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414080"/>
            <a:ext cx="8304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634920" y="2349360"/>
            <a:ext cx="4824360" cy="13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1 Wieder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2 Ausw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3 Systema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F4 Vern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539640" y="2349360"/>
            <a:ext cx="2664000" cy="8254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39640" y="3344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39640" y="43592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"/>
          <p:cNvSpPr/>
          <p:nvPr/>
        </p:nvSpPr>
        <p:spPr>
          <a:xfrm>
            <a:off x="3203640" y="276084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650400" y="184932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4600" y="1467000"/>
            <a:ext cx="837072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634920" y="2585520"/>
            <a:ext cx="4824360" cy="221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1 Probleme und Fragestel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2  Wahrnehmung und Me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3 Hypothe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4 Untersuchungen und Experi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5 Aus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6 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7 Arbeits- und Denk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539640" y="232740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539640" y="336060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8"/>
          <p:cNvSpPr/>
          <p:nvPr/>
        </p:nvSpPr>
        <p:spPr>
          <a:xfrm>
            <a:off x="3203640" y="37479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3650400" y="195732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280" y="1356840"/>
            <a:ext cx="841860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634920" y="4229280"/>
            <a:ext cx="4824360" cy="13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1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2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3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4 Arg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539640" y="2336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539640" y="334800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200400" y="47703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3647160" y="18684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640" y="1378080"/>
            <a:ext cx="844704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. Der neue Kernlehrplan Biologie - Kompetenzbereich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634920" y="4654080"/>
            <a:ext cx="4824360" cy="158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1 Krite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2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3 Werte und No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4 Möglichkeiten und Gr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539640" y="233676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U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gang mi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F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h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539640" y="335448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kenntnis-gewi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539640" y="4371840"/>
            <a:ext cx="2664000" cy="825480"/>
          </a:xfrm>
          <a:prstGeom prst="rect">
            <a:avLst/>
          </a:prstGeom>
          <a:solidFill>
            <a:srgbClr val="acaca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mmunik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539640" y="5386320"/>
            <a:ext cx="2664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</a:t>
            </a: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wer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8"/>
          <p:cNvSpPr/>
          <p:nvPr/>
        </p:nvSpPr>
        <p:spPr>
          <a:xfrm>
            <a:off x="3203640" y="5805360"/>
            <a:ext cx="431640" cy="0"/>
          </a:xfrm>
          <a:prstGeom prst="line">
            <a:avLst/>
          </a:prstGeom>
          <a:ln w="57240">
            <a:solidFill>
              <a:srgbClr val="f29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3647160" y="18558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geordnete Kompetenzen (Teilaspek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240" y="1555560"/>
            <a:ext cx="80643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II. Der neue Kernlehrplan Biologie - Inhaltsfelde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07960" y="2371680"/>
            <a:ext cx="8064720" cy="35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Einfüh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1: Biologie der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2: Energiestoffwech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lifikationsphase (GK und 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3: Gene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4: Neu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5: Ök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haltsfeld 6: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13636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Struktur Inhaltsfeld 1: Biologie der Zell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55480" y="1805040"/>
          <a:ext cx="8156880" cy="3454200"/>
        </p:xfrm>
        <a:graphic>
          <a:graphicData uri="http://schemas.openxmlformats.org/drawingml/2006/table">
            <a:tbl>
              <a:tblPr/>
              <a:tblGrid>
                <a:gridCol w="4067280"/>
                <a:gridCol w="4089600"/>
              </a:tblGrid>
              <a:tr h="328680"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Schwerpun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schläge für mögliche Kontex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220760">
                <a:tc>
                  <a:txBody>
                    <a:bodyPr lIns="26280" rIns="26280" tIns="26280" bIns="26280" anchor="t">
                      <a:noAutofit/>
                    </a:bodyPr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aufb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embra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 des Zellk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verdopplung und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forschung der Biomembra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kultu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7480">
                        <a:tabLst>
                          <a:tab algn="l" pos="0"/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904760"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, Eukaryot, Biomembran, Plasmolyse, Transport, Zellkern, Chromosom, Mitochondrium, Chloroplast, Chromosom, Makromolekül,  Zelle, Gewebe, Organ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truktur und Funk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lkompartimentierung, Transport, Diffusion, Osmo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ikation, Mitose, Zellzykl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8" name="Pfeil nach links 1"/>
          <p:cNvSpPr/>
          <p:nvPr/>
        </p:nvSpPr>
        <p:spPr>
          <a:xfrm rot="19226400">
            <a:off x="4983120" y="3150720"/>
            <a:ext cx="955800" cy="220680"/>
          </a:xfrm>
          <a:prstGeom prst="leftArrow">
            <a:avLst>
              <a:gd name="adj1" fmla="val 35685"/>
              <a:gd name="adj2" fmla="val 50049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feil nach rechts 3"/>
          <p:cNvSpPr/>
          <p:nvPr/>
        </p:nvSpPr>
        <p:spPr>
          <a:xfrm rot="12331800">
            <a:off x="3468240" y="4806720"/>
            <a:ext cx="1121040" cy="225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feld 6"/>
          <p:cNvSpPr/>
          <p:nvPr/>
        </p:nvSpPr>
        <p:spPr>
          <a:xfrm>
            <a:off x="555480" y="5408640"/>
            <a:ext cx="81234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mgang mit Fachw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Aufbau pro- und eukaryotischer Zellen in Grundzügen beschreib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28480" y="1387440"/>
            <a:ext cx="80647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Struktur Inhaltsfeld 6: Ev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355680" y="1814400"/>
          <a:ext cx="8407440" cy="3505320"/>
        </p:xfrm>
        <a:graphic>
          <a:graphicData uri="http://schemas.openxmlformats.org/drawingml/2006/table">
            <a:tbl>
              <a:tblPr/>
              <a:tblGrid>
                <a:gridCol w="4194000"/>
                <a:gridCol w="4213440"/>
              </a:tblGrid>
              <a:tr h="311400"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Schwerpunk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schläge für mögliche Kontex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334880">
                <a:tc>
                  <a:txBody>
                    <a:bodyPr lIns="26280" rIns="26280" tIns="26280" bIns="26280" anchor="t">
                      <a:noAutofit/>
                    </a:bodyPr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lagen evolutiver Veränderu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und Artbild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und Verhal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des Mens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mmbä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marL="343080" indent="-16056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0560" algn="just">
                        <a:tabLst>
                          <a:tab algn="l" pos="0"/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859040"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, Population, Paarungssystem, Genpool, Gen, Allel, ncDNA, mt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Struktur und Funk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, Rekombination, Selektion, Gendrift, Isolation, Investment, Hom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konzept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ness, Divergenz, Konvergenz, Coevolution, Adaptive Radiation, Artbildung, Phyloge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3" name="Textfeld 3"/>
          <p:cNvSpPr/>
          <p:nvPr/>
        </p:nvSpPr>
        <p:spPr>
          <a:xfrm>
            <a:off x="355680" y="5295960"/>
            <a:ext cx="8123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mgang mit Fachw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könne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nordnung von Lebewesen mithilfe der Systematik …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2040" y="1395360"/>
            <a:ext cx="806472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V. Lernerfolgsüberprüfung und Leistungsbewertung – Überprüfungsformen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Liste im KLP ist nicht abschließend!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8800" y="2231640"/>
            <a:ext cx="8064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urteil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lex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ier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obachtung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erche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äsentat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ations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yse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erimentelle 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8480" y="1565280"/>
            <a:ext cx="806472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V. Lernerfolgsüberprüfung und Leistungsbewertung – Überprüfungsformen (Bsp.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39640" y="2346120"/>
            <a:ext cx="8064720" cy="35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yseauf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üfen und Interpretieren von Daten im Hinblick auf Trends und Gesetzmäßigkeiten zur Beantwortung biologischer Fragestel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von Daten bzw. Messwerten zur Generierung von Hypothesen/Mod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von Fallanalysen (z. B. aus der Humangene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ünden eines Versuchsplans, -aufbaus und seiner Durchführung im Hinblick auf die ihm zugrunde liegende Zielsetz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en und Evaluieren experimentell gewonnener Daten im Hinblick auf antizipierte Ergebnisse und Reflektieren des Versuchsplans und der Durchführung im Hinblick auf konzeptionelle und individuell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159-BE35-4F7F-907C-F93EECF3147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5D91-2A12-4D72-BDAB-26CB0EF4E69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1CBC-A3E9-4545-8840-F1596D8D2A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9960" y="1368360"/>
            <a:ext cx="82375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0" bIns="0" anchor="t">
            <a:noAutofit/>
          </a:bodyPr>
          <a:p>
            <a:pPr indent="0">
              <a:buNone/>
              <a:tabLst>
                <a:tab algn="l" pos="0"/>
                <a:tab algn="l" pos="26676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VI. Abiturprüfu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002060"/>
                </a:solidFill>
                <a:latin typeface="Arial-BoldMT"/>
                <a:ea typeface="MS PGothic"/>
              </a:rPr>
              <a:t>Aufgabenarten bzw. -kombinationen im Zentralabitur:</a:t>
            </a:r>
            <a:br>
              <a:rPr sz="2100"/>
            </a:br>
            <a:br>
              <a:rPr sz="21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69" name="Textfeld 3"/>
          <p:cNvSpPr/>
          <p:nvPr/>
        </p:nvSpPr>
        <p:spPr>
          <a:xfrm>
            <a:off x="399960" y="2523960"/>
            <a:ext cx="77821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Bearbeitung einer Aufgabe, die fachspezifisches Material enthä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Bearbeitung eines Demonstrations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MS PGothic"/>
              </a:rPr>
              <a:t>Durchführung und Bearbeitung eines Schüler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hteck 2"/>
          <p:cNvSpPr/>
          <p:nvPr/>
        </p:nvSpPr>
        <p:spPr>
          <a:xfrm>
            <a:off x="1139760" y="4516560"/>
            <a:ext cx="72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060"/>
                </a:solidFill>
                <a:latin typeface="Arial"/>
                <a:ea typeface="MS PGothic"/>
              </a:rPr>
              <a:t>Mischformen der genannten Aufgabenarten sind möglich. Eine ausschließlich aufsatzartig zu bearbeitende Aufgabenstellung, </a:t>
            </a:r>
            <a:br>
              <a:rPr sz="1800"/>
            </a:br>
            <a:r>
              <a:rPr b="1" lang="de-DE" sz="1800" spc="-1" strike="noStrike">
                <a:solidFill>
                  <a:srgbClr val="002060"/>
                </a:solidFill>
                <a:latin typeface="Arial"/>
                <a:ea typeface="MS PGothic"/>
              </a:rPr>
              <a:t>d. h. eine Aufgabe ohne vorgelegtes fachspezifisches Material oder ohne Experiment, ist nicht zuläss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hteck 4"/>
          <p:cNvSpPr/>
          <p:nvPr/>
        </p:nvSpPr>
        <p:spPr>
          <a:xfrm>
            <a:off x="417240" y="4824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Gerade Verbindung 6"/>
          <p:cNvSpPr/>
          <p:nvPr/>
        </p:nvSpPr>
        <p:spPr>
          <a:xfrm>
            <a:off x="1139760" y="45687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4"/>
          <p:cNvSpPr/>
          <p:nvPr/>
        </p:nvSpPr>
        <p:spPr>
          <a:xfrm>
            <a:off x="-7920" y="13050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-7920" y="300204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68400" y="315108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fü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Arial"/>
                <a:ea typeface="Arial"/>
              </a:rPr>
              <a:t>Ihre Aufmerksam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 freuen uns auf Ihre Fra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hteck 1"/>
          <p:cNvSpPr/>
          <p:nvPr/>
        </p:nvSpPr>
        <p:spPr>
          <a:xfrm>
            <a:off x="2278080" y="1544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2060"/>
                </a:solidFill>
                <a:latin typeface="Arial"/>
                <a:ea typeface="Arial"/>
              </a:rPr>
              <a:t>HERZLI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2060"/>
                </a:solidFill>
                <a:latin typeface="Arial"/>
                <a:ea typeface="Arial"/>
              </a:rPr>
              <a:t>D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7A0-963E-417F-B31D-507A70A721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C39-1FC4-4A9F-810D-9A9237A3B13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881360" y="250812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5384880" y="141300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unterrich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chen Ange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14"/>
          <p:cNvSpPr/>
          <p:nvPr/>
        </p:nvSpPr>
        <p:spPr>
          <a:xfrm>
            <a:off x="20484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2"/>
          <p:cNvSpPr/>
          <p:nvPr/>
        </p:nvSpPr>
        <p:spPr>
          <a:xfrm>
            <a:off x="76320" y="1413000"/>
            <a:ext cx="327636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Steuerungsverständnis alter 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grafik_transparent"/>
          <p:cNvPicPr/>
          <p:nvPr/>
        </p:nvPicPr>
        <p:blipFill>
          <a:blip r:embed="rId2"/>
          <a:srcRect l="-4997" t="8422" r="-606" b="54452"/>
          <a:stretch/>
        </p:blipFill>
        <p:spPr>
          <a:xfrm rot="20242800">
            <a:off x="2072880" y="379836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2"/>
          <p:cNvSpPr/>
          <p:nvPr/>
        </p:nvSpPr>
        <p:spPr>
          <a:xfrm>
            <a:off x="5292720" y="2924280"/>
            <a:ext cx="2176560" cy="831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9"/>
          <p:cNvGrpSpPr/>
          <p:nvPr/>
        </p:nvGrpSpPr>
        <p:grpSpPr>
          <a:xfrm>
            <a:off x="1692360" y="2448000"/>
            <a:ext cx="3024000" cy="3649320"/>
            <a:chOff x="1692360" y="2448000"/>
            <a:chExt cx="3024000" cy="3649320"/>
          </a:xfrm>
        </p:grpSpPr>
        <p:sp>
          <p:nvSpPr>
            <p:cNvPr id="579" name="Rectangle 10"/>
            <p:cNvSpPr/>
            <p:nvPr/>
          </p:nvSpPr>
          <p:spPr>
            <a:xfrm>
              <a:off x="1692360" y="2448000"/>
              <a:ext cx="3024000" cy="3477960"/>
            </a:xfrm>
            <a:prstGeom prst="rect">
              <a:avLst/>
            </a:prstGeom>
            <a:noFill/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2638440" y="576000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70c0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5051520" y="1413000"/>
            <a:ext cx="3155760" cy="4015440"/>
            <a:chOff x="5051520" y="1413000"/>
            <a:chExt cx="3155760" cy="4015440"/>
          </a:xfrm>
        </p:grpSpPr>
        <p:sp>
          <p:nvSpPr>
            <p:cNvPr id="583" name="Rectangle 9"/>
            <p:cNvSpPr/>
            <p:nvPr/>
          </p:nvSpPr>
          <p:spPr>
            <a:xfrm>
              <a:off x="5051520" y="1413000"/>
              <a:ext cx="3155760" cy="3840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6246720" y="5091120"/>
              <a:ext cx="963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feld 15"/>
          <p:cNvSpPr/>
          <p:nvPr/>
        </p:nvSpPr>
        <p:spPr>
          <a:xfrm>
            <a:off x="5830920" y="5603760"/>
            <a:ext cx="3276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teuerungsverständnis neue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        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291280" y="2922480"/>
            <a:ext cx="2176200" cy="83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E98-ADC6-45C7-94FB-6016A3D361E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BB9-A97D-437C-8261-EC1ECDC513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41A4-6F8F-4774-8A07-6B50BF425A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7360" y="2189160"/>
            <a:ext cx="378000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haltliche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 </a:t>
            </a: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Problem-, Anwendungsorientieru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828720" y="4476600"/>
            <a:ext cx="7539120" cy="17481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 </a:t>
            </a:r>
            <a:r>
              <a:rPr b="0" i="1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und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gebnisse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folg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(langfristig entwickelte Kompet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4705200" y="2200320"/>
            <a:ext cx="401004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Nutzung des Angebots ganz im Sinne des eigenverantwortlichen, selbstständigen Le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684360" y="14986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Gemeinsame Verantwortung für den Lern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16"/>
          <p:cNvSpPr/>
          <p:nvPr/>
        </p:nvSpPr>
        <p:spPr>
          <a:xfrm>
            <a:off x="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3E0-BB89-4BE7-BB53-A4E90F34FD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A46-08DE-47DF-B52E-AE4417E88C1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6A0-A446-4D85-83D5-C3FA784B1F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477720" y="1593720"/>
            <a:ext cx="8137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begriff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er Kernlehrplä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feld 11"/>
          <p:cNvSpPr/>
          <p:nvPr/>
        </p:nvSpPr>
        <p:spPr>
          <a:xfrm>
            <a:off x="-255600" y="8334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2"/>
          <p:cNvSpPr/>
          <p:nvPr/>
        </p:nvSpPr>
        <p:spPr>
          <a:xfrm>
            <a:off x="517680" y="2179800"/>
            <a:ext cx="81374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Weinert (2001) versteht man Kompetenzen als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bei Individuen verfügbaren oder durch sie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rlernbaren kognitiven Fähigkeiten und Fertigkeiten, um bestimmte Probleme zu lös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sowie die damit verbunde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motivationalen, volitionalen und sozialen Bereitschaften und Fäh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 Problemlösungen in variablen Situationen erfolgreich und verantwortungsvoll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nut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zu können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77720" y="5132520"/>
            <a:ext cx="8217000" cy="1008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5F54-A192-43F9-AA6D-B60796DEFD3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4CC-344F-431A-B29C-9785F3322B4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5"/>
          <p:cNvSpPr/>
          <p:nvPr/>
        </p:nvSpPr>
        <p:spPr>
          <a:xfrm>
            <a:off x="-365040" y="857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4"/>
          <p:cNvSpPr/>
          <p:nvPr/>
        </p:nvSpPr>
        <p:spPr>
          <a:xfrm>
            <a:off x="539640" y="2481120"/>
            <a:ext cx="8061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von Studierenden (Inhaltsdimension verknüpft mit Handlungsdimensio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neue Fragestellungen und Auf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7D2-F553-4090-8760-1FE1947390C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322A-9D68-4BD5-9170-2828D3ACBF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19040" y="2363760"/>
            <a:ext cx="8363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n, Schulcurriculum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Unterrichtsgegenstand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5400" y="146196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rwartungen als Ausgangspun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für die Unterricht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709640" y="4979880"/>
            <a:ext cx="578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ass die Studierenden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8"/>
          <p:cNvSpPr/>
          <p:nvPr/>
        </p:nvSpPr>
        <p:spPr>
          <a:xfrm>
            <a:off x="-184320" y="776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E12-56B7-42FE-8D82-DF4F8F355B6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Sohnius, Axel</cp:lastModifiedBy>
  <cp:lastPrinted>2014-08-24T10:29:18Z</cp:lastPrinted>
  <dcterms:modified xsi:type="dcterms:W3CDTF">2014-08-26T09:57:50Z</dcterms:modified>
  <cp:revision>638</cp:revision>
  <dc:subject/>
  <dc:title>Folie 1</dc:title>
</cp:coreProperties>
</file>