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324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dt" idx="15"/>
          </p:nvPr>
        </p:nvSpPr>
        <p:spPr>
          <a:xfrm>
            <a:off x="3882960" y="-360"/>
            <a:ext cx="297360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376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 type="ftr" idx="16"/>
          </p:nvPr>
        </p:nvSpPr>
        <p:spPr>
          <a:xfrm>
            <a:off x="-360" y="9445320"/>
            <a:ext cx="297324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 type="sldNum" idx="17"/>
          </p:nvPr>
        </p:nvSpPr>
        <p:spPr>
          <a:xfrm>
            <a:off x="3882960" y="9445320"/>
            <a:ext cx="297360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81AEEA-78D9-4F31-8F70-8B9B9F43FEF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3882960" y="9445680"/>
            <a:ext cx="2973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6919B6-8006-4307-BA3C-2C6FC512EF4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3760" cy="372888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3882960" y="9445680"/>
            <a:ext cx="2973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21B6B1-756B-4EC4-8C58-60BE2D49651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3760" cy="372888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7"/>
          <p:cNvSpPr/>
          <p:nvPr/>
        </p:nvSpPr>
        <p:spPr>
          <a:xfrm>
            <a:off x="3882960" y="9445680"/>
            <a:ext cx="2973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18EA8E-13CC-4316-B191-A408D199345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3760" cy="372888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3882960" y="9445680"/>
            <a:ext cx="2973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04539F-82A2-4267-8A69-0A2595D5B53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3760" cy="372888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7"/>
          <p:cNvSpPr/>
          <p:nvPr/>
        </p:nvSpPr>
        <p:spPr>
          <a:xfrm>
            <a:off x="3882960" y="9445680"/>
            <a:ext cx="2973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B1A1AB-25B7-4799-8A8C-63BB0F039B9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7"/>
          <p:cNvSpPr/>
          <p:nvPr/>
        </p:nvSpPr>
        <p:spPr>
          <a:xfrm>
            <a:off x="3882960" y="9445680"/>
            <a:ext cx="2973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15F8ECF5-9F6C-46F6-9A80-4A40E7985F3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7"/>
          <p:cNvSpPr/>
          <p:nvPr/>
        </p:nvSpPr>
        <p:spPr>
          <a:xfrm>
            <a:off x="3882960" y="9445680"/>
            <a:ext cx="2973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53BA6899-B52A-4705-86F5-0215EC0EBD3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3760" cy="372888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"/>
          <p:cNvSpPr/>
          <p:nvPr/>
        </p:nvSpPr>
        <p:spPr>
          <a:xfrm>
            <a:off x="3882960" y="9445680"/>
            <a:ext cx="2973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EF3206-1AEA-49F6-A262-150E376B85D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3760" cy="372888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7"/>
          <p:cNvSpPr/>
          <p:nvPr/>
        </p:nvSpPr>
        <p:spPr>
          <a:xfrm>
            <a:off x="3882960" y="9445680"/>
            <a:ext cx="2973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B59325-6E77-4137-9E92-485998AC7DE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3760" cy="372888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7"/>
          <p:cNvSpPr/>
          <p:nvPr/>
        </p:nvSpPr>
        <p:spPr>
          <a:xfrm>
            <a:off x="3882960" y="9445680"/>
            <a:ext cx="2973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53F08E-1E3E-4737-B9A2-D5E27A73996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3760" cy="372888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882960" y="9445680"/>
            <a:ext cx="2973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28473B-2180-4BEF-A9D2-034C0C639EC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3760" cy="372888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3882960" y="9445680"/>
            <a:ext cx="2973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4B8D73-6EE5-4027-BAD6-1A8235041CA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7"/>
          <p:cNvSpPr/>
          <p:nvPr/>
        </p:nvSpPr>
        <p:spPr>
          <a:xfrm>
            <a:off x="3882960" y="9445680"/>
            <a:ext cx="2973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E75CE2BA-BF1C-41D4-B4A2-51DA6BCB659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3760" cy="372888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7"/>
          <p:cNvSpPr/>
          <p:nvPr/>
        </p:nvSpPr>
        <p:spPr>
          <a:xfrm>
            <a:off x="3882960" y="9445680"/>
            <a:ext cx="2973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B0C58BD8-9352-4FF3-A30E-1A42392C2154}" type="slidenum">
              <a:rPr b="0" lang="de-D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944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3882960" y="9445680"/>
            <a:ext cx="2973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4536DC-3C1A-410D-B81F-D396AEEEBEC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7"/>
          <p:cNvSpPr/>
          <p:nvPr/>
        </p:nvSpPr>
        <p:spPr>
          <a:xfrm>
            <a:off x="3882960" y="9445680"/>
            <a:ext cx="2973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10D32A8E-DAB8-48A8-B5DF-0E1F3424CDB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3760" cy="372888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7"/>
          <p:cNvSpPr/>
          <p:nvPr/>
        </p:nvSpPr>
        <p:spPr>
          <a:xfrm>
            <a:off x="3882960" y="9445680"/>
            <a:ext cx="2973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4CD269-0CD3-474D-ACE0-923F752FEBA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Rectangle 7"/>
          <p:cNvSpPr/>
          <p:nvPr/>
        </p:nvSpPr>
        <p:spPr>
          <a:xfrm>
            <a:off x="3882960" y="9445680"/>
            <a:ext cx="2973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9DE4C7D7-2A2C-4A20-AD3B-6139FD99A74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3760" cy="372888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7"/>
          <p:cNvSpPr/>
          <p:nvPr/>
        </p:nvSpPr>
        <p:spPr>
          <a:xfrm>
            <a:off x="3882960" y="9445680"/>
            <a:ext cx="2973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B28E4D-4AF3-4533-B39B-7A313A54CE5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Rectangle 7"/>
          <p:cNvSpPr/>
          <p:nvPr/>
        </p:nvSpPr>
        <p:spPr>
          <a:xfrm>
            <a:off x="3882960" y="9445680"/>
            <a:ext cx="2973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0029CAB1-714C-4828-8583-ACEF7FCC6A2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3760" cy="372888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3760" cy="372888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Foliennummernplatzhalter 3"/>
          <p:cNvSpPr/>
          <p:nvPr/>
        </p:nvSpPr>
        <p:spPr>
          <a:xfrm>
            <a:off x="3882960" y="9445680"/>
            <a:ext cx="2973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50A6F4-163E-4E4C-9525-7BA10898A58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3760" cy="372888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Foliennummernplatzhalter 3"/>
          <p:cNvSpPr/>
          <p:nvPr/>
        </p:nvSpPr>
        <p:spPr>
          <a:xfrm>
            <a:off x="3882960" y="9445680"/>
            <a:ext cx="2973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03472F8-5520-4EC0-9229-7B756594AB08}" type="slidenum">
              <a:rPr b="0" lang="de-D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3760" cy="372888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Foliennummernplatzhalter 3"/>
          <p:cNvSpPr/>
          <p:nvPr/>
        </p:nvSpPr>
        <p:spPr>
          <a:xfrm>
            <a:off x="3882960" y="9445680"/>
            <a:ext cx="2973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561CB2D-F29C-4CF7-9061-E9EDCC4916F7}" type="slidenum">
              <a:rPr b="0" lang="de-D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3760" cy="372888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Foliennummernplatzhalter 3"/>
          <p:cNvSpPr/>
          <p:nvPr/>
        </p:nvSpPr>
        <p:spPr>
          <a:xfrm>
            <a:off x="3882960" y="9445680"/>
            <a:ext cx="2973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46B08CF-FC26-4161-9174-5CB85713AD3A}" type="slidenum">
              <a:rPr b="0" lang="de-D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3760" cy="372888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Foliennummernplatzhalter 3"/>
          <p:cNvSpPr/>
          <p:nvPr/>
        </p:nvSpPr>
        <p:spPr>
          <a:xfrm>
            <a:off x="3882960" y="9445680"/>
            <a:ext cx="2973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A94C54D-F25F-4062-98E3-259DEC2ADA6C}" type="slidenum">
              <a:rPr b="0" lang="de-D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7"/>
          <p:cNvSpPr/>
          <p:nvPr/>
        </p:nvSpPr>
        <p:spPr>
          <a:xfrm>
            <a:off x="3882960" y="9445680"/>
            <a:ext cx="2973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502BEE-BE78-4E7A-9799-886DE17B36D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3760" cy="372888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7"/>
          <p:cNvSpPr/>
          <p:nvPr/>
        </p:nvSpPr>
        <p:spPr>
          <a:xfrm>
            <a:off x="3882960" y="9445680"/>
            <a:ext cx="2973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6613DD77-5C0D-42B4-882D-EA8C5FFE5B8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Rectangle 7"/>
          <p:cNvSpPr/>
          <p:nvPr/>
        </p:nvSpPr>
        <p:spPr>
          <a:xfrm>
            <a:off x="3882960" y="9445680"/>
            <a:ext cx="2973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AE415D5D-1ECA-4125-A454-0D0EC415F01D}" type="slidenum">
              <a:rPr b="0" lang="de-D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912960" y="4723920"/>
            <a:ext cx="50320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2960" y="9445680"/>
            <a:ext cx="2973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DABCC827-6187-4965-8D30-009CA63B95F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7"/>
          <p:cNvSpPr/>
          <p:nvPr/>
        </p:nvSpPr>
        <p:spPr>
          <a:xfrm>
            <a:off x="3882960" y="9445680"/>
            <a:ext cx="2973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33C4713E-15AB-4250-8D56-AC1BCB976BA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912960" y="4723920"/>
            <a:ext cx="50320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3882960" y="9445680"/>
            <a:ext cx="2973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D56FE826-1529-4A94-8700-DE9B98FBA8C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7"/>
          <p:cNvSpPr/>
          <p:nvPr/>
        </p:nvSpPr>
        <p:spPr>
          <a:xfrm>
            <a:off x="3882960" y="9447120"/>
            <a:ext cx="29736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280AD4EB-B086-435B-9A6E-16260CFBC665}" type="slidenum">
              <a:rPr b="0" lang="de-D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738D7-0B73-439D-8FC8-F875EB7D07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AB087-6DC0-41EA-8AB3-978B4D41FBB1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C51604-F834-475B-BC77-1B9CA98FED2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90E956-8599-4AFF-AEFE-635C0305C88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539640" y="1268280"/>
            <a:ext cx="806472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750324-8FCD-45E6-A487-2E58AA5479F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20C513-F1BF-405F-949E-E8773343582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7430F1-B910-4C06-BDAD-A0673F5C95A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8E79C6-0455-438C-8A56-F7A05C9B29CA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D0E950-6E58-4EFF-8978-0503F8AF4B15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0034BB-8C08-4A15-A416-809F3154C268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66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99328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539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66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599328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E914BD-324F-4E50-8735-3A540C5CCD0B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9AEC85-33D4-42C0-A100-FB5346BA28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32B5C-A7FA-44B2-91B0-42EDEAAF8B77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868E16-9316-4529-9CF6-3984F64D198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F91132-0953-440B-8EC5-190171E7255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1AE2C7-5F14-473E-8B27-68700E7E974B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D57DB4-75D2-4D8E-9D81-3E8C2FCDAAD7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539640" y="1268280"/>
            <a:ext cx="806472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3804D2-CE64-48BC-BDA3-2BAD469AEF6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E6A35C-836E-4375-B0F9-899BEB8F7DB2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E170F9-A5C5-43FC-BEF2-FBA6EFF3951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845704-461A-4572-AFA1-DB5A405ABF9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6E3FB9-E67F-4509-BC99-C1D971EBC8D9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231DDB-37F0-4322-9E8E-019C5FD0FB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66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328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9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66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328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7CD53-E1F7-484D-BE7C-5EB1B0A7BA69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66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99328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539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66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599328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BDB32A-EC37-4E8C-B5CA-B804E833F931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7D44E-7368-459F-9EAC-E38D68C05E02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26CAF-B0D4-4008-A68E-FEE13B0B431A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96916-1D6E-4D9F-8CD2-C652827B3DAD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68B3A-F880-4917-8964-63754EF9D8D8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1C13C-9B90-428D-AAB3-8B7BF48DCC9D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539640" y="1268280"/>
            <a:ext cx="806472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B79EB-8E61-4949-9B22-CF33F5617F8A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68934-A49B-4B7F-A6B4-68D867EC341C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62318-9326-40A8-B796-84F490680302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86F22-84E2-421B-BF59-CB6B1F88A3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017B-FA82-4CDA-846A-AB3F71798FD5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8E36C-4C48-470C-B00A-A50238A91A97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C21F3-1903-4E09-A6AE-8EB4B9D9A387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66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599328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539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66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599328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5149F-8A40-4EFA-9AE6-95D8C23001DD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ABF6C1A-01A5-4F08-991C-BB00214E2CAB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9AE89C7-C43B-43E1-9C73-A91BC8CF2087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ACC2F5C-21F6-4145-827F-F909A752FCB3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481296D-5B61-4696-BBE9-B9D12212FE54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4F30B73-5738-45E0-870C-AB80A7E1DFE9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539640" y="1268280"/>
            <a:ext cx="806472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DE82819-33BA-49C3-991B-1C4F5F7424C1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1530B48-4723-4109-B5CF-E7D87008CE5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9C52-DC1B-488D-B7FD-B3E241AB2A19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A8C7FDB-2E21-4CDF-B974-6DE0E9FC5F38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C4B2A19-A6F5-4FB7-8687-F79420E862D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629CE6F-8207-41A1-AF51-4C82ADCB9A28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7FB699-E3E1-4427-9594-0D9B7374A4A0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66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599328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539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66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599328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673156F-F401-4891-9E53-867AAC688F38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B8C1B5-14E0-40E4-AE6C-868B1B23E2D2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8B4F14-8BC8-4711-A7E2-443A9D8B8EF4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52AA91-C44A-468E-B934-6B72F14B6D91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E2ECBD-EB99-4663-B339-91D6017712E8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BF5C8E-D386-42F7-953C-D39C974AB07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F342-9248-4E8D-AD0F-CE302B003885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539640" y="1268280"/>
            <a:ext cx="806472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8F179A-3532-4C69-A654-F9276B4C4E2B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E84B09-C7D8-4786-81EE-372E057155FB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448CFC-A849-4804-ACEB-5D46D9B841C1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11B719-FA98-4FC0-8321-08C3A4828DC1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8851E1-19C9-4EB0-B02F-AB5617DF9E52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E4FFD6-739A-47A7-9E73-16FEFD4CAE29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266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599328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539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266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599328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410280-7319-4383-A7F0-F16B62C2DF9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731D-8CD8-4A08-A416-32C5B0086BE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9E4A-2FB8-4A77-BA8D-02AB0F35FB3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39640" y="1268280"/>
            <a:ext cx="806472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9389-61C9-4924-89F1-324E4C9732D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5D5E-2680-47D2-B7B0-0214C430A9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B0E50-2598-4A51-8317-3B8E82BC34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2DAE-3643-4846-9B1B-ADF765062A0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332D-FCA5-4E06-A866-4FC8ACB9D0C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2E1C-614E-428C-A03C-4E220A2F3B5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783B-EA4E-455E-90EB-E48DD7C433A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66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9328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9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66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9328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8D58-C071-4AE3-BFC9-F9254190643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D0F91E-BA8F-4F82-81F7-501309900E0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4C49EA-0C32-4D94-B61C-92F78D3C14C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E9A975-E7FA-44E6-889E-7179553214D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438CE7-7310-4137-81B6-9B012CD0F89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FF731D-E005-44DF-91A8-62176D05FB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9D712-A155-400E-B19D-8BC65770268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539640" y="1268280"/>
            <a:ext cx="806472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904025-CAB8-494F-8E23-E8229B56420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0F3C93-5B46-4649-A4AD-8845A51C4A5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60D174-F4F8-4F55-81EA-5CAD0725D7B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D0CD2F-FC9D-4494-B524-0456277DE53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50C43A-F2E5-4F5A-BED7-532C3BA1E68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3A56CE-A65A-4224-BA46-EA159731439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66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9328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39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66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9328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EC92C9-1652-465D-B3BE-BECB1E71725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D16228-9556-4844-83F5-C08FEC64ECB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4281A3-6B41-49E6-AABB-EC305ABB0FB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604A94-AF5E-48C7-86F5-7F030942E0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8718D-C90A-4B88-B0EC-EAFF3842622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DE1998-2571-4005-8F7D-DAC5DC95D2B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AE1054-6CB3-4D4C-B61B-77694907619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539640" y="1268280"/>
            <a:ext cx="806472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8FDB0C-696B-4652-B480-A0574308393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8FD4D5-E033-4DBC-ACA0-CD0B51C93EF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7BDE07-D1F0-49CC-A0F1-BBD22EA36F3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79E090-20FE-4911-86F4-11AB96A03CA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707482-6542-4D53-B0FD-D052994A661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3CBE23-A067-43F2-B2C0-A196979D196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66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9328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39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66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9328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F65FD2-AE6E-440C-8636-9059BD04E05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2F419-9CD4-442F-8707-1A98CF5A48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E72CC-94AB-4ECF-84D1-B84C487E659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37F48-42C0-4EFE-A3A7-AD5AD0F4485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F3915-10C7-4474-A4C3-45C315E4689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01B1B-CD6B-4158-B5D8-54C57C70A7A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E6392-1961-4D61-8369-56F1726A57A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539640" y="1268280"/>
            <a:ext cx="806472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D7102-3415-482A-8870-8CE74800A5C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E9FCD-EE0A-46AD-A814-32C1E68C39E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D5046-1789-4C34-9DA4-B66DF21E8B7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BD635-F2F1-45B9-B4F7-D043F2565AB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A5F3F-AA64-4C4D-9311-F5354A54541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121C9-46A2-4BEB-94E1-5489402B75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39640" y="1268280"/>
            <a:ext cx="806472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9BE5D-2F1C-4A32-A25A-470C8578728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66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99328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539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66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99328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FBC0D-83DA-45A2-A7CB-AB062A725E7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692105-1011-4A54-AD69-0139E11084C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F8FD47-A2EA-432F-93D9-D30FE5E18EF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5271DF-C950-4C6D-9843-B82D3179B43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8A557E-320B-47B7-B09B-9577FE705EA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2928BA-A2F4-4FF5-83C2-2E74073B578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539640" y="1268280"/>
            <a:ext cx="806472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FA118C-44F4-4D92-82B4-D1D5EB09B25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E55ECD-F21C-4694-A51B-3EF38F4ECD0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6E3A91-D707-4464-9A41-0DE8B6ECE17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071273-3798-48E3-BD68-E415631A9E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26CFC-0443-471E-972B-66FA8E03576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D60305-AA81-4401-8B54-A23B5263AEA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987083-22CE-4395-BD5E-B4C2B369E4A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66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99328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539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66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599328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FE45D3-B73F-4D79-805D-B6F4D84C32F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961BB0-9079-4AF7-93BA-364D65EA425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D1528E-21C0-40E4-AC5E-A62FFCB066B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304BAB-3947-416B-B917-3AAB72A88DF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7EFABE-5A84-4FBF-8437-BF4DE0F3BCE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4E1A3B-408C-4044-9C96-5D939E3D92F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1268280"/>
            <a:ext cx="806472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56CC6D-B038-4235-B435-DD18EB82E00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6E600D-671A-4F87-859B-B2EA99EA53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83CF9-A655-431F-A783-7DCCC497836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59459D-A20E-4965-9F3F-CDB40913726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FA38F3-1FFB-46F3-BEA9-DB2A63D0007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52FC1E-1868-4A14-B9F5-CD7F729E66F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6F3732-4441-4805-9F9F-3A79323DC96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66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99328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539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66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599328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06C620-A2FE-407D-B81F-61C424531A4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1D82B-79B3-4E5F-A4DA-B411BCB1618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BBA68-3B0C-4C11-95FD-90532DD6561E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BA32A-2A5C-48D1-B002-71F2A7B091B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5F8C0-CB9E-44FB-A148-49F7BF736A91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7A080-2C18-47D3-BD51-3A7701CA64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EE19F-AEAA-4C1F-95D0-0A15F8FFD722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539640" y="1268280"/>
            <a:ext cx="806472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A1901-5376-41DA-8ACC-F86132C52AD7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81ECE-F0A0-4E06-8B9E-47A354E1065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6CE2F-9929-4131-BC4A-48E2CDC7A73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AB406-23F0-4B0D-980F-C8AC5B870A81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72509-4F13-4CA7-B50A-F580750BB67F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DF15D-1F78-4E23-A8CB-F800EA5DAA4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66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99328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539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66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599328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B2B55-0A15-4BEB-9A6F-BE0DC747E9E7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29659E-F8C8-4B7C-BB00-02F3391F498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CC4EE4-606B-4283-8E11-B45DB623BC3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75448F-8F76-4BFC-A13E-AB1FD4226F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281160" indent="-281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899640" y="6453360"/>
            <a:ext cx="775044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ctr" pos="3683160"/>
                <a:tab algn="r" pos="7709040"/>
                <a:tab algn="l" pos="8458200"/>
                <a:tab algn="l" pos="9398160"/>
                <a:tab algn="l" pos="10337760"/>
              </a:tabLst>
              <a:defRPr b="1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ctr" pos="3683160"/>
                <a:tab algn="r" pos="7709040"/>
                <a:tab algn="l" pos="8458200"/>
                <a:tab algn="l" pos="9398160"/>
                <a:tab algn="l" pos="1033776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Times New Roman"/>
              </a:rPr>
              <a:t>Soest, 25.08.20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53928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A844A-92A3-4084-AF54-D0C922C917E8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AutoShape 12"/>
          <p:cNvSpPr/>
          <p:nvPr/>
        </p:nvSpPr>
        <p:spPr>
          <a:xfrm>
            <a:off x="1509840" y="2805120"/>
            <a:ext cx="612432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2"/>
          <p:cNvSpPr/>
          <p:nvPr/>
        </p:nvSpPr>
        <p:spPr>
          <a:xfrm>
            <a:off x="0" y="1311120"/>
            <a:ext cx="9144000" cy="4953240"/>
          </a:xfrm>
          <a:prstGeom prst="rect">
            <a:avLst/>
          </a:prstGeom>
          <a:solidFill>
            <a:srgbClr val="66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2" descr="V:\BIBLIOTHEK\Abi-online\Allgemeines\QUA-LiS-Logo_klein.jpg"/>
          <p:cNvPicPr/>
          <p:nvPr/>
        </p:nvPicPr>
        <p:blipFill>
          <a:blip r:embed="rId2"/>
          <a:stretch/>
        </p:blipFill>
        <p:spPr>
          <a:xfrm>
            <a:off x="5729400" y="117360"/>
            <a:ext cx="2936880" cy="102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AutoShape 12"/>
          <p:cNvSpPr/>
          <p:nvPr/>
        </p:nvSpPr>
        <p:spPr>
          <a:xfrm>
            <a:off x="1509840" y="2805120"/>
            <a:ext cx="612432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2"/>
          <p:cNvSpPr/>
          <p:nvPr/>
        </p:nvSpPr>
        <p:spPr>
          <a:xfrm>
            <a:off x="0" y="1311120"/>
            <a:ext cx="9144000" cy="4953240"/>
          </a:xfrm>
          <a:prstGeom prst="rect">
            <a:avLst/>
          </a:prstGeom>
          <a:solidFill>
            <a:srgbClr val="66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2" descr="V:\BIBLIOTHEK\Abi-online\Allgemeines\QUA-LiS-Logo_klein.jpg"/>
          <p:cNvPicPr/>
          <p:nvPr/>
        </p:nvPicPr>
        <p:blipFill>
          <a:blip r:embed="rId2"/>
          <a:stretch/>
        </p:blipFill>
        <p:spPr>
          <a:xfrm>
            <a:off x="5729400" y="117360"/>
            <a:ext cx="2936880" cy="102240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281160" indent="-281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1"/>
          </p:nvPr>
        </p:nvSpPr>
        <p:spPr>
          <a:xfrm>
            <a:off x="53928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6EBC4-8B71-4B70-8DF8-8697A33B67A2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AutoShape 12"/>
          <p:cNvSpPr/>
          <p:nvPr/>
        </p:nvSpPr>
        <p:spPr>
          <a:xfrm>
            <a:off x="1509840" y="2805120"/>
            <a:ext cx="612432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2"/>
          <p:cNvSpPr/>
          <p:nvPr/>
        </p:nvSpPr>
        <p:spPr>
          <a:xfrm>
            <a:off x="0" y="1311120"/>
            <a:ext cx="9144000" cy="4953240"/>
          </a:xfrm>
          <a:prstGeom prst="rect">
            <a:avLst/>
          </a:prstGeom>
          <a:solidFill>
            <a:srgbClr val="66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V:\BIBLIOTHEK\Abi-online\Allgemeines\QUA-LiS-Logo_klein.jpg"/>
          <p:cNvPicPr/>
          <p:nvPr/>
        </p:nvPicPr>
        <p:blipFill>
          <a:blip r:embed="rId2"/>
          <a:stretch/>
        </p:blipFill>
        <p:spPr>
          <a:xfrm>
            <a:off x="5729400" y="117360"/>
            <a:ext cx="2936880" cy="1022400"/>
          </a:xfrm>
          <a:prstGeom prst="rect">
            <a:avLst/>
          </a:prstGeom>
          <a:ln w="0">
            <a:noFill/>
          </a:ln>
        </p:spPr>
      </p:pic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281160" indent="-281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2"/>
          </p:nvPr>
        </p:nvSpPr>
        <p:spPr>
          <a:xfrm>
            <a:off x="53928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82612-18B5-4603-BF8A-722706B25A7C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AutoShape 12"/>
          <p:cNvSpPr/>
          <p:nvPr/>
        </p:nvSpPr>
        <p:spPr>
          <a:xfrm>
            <a:off x="1509840" y="2805120"/>
            <a:ext cx="612432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2"/>
          <p:cNvSpPr/>
          <p:nvPr/>
        </p:nvSpPr>
        <p:spPr>
          <a:xfrm>
            <a:off x="0" y="1311120"/>
            <a:ext cx="9144000" cy="4953240"/>
          </a:xfrm>
          <a:prstGeom prst="rect">
            <a:avLst/>
          </a:prstGeom>
          <a:solidFill>
            <a:srgbClr val="66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2" descr="V:\BIBLIOTHEK\Abi-online\Allgemeines\QUA-LiS-Logo_klein.jpg"/>
          <p:cNvPicPr/>
          <p:nvPr/>
        </p:nvPicPr>
        <p:blipFill>
          <a:blip r:embed="rId2"/>
          <a:stretch/>
        </p:blipFill>
        <p:spPr>
          <a:xfrm>
            <a:off x="5729400" y="117360"/>
            <a:ext cx="2936880" cy="1022400"/>
          </a:xfrm>
          <a:prstGeom prst="rect">
            <a:avLst/>
          </a:prstGeom>
          <a:ln w="0">
            <a:noFill/>
          </a:ln>
        </p:spPr>
      </p:pic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281160" indent="-281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3"/>
          </p:nvPr>
        </p:nvSpPr>
        <p:spPr>
          <a:xfrm>
            <a:off x="53928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4B87A-D315-4BA5-96A7-475CA52027A3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AutoShape 12"/>
          <p:cNvSpPr/>
          <p:nvPr/>
        </p:nvSpPr>
        <p:spPr>
          <a:xfrm>
            <a:off x="1509840" y="2805120"/>
            <a:ext cx="612432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0" y="1311120"/>
            <a:ext cx="9144000" cy="4953240"/>
          </a:xfrm>
          <a:prstGeom prst="rect">
            <a:avLst/>
          </a:prstGeom>
          <a:solidFill>
            <a:srgbClr val="66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2" descr="V:\BIBLIOTHEK\Abi-online\Allgemeines\QUA-LiS-Logo_klein.jpg"/>
          <p:cNvPicPr/>
          <p:nvPr/>
        </p:nvPicPr>
        <p:blipFill>
          <a:blip r:embed="rId2"/>
          <a:stretch/>
        </p:blipFill>
        <p:spPr>
          <a:xfrm>
            <a:off x="5729400" y="117360"/>
            <a:ext cx="2936880" cy="1022400"/>
          </a:xfrm>
          <a:prstGeom prst="rect">
            <a:avLst/>
          </a:prstGeom>
          <a:ln w="0">
            <a:noFill/>
          </a:ln>
        </p:spPr>
      </p:pic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281160" indent="-281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4"/>
          </p:nvPr>
        </p:nvSpPr>
        <p:spPr>
          <a:xfrm>
            <a:off x="53928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603DD-8F41-414E-AAA4-039441373BC5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12"/>
          <p:cNvSpPr/>
          <p:nvPr/>
        </p:nvSpPr>
        <p:spPr>
          <a:xfrm>
            <a:off x="1509840" y="2805120"/>
            <a:ext cx="612432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0" y="1311120"/>
            <a:ext cx="9144000" cy="4953240"/>
          </a:xfrm>
          <a:prstGeom prst="rect">
            <a:avLst/>
          </a:prstGeom>
          <a:solidFill>
            <a:srgbClr val="66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V:\BIBLIOTHEK\Abi-online\Allgemeines\QUA-LiS-Logo_klein.jpg"/>
          <p:cNvPicPr/>
          <p:nvPr/>
        </p:nvPicPr>
        <p:blipFill>
          <a:blip r:embed="rId2"/>
          <a:stretch/>
        </p:blipFill>
        <p:spPr>
          <a:xfrm>
            <a:off x="5729400" y="117360"/>
            <a:ext cx="2936880" cy="10224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281160" indent="-281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53928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461DA-4CE0-4162-829A-F7608E00A39D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12"/>
          <p:cNvSpPr/>
          <p:nvPr/>
        </p:nvSpPr>
        <p:spPr>
          <a:xfrm>
            <a:off x="1509840" y="2805120"/>
            <a:ext cx="612432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0" y="1311120"/>
            <a:ext cx="9144000" cy="4953240"/>
          </a:xfrm>
          <a:prstGeom prst="rect">
            <a:avLst/>
          </a:prstGeom>
          <a:solidFill>
            <a:srgbClr val="66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V:\BIBLIOTHEK\Abi-online\Allgemeines\QUA-LiS-Logo_klein.jpg"/>
          <p:cNvPicPr/>
          <p:nvPr/>
        </p:nvPicPr>
        <p:blipFill>
          <a:blip r:embed="rId2"/>
          <a:stretch/>
        </p:blipFill>
        <p:spPr>
          <a:xfrm>
            <a:off x="5729400" y="117360"/>
            <a:ext cx="2936880" cy="10224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281160" indent="-281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4"/>
          </p:nvPr>
        </p:nvSpPr>
        <p:spPr>
          <a:xfrm>
            <a:off x="53928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34AB6-6ABD-490A-8F52-137052425D50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12"/>
          <p:cNvSpPr/>
          <p:nvPr/>
        </p:nvSpPr>
        <p:spPr>
          <a:xfrm>
            <a:off x="1509840" y="2805120"/>
            <a:ext cx="612432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1311120"/>
            <a:ext cx="9144000" cy="4953240"/>
          </a:xfrm>
          <a:prstGeom prst="rect">
            <a:avLst/>
          </a:prstGeom>
          <a:solidFill>
            <a:srgbClr val="66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V:\BIBLIOTHEK\Abi-online\Allgemeines\QUA-LiS-Logo_klein.jpg"/>
          <p:cNvPicPr/>
          <p:nvPr/>
        </p:nvPicPr>
        <p:blipFill>
          <a:blip r:embed="rId2"/>
          <a:stretch/>
        </p:blipFill>
        <p:spPr>
          <a:xfrm>
            <a:off x="5729400" y="117360"/>
            <a:ext cx="2936880" cy="10224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281160" indent="-281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Num" idx="5"/>
          </p:nvPr>
        </p:nvSpPr>
        <p:spPr>
          <a:xfrm>
            <a:off x="53928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813C0-FE78-4A30-8846-EFD66A7CB569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AutoShape 12"/>
          <p:cNvSpPr/>
          <p:nvPr/>
        </p:nvSpPr>
        <p:spPr>
          <a:xfrm>
            <a:off x="1509840" y="2805120"/>
            <a:ext cx="612432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0" y="1311120"/>
            <a:ext cx="9144000" cy="4953240"/>
          </a:xfrm>
          <a:prstGeom prst="rect">
            <a:avLst/>
          </a:prstGeom>
          <a:solidFill>
            <a:srgbClr val="66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" descr="V:\BIBLIOTHEK\Abi-online\Allgemeines\QUA-LiS-Logo_klein.jpg"/>
          <p:cNvPicPr/>
          <p:nvPr/>
        </p:nvPicPr>
        <p:blipFill>
          <a:blip r:embed="rId2"/>
          <a:stretch/>
        </p:blipFill>
        <p:spPr>
          <a:xfrm>
            <a:off x="5729400" y="117360"/>
            <a:ext cx="2936880" cy="10224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281160" indent="-281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Num" idx="6"/>
          </p:nvPr>
        </p:nvSpPr>
        <p:spPr>
          <a:xfrm>
            <a:off x="53928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C4D99-009F-4BAB-AB4B-8A092842BCE8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AutoShape 12"/>
          <p:cNvSpPr/>
          <p:nvPr/>
        </p:nvSpPr>
        <p:spPr>
          <a:xfrm>
            <a:off x="1509840" y="2805120"/>
            <a:ext cx="612432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"/>
          <p:cNvSpPr/>
          <p:nvPr/>
        </p:nvSpPr>
        <p:spPr>
          <a:xfrm>
            <a:off x="0" y="1311120"/>
            <a:ext cx="9144000" cy="4953240"/>
          </a:xfrm>
          <a:prstGeom prst="rect">
            <a:avLst/>
          </a:prstGeom>
          <a:solidFill>
            <a:srgbClr val="66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" descr="V:\BIBLIOTHEK\Abi-online\Allgemeines\QUA-LiS-Logo_klein.jpg"/>
          <p:cNvPicPr/>
          <p:nvPr/>
        </p:nvPicPr>
        <p:blipFill>
          <a:blip r:embed="rId2"/>
          <a:stretch/>
        </p:blipFill>
        <p:spPr>
          <a:xfrm>
            <a:off x="5729400" y="117360"/>
            <a:ext cx="2936880" cy="102240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281160" indent="-281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sldNum" idx="7"/>
          </p:nvPr>
        </p:nvSpPr>
        <p:spPr>
          <a:xfrm>
            <a:off x="53928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B0654-27BE-4725-9D6C-3E7F421A18D4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AutoShape 12"/>
          <p:cNvSpPr/>
          <p:nvPr/>
        </p:nvSpPr>
        <p:spPr>
          <a:xfrm>
            <a:off x="1509840" y="2805120"/>
            <a:ext cx="612432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"/>
          <p:cNvSpPr/>
          <p:nvPr/>
        </p:nvSpPr>
        <p:spPr>
          <a:xfrm>
            <a:off x="0" y="1311120"/>
            <a:ext cx="9144000" cy="4953240"/>
          </a:xfrm>
          <a:prstGeom prst="rect">
            <a:avLst/>
          </a:prstGeom>
          <a:solidFill>
            <a:srgbClr val="66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2" descr="V:\BIBLIOTHEK\Abi-online\Allgemeines\QUA-LiS-Logo_klein.jpg"/>
          <p:cNvPicPr/>
          <p:nvPr/>
        </p:nvPicPr>
        <p:blipFill>
          <a:blip r:embed="rId2"/>
          <a:stretch/>
        </p:blipFill>
        <p:spPr>
          <a:xfrm>
            <a:off x="5729400" y="117360"/>
            <a:ext cx="2936880" cy="102240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281160" indent="-281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sldNum" idx="8"/>
          </p:nvPr>
        </p:nvSpPr>
        <p:spPr>
          <a:xfrm>
            <a:off x="53928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BB3DE-FB5A-4E30-B5E2-E1F6C8F2E943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AutoShape 12"/>
          <p:cNvSpPr/>
          <p:nvPr/>
        </p:nvSpPr>
        <p:spPr>
          <a:xfrm>
            <a:off x="1509840" y="2805120"/>
            <a:ext cx="612432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2"/>
          <p:cNvSpPr/>
          <p:nvPr/>
        </p:nvSpPr>
        <p:spPr>
          <a:xfrm>
            <a:off x="0" y="1311120"/>
            <a:ext cx="9144000" cy="4953240"/>
          </a:xfrm>
          <a:prstGeom prst="rect">
            <a:avLst/>
          </a:prstGeom>
          <a:solidFill>
            <a:srgbClr val="66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2" descr="V:\BIBLIOTHEK\Abi-online\Allgemeines\QUA-LiS-Logo_klein.jpg"/>
          <p:cNvPicPr/>
          <p:nvPr/>
        </p:nvPicPr>
        <p:blipFill>
          <a:blip r:embed="rId2"/>
          <a:stretch/>
        </p:blipFill>
        <p:spPr>
          <a:xfrm>
            <a:off x="5729400" y="117360"/>
            <a:ext cx="2936880" cy="102240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281160" indent="-281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sldNum" idx="9"/>
          </p:nvPr>
        </p:nvSpPr>
        <p:spPr>
          <a:xfrm>
            <a:off x="53928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6BFB9-CA6F-4DA6-8716-F935717F7EF1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AutoShape 12"/>
          <p:cNvSpPr/>
          <p:nvPr/>
        </p:nvSpPr>
        <p:spPr>
          <a:xfrm>
            <a:off x="1509840" y="2805120"/>
            <a:ext cx="612432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2"/>
          <p:cNvSpPr/>
          <p:nvPr/>
        </p:nvSpPr>
        <p:spPr>
          <a:xfrm>
            <a:off x="0" y="1311120"/>
            <a:ext cx="9144000" cy="4953240"/>
          </a:xfrm>
          <a:prstGeom prst="rect">
            <a:avLst/>
          </a:prstGeom>
          <a:solidFill>
            <a:srgbClr val="66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2" descr="V:\BIBLIOTHEK\Abi-online\Allgemeines\QUA-LiS-Logo_klein.jpg"/>
          <p:cNvPicPr/>
          <p:nvPr/>
        </p:nvPicPr>
        <p:blipFill>
          <a:blip r:embed="rId2"/>
          <a:stretch/>
        </p:blipFill>
        <p:spPr>
          <a:xfrm>
            <a:off x="5729400" y="117360"/>
            <a:ext cx="2936880" cy="102240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281160" indent="-281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10"/>
          </p:nvPr>
        </p:nvSpPr>
        <p:spPr>
          <a:xfrm>
            <a:off x="53928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DDCF5-083D-455D-9EF8-CD284E08C4AC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4"/>
          <p:cNvSpPr/>
          <p:nvPr/>
        </p:nvSpPr>
        <p:spPr>
          <a:xfrm>
            <a:off x="-7920" y="1241280"/>
            <a:ext cx="9144000" cy="504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Picture 2" descr="NRW_Guillochen_PowerPoint-Titel"/>
          <p:cNvPicPr/>
          <p:nvPr/>
        </p:nvPicPr>
        <p:blipFill>
          <a:blip r:embed="rId1"/>
          <a:stretch/>
        </p:blipFill>
        <p:spPr>
          <a:xfrm>
            <a:off x="11160" y="3019320"/>
            <a:ext cx="9144000" cy="1914480"/>
          </a:xfrm>
          <a:prstGeom prst="rect">
            <a:avLst/>
          </a:prstGeom>
          <a:ln w="0">
            <a:noFill/>
          </a:ln>
        </p:spPr>
      </p:pic>
      <p:sp>
        <p:nvSpPr>
          <p:cNvPr id="556" name="Rectangle 3"/>
          <p:cNvSpPr/>
          <p:nvPr/>
        </p:nvSpPr>
        <p:spPr>
          <a:xfrm>
            <a:off x="68400" y="2733840"/>
            <a:ext cx="8989920" cy="31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2060"/>
                </a:solidFill>
                <a:latin typeface="Arial"/>
              </a:rPr>
              <a:t>Neue Kernlehrpläne für d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2060"/>
                </a:solidFill>
                <a:latin typeface="Arial"/>
              </a:rPr>
              <a:t>Abendgymnasium und Kolleg in </a:t>
            </a:r>
            <a:br>
              <a:rPr sz="2800"/>
            </a:br>
            <a:r>
              <a:rPr b="0" lang="de-DE" sz="2800" spc="-1" strike="noStrike">
                <a:solidFill>
                  <a:srgbClr val="002060"/>
                </a:solidFill>
                <a:latin typeface="Arial"/>
              </a:rPr>
              <a:t>Nordrhein Westfal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2060"/>
                </a:solidFill>
                <a:latin typeface="Arial"/>
              </a:rPr>
              <a:t>Kernlehrplan Biolo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hteck 1"/>
          <p:cNvSpPr/>
          <p:nvPr/>
        </p:nvSpPr>
        <p:spPr>
          <a:xfrm>
            <a:off x="2286000" y="1409760"/>
            <a:ext cx="45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2060"/>
                </a:solidFill>
                <a:latin typeface="Arial-BoldMT"/>
              </a:rPr>
              <a:t>HERZLICH WILLKOMM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82320" y="2693880"/>
            <a:ext cx="806436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Kompetenzorientierte Kernlehrpläne</a:t>
            </a:r>
            <a:endParaRPr b="1" lang="en-US" sz="32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616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22247-7E38-4B16-826C-BCB24CF65478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7" name=""/>
          <p:cNvGraphicFramePr/>
          <p:nvPr/>
        </p:nvGraphicFramePr>
        <p:xfrm>
          <a:off x="520560" y="1420920"/>
          <a:ext cx="8064720" cy="4672080"/>
        </p:xfrm>
        <a:graphic>
          <a:graphicData uri="http://schemas.openxmlformats.org/drawingml/2006/table">
            <a:tbl>
              <a:tblPr/>
              <a:tblGrid>
                <a:gridCol w="863640"/>
                <a:gridCol w="7201080"/>
              </a:tblGrid>
              <a:tr h="35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pit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iederungspunk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5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rbemerkung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Aufgaben und Ziele des Faches</a:t>
                      </a: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Kompetenzbereiche, Inhaltsfelder und Kompetenzerwartungen</a:t>
                      </a: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Kompetenzbereiche und Inhaltsfelder des Faches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Kompetenzerwartungen und inhaltliche Schwerpunkte bis zum Ende der Einführungsph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Kompetenzerwartungen und inhaltliche Schwerpunkte bis zum Ende der Qualifikationsph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undku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istungsku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Lernerfolgsüberprüfung und Leistungsbewertung</a:t>
                      </a: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iturprüfung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ha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8" name="Textfeld 7"/>
          <p:cNvSpPr/>
          <p:nvPr/>
        </p:nvSpPr>
        <p:spPr>
          <a:xfrm>
            <a:off x="0" y="76500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Kompetenzorientierte Kernlehrplä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250A7-5B91-4532-8E7A-73DE2D73D1AD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4560" y="1290600"/>
            <a:ext cx="8064360" cy="4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-BoldMT"/>
              </a:rPr>
              <a:t>  </a:t>
            </a:r>
            <a:r>
              <a:rPr b="1" lang="de-DE" sz="2400" spc="-1" strike="noStrike">
                <a:solidFill>
                  <a:srgbClr val="002060"/>
                </a:solidFill>
                <a:latin typeface="Arial-BoldMT"/>
              </a:rPr>
              <a:t>Struktur</a:t>
            </a:r>
            <a:endParaRPr b="1" lang="en-US" sz="24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621" name="Line 7"/>
          <p:cNvSpPr/>
          <p:nvPr/>
        </p:nvSpPr>
        <p:spPr>
          <a:xfrm>
            <a:off x="4427640" y="256536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8"/>
          <p:cNvSpPr/>
          <p:nvPr/>
        </p:nvSpPr>
        <p:spPr>
          <a:xfrm>
            <a:off x="3348000" y="4443480"/>
            <a:ext cx="2286000" cy="485640"/>
          </a:xfrm>
          <a:prstGeom prst="rect">
            <a:avLst/>
          </a:prstGeom>
          <a:gradFill rotWithShape="0">
            <a:gsLst>
              <a:gs pos="0">
                <a:srgbClr val="ffcc00">
                  <a:alpha val="56078"/>
                </a:srgbClr>
              </a:gs>
              <a:gs pos="100000">
                <a:srgbClr val="cc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Konkretisier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Kompetenzerwartung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9"/>
          <p:cNvSpPr/>
          <p:nvPr/>
        </p:nvSpPr>
        <p:spPr>
          <a:xfrm>
            <a:off x="895320" y="5234040"/>
            <a:ext cx="7070760" cy="91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Studierenden können </a:t>
            </a:r>
            <a:r>
              <a:rPr b="0" lang="de-DE" sz="1600" spc="-1" strike="noStrike">
                <a:solidFill>
                  <a:srgbClr val="00b050"/>
                </a:solidFill>
                <a:latin typeface="Arial"/>
              </a:rPr>
              <a:t>naturwissenschaftlich-gesellschaftliche </a:t>
            </a:r>
            <a:r>
              <a:rPr b="0" lang="de-DE" sz="1600" spc="-1" strike="noStrike">
                <a:solidFill>
                  <a:srgbClr val="ff9900"/>
                </a:solidFill>
                <a:latin typeface="Arial"/>
              </a:rPr>
              <a:t>Position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b050"/>
                </a:solidFill>
                <a:latin typeface="Arial"/>
              </a:rPr>
              <a:t>zum therapeutischen Einsatz von Stammzellen </a:t>
            </a:r>
            <a:r>
              <a:rPr b="0" lang="de-DE" sz="1600" spc="-1" strike="noStrike">
                <a:solidFill>
                  <a:srgbClr val="ff9900"/>
                </a:solidFill>
                <a:latin typeface="Arial"/>
              </a:rPr>
              <a:t>darstell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0" lang="de-DE" sz="1600" spc="-1" strike="noStrike">
                <a:solidFill>
                  <a:srgbClr val="00b050"/>
                </a:solidFill>
                <a:latin typeface="Arial"/>
              </a:rPr>
              <a:t>Interessen sowie Folgen </a:t>
            </a:r>
            <a:r>
              <a:rPr b="0" lang="de-DE" sz="1600" spc="-1" strike="noStrike">
                <a:solidFill>
                  <a:srgbClr val="ff9900"/>
                </a:solidFill>
                <a:latin typeface="Arial"/>
              </a:rPr>
              <a:t>ethisch beurteil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. (B3/B4-Q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0"/>
          <p:cNvSpPr/>
          <p:nvPr/>
        </p:nvSpPr>
        <p:spPr>
          <a:xfrm>
            <a:off x="1042920" y="3068640"/>
            <a:ext cx="2305080" cy="576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Kompetenzbereich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(Prozesse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11"/>
          <p:cNvSpPr/>
          <p:nvPr/>
        </p:nvSpPr>
        <p:spPr>
          <a:xfrm>
            <a:off x="2340000" y="1773360"/>
            <a:ext cx="4176720" cy="7920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cc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Übergreifende fachliche Kompetenz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Vertiefte biologisch-naturwissenschaftliche Bildu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12"/>
          <p:cNvSpPr/>
          <p:nvPr/>
        </p:nvSpPr>
        <p:spPr>
          <a:xfrm flipH="1">
            <a:off x="2268000" y="2852640"/>
            <a:ext cx="2162520" cy="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13"/>
          <p:cNvSpPr/>
          <p:nvPr/>
        </p:nvSpPr>
        <p:spPr>
          <a:xfrm>
            <a:off x="4427640" y="2852640"/>
            <a:ext cx="2232000" cy="0"/>
          </a:xfrm>
          <a:prstGeom prst="line">
            <a:avLst/>
          </a:prstGeom>
          <a:ln w="255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14"/>
          <p:cNvSpPr/>
          <p:nvPr/>
        </p:nvSpPr>
        <p:spPr>
          <a:xfrm>
            <a:off x="2268360" y="2852640"/>
            <a:ext cx="0" cy="2160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15"/>
          <p:cNvSpPr/>
          <p:nvPr/>
        </p:nvSpPr>
        <p:spPr>
          <a:xfrm flipH="1">
            <a:off x="6659280" y="2852640"/>
            <a:ext cx="11160" cy="216000"/>
          </a:xfrm>
          <a:prstGeom prst="line">
            <a:avLst/>
          </a:prstGeom>
          <a:ln w="2556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Line 16"/>
          <p:cNvSpPr/>
          <p:nvPr/>
        </p:nvSpPr>
        <p:spPr>
          <a:xfrm>
            <a:off x="2268360" y="3645000"/>
            <a:ext cx="0" cy="104292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17"/>
          <p:cNvSpPr/>
          <p:nvPr/>
        </p:nvSpPr>
        <p:spPr>
          <a:xfrm flipH="1">
            <a:off x="6651720" y="3645000"/>
            <a:ext cx="7920" cy="1042920"/>
          </a:xfrm>
          <a:prstGeom prst="line">
            <a:avLst/>
          </a:prstGeom>
          <a:ln w="255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Line 18"/>
          <p:cNvSpPr/>
          <p:nvPr/>
        </p:nvSpPr>
        <p:spPr>
          <a:xfrm>
            <a:off x="2268360" y="4687920"/>
            <a:ext cx="1079640" cy="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19"/>
          <p:cNvSpPr/>
          <p:nvPr/>
        </p:nvSpPr>
        <p:spPr>
          <a:xfrm flipH="1">
            <a:off x="5651640" y="4687920"/>
            <a:ext cx="1008000" cy="0"/>
          </a:xfrm>
          <a:prstGeom prst="line">
            <a:avLst/>
          </a:prstGeom>
          <a:ln w="2556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21"/>
          <p:cNvSpPr/>
          <p:nvPr/>
        </p:nvSpPr>
        <p:spPr>
          <a:xfrm>
            <a:off x="5508720" y="3068640"/>
            <a:ext cx="2286000" cy="576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Inhaltsfeld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(Gegenstände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feld 19"/>
          <p:cNvSpPr/>
          <p:nvPr/>
        </p:nvSpPr>
        <p:spPr>
          <a:xfrm>
            <a:off x="-339840" y="641520"/>
            <a:ext cx="55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Kompetenzorientierte Kernlehrplä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7"/>
          <p:cNvSpPr/>
          <p:nvPr/>
        </p:nvSpPr>
        <p:spPr>
          <a:xfrm>
            <a:off x="4506840" y="492912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0CB51-C286-469A-A852-07A1B851C7F0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feld 2"/>
          <p:cNvSpPr/>
          <p:nvPr/>
        </p:nvSpPr>
        <p:spPr>
          <a:xfrm>
            <a:off x="1084320" y="3678120"/>
            <a:ext cx="2220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Übergeordnete Kompetenzerwartung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-493920" y="735120"/>
            <a:ext cx="5575320" cy="4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-BoldMT"/>
                <a:ea typeface="ヒラギノ角ゴ Pro W3"/>
              </a:rPr>
              <a:t>Kompetenzorientierte Kernlehrpläne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640" name="Rectangle 4"/>
          <p:cNvSpPr/>
          <p:nvPr/>
        </p:nvSpPr>
        <p:spPr>
          <a:xfrm>
            <a:off x="149400" y="1916280"/>
            <a:ext cx="8877240" cy="42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mpetenzbereiche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ystematisieren die kognitiven Prozess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mgang mit Fachwisse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rkenntnisgewinnung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ommunikati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wert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ind dargestellt als </a:t>
            </a: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übergeordnete Kompetenzerwartung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inhaltsfeldübergreifende Kompetenzerwartungen aus allen Kompetenzbereic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ind dargestellt als </a:t>
            </a: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konkretisierte Kompetenzerwartung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inhaltsfeldbezogene Kompetenzerwartungen als Zusammenführung von Prozessen und Gegenstän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feld 1"/>
          <p:cNvSpPr/>
          <p:nvPr/>
        </p:nvSpPr>
        <p:spPr>
          <a:xfrm>
            <a:off x="374760" y="1420920"/>
            <a:ext cx="86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Zentrale Begriffe und Ebenen im Kernlehrplan (Teil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7E335-1FF1-43D1-81E1-50C1CFA54C64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Grafik 5" descr="Bildschirmausschnitt"/>
          <p:cNvPicPr/>
          <p:nvPr/>
        </p:nvPicPr>
        <p:blipFill>
          <a:blip r:embed="rId1"/>
          <a:stretch/>
        </p:blipFill>
        <p:spPr>
          <a:xfrm>
            <a:off x="5002200" y="1916280"/>
            <a:ext cx="3979800" cy="213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 txBox="1"/>
          <p:nvPr/>
        </p:nvSpPr>
        <p:spPr>
          <a:xfrm>
            <a:off x="550800" y="2382480"/>
            <a:ext cx="8064720" cy="35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5740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haltsfelder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ystematisieren die Gegenstände, sind nicht mit Unterrichtsvorhaben gleichzusetzen – Beispie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257400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haltsfeld 1: Biologie der Zelle (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57400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haltsfeld 4: Neurobiologie (GK Q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5740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haltliche Schwerpunkte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tergliederungselemente der Inhaltsfelder – Beispiel Inhaltsfeld 4: Neurobiologi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99960"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ufbau und Funktion von Neur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99960"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euronale Informationsverarbeitung und Grundlagen der Wahrnehm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99960"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lastizität und Ler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574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2574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3"/>
          <p:cNvSpPr/>
          <p:nvPr/>
        </p:nvSpPr>
        <p:spPr>
          <a:xfrm>
            <a:off x="-517680" y="750960"/>
            <a:ext cx="570096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5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Kompetenzorientierte Kernlehrplän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feld 2"/>
          <p:cNvSpPr/>
          <p:nvPr/>
        </p:nvSpPr>
        <p:spPr>
          <a:xfrm>
            <a:off x="500040" y="1552680"/>
            <a:ext cx="81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Zentrale Begriffe und Ebenen im Kernlehrplan (Teil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C5479-E7DF-48A3-A55A-51F3196220A1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4"/>
          <p:cNvSpPr/>
          <p:nvPr/>
        </p:nvSpPr>
        <p:spPr>
          <a:xfrm>
            <a:off x="558720" y="2138400"/>
            <a:ext cx="80647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mgang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mit Fachwissen (E-Pha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feld 12"/>
          <p:cNvSpPr/>
          <p:nvPr/>
        </p:nvSpPr>
        <p:spPr>
          <a:xfrm>
            <a:off x="-571680" y="733320"/>
            <a:ext cx="589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Kompetenzorientierte Kernlehrplä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8"/>
          <p:cNvSpPr/>
          <p:nvPr/>
        </p:nvSpPr>
        <p:spPr>
          <a:xfrm>
            <a:off x="2814480" y="1476360"/>
            <a:ext cx="3552840" cy="48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mpetenzerwartu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Textfeld 4" descr=""/>
          <p:cNvPicPr/>
          <p:nvPr/>
        </p:nvPicPr>
        <p:blipFill>
          <a:blip r:embed="rId1"/>
          <a:stretch/>
        </p:blipFill>
        <p:spPr>
          <a:xfrm>
            <a:off x="128520" y="2676600"/>
            <a:ext cx="8936280" cy="3462120"/>
          </a:xfrm>
          <a:prstGeom prst="rect">
            <a:avLst/>
          </a:prstGeom>
          <a:ln w="0">
            <a:noFill/>
          </a:ln>
        </p:spPr>
      </p:pic>
      <p:sp>
        <p:nvSpPr>
          <p:cNvPr id="652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C97EF-EAB0-40FB-903E-90DC05F3FB51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4"/>
          <p:cNvSpPr/>
          <p:nvPr/>
        </p:nvSpPr>
        <p:spPr>
          <a:xfrm>
            <a:off x="558720" y="1992240"/>
            <a:ext cx="8064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kenntnisgewinnung (Q-Pha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feld 12"/>
          <p:cNvSpPr/>
          <p:nvPr/>
        </p:nvSpPr>
        <p:spPr>
          <a:xfrm>
            <a:off x="-636480" y="784080"/>
            <a:ext cx="58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Kompetenzorientierte Kernlehrplä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8"/>
          <p:cNvSpPr/>
          <p:nvPr/>
        </p:nvSpPr>
        <p:spPr>
          <a:xfrm>
            <a:off x="2814480" y="1338120"/>
            <a:ext cx="3552840" cy="4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mpetenzerwartu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Textfeld 4" descr=""/>
          <p:cNvPicPr/>
          <p:nvPr/>
        </p:nvPicPr>
        <p:blipFill>
          <a:blip r:embed="rId1"/>
          <a:stretch/>
        </p:blipFill>
        <p:spPr>
          <a:xfrm>
            <a:off x="128520" y="2451240"/>
            <a:ext cx="8875800" cy="3700440"/>
          </a:xfrm>
          <a:prstGeom prst="rect">
            <a:avLst/>
          </a:prstGeom>
          <a:ln w="0">
            <a:noFill/>
          </a:ln>
        </p:spPr>
      </p:pic>
      <p:sp>
        <p:nvSpPr>
          <p:cNvPr id="657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B0343-C9EB-4FD7-AAC3-D749E7C7D053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feil nach rechts 6"/>
          <p:cNvSpPr/>
          <p:nvPr/>
        </p:nvSpPr>
        <p:spPr>
          <a:xfrm rot="9405000">
            <a:off x="7000560" y="3082680"/>
            <a:ext cx="1353960" cy="22536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e2001a"/>
          </a:solidFill>
          <a:ln w="25560">
            <a:solidFill>
              <a:srgbClr val="7d7d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4"/>
          <p:cNvSpPr/>
          <p:nvPr/>
        </p:nvSpPr>
        <p:spPr>
          <a:xfrm>
            <a:off x="558720" y="1886040"/>
            <a:ext cx="80647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mmunikation (Q-Pha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feld 12"/>
          <p:cNvSpPr/>
          <p:nvPr/>
        </p:nvSpPr>
        <p:spPr>
          <a:xfrm>
            <a:off x="-700200" y="820800"/>
            <a:ext cx="589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Kompetenzorientierte Kernlehrplä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8"/>
          <p:cNvSpPr/>
          <p:nvPr/>
        </p:nvSpPr>
        <p:spPr>
          <a:xfrm>
            <a:off x="2814480" y="1282680"/>
            <a:ext cx="3552840" cy="48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mpetenzerwartu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Textfeld 4" descr=""/>
          <p:cNvPicPr/>
          <p:nvPr/>
        </p:nvPicPr>
        <p:blipFill>
          <a:blip r:embed="rId1"/>
          <a:stretch/>
        </p:blipFill>
        <p:spPr>
          <a:xfrm>
            <a:off x="128520" y="2243160"/>
            <a:ext cx="8875800" cy="3925800"/>
          </a:xfrm>
          <a:prstGeom prst="rect">
            <a:avLst/>
          </a:prstGeom>
          <a:ln w="0">
            <a:noFill/>
          </a:ln>
        </p:spPr>
      </p:pic>
      <p:sp>
        <p:nvSpPr>
          <p:cNvPr id="663" name="Pfeil nach rechts 5"/>
          <p:cNvSpPr/>
          <p:nvPr/>
        </p:nvSpPr>
        <p:spPr>
          <a:xfrm rot="13223400">
            <a:off x="7232400" y="4621320"/>
            <a:ext cx="1353960" cy="22536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e2001a"/>
          </a:solidFill>
          <a:ln w="25560">
            <a:solidFill>
              <a:srgbClr val="7d7d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147C4-2FE3-471B-97A8-2C970A29017B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4"/>
          <p:cNvSpPr/>
          <p:nvPr/>
        </p:nvSpPr>
        <p:spPr>
          <a:xfrm>
            <a:off x="558720" y="1833480"/>
            <a:ext cx="8064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wertung (Q-Pha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feld 12"/>
          <p:cNvSpPr/>
          <p:nvPr/>
        </p:nvSpPr>
        <p:spPr>
          <a:xfrm>
            <a:off x="-412920" y="749160"/>
            <a:ext cx="589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Kompetenzorientierte Kernlehrplä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8"/>
          <p:cNvSpPr/>
          <p:nvPr/>
        </p:nvSpPr>
        <p:spPr>
          <a:xfrm>
            <a:off x="2814480" y="1347840"/>
            <a:ext cx="3552840" cy="48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mpetenzerwartu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Textfeld 4" descr=""/>
          <p:cNvPicPr/>
          <p:nvPr/>
        </p:nvPicPr>
        <p:blipFill>
          <a:blip r:embed="rId1"/>
          <a:stretch/>
        </p:blipFill>
        <p:spPr>
          <a:xfrm>
            <a:off x="36360" y="2286000"/>
            <a:ext cx="9088560" cy="4157640"/>
          </a:xfrm>
          <a:prstGeom prst="rect">
            <a:avLst/>
          </a:prstGeom>
          <a:ln w="0">
            <a:noFill/>
          </a:ln>
        </p:spPr>
      </p:pic>
      <p:sp>
        <p:nvSpPr>
          <p:cNvPr id="669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7D877-C04B-4CCF-8CB4-4BEAF9F1EBD1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-676440" y="768240"/>
            <a:ext cx="6150240" cy="4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-BoldMT"/>
                <a:ea typeface="ヒラギノ角ゴ Pro W3"/>
              </a:rPr>
              <a:t>Kompetenzorientierte Kernlehrpläne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26600" y="2030400"/>
            <a:ext cx="86029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Die Studierenden können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elle zur Beschreibung, Erklärung und Vorhersage biologischer Vorgänge begründet auswählen und deren Grenzen und Gültigkeitsbereiche angeben.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E6 – Modelle; am Ende der 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9900"/>
                </a:solidFill>
                <a:latin typeface="Arial"/>
              </a:rPr>
              <a:t>Anschauungsmodelle entwickeln sowie mithilfe von theoretischen Modellen, mathematischen Modellierungen und Simulationen biologische sowie biotechnische Prozesse erklären oder vorherzusagen. </a:t>
            </a:r>
            <a:r>
              <a:rPr b="0" lang="de-DE" sz="21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de-DE" sz="21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de-DE" sz="21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de-DE" sz="21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de-DE" sz="21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de-DE" sz="21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de-DE" sz="21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9900"/>
                </a:solidFill>
                <a:latin typeface="Arial"/>
              </a:rPr>
              <a:t>(E6 – Modelle; am Ende der Q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feil nach unten 3"/>
          <p:cNvSpPr/>
          <p:nvPr/>
        </p:nvSpPr>
        <p:spPr>
          <a:xfrm>
            <a:off x="3691080" y="3701880"/>
            <a:ext cx="952200" cy="741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acacac"/>
          </a:solidFill>
          <a:ln w="25560">
            <a:solidFill>
              <a:srgbClr val="7d7d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feld 2"/>
          <p:cNvSpPr/>
          <p:nvPr/>
        </p:nvSpPr>
        <p:spPr>
          <a:xfrm>
            <a:off x="264960" y="1424160"/>
            <a:ext cx="863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rogression einer übergeordneten Kompetenzerwart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03EF4-4FB1-471E-A6B7-6583B2A59324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6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/>
          </p:nvPr>
        </p:nvSpPr>
        <p:spPr>
          <a:xfrm>
            <a:off x="539280" y="2236320"/>
            <a:ext cx="8440920" cy="40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AutoNum type="romanUcPeriod"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1" lang="de-DE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Informationen zum Konzept und zur Gestaltung von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1" lang="de-DE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     </a:t>
            </a:r>
            <a:r>
              <a:rPr b="1" lang="de-DE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kompetenzorientierten Kernlehrplä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1" lang="de-DE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II.  Schulinterne Curricula und Unterstützungsangeb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1" lang="de-DE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III. Fachspezifische Erläuterungen zum neuen KLP Biolo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title"/>
          </p:nvPr>
        </p:nvSpPr>
        <p:spPr>
          <a:xfrm>
            <a:off x="498240" y="1574280"/>
            <a:ext cx="80643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2060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60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AF432-EFFB-4A02-83CA-DA2795E83549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20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646B6-BF0A-4716-98FB-D3933C874A99}" type="slidenum"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4"/>
          <p:cNvSpPr/>
          <p:nvPr/>
        </p:nvSpPr>
        <p:spPr>
          <a:xfrm>
            <a:off x="250920" y="851040"/>
            <a:ext cx="8642160" cy="55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9960" indent="-39996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2060"/>
                </a:solidFill>
                <a:latin typeface="Arial"/>
                <a:ea typeface="ヒラギノ角ゴ Pro W3"/>
              </a:rPr>
              <a:t>Merkm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9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tandardorientiert</a:t>
            </a:r>
            <a:r>
              <a:rPr b="0" i="1" lang="de-DE" sz="19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: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Kernlehrpläne greifen die Bildungsstandards vollstän-dig auf bzw. definieren Standards (zu erreichende Ziele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9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kompetenzorientiert: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Kernlehrpläne bestehen aus fachbezogenen Kompe-tenzerwartunge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9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outputorientiert: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Kernlehrpläne beschreiben die erwarteten Lernergeb-niss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9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verbindlich: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Kernlehrpläne beschreiben eine landesweit verbindliche Obligatorik; sie formulieren klare Ergebniserwartungen und keine Wahl-möglichkeite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Kernlehrpläne beschränken sich auf die Formulierung der zu erreichenden Ergebnisse und treffen keine Aussagen zu Wegen und Verfahren der Zielerreichung. Didaktisch-methodische Entscheidungen werden in den Schulen – u. a. bei der Erstellung des schulinternen Lehrplans – getroffe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feld 5"/>
          <p:cNvSpPr/>
          <p:nvPr/>
        </p:nvSpPr>
        <p:spPr>
          <a:xfrm>
            <a:off x="-398520" y="681120"/>
            <a:ext cx="555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Kompetenzorientierte Kernlehrplä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7D599-C5B6-4CCF-B3D1-4D70961EBA94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Foliennummernplatzhalter 4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E0D18-9F3D-448C-8E4A-634579CDE330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82320" y="1814400"/>
            <a:ext cx="8064360" cy="27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e2001a"/>
                </a:solidFill>
                <a:latin typeface="Arial-BoldMT"/>
              </a:rPr>
              <a:t>II. Schulinterne Curricula:</a:t>
            </a:r>
            <a:br>
              <a:rPr sz="2800"/>
            </a:br>
            <a:r>
              <a:rPr b="1" lang="de-DE" sz="2800" spc="-1" strike="noStrike">
                <a:solidFill>
                  <a:srgbClr val="e2001a"/>
                </a:solidFill>
                <a:latin typeface="Arial-BoldMT"/>
              </a:rPr>
              <a:t>Konstrukt, Struktur und zentrale Elemente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681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050FC-01BF-43AD-973B-FCE913FA064A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Text Box 2"/>
          <p:cNvSpPr/>
          <p:nvPr/>
        </p:nvSpPr>
        <p:spPr>
          <a:xfrm>
            <a:off x="536400" y="1400040"/>
            <a:ext cx="820116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Aufgabe schulinterner Curricula:</a:t>
            </a:r>
            <a:r>
              <a:rPr b="0" lang="de-DE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Arial"/>
              </a:rPr>
              <a:t>die verbindlichen Vorgaben der Kernlehrpläne auf die Situation der Schule bezogen konkretisieren und Freiräume ausgestal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chulG § 29 - Unterrichtsvorga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1) Da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inisterium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erlässt in der Regel schulformspezifische Vorga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ür den Unterricht (Richtlinien, Rahmenvorgaben, Lehrpläne). Diese legen insbesondere die Ziele und Inhalte für die Bildungsgänge, Unterrichtsfächer und Lernbereiche fest und bestimmen die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rwarteten Lernergebniss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Bildungsstandard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2) Die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chul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bestimmen auf der Grundlage der Unterrichtsvorgaben nach Absatz 1 in Verbindung mit ihrem Schulprogramm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schuleigene Unterrichtsvorgab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3) Unterrichtsvorgaben nach den Absätzen 1 und 2 sind so zu fasse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s für die Lehrerinnen und Lehrer ein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pädagogischer Gestaltungsspielraum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leibt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3"/>
          <p:cNvSpPr/>
          <p:nvPr/>
        </p:nvSpPr>
        <p:spPr>
          <a:xfrm>
            <a:off x="1311120" y="2935440"/>
            <a:ext cx="7267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feld 6"/>
          <p:cNvSpPr/>
          <p:nvPr/>
        </p:nvSpPr>
        <p:spPr>
          <a:xfrm>
            <a:off x="-1649520" y="752400"/>
            <a:ext cx="51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Schulinterne Curric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1F6F4-D1E1-4B92-814C-12A61CDC8540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20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A11B3-A4B7-4C5A-96A8-DBAD7D863338}" type="slidenum"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3"/>
          <p:cNvSpPr/>
          <p:nvPr/>
        </p:nvSpPr>
        <p:spPr>
          <a:xfrm>
            <a:off x="357120" y="1254240"/>
            <a:ext cx="8425080" cy="48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9960" indent="-2239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  <a:ea typeface="ヒラギノ角ゴ Pro W3"/>
              </a:rPr>
              <a:t>	</a:t>
            </a:r>
            <a:r>
              <a:rPr b="1" lang="de-DE" sz="2400" spc="-1" strike="noStrike">
                <a:solidFill>
                  <a:srgbClr val="000099"/>
                </a:solidFill>
                <a:latin typeface="Arial"/>
                <a:ea typeface="ヒラギノ角ゴ Pro W3"/>
              </a:rPr>
              <a:t>Anforderungen an die Schulen angesichts  </a:t>
            </a:r>
            <a:br>
              <a:rPr sz="2400"/>
            </a:br>
            <a:r>
              <a:rPr b="1" lang="de-DE" sz="2400" spc="-1" strike="noStrike">
                <a:solidFill>
                  <a:srgbClr val="000099"/>
                </a:solidFill>
                <a:latin typeface="Arial"/>
                <a:ea typeface="ヒラギノ角ゴ Pro W3"/>
              </a:rPr>
              <a:t>kompetenzorientierter Kernlehrplä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feld 7"/>
          <p:cNvSpPr/>
          <p:nvPr/>
        </p:nvSpPr>
        <p:spPr>
          <a:xfrm>
            <a:off x="-1522440" y="792000"/>
            <a:ext cx="51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2060"/>
                </a:solidFill>
                <a:latin typeface="Arial"/>
              </a:rPr>
              <a:t>Schulinterne Curric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9" name="Textfeld 1" descr=""/>
          <p:cNvPicPr/>
          <p:nvPr/>
        </p:nvPicPr>
        <p:blipFill>
          <a:blip r:embed="rId1"/>
          <a:stretch/>
        </p:blipFill>
        <p:spPr>
          <a:xfrm>
            <a:off x="457200" y="2163600"/>
            <a:ext cx="8169120" cy="1438560"/>
          </a:xfrm>
          <a:prstGeom prst="rect">
            <a:avLst/>
          </a:prstGeom>
          <a:ln w="0">
            <a:noFill/>
          </a:ln>
        </p:spPr>
      </p:pic>
      <p:pic>
        <p:nvPicPr>
          <p:cNvPr id="690" name="Textfeld 2" descr=""/>
          <p:cNvPicPr/>
          <p:nvPr/>
        </p:nvPicPr>
        <p:blipFill>
          <a:blip r:embed="rId2"/>
          <a:stretch/>
        </p:blipFill>
        <p:spPr>
          <a:xfrm>
            <a:off x="469800" y="3413160"/>
            <a:ext cx="8161560" cy="1042920"/>
          </a:xfrm>
          <a:prstGeom prst="rect">
            <a:avLst/>
          </a:prstGeom>
          <a:ln w="0">
            <a:noFill/>
          </a:ln>
        </p:spPr>
      </p:pic>
      <p:pic>
        <p:nvPicPr>
          <p:cNvPr id="691" name="Textfeld 4" descr=""/>
          <p:cNvPicPr/>
          <p:nvPr/>
        </p:nvPicPr>
        <p:blipFill>
          <a:blip r:embed="rId3"/>
          <a:stretch/>
        </p:blipFill>
        <p:spPr>
          <a:xfrm>
            <a:off x="469800" y="4334040"/>
            <a:ext cx="8247240" cy="3444840"/>
          </a:xfrm>
          <a:prstGeom prst="rect">
            <a:avLst/>
          </a:prstGeom>
          <a:ln w="0">
            <a:noFill/>
          </a:ln>
        </p:spPr>
      </p:pic>
      <p:sp>
        <p:nvSpPr>
          <p:cNvPr id="692" name="Foliennummernplatzhalter 3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9DE5F-CEF9-4E8A-B6BA-1A7BC4D5091B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20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A2376-40EF-4A72-8F3C-9BD3C93A9EA6}" type="slidenum"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3"/>
          <p:cNvSpPr/>
          <p:nvPr/>
        </p:nvSpPr>
        <p:spPr>
          <a:xfrm>
            <a:off x="395280" y="1496880"/>
            <a:ext cx="8424720" cy="48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9960" indent="-2239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  <a:ea typeface="ヒラギノ角ゴ Pro W3"/>
              </a:rPr>
              <a:t>	</a:t>
            </a:r>
            <a:r>
              <a:rPr b="1" lang="de-DE" sz="2400" spc="-1" strike="noStrike">
                <a:solidFill>
                  <a:srgbClr val="000099"/>
                </a:solidFill>
                <a:latin typeface="Arial"/>
                <a:ea typeface="ヒラギノ角ゴ Pro W3"/>
              </a:rPr>
              <a:t>Anforderungen an die Schulen angesichts  </a:t>
            </a:r>
            <a:br>
              <a:rPr sz="2400"/>
            </a:br>
            <a:r>
              <a:rPr b="1" lang="de-DE" sz="2400" spc="-1" strike="noStrike">
                <a:solidFill>
                  <a:srgbClr val="000099"/>
                </a:solidFill>
                <a:latin typeface="Arial"/>
                <a:ea typeface="ヒラギノ角ゴ Pro W3"/>
              </a:rPr>
              <a:t>kompetenzorientierter Kernlehrplä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feld 7"/>
          <p:cNvSpPr/>
          <p:nvPr/>
        </p:nvSpPr>
        <p:spPr>
          <a:xfrm>
            <a:off x="-1378080" y="836640"/>
            <a:ext cx="51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2060"/>
                </a:solidFill>
                <a:latin typeface="Arial"/>
              </a:rPr>
              <a:t>Schulinterne Curric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6" name="Textfeld 1" descr=""/>
          <p:cNvPicPr/>
          <p:nvPr/>
        </p:nvPicPr>
        <p:blipFill>
          <a:blip r:embed="rId1"/>
          <a:stretch/>
        </p:blipFill>
        <p:spPr>
          <a:xfrm>
            <a:off x="317520" y="2475000"/>
            <a:ext cx="8180280" cy="2541600"/>
          </a:xfrm>
          <a:prstGeom prst="rect">
            <a:avLst/>
          </a:prstGeom>
          <a:ln w="0">
            <a:noFill/>
          </a:ln>
        </p:spPr>
      </p:pic>
      <p:pic>
        <p:nvPicPr>
          <p:cNvPr id="697" name="Textfeld 10" descr=""/>
          <p:cNvPicPr/>
          <p:nvPr/>
        </p:nvPicPr>
        <p:blipFill>
          <a:blip r:embed="rId2"/>
          <a:stretch/>
        </p:blipFill>
        <p:spPr>
          <a:xfrm>
            <a:off x="353880" y="4095720"/>
            <a:ext cx="8161560" cy="1579680"/>
          </a:xfrm>
          <a:prstGeom prst="rect">
            <a:avLst/>
          </a:prstGeom>
          <a:ln w="0">
            <a:noFill/>
          </a:ln>
        </p:spPr>
      </p:pic>
      <p:sp>
        <p:nvSpPr>
          <p:cNvPr id="698" name="Foliennummernplatzhalter 3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2B8F4-EBF0-4E42-B74A-98DD681DAF68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Text Box 2"/>
          <p:cNvSpPr/>
          <p:nvPr/>
        </p:nvSpPr>
        <p:spPr>
          <a:xfrm>
            <a:off x="536400" y="1601640"/>
            <a:ext cx="8201160" cy="42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Rechtliche Grundla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chulG § 70 (3 und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3) Die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chkonferenz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berät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über alle das Fach oder die Fachrichtung betreffenden Angelegenheiten einschließlich de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Zusammenarbeit mit anderen Fächer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. Sie trägt Verantwortung für die schulinterne Qualitätssicherung und -entwicklung der fachlichen Arbeit und berät übe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Ziele, Arbeitspläne, Evaluationsmaßnahme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und -ergebnisse und Rechenschaftslegun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4) Die Fachkonferenz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entscheidet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 ihrem Fach insbesondere ü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Grundsätze zur fachmethodischen und fachdidaktischen Arbei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Grundsätze zur Leistungsbewertung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Vorschläge an die Lehrerkonferenz zur Einführung von Lernmittel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feld 6"/>
          <p:cNvSpPr/>
          <p:nvPr/>
        </p:nvSpPr>
        <p:spPr>
          <a:xfrm>
            <a:off x="-1562040" y="806400"/>
            <a:ext cx="51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Schulinterne Curric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09DF2-4E24-4AD5-B8A4-86AEFC21B080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Foliennummernplatzhalter 4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AE8B2-9915-4645-AFAD-F2B8430772C3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-723960" y="845640"/>
            <a:ext cx="806472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Struktur eines Schulcurriculums – Gliederung</a:t>
            </a:r>
            <a:endParaRPr b="1" lang="en-US" sz="2400" spc="-1" strike="noStrike">
              <a:solidFill>
                <a:srgbClr val="000000"/>
              </a:solidFill>
              <a:latin typeface="Arial-BoldMT"/>
            </a:endParaRPr>
          </a:p>
        </p:txBody>
      </p:sp>
      <p:graphicFrame>
        <p:nvGraphicFramePr>
          <p:cNvPr id="704" name=""/>
          <p:cNvGraphicFramePr/>
          <p:nvPr/>
        </p:nvGraphicFramePr>
        <p:xfrm>
          <a:off x="539640" y="1901880"/>
          <a:ext cx="8064720" cy="3956040"/>
        </p:xfrm>
        <a:graphic>
          <a:graphicData uri="http://schemas.openxmlformats.org/drawingml/2006/table">
            <a:tbl>
              <a:tblPr/>
              <a:tblGrid>
                <a:gridCol w="863640"/>
                <a:gridCol w="7201080"/>
              </a:tblGrid>
              <a:tr h="358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pit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iederungspunk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58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Fachgruppe X in der Y-Schu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Entscheidungen zum Unterricht</a:t>
                      </a: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Unterrichtsvorhaben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Übersichtsraster Unterrichtsvorhaben</a:t>
                      </a:r>
                      <a:r>
                        <a:rPr b="0" i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Konkretisierte Unterrichtsvorhaben</a:t>
                      </a:r>
                      <a:r>
                        <a:rPr b="0" i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undsätze der fachmethodischen und fachdidaktischen Arbe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undsätze der Leistungsbewertung und Leistungsrückmeldu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hr- und Lernmitt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Entscheidungen zu fach- und unterrichtsübergreifenden Fragen</a:t>
                      </a: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Qualitätssicherung und Eval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5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C85D0-AA52-4480-A5CA-BB1D958F6537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2FD83-BDAA-450A-BEC8-6125127BCAB2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Foliennummernplatzhalter 3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DD0C7-7592-40F3-A9D6-25CF2317C5B5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3"/>
          <p:cNvSpPr/>
          <p:nvPr/>
        </p:nvSpPr>
        <p:spPr>
          <a:xfrm>
            <a:off x="1311120" y="2935440"/>
            <a:ext cx="7267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4"/>
          <p:cNvSpPr/>
          <p:nvPr/>
        </p:nvSpPr>
        <p:spPr>
          <a:xfrm>
            <a:off x="-1025640" y="893880"/>
            <a:ext cx="880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 algn="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Übersichtsraster für die Einführungs- und Qualifikationsph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0" name=""/>
          <p:cNvGraphicFramePr/>
          <p:nvPr/>
        </p:nvGraphicFramePr>
        <p:xfrm>
          <a:off x="50760" y="1481040"/>
          <a:ext cx="9093240" cy="4837320"/>
        </p:xfrm>
        <a:graphic>
          <a:graphicData uri="http://schemas.openxmlformats.org/drawingml/2006/table">
            <a:tbl>
              <a:tblPr/>
              <a:tblGrid>
                <a:gridCol w="3013200"/>
                <a:gridCol w="3038400"/>
                <a:gridCol w="3041640"/>
              </a:tblGrid>
              <a:tr h="483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E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Unterrichtsvorhaben I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ma, Kontext, Kompetenzen, Inhaltsfelder, inhaltliche Schwerpunk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Unterrichtsvorhaben II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ma, Kontext, Kompetenzen, Inhaltsfelder, inhaltliche Schwerpunk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d8f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Q1, G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Unterrichtsvorhaben I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ma, Kontext, Kompetenzen, Inhaltsfelder, inhaltliche Schwerpunk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Unterrichtsvorhaben II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ma, Kontext, Kompetenzen, Inhaltsfelder, inhaltliche Schwerpunk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Q2, G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Unterrichtsvorhaben I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ma, Kontext, Kompetenzen, Inhaltsfelder, inhaltliche Schwerpunk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Unterrichtsvorhaben II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ma, Kontext, Kompetenzen, Inhaltsfelder, inhaltliche Schwerpunk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d8f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Q1, L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Unterrichtsvorhaben I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ma, Kontext, Kompetenzen, Inhaltsfelder, inhaltliche Schwerpunk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Unterrichtsvorhaben II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ma, Kontext, Kompetenzen, Inhaltsfelder, inhaltliche Schwerpunk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Q2, L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Unterrichtsvorhaben I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ma, Kontext, Kompetenzen, Inhaltsfelder, inhaltliche Schwerpunk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Unterrichtsvorhaben II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ma, Kontext, Kompetenzen, Inhaltsfelder, inhaltliche Schwerpunk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d8fd"/>
                    </a:solidFill>
                  </a:tcPr>
                </a:tc>
              </a:tr>
            </a:tbl>
          </a:graphicData>
        </a:graphic>
      </p:graphicFrame>
      <p:sp>
        <p:nvSpPr>
          <p:cNvPr id="711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40F62-BCD3-4483-B127-155F86713561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B7476-365A-4B21-A177-E5778FB1708A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Foliennummernplatzhalter 3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B1954-1A3C-4A79-8370-630431F6D446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3"/>
          <p:cNvSpPr/>
          <p:nvPr/>
        </p:nvSpPr>
        <p:spPr>
          <a:xfrm>
            <a:off x="1311120" y="2935440"/>
            <a:ext cx="7267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4"/>
          <p:cNvSpPr/>
          <p:nvPr/>
        </p:nvSpPr>
        <p:spPr>
          <a:xfrm>
            <a:off x="-3214800" y="725400"/>
            <a:ext cx="83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Beispiel aus der Einführungs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feld 1"/>
          <p:cNvSpPr/>
          <p:nvPr/>
        </p:nvSpPr>
        <p:spPr>
          <a:xfrm>
            <a:off x="299880" y="1243080"/>
            <a:ext cx="8512200" cy="508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Unterrichtsvorhaben I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hema/Kontex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Kein Leben ohne Zelle II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– Welche Bedeutung haben Zellkern und Nukleinsäuren für das Leb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chwerpunkte der Kompetenzentwickl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F4 Vernetz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1    Probleme und Fragestellu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6    Mod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7    Arbeits- und Denkweis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4    Argu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1    Kriteri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4    Möglichkeiten und Grenz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haltsfeld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IF 1 (Biologie der Zel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haltliche Schwerpunkt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ktion des Zellker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ellverdopplung und D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eitbedar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ca. 8 Std. à 45 Minut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E784E-B130-4AE2-9F63-5633268DD1CB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382320" y="1814040"/>
            <a:ext cx="80643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e2001a"/>
                </a:solidFill>
                <a:latin typeface="Arial-BoldMT"/>
              </a:rPr>
              <a:t>III. Fachspezifische Erläuterungen zum neuen KLP Biologie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719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63D6D-1BFA-40A2-8B95-00DB67EB5E46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722160" y="2650680"/>
            <a:ext cx="7772400" cy="17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I. Informationen zum Konzept und zur Gestaltung von kompetenzorientierten Kernlehrplä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F138C-04A2-4A10-9C89-025AD0574B14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12640" y="163656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-BoldMT"/>
                <a:ea typeface="MS PGothic"/>
              </a:rPr>
              <a:t>I. Wichtige Neuerungen</a:t>
            </a:r>
            <a:endParaRPr b="1" lang="en-US" sz="24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498240" y="2028600"/>
            <a:ext cx="8064360" cy="36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0720" indent="-272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0720" indent="-272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iologie, Chemie, Physik mit weitgehend identischen übergeordneten Kompetenz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0720" indent="-272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sweis einer Kompetenzprogression in zwei Stu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0720" indent="-272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xpliziter Ausweis von Anforderungen im GK und LK (übergeordnete Kompetenzerwartungen, inhaltliche Schwerpunkte, inhaltlich konkretisierte Kompetenzerwartung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0720" indent="-272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zug auf Basiskonzepte der Biolo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0720" indent="-272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Weitgehender) Verzicht auf Vorschriften oder Vorschläge zur Unterrichtsgestal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6840" y="1414080"/>
            <a:ext cx="830412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-BoldMT"/>
                <a:ea typeface="MS PGothic"/>
              </a:rPr>
              <a:t>II. Der neue Kernlehrplan Biologie - Kompetenzbereiche</a:t>
            </a:r>
            <a:endParaRPr b="1" lang="en-US" sz="24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3634920" y="2349360"/>
            <a:ext cx="4824360" cy="1317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54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F1 Wiederga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F2 Auswah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F3 Systematis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F4 Vernetz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4"/>
          <p:cNvSpPr/>
          <p:nvPr/>
        </p:nvSpPr>
        <p:spPr>
          <a:xfrm>
            <a:off x="539640" y="2349360"/>
            <a:ext cx="2664000" cy="825480"/>
          </a:xfrm>
          <a:prstGeom prst="rect">
            <a:avLst/>
          </a:pr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U</a:t>
            </a:r>
            <a:r>
              <a:rPr b="1" lang="de-DE" sz="2400" spc="-1" strike="noStrike">
                <a:solidFill>
                  <a:srgbClr val="002060"/>
                </a:solidFill>
                <a:latin typeface="Arial"/>
                <a:ea typeface="ヒラギノ角ゴ Pro W3"/>
              </a:rPr>
              <a:t>mgang mit 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F</a:t>
            </a:r>
            <a:r>
              <a:rPr b="1" lang="de-DE" sz="2400" spc="-1" strike="noStrike">
                <a:solidFill>
                  <a:srgbClr val="002060"/>
                </a:solidFill>
                <a:latin typeface="Arial"/>
                <a:ea typeface="ヒラギノ角ゴ Pro W3"/>
              </a:rPr>
              <a:t>achwi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5"/>
          <p:cNvSpPr/>
          <p:nvPr/>
        </p:nvSpPr>
        <p:spPr>
          <a:xfrm>
            <a:off x="539640" y="3344760"/>
            <a:ext cx="2664000" cy="825480"/>
          </a:xfrm>
          <a:prstGeom prst="rect">
            <a:avLst/>
          </a:prstGeom>
          <a:solidFill>
            <a:srgbClr val="acaca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E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rkenntnis-gewinn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6"/>
          <p:cNvSpPr/>
          <p:nvPr/>
        </p:nvSpPr>
        <p:spPr>
          <a:xfrm>
            <a:off x="539640" y="4359240"/>
            <a:ext cx="2664000" cy="825480"/>
          </a:xfrm>
          <a:prstGeom prst="rect">
            <a:avLst/>
          </a:prstGeom>
          <a:solidFill>
            <a:srgbClr val="acaca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K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ommunikatio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7"/>
          <p:cNvSpPr/>
          <p:nvPr/>
        </p:nvSpPr>
        <p:spPr>
          <a:xfrm>
            <a:off x="539640" y="5386320"/>
            <a:ext cx="2664000" cy="825480"/>
          </a:xfrm>
          <a:prstGeom prst="rect">
            <a:avLst/>
          </a:prstGeom>
          <a:solidFill>
            <a:srgbClr val="acaca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B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ewertung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8"/>
          <p:cNvSpPr/>
          <p:nvPr/>
        </p:nvSpPr>
        <p:spPr>
          <a:xfrm>
            <a:off x="3203640" y="2760840"/>
            <a:ext cx="431640" cy="0"/>
          </a:xfrm>
          <a:prstGeom prst="line">
            <a:avLst/>
          </a:prstGeom>
          <a:ln w="57240">
            <a:solidFill>
              <a:srgbClr val="f29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9"/>
          <p:cNvSpPr/>
          <p:nvPr/>
        </p:nvSpPr>
        <p:spPr>
          <a:xfrm>
            <a:off x="3650400" y="1849320"/>
            <a:ext cx="455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Übergeordnete Kompetenzen (Teilaspek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44600" y="1467000"/>
            <a:ext cx="8370720" cy="49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-BoldMT"/>
                <a:ea typeface="MS PGothic"/>
              </a:rPr>
              <a:t>II. Der neue Kernlehrplan Biologie - Kompetenzbereiche</a:t>
            </a:r>
            <a:endParaRPr b="1" lang="en-US" sz="24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3634920" y="2585520"/>
            <a:ext cx="4824360" cy="2211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1 Probleme und Fragestellung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2  Wahrnehmung und Mes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3 Hypothe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4 Untersuchungen und Experi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5 Auswer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6 Model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7 Arbeits- und Denkw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4"/>
          <p:cNvSpPr/>
          <p:nvPr/>
        </p:nvSpPr>
        <p:spPr>
          <a:xfrm>
            <a:off x="539640" y="2327400"/>
            <a:ext cx="2664000" cy="825480"/>
          </a:xfrm>
          <a:prstGeom prst="rect">
            <a:avLst/>
          </a:prstGeom>
          <a:solidFill>
            <a:srgbClr val="acaca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U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gang mit 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F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achwi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5"/>
          <p:cNvSpPr/>
          <p:nvPr/>
        </p:nvSpPr>
        <p:spPr>
          <a:xfrm>
            <a:off x="539640" y="3360600"/>
            <a:ext cx="2664000" cy="82548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E</a:t>
            </a:r>
            <a:r>
              <a:rPr b="1" lang="de-DE" sz="2400" spc="-1" strike="noStrike">
                <a:solidFill>
                  <a:srgbClr val="002060"/>
                </a:solidFill>
                <a:latin typeface="Arial"/>
                <a:ea typeface="ヒラギノ角ゴ Pro W3"/>
              </a:rPr>
              <a:t>rkenntnis-gewinn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6"/>
          <p:cNvSpPr/>
          <p:nvPr/>
        </p:nvSpPr>
        <p:spPr>
          <a:xfrm>
            <a:off x="539640" y="4371840"/>
            <a:ext cx="2664000" cy="825480"/>
          </a:xfrm>
          <a:prstGeom prst="rect">
            <a:avLst/>
          </a:prstGeom>
          <a:solidFill>
            <a:srgbClr val="acaca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K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ommunikatio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7"/>
          <p:cNvSpPr/>
          <p:nvPr/>
        </p:nvSpPr>
        <p:spPr>
          <a:xfrm>
            <a:off x="539640" y="5386320"/>
            <a:ext cx="2664000" cy="825480"/>
          </a:xfrm>
          <a:prstGeom prst="rect">
            <a:avLst/>
          </a:prstGeom>
          <a:solidFill>
            <a:srgbClr val="acaca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B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ewertung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Line 8"/>
          <p:cNvSpPr/>
          <p:nvPr/>
        </p:nvSpPr>
        <p:spPr>
          <a:xfrm>
            <a:off x="3203640" y="3747960"/>
            <a:ext cx="431640" cy="0"/>
          </a:xfrm>
          <a:prstGeom prst="line">
            <a:avLst/>
          </a:prstGeom>
          <a:ln w="57240">
            <a:solidFill>
              <a:srgbClr val="f29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14"/>
          <p:cNvSpPr/>
          <p:nvPr/>
        </p:nvSpPr>
        <p:spPr>
          <a:xfrm>
            <a:off x="3650400" y="1957320"/>
            <a:ext cx="455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Übergeordnete Kompetenzen (Teilaspek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39280" y="1356840"/>
            <a:ext cx="841860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-BoldMT"/>
                <a:ea typeface="MS PGothic"/>
              </a:rPr>
              <a:t>II. Der neue Kernlehrplan Biologie - Kompetenzbereiche</a:t>
            </a:r>
            <a:endParaRPr b="1" lang="en-US" sz="24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3634920" y="4229280"/>
            <a:ext cx="4824360" cy="1304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1 Doku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2 Recher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3 Prä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4 Argu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4"/>
          <p:cNvSpPr/>
          <p:nvPr/>
        </p:nvSpPr>
        <p:spPr>
          <a:xfrm>
            <a:off x="539640" y="2336760"/>
            <a:ext cx="2664000" cy="825480"/>
          </a:xfrm>
          <a:prstGeom prst="rect">
            <a:avLst/>
          </a:prstGeom>
          <a:solidFill>
            <a:srgbClr val="acaca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U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gang mit 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F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achwi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5"/>
          <p:cNvSpPr/>
          <p:nvPr/>
        </p:nvSpPr>
        <p:spPr>
          <a:xfrm>
            <a:off x="539640" y="3348000"/>
            <a:ext cx="2664000" cy="825480"/>
          </a:xfrm>
          <a:prstGeom prst="rect">
            <a:avLst/>
          </a:prstGeom>
          <a:solidFill>
            <a:srgbClr val="acaca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E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rkenntnis-gewinn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6"/>
          <p:cNvSpPr/>
          <p:nvPr/>
        </p:nvSpPr>
        <p:spPr>
          <a:xfrm>
            <a:off x="539640" y="4371840"/>
            <a:ext cx="2664000" cy="82548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K</a:t>
            </a:r>
            <a:r>
              <a:rPr b="1" lang="de-DE" sz="2400" spc="-1" strike="noStrike">
                <a:solidFill>
                  <a:srgbClr val="002060"/>
                </a:solidFill>
                <a:latin typeface="Arial"/>
                <a:ea typeface="ヒラギノ角ゴ Pro W3"/>
              </a:rPr>
              <a:t>ommunikatio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7"/>
          <p:cNvSpPr/>
          <p:nvPr/>
        </p:nvSpPr>
        <p:spPr>
          <a:xfrm>
            <a:off x="539640" y="5386320"/>
            <a:ext cx="2664000" cy="825480"/>
          </a:xfrm>
          <a:prstGeom prst="rect">
            <a:avLst/>
          </a:prstGeom>
          <a:solidFill>
            <a:srgbClr val="acaca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B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ewertung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Line 8"/>
          <p:cNvSpPr/>
          <p:nvPr/>
        </p:nvSpPr>
        <p:spPr>
          <a:xfrm>
            <a:off x="3200400" y="4770360"/>
            <a:ext cx="431640" cy="0"/>
          </a:xfrm>
          <a:prstGeom prst="line">
            <a:avLst/>
          </a:prstGeom>
          <a:ln w="57240">
            <a:solidFill>
              <a:srgbClr val="f29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14"/>
          <p:cNvSpPr/>
          <p:nvPr/>
        </p:nvSpPr>
        <p:spPr>
          <a:xfrm>
            <a:off x="3647160" y="1868400"/>
            <a:ext cx="455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Übergeordnete Kompetenzen (Teilaspek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39640" y="1378080"/>
            <a:ext cx="8447040" cy="49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-BoldMT"/>
                <a:ea typeface="MS PGothic"/>
              </a:rPr>
              <a:t>II. Der neue Kernlehrplan Biologie - Kompetenzbereiche</a:t>
            </a:r>
            <a:endParaRPr b="1" lang="en-US" sz="24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3634920" y="4654080"/>
            <a:ext cx="4824360" cy="1582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1 Kriter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2 Entscheid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3 Werte und Nor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4 Möglichkeiten und Grenz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4"/>
          <p:cNvSpPr/>
          <p:nvPr/>
        </p:nvSpPr>
        <p:spPr>
          <a:xfrm>
            <a:off x="539640" y="2336760"/>
            <a:ext cx="2664000" cy="825480"/>
          </a:xfrm>
          <a:prstGeom prst="rect">
            <a:avLst/>
          </a:prstGeom>
          <a:solidFill>
            <a:srgbClr val="acaca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U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gang mit 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F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achwi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5"/>
          <p:cNvSpPr/>
          <p:nvPr/>
        </p:nvSpPr>
        <p:spPr>
          <a:xfrm>
            <a:off x="539640" y="3354480"/>
            <a:ext cx="2664000" cy="825480"/>
          </a:xfrm>
          <a:prstGeom prst="rect">
            <a:avLst/>
          </a:prstGeom>
          <a:solidFill>
            <a:srgbClr val="acaca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E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rkenntnis-gewinn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6"/>
          <p:cNvSpPr/>
          <p:nvPr/>
        </p:nvSpPr>
        <p:spPr>
          <a:xfrm>
            <a:off x="539640" y="4371840"/>
            <a:ext cx="2664000" cy="825480"/>
          </a:xfrm>
          <a:prstGeom prst="rect">
            <a:avLst/>
          </a:prstGeom>
          <a:solidFill>
            <a:srgbClr val="acaca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K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ommunikatio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7"/>
          <p:cNvSpPr/>
          <p:nvPr/>
        </p:nvSpPr>
        <p:spPr>
          <a:xfrm>
            <a:off x="539640" y="5386320"/>
            <a:ext cx="2664000" cy="82548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B</a:t>
            </a:r>
            <a:r>
              <a:rPr b="1" lang="de-DE" sz="2400" spc="-1" strike="noStrike">
                <a:solidFill>
                  <a:srgbClr val="002060"/>
                </a:solidFill>
                <a:latin typeface="Arial"/>
                <a:ea typeface="ヒラギノ角ゴ Pro W3"/>
              </a:rPr>
              <a:t>ewertung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8"/>
          <p:cNvSpPr/>
          <p:nvPr/>
        </p:nvSpPr>
        <p:spPr>
          <a:xfrm>
            <a:off x="3203640" y="5805360"/>
            <a:ext cx="431640" cy="0"/>
          </a:xfrm>
          <a:prstGeom prst="line">
            <a:avLst/>
          </a:prstGeom>
          <a:ln w="57240">
            <a:solidFill>
              <a:srgbClr val="f29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9"/>
          <p:cNvSpPr/>
          <p:nvPr/>
        </p:nvSpPr>
        <p:spPr>
          <a:xfrm>
            <a:off x="3647160" y="1855800"/>
            <a:ext cx="455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Übergeordnete Kompetenzen (Teilaspek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98240" y="1555560"/>
            <a:ext cx="806436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-BoldMT"/>
                <a:ea typeface="MS PGothic"/>
              </a:rPr>
              <a:t>III. Der neue Kernlehrplan Biologie - Inhaltsfelder</a:t>
            </a:r>
            <a:endParaRPr b="1" lang="en-US" sz="24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507960" y="2371680"/>
            <a:ext cx="8064720" cy="35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27120" indent="-3542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MS PGothic"/>
              </a:rPr>
              <a:t>Einführungs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-3542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MS PGothic"/>
              </a:rPr>
              <a:t>Inhaltsfeld 1: Biologie der Ze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-3542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MS PGothic"/>
              </a:rPr>
              <a:t>Inhaltsfeld 2: Energiestoffwechs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-354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-3542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MS PGothic"/>
              </a:rPr>
              <a:t>Qualifikationsphase (GK und L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-3542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MS PGothic"/>
              </a:rPr>
              <a:t>Inhaltsfeld 3: Genet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-3542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MS PGothic"/>
              </a:rPr>
              <a:t>Inhaltsfeld 4: Neurobiolo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-3542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MS PGothic"/>
              </a:rPr>
              <a:t>Inhaltsfeld 5: Ökolo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-3542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MS PGothic"/>
              </a:rPr>
              <a:t>Inhaltsfeld 6: Ev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-354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39640" y="13636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-BoldMT"/>
                <a:ea typeface="MS PGothic"/>
              </a:rPr>
              <a:t>Struktur Inhaltsfeld 1: Biologie der Zelle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-BoldMT"/>
            </a:endParaRPr>
          </a:p>
        </p:txBody>
      </p:sp>
      <p:graphicFrame>
        <p:nvGraphicFramePr>
          <p:cNvPr id="757" name=""/>
          <p:cNvGraphicFramePr/>
          <p:nvPr/>
        </p:nvGraphicFramePr>
        <p:xfrm>
          <a:off x="555480" y="1805040"/>
          <a:ext cx="8156880" cy="3454200"/>
        </p:xfrm>
        <a:graphic>
          <a:graphicData uri="http://schemas.openxmlformats.org/drawingml/2006/table">
            <a:tbl>
              <a:tblPr/>
              <a:tblGrid>
                <a:gridCol w="4067280"/>
                <a:gridCol w="4089600"/>
              </a:tblGrid>
              <a:tr h="328680">
                <a:tc>
                  <a:txBody>
                    <a:bodyPr lIns="26280" rIns="26280" tIns="26280" bIns="26280" anchor="t">
                      <a:noAutofit/>
                    </a:bodyPr>
                    <a:p>
                      <a:pPr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haltliche Schwerpunk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26280" rIns="26280" tIns="26280" bIns="26280" anchor="t">
                      <a:noAutofit/>
                    </a:bodyPr>
                    <a:p>
                      <a:pPr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rschläge für mögliche Kontex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1220760">
                <a:tc>
                  <a:txBody>
                    <a:bodyPr lIns="26280" rIns="26280" tIns="26280" bIns="26280" anchor="t">
                      <a:noAutofit/>
                    </a:bodyPr>
                    <a:p>
                      <a:pPr marL="264960" indent="-1774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800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ellaufba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4960" indent="-1774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800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omembran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4960" indent="-1774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800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ktion des Zellker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4960" indent="-1774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800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ellverdopplung und D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26280" rIns="26280" tIns="26280" bIns="26280" anchor="t">
                      <a:noAutofit/>
                    </a:bodyPr>
                    <a:p>
                      <a:pPr marL="264960" indent="-1774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800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forschung der Biomembran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4960" indent="-1774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800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ellkultur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4960" indent="-177480">
                        <a:tabLst>
                          <a:tab algn="l" pos="0"/>
                          <a:tab algn="l" pos="10800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1904760">
                <a:tc gridSpan="2">
                  <a:txBody>
                    <a:bodyPr lIns="26280" rIns="26280" tIns="26280" bIns="262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skonzept Sys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karyot, Eukaryot, Biomembran, Plasmolyse, Transport, Zellkern, Chromosom, Mitochondrium, Chloroplast, Chromosom, Makromolekül,  Zelle, Gewebe, Organ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skonzept Struktur und Funk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ellkompartimentierung, Transport, Diffusion, Osmos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skonzept Entwicklu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likation, Mitose, Zellzyklu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58" name="Pfeil nach links 1"/>
          <p:cNvSpPr/>
          <p:nvPr/>
        </p:nvSpPr>
        <p:spPr>
          <a:xfrm rot="19226400">
            <a:off x="4983120" y="3150720"/>
            <a:ext cx="955800" cy="220680"/>
          </a:xfrm>
          <a:prstGeom prst="leftArrow">
            <a:avLst>
              <a:gd name="adj1" fmla="val 35685"/>
              <a:gd name="adj2" fmla="val 50049"/>
            </a:avLst>
          </a:prstGeom>
          <a:solidFill>
            <a:srgbClr val="e2001a"/>
          </a:solidFill>
          <a:ln w="25560">
            <a:solidFill>
              <a:srgbClr val="7d7d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feil nach rechts 3"/>
          <p:cNvSpPr/>
          <p:nvPr/>
        </p:nvSpPr>
        <p:spPr>
          <a:xfrm rot="12331800">
            <a:off x="3468240" y="4806720"/>
            <a:ext cx="1121040" cy="22536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e2001a"/>
          </a:solidFill>
          <a:ln w="25560">
            <a:solidFill>
              <a:srgbClr val="7d7d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feld 6"/>
          <p:cNvSpPr/>
          <p:nvPr/>
        </p:nvSpPr>
        <p:spPr>
          <a:xfrm>
            <a:off x="555480" y="5408640"/>
            <a:ext cx="8123400" cy="8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Umgang mit Fachwiss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Studierenden können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n Aufbau pro- und eukaryotischer Zellen in Grundzügen beschreiben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528480" y="1387440"/>
            <a:ext cx="806472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-BoldMT"/>
                <a:ea typeface="MS PGothic"/>
              </a:rPr>
              <a:t>Struktur Inhaltsfeld 6: Evolution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-BoldMT"/>
            </a:endParaRPr>
          </a:p>
        </p:txBody>
      </p:sp>
      <p:graphicFrame>
        <p:nvGraphicFramePr>
          <p:cNvPr id="762" name=""/>
          <p:cNvGraphicFramePr/>
          <p:nvPr/>
        </p:nvGraphicFramePr>
        <p:xfrm>
          <a:off x="355680" y="1814400"/>
          <a:ext cx="8407440" cy="3505320"/>
        </p:xfrm>
        <a:graphic>
          <a:graphicData uri="http://schemas.openxmlformats.org/drawingml/2006/table">
            <a:tbl>
              <a:tblPr/>
              <a:tblGrid>
                <a:gridCol w="4194000"/>
                <a:gridCol w="4213440"/>
              </a:tblGrid>
              <a:tr h="311400">
                <a:tc>
                  <a:txBody>
                    <a:bodyPr lIns="26280" rIns="26280" tIns="26280" bIns="26280" anchor="t">
                      <a:noAutofit/>
                    </a:bodyPr>
                    <a:p>
                      <a:pPr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haltliche Schwerpunk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26280" rIns="26280" tIns="26280" bIns="26280" anchor="t">
                      <a:noAutofit/>
                    </a:bodyPr>
                    <a:p>
                      <a:pPr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rschläge für mögliche Kontex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1334880">
                <a:tc>
                  <a:txBody>
                    <a:bodyPr lIns="26280" rIns="26280" tIns="26280" bIns="26280" anchor="t">
                      <a:noAutofit/>
                    </a:bodyPr>
                    <a:p>
                      <a:pPr marL="343080" indent="-1605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800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undlagen evolutiver Veränderung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1605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800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 und Artbildu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1605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800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olution und Verhalt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1605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800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olution des Mensch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1605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800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mmbäu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26280" rIns="26280" tIns="26280" bIns="26280" anchor="t">
                      <a:noAutofit/>
                    </a:bodyPr>
                    <a:p>
                      <a:pPr marL="343080" indent="-160560" algn="just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mat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160560" algn="just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sit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160560" algn="just">
                        <a:tabLst>
                          <a:tab algn="l" pos="0"/>
                          <a:tab algn="l" pos="10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1859040">
                <a:tc gridSpan="2">
                  <a:txBody>
                    <a:bodyPr lIns="26280" rIns="26280" tIns="26280" bIns="262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skonzept Sys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, Population, Paarungssystem, Genpool, Gen, Allel, ncDNA, mtD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skonzept Struktur und Funk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tation, Rekombination, Selektion, Gendrift, Isolation, Investment, Homolog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skonzept Entwicklu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tness, Divergenz, Konvergenz, Coevolution, Adaptive Radiation, Artbildung, Phylogene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63" name="Textfeld 3"/>
          <p:cNvSpPr/>
          <p:nvPr/>
        </p:nvSpPr>
        <p:spPr>
          <a:xfrm>
            <a:off x="355680" y="5295960"/>
            <a:ext cx="81230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Umgang mit Fachwiss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Studierenden können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Einordnung von Lebewesen mithilfe der Systematik …beschrei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392040" y="1395360"/>
            <a:ext cx="8064720" cy="4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-BoldMT"/>
                <a:ea typeface="MS PGothic"/>
              </a:rPr>
              <a:t>IV. Lernerfolgsüberprüfung und Leistungsbewertung – Überprüfungsformen</a:t>
            </a:r>
            <a:r>
              <a:rPr b="1" lang="de-DE" sz="2400" spc="-1" strike="noStrike">
                <a:solidFill>
                  <a:srgbClr val="000000"/>
                </a:solidFill>
                <a:latin typeface="Arial-BoldMT"/>
                <a:ea typeface="MS PGothic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-BoldMT"/>
                <a:ea typeface="MS PGothic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-BoldMT"/>
                <a:ea typeface="MS PGothic"/>
              </a:rPr>
              <a:t>   </a:t>
            </a:r>
            <a:r>
              <a:rPr b="0" lang="de-DE" sz="1600" spc="-1" strike="noStrike">
                <a:solidFill>
                  <a:srgbClr val="000000"/>
                </a:solidFill>
                <a:latin typeface="Arial-BoldMT"/>
                <a:ea typeface="MS PGothic"/>
              </a:rPr>
              <a:t>Liste im KLP ist nicht abschließend!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388800" y="2231640"/>
            <a:ext cx="806472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300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rstellungsaufga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wertungsaufga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urteilungsaufga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flexionsaufga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ptimierungsaufga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obachtungsaufga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chercheaufga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äsentationsaufga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okumentationsaufga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alyseaufga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xperimentelle Aufga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28480" y="1565280"/>
            <a:ext cx="8064720" cy="4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-BoldMT"/>
                <a:ea typeface="MS PGothic"/>
              </a:rPr>
              <a:t>V. Lernerfolgsüberprüfung und Leistungsbewertung – Überprüfungsformen (Bsp.)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539640" y="2346120"/>
            <a:ext cx="8064720" cy="35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nalyseaufga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üfen und Interpretieren von Daten im Hinblick auf Trends und Gesetzmäßigkeiten zur Beantwortung biologischer Fragestellu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uswerten von Daten bzw. Messwerten zur Generierung von Hypothesen/Model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uswerten von Fallanalysen (z. B. aus der Humangeneti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gründen eines Versuchsplans, -aufbaus und seiner Durchführung im Hinblick auf die ihm zugrunde liegende Zielsetzu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uswerten und Evaluieren experimentell gewonnener Daten im Hinblick auf antizipierte Ergebnisse und Reflektieren des Versuchsplans und der Durchführung im Hinblick auf konzeptionelle und individuelle Feh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548EB-DA72-4DA1-BF5B-D10ECC76E89D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oliennummernplatzhalter 4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1DE27-08A5-4D6F-94B0-CB36B3CF66F1}" type="slidenum"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4"/>
          <p:cNvSpPr/>
          <p:nvPr/>
        </p:nvSpPr>
        <p:spPr>
          <a:xfrm>
            <a:off x="1352520" y="2876400"/>
            <a:ext cx="721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5"/>
          <p:cNvSpPr/>
          <p:nvPr/>
        </p:nvSpPr>
        <p:spPr>
          <a:xfrm>
            <a:off x="1276200" y="1509840"/>
            <a:ext cx="6400800" cy="4502160"/>
          </a:xfrm>
          <a:prstGeom prst="rect">
            <a:avLst/>
          </a:prstGeom>
          <a:noFill/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99"/>
                </a:solidFill>
                <a:latin typeface="Arial"/>
                <a:ea typeface="ヒラギノ角ゴ Pro W3"/>
              </a:rPr>
              <a:t>Von der</a:t>
            </a:r>
            <a:r>
              <a:rPr b="1" lang="de-DE" sz="2000" spc="-1" strike="noStrike">
                <a:solidFill>
                  <a:srgbClr val="000099"/>
                </a:solidFill>
                <a:latin typeface="Arial"/>
                <a:ea typeface="ヒラギノ角ゴ Pro W3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99"/>
                </a:solidFill>
                <a:uFillTx/>
                <a:latin typeface="Arial"/>
                <a:ea typeface="ヒラギノ角ゴ Pro W3"/>
              </a:rPr>
              <a:t>Input-Steuerung und „Stofforientierung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as soll am Ende dieses Bildungsabschnitts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urchgenomm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und behandelt worden sei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99"/>
                </a:solidFill>
                <a:latin typeface="Arial"/>
                <a:ea typeface="ヒラギノ角ゴ Pro W3"/>
              </a:rPr>
              <a:t>z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99"/>
                </a:solidFill>
                <a:uFillTx/>
                <a:latin typeface="Arial"/>
                <a:ea typeface="ヒラギノ角ゴ Pro W3"/>
              </a:rPr>
              <a:t>Ergebnis- bzw. „Output-Steuerung“ und </a:t>
            </a:r>
            <a:br>
              <a:rPr sz="2000"/>
            </a:br>
            <a:r>
              <a:rPr b="1" lang="de-DE" sz="2000" spc="-1" strike="noStrike" u="sng">
                <a:solidFill>
                  <a:srgbClr val="000099"/>
                </a:solidFill>
                <a:uFillTx/>
                <a:latin typeface="Arial"/>
                <a:ea typeface="ヒラギノ角ゴ Pro W3"/>
              </a:rPr>
              <a:t>Kompetenzorient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as sollen die Studierenden am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nde eines Bildungsabschnitts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könn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feld 7"/>
          <p:cNvSpPr/>
          <p:nvPr/>
        </p:nvSpPr>
        <p:spPr>
          <a:xfrm>
            <a:off x="268200" y="838080"/>
            <a:ext cx="40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Orientierungswechs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46179-320D-43C5-8BF4-737B9D357DCA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399960" y="1368360"/>
            <a:ext cx="8237520" cy="1155600"/>
          </a:xfrm>
          <a:prstGeom prst="rect">
            <a:avLst/>
          </a:prstGeom>
          <a:noFill/>
          <a:ln w="0">
            <a:noFill/>
          </a:ln>
        </p:spPr>
        <p:txBody>
          <a:bodyPr lIns="0" rIns="0" tIns="144000" bIns="0" anchor="t">
            <a:noAutofit/>
          </a:bodyPr>
          <a:p>
            <a:pPr indent="0">
              <a:buNone/>
              <a:tabLst>
                <a:tab algn="l" pos="0"/>
                <a:tab algn="l" pos="26676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-BoldMT"/>
                <a:ea typeface="MS PGothic"/>
              </a:rPr>
              <a:t>VI. Abiturprüfung</a:t>
            </a:r>
            <a:br>
              <a:rPr sz="2400"/>
            </a:br>
            <a:br>
              <a:rPr sz="2400"/>
            </a:br>
            <a:r>
              <a:rPr b="1" lang="de-DE" sz="2000" spc="-1" strike="noStrike">
                <a:solidFill>
                  <a:srgbClr val="002060"/>
                </a:solidFill>
                <a:latin typeface="Arial-BoldMT"/>
                <a:ea typeface="MS PGothic"/>
              </a:rPr>
              <a:t>Aufgabenarten bzw. -kombinationen im Zentralabitur:</a:t>
            </a:r>
            <a:br>
              <a:rPr sz="2100"/>
            </a:br>
            <a:br>
              <a:rPr sz="2100"/>
            </a:b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769" name="Textfeld 3"/>
          <p:cNvSpPr/>
          <p:nvPr/>
        </p:nvSpPr>
        <p:spPr>
          <a:xfrm>
            <a:off x="399960" y="2523960"/>
            <a:ext cx="778212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2060"/>
                </a:solidFill>
                <a:latin typeface="Arial"/>
                <a:ea typeface="MS PGothic"/>
              </a:rPr>
              <a:t>Bearbeitung einer Aufgabe, die fachspezifisches Material enthä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2060"/>
                </a:solidFill>
                <a:latin typeface="Arial"/>
                <a:ea typeface="MS PGothic"/>
              </a:rPr>
              <a:t>Bearbeitung eines Demonstrationsexperi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2060"/>
                </a:solidFill>
                <a:latin typeface="Arial"/>
                <a:ea typeface="MS PGothic"/>
              </a:rPr>
              <a:t>Durchführung und Bearbeitung eines Schülerexperi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Rechteck 2"/>
          <p:cNvSpPr/>
          <p:nvPr/>
        </p:nvSpPr>
        <p:spPr>
          <a:xfrm>
            <a:off x="1139760" y="4516560"/>
            <a:ext cx="729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2060"/>
                </a:solidFill>
                <a:latin typeface="Arial"/>
                <a:ea typeface="MS PGothic"/>
              </a:rPr>
              <a:t>Mischformen der genannten Aufgabenarten sind möglich. Eine ausschließlich aufsatzartig zu bearbeitende Aufgabenstellung, </a:t>
            </a:r>
            <a:br>
              <a:rPr sz="1800"/>
            </a:br>
            <a:r>
              <a:rPr b="1" lang="de-DE" sz="1800" spc="-1" strike="noStrike">
                <a:solidFill>
                  <a:srgbClr val="002060"/>
                </a:solidFill>
                <a:latin typeface="Arial"/>
                <a:ea typeface="MS PGothic"/>
              </a:rPr>
              <a:t>d. h. eine Aufgabe ohne vorgelegtes fachspezifisches Material oder ohne Experiment, ist nicht zulässi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Rechteck 4"/>
          <p:cNvSpPr/>
          <p:nvPr/>
        </p:nvSpPr>
        <p:spPr>
          <a:xfrm>
            <a:off x="417240" y="482436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2060"/>
                </a:solidFill>
                <a:latin typeface="Wingdings"/>
                <a:ea typeface="Wingdings"/>
              </a:rPr>
              <a:t>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Gerade Verbindung 6"/>
          <p:cNvSpPr/>
          <p:nvPr/>
        </p:nvSpPr>
        <p:spPr>
          <a:xfrm>
            <a:off x="1139760" y="45687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4"/>
          <p:cNvSpPr/>
          <p:nvPr/>
        </p:nvSpPr>
        <p:spPr>
          <a:xfrm>
            <a:off x="-7920" y="1305000"/>
            <a:ext cx="9144000" cy="504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4" name="Picture 2" descr="NRW_Guillochen_PowerPoint-Titel"/>
          <p:cNvPicPr/>
          <p:nvPr/>
        </p:nvPicPr>
        <p:blipFill>
          <a:blip r:embed="rId1"/>
          <a:stretch/>
        </p:blipFill>
        <p:spPr>
          <a:xfrm>
            <a:off x="-7920" y="3002040"/>
            <a:ext cx="9144000" cy="1914480"/>
          </a:xfrm>
          <a:prstGeom prst="rect">
            <a:avLst/>
          </a:prstGeom>
          <a:ln w="0">
            <a:noFill/>
          </a:ln>
        </p:spPr>
      </p:pic>
      <p:sp>
        <p:nvSpPr>
          <p:cNvPr id="775" name="Rectangle 3"/>
          <p:cNvSpPr/>
          <p:nvPr/>
        </p:nvSpPr>
        <p:spPr>
          <a:xfrm>
            <a:off x="68400" y="3151080"/>
            <a:ext cx="8989920" cy="31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fü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2060"/>
                </a:solidFill>
                <a:latin typeface="Arial"/>
                <a:ea typeface="Arial"/>
              </a:rPr>
              <a:t>Ihre Aufmerksamk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Wir freuen uns auf Ihre Frag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hteck 1"/>
          <p:cNvSpPr/>
          <p:nvPr/>
        </p:nvSpPr>
        <p:spPr>
          <a:xfrm>
            <a:off x="2278080" y="15447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2060"/>
                </a:solidFill>
                <a:latin typeface="Arial"/>
                <a:ea typeface="Arial"/>
              </a:rPr>
              <a:t>HERZLIC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2060"/>
                </a:solidFill>
                <a:latin typeface="Arial"/>
                <a:ea typeface="Arial"/>
              </a:rPr>
              <a:t>DA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18631-B985-4BFA-8DCD-47D04C8D0FFC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2" descr="grafik_transparent"/>
          <p:cNvPicPr/>
          <p:nvPr/>
        </p:nvPicPr>
        <p:blipFill>
          <a:blip r:embed="rId1"/>
          <a:srcRect l="-4997" t="8422" r="-606" b="54452"/>
          <a:stretch/>
        </p:blipFill>
        <p:spPr>
          <a:xfrm rot="9442800">
            <a:off x="1692000" y="1677600"/>
            <a:ext cx="5221080" cy="2041560"/>
          </a:xfrm>
          <a:prstGeom prst="rect">
            <a:avLst/>
          </a:prstGeom>
          <a:ln w="0">
            <a:noFill/>
          </a:ln>
        </p:spPr>
      </p:pic>
      <p:sp>
        <p:nvSpPr>
          <p:cNvPr id="571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A8C85-EA0E-4E9C-8356-831E8622DB36}" type="slidenum"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8"/>
          <p:cNvSpPr/>
          <p:nvPr/>
        </p:nvSpPr>
        <p:spPr>
          <a:xfrm>
            <a:off x="1881360" y="2508120"/>
            <a:ext cx="2736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Unterrichtsgestaltung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und Arbeitsprozes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3"/>
          <p:cNvSpPr/>
          <p:nvPr/>
        </p:nvSpPr>
        <p:spPr>
          <a:xfrm>
            <a:off x="5384880" y="1413000"/>
            <a:ext cx="27367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Nutzung des unterricht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lichen Angebo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feld 14"/>
          <p:cNvSpPr/>
          <p:nvPr/>
        </p:nvSpPr>
        <p:spPr>
          <a:xfrm>
            <a:off x="204840" y="838080"/>
            <a:ext cx="40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Orientierungswechs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feld 2"/>
          <p:cNvSpPr/>
          <p:nvPr/>
        </p:nvSpPr>
        <p:spPr>
          <a:xfrm>
            <a:off x="76320" y="1413000"/>
            <a:ext cx="3276360" cy="64260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70c0"/>
                </a:solidFill>
                <a:latin typeface="Arial"/>
              </a:rPr>
              <a:t>Steuerungsverständnis alter Lehrplä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2" descr="grafik_transparent"/>
          <p:cNvPicPr/>
          <p:nvPr/>
        </p:nvPicPr>
        <p:blipFill>
          <a:blip r:embed="rId2"/>
          <a:srcRect l="-4997" t="8422" r="-606" b="54452"/>
          <a:stretch/>
        </p:blipFill>
        <p:spPr>
          <a:xfrm rot="20242800">
            <a:off x="2072880" y="3798360"/>
            <a:ext cx="5221440" cy="2041560"/>
          </a:xfrm>
          <a:prstGeom prst="rect">
            <a:avLst/>
          </a:prstGeom>
          <a:ln w="0">
            <a:noFill/>
          </a:ln>
        </p:spPr>
      </p:pic>
      <p:sp>
        <p:nvSpPr>
          <p:cNvPr id="577" name="Rectangle 12"/>
          <p:cNvSpPr/>
          <p:nvPr/>
        </p:nvSpPr>
        <p:spPr>
          <a:xfrm>
            <a:off x="5292720" y="2924280"/>
            <a:ext cx="2176560" cy="83160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Lernergebniss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Lernerfo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8" name="Group 9"/>
          <p:cNvGrpSpPr/>
          <p:nvPr/>
        </p:nvGrpSpPr>
        <p:grpSpPr>
          <a:xfrm>
            <a:off x="1692360" y="2448000"/>
            <a:ext cx="3024000" cy="3649320"/>
            <a:chOff x="1692360" y="2448000"/>
            <a:chExt cx="3024000" cy="3649320"/>
          </a:xfrm>
        </p:grpSpPr>
        <p:sp>
          <p:nvSpPr>
            <p:cNvPr id="579" name="Rectangle 10"/>
            <p:cNvSpPr/>
            <p:nvPr/>
          </p:nvSpPr>
          <p:spPr>
            <a:xfrm>
              <a:off x="1692360" y="2448000"/>
              <a:ext cx="3024000" cy="3477960"/>
            </a:xfrm>
            <a:prstGeom prst="rect">
              <a:avLst/>
            </a:prstGeom>
            <a:noFill/>
            <a:ln w="9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Text Box 11"/>
            <p:cNvSpPr/>
            <p:nvPr/>
          </p:nvSpPr>
          <p:spPr>
            <a:xfrm>
              <a:off x="2638440" y="5760000"/>
              <a:ext cx="99072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70c0"/>
                  </a:solidFill>
                  <a:latin typeface="Arial"/>
                  <a:ea typeface="ヒラギノ角ゴ Pro W3"/>
                </a:rPr>
                <a:t>Foku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1" name="Rectangle 6"/>
          <p:cNvSpPr/>
          <p:nvPr/>
        </p:nvSpPr>
        <p:spPr>
          <a:xfrm>
            <a:off x="1763640" y="4149720"/>
            <a:ext cx="2881440" cy="93672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urchzunehmender </a:t>
            </a:r>
            <a:br>
              <a:rPr sz="1800"/>
            </a:br>
            <a:r>
              <a:rPr b="0" lang="de-DE" sz="1800" spc="-1" strike="noStrike">
                <a:solidFill>
                  <a:srgbClr val="0070c0"/>
                </a:solidFill>
                <a:latin typeface="Arial"/>
                <a:ea typeface="ヒラギノ角ゴ Pro W3"/>
              </a:rPr>
              <a:t>Stof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als unterrichtliches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ngeb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" name="Group 8"/>
          <p:cNvGrpSpPr/>
          <p:nvPr/>
        </p:nvGrpSpPr>
        <p:grpSpPr>
          <a:xfrm>
            <a:off x="5051520" y="1413000"/>
            <a:ext cx="3155760" cy="4015440"/>
            <a:chOff x="5051520" y="1413000"/>
            <a:chExt cx="3155760" cy="4015440"/>
          </a:xfrm>
        </p:grpSpPr>
        <p:sp>
          <p:nvSpPr>
            <p:cNvPr id="583" name="Rectangle 9"/>
            <p:cNvSpPr/>
            <p:nvPr/>
          </p:nvSpPr>
          <p:spPr>
            <a:xfrm>
              <a:off x="5051520" y="1413000"/>
              <a:ext cx="3155760" cy="3840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Text Box 10"/>
            <p:cNvSpPr/>
            <p:nvPr/>
          </p:nvSpPr>
          <p:spPr>
            <a:xfrm>
              <a:off x="6246720" y="5091120"/>
              <a:ext cx="96372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cd0921"/>
                  </a:solidFill>
                  <a:latin typeface="Arial"/>
                  <a:ea typeface="ヒラギノ角ゴ Pro W3"/>
                </a:rPr>
                <a:t>Foku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Textfeld 15"/>
          <p:cNvSpPr/>
          <p:nvPr/>
        </p:nvSpPr>
        <p:spPr>
          <a:xfrm>
            <a:off x="5830920" y="5603760"/>
            <a:ext cx="327672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Arial"/>
              </a:rPr>
              <a:t>Steuerungsverständnis neuer </a:t>
            </a:r>
            <a:r>
              <a:rPr b="0" lang="de-DE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0000"/>
                </a:solidFill>
                <a:latin typeface="Arial"/>
              </a:rPr>
              <a:t>           Kernlehrplä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12"/>
          <p:cNvSpPr/>
          <p:nvPr/>
        </p:nvSpPr>
        <p:spPr>
          <a:xfrm>
            <a:off x="5291280" y="2922480"/>
            <a:ext cx="2176200" cy="83196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Lernergebniss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Lernerfo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Kompetenz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Foliennummernplatzhalter 3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2048D-43B4-4711-AB80-D3C5AEC11508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8CE5A-58E8-48B4-8B3B-44CC4A7A3E34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2B2D5-A274-4698-9333-F7AD7BF44B11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6"/>
          <p:cNvSpPr/>
          <p:nvPr/>
        </p:nvSpPr>
        <p:spPr>
          <a:xfrm>
            <a:off x="387360" y="2189160"/>
            <a:ext cx="3780000" cy="1925640"/>
          </a:xfrm>
          <a:prstGeom prst="rect">
            <a:avLst/>
          </a:prstGeom>
          <a:noFill/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2060"/>
                </a:solidFill>
                <a:latin typeface="Arial"/>
                <a:ea typeface="ヒラギノ角ゴ Pro W3"/>
              </a:rPr>
              <a:t>In </a:t>
            </a:r>
            <a:r>
              <a:rPr b="1" lang="de-DE" sz="18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Verantwortung</a:t>
            </a:r>
            <a:r>
              <a:rPr b="0" lang="de-DE" sz="1800" spc="-1" strike="noStrike">
                <a:solidFill>
                  <a:srgbClr val="002060"/>
                </a:solidFill>
                <a:latin typeface="Arial"/>
                <a:ea typeface="ヒラギノ角ゴ Pro W3"/>
              </a:rPr>
              <a:t> der Lehrkraf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2060"/>
                </a:solidFill>
                <a:latin typeface="Arial"/>
                <a:ea typeface="ヒラギノ角ゴ Pro W3"/>
              </a:rPr>
              <a:t>inhaltliche Schwerpunktsetzunge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2060"/>
                </a:solidFill>
                <a:latin typeface="Arial"/>
                <a:ea typeface="ヒラギノ角ゴ Pro W3"/>
              </a:rPr>
              <a:t>  </a:t>
            </a:r>
            <a:r>
              <a:rPr b="0" lang="de-DE" sz="1600" spc="-1" strike="noStrike">
                <a:solidFill>
                  <a:srgbClr val="002060"/>
                </a:solidFill>
                <a:latin typeface="Arial"/>
                <a:ea typeface="ヒラギノ角ゴ Pro W3"/>
              </a:rPr>
              <a:t>Lernarrangement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2060"/>
                </a:solidFill>
                <a:latin typeface="Arial"/>
                <a:ea typeface="ヒラギノ角ゴ Pro W3"/>
              </a:rPr>
              <a:t>Problem-, Anwendungsorientierung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2060"/>
                </a:solidFill>
                <a:latin typeface="Arial"/>
                <a:ea typeface="ヒラギノ角ゴ Pro W3"/>
              </a:rPr>
              <a:t>etc.</a:t>
            </a:r>
            <a:r>
              <a:rPr b="0" lang="de-DE" sz="1800" spc="-1" strike="noStrike">
                <a:solidFill>
                  <a:srgbClr val="002060"/>
                </a:solidFill>
                <a:latin typeface="Arial"/>
                <a:ea typeface="ヒラギノ角ゴ Pro W3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11"/>
          <p:cNvSpPr/>
          <p:nvPr/>
        </p:nvSpPr>
        <p:spPr>
          <a:xfrm>
            <a:off x="828720" y="4476600"/>
            <a:ext cx="7539120" cy="1748160"/>
          </a:xfrm>
          <a:prstGeom prst="rect">
            <a:avLst/>
          </a:prstGeom>
          <a:noFill/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2060"/>
                </a:solidFill>
                <a:latin typeface="Arial"/>
                <a:ea typeface="ヒラギノ角ゴ Pro W3"/>
              </a:rPr>
              <a:t>In </a:t>
            </a:r>
            <a:r>
              <a:rPr b="1" lang="de-DE" sz="18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Verantwortung</a:t>
            </a:r>
            <a:r>
              <a:rPr b="0" lang="de-DE" sz="1800" spc="-1" strike="noStrike">
                <a:solidFill>
                  <a:srgbClr val="002060"/>
                </a:solidFill>
                <a:latin typeface="Arial"/>
                <a:ea typeface="ヒラギノ角ゴ Pro W3"/>
              </a:rPr>
              <a:t> der Lehrkraft </a:t>
            </a:r>
            <a:r>
              <a:rPr b="0" i="1" lang="de-DE" sz="1800" spc="-1" strike="noStrike">
                <a:solidFill>
                  <a:srgbClr val="002060"/>
                </a:solidFill>
                <a:latin typeface="Arial"/>
                <a:ea typeface="ヒラギノ角ゴ Pro W3"/>
              </a:rPr>
              <a:t>und</a:t>
            </a:r>
            <a:r>
              <a:rPr b="0" lang="de-DE" sz="1800" spc="-1" strike="noStrike">
                <a:solidFill>
                  <a:srgbClr val="002060"/>
                </a:solidFill>
                <a:latin typeface="Arial"/>
                <a:ea typeface="ヒラギノ角ゴ Pro W3"/>
              </a:rPr>
              <a:t> der Studierend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2060"/>
                </a:solidFill>
                <a:latin typeface="Arial"/>
                <a:ea typeface="ヒラギノ角ゴ Pro W3"/>
              </a:rPr>
              <a:t>Lernergebnisse</a:t>
            </a:r>
            <a:br>
              <a:rPr sz="1600"/>
            </a:br>
            <a:r>
              <a:rPr b="0" lang="de-DE" sz="1600" spc="-1" strike="noStrike">
                <a:solidFill>
                  <a:srgbClr val="002060"/>
                </a:solidFill>
                <a:latin typeface="Arial"/>
                <a:ea typeface="ヒラギノ角ゴ Pro W3"/>
              </a:rPr>
              <a:t>Lernerfolg</a:t>
            </a:r>
            <a:br>
              <a:rPr sz="1600"/>
            </a:br>
            <a:r>
              <a:rPr b="0" lang="de-DE" sz="1600" spc="-1" strike="noStrike">
                <a:solidFill>
                  <a:srgbClr val="002060"/>
                </a:solidFill>
                <a:latin typeface="Arial"/>
                <a:ea typeface="ヒラギノ角ゴ Pro W3"/>
              </a:rPr>
              <a:t> (langfristig entwickelte Kompetenz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12"/>
          <p:cNvSpPr/>
          <p:nvPr/>
        </p:nvSpPr>
        <p:spPr>
          <a:xfrm>
            <a:off x="4705200" y="2200320"/>
            <a:ext cx="4010040" cy="1925640"/>
          </a:xfrm>
          <a:prstGeom prst="rect">
            <a:avLst/>
          </a:prstGeom>
          <a:noFill/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2060"/>
                </a:solidFill>
                <a:latin typeface="Arial"/>
                <a:ea typeface="ヒラギノ角ゴ Pro W3"/>
              </a:rPr>
              <a:t>In </a:t>
            </a:r>
            <a:r>
              <a:rPr b="1" lang="de-DE" sz="18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Verantwortung</a:t>
            </a:r>
            <a:r>
              <a:rPr b="0" lang="de-DE" sz="1800" spc="-1" strike="noStrike">
                <a:solidFill>
                  <a:srgbClr val="002060"/>
                </a:solidFill>
                <a:latin typeface="Arial"/>
                <a:ea typeface="ヒラギノ角ゴ Pro W3"/>
              </a:rPr>
              <a:t> der Studierende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2060"/>
                </a:solidFill>
                <a:latin typeface="Arial"/>
                <a:ea typeface="ヒラギノ角ゴ Pro W3"/>
              </a:rPr>
              <a:t>Nutzung des Angebots ganz im Sinne des eigenverantwortlichen, selbstständigen Ler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2060"/>
                </a:solidFill>
                <a:latin typeface="Arial"/>
                <a:ea typeface="ヒラギノ角ゴ Pro W3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7"/>
          <p:cNvSpPr/>
          <p:nvPr/>
        </p:nvSpPr>
        <p:spPr>
          <a:xfrm>
            <a:off x="684360" y="1498680"/>
            <a:ext cx="768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  <a:ea typeface="ヒラギノ角ゴ Pro W3"/>
              </a:rPr>
              <a:t>Gemeinsame Verantwortung für den Lernproz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feld 16"/>
          <p:cNvSpPr/>
          <p:nvPr/>
        </p:nvSpPr>
        <p:spPr>
          <a:xfrm>
            <a:off x="0" y="838080"/>
            <a:ext cx="40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Kompetenzorientie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CAE69-99D2-4B1E-A69C-4B9AE14E4FA4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20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1E6DC-D923-49E0-B3BA-8454C41680F2}" type="slidenum"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EC90B-1E28-442F-81C1-8977F3BB8204}" type="slidenum"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2"/>
          <p:cNvSpPr/>
          <p:nvPr/>
        </p:nvSpPr>
        <p:spPr>
          <a:xfrm>
            <a:off x="477720" y="1593720"/>
            <a:ext cx="813780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  <a:ea typeface="ヒラギノ角ゴ Pro W3"/>
              </a:rPr>
              <a:t>Kompetenzbegriff</a:t>
            </a:r>
            <a:r>
              <a:rPr b="0" lang="de-DE" sz="2400" spc="-1" strike="noStrike">
                <a:solidFill>
                  <a:srgbClr val="000099"/>
                </a:solidFill>
                <a:latin typeface="Arial"/>
                <a:ea typeface="ヒラギノ角ゴ Pro W3"/>
              </a:rPr>
              <a:t> der Kernlehrplän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feld 11"/>
          <p:cNvSpPr/>
          <p:nvPr/>
        </p:nvSpPr>
        <p:spPr>
          <a:xfrm>
            <a:off x="-255600" y="833400"/>
            <a:ext cx="40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Kompetenzorientie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feld 2"/>
          <p:cNvSpPr/>
          <p:nvPr/>
        </p:nvSpPr>
        <p:spPr>
          <a:xfrm>
            <a:off x="517680" y="2179800"/>
            <a:ext cx="8137440" cy="27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Nach Weinert (2001) versteht man Kompetenzen als  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ie bei Individuen verfügbaren oder durch sie </a:t>
            </a:r>
            <a:r>
              <a:rPr b="0" lang="de-DE" sz="18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erlernbaren kognitiven Fähigkeiten und Fertigkeiten, um bestimmte Probleme zu löse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, sowie die damit verbundenen </a:t>
            </a:r>
            <a:r>
              <a:rPr b="0" lang="de-DE" sz="18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motivationalen, volitionalen und sozialen Bereitschaften und Fähigkeite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, um die Problemlösungen in variablen Situationen erfolgreich und verantwortungsvoll </a:t>
            </a:r>
            <a:r>
              <a:rPr b="0" lang="de-DE" sz="18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nutze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zu können“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3"/>
          <p:cNvSpPr/>
          <p:nvPr/>
        </p:nvSpPr>
        <p:spPr>
          <a:xfrm>
            <a:off x="477720" y="5132520"/>
            <a:ext cx="8217000" cy="100872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Eine Kompetenz ist eine Disposition, die dazu befähigt, </a:t>
            </a:r>
            <a:br>
              <a:rPr sz="2000"/>
            </a:br>
            <a:r>
              <a:rPr b="1" lang="de-DE" sz="20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variable Anforderungssituationen in einem bestimmten Lern- oder Handlungsbereich erfolgreich und verantwortlich zu bewälti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1D158-E961-49CD-8751-8C2272A915E5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FE31C-266B-437E-9470-9B94E88F9840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11"/>
          <p:cNvSpPr/>
          <p:nvPr/>
        </p:nvSpPr>
        <p:spPr>
          <a:xfrm>
            <a:off x="514440" y="1811160"/>
            <a:ext cx="6791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  <a:ea typeface="ヒラギノ角ゴ Pro W3"/>
              </a:rPr>
              <a:t>Kompeten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feld 15"/>
          <p:cNvSpPr/>
          <p:nvPr/>
        </p:nvSpPr>
        <p:spPr>
          <a:xfrm>
            <a:off x="-365040" y="857160"/>
            <a:ext cx="40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Kompetenzorientie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feld 4"/>
          <p:cNvSpPr/>
          <p:nvPr/>
        </p:nvSpPr>
        <p:spPr>
          <a:xfrm>
            <a:off x="539640" y="2481120"/>
            <a:ext cx="8061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279360">
              <a:buClr>
                <a:srgbClr val="000000"/>
              </a:buClr>
              <a:buFont typeface="Arial"/>
              <a:buChar char="•"/>
              <a:tabLst>
                <a:tab algn="l" pos="406440"/>
                <a:tab algn="l" pos="609480"/>
                <a:tab algn="l" pos="812880"/>
                <a:tab algn="l" pos="1015920"/>
                <a:tab algn="l" pos="1219320"/>
                <a:tab algn="l" pos="1422360"/>
                <a:tab algn="l" pos="1625760"/>
                <a:tab algn="l" pos="1828800"/>
                <a:tab algn="l" pos="2031840"/>
                <a:tab algn="l" pos="2235240"/>
                <a:tab algn="l" pos="2438280"/>
                <a:tab algn="l" pos="2641680"/>
                <a:tab algn="l" pos="2844720"/>
                <a:tab algn="l" pos="3048120"/>
                <a:tab algn="l" pos="3251160"/>
                <a:tab algn="l" pos="3454560"/>
                <a:tab algn="l" pos="3657600"/>
                <a:tab algn="l" pos="3860640"/>
                <a:tab algn="l" pos="4064040"/>
                <a:tab algn="l" pos="4267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279360">
              <a:buClr>
                <a:srgbClr val="000000"/>
              </a:buClr>
              <a:buFont typeface="Arial"/>
              <a:buChar char="•"/>
              <a:tabLst>
                <a:tab algn="l" pos="406440"/>
                <a:tab algn="l" pos="609480"/>
                <a:tab algn="l" pos="812880"/>
                <a:tab algn="l" pos="1015920"/>
                <a:tab algn="l" pos="1219320"/>
                <a:tab algn="l" pos="1422360"/>
                <a:tab algn="l" pos="1625760"/>
                <a:tab algn="l" pos="1828800"/>
                <a:tab algn="l" pos="2031840"/>
                <a:tab algn="l" pos="2235240"/>
                <a:tab algn="l" pos="2438280"/>
                <a:tab algn="l" pos="2641680"/>
                <a:tab algn="l" pos="2844720"/>
                <a:tab algn="l" pos="3048120"/>
                <a:tab algn="l" pos="3251160"/>
                <a:tab algn="l" pos="3454560"/>
                <a:tab algn="l" pos="3657600"/>
                <a:tab algn="l" pos="3860640"/>
                <a:tab algn="l" pos="4064040"/>
                <a:tab algn="l" pos="42670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enennen individuelle fachspezifische Fähigkeiten und Fertigkeiten von Studierenden (Inhaltsdimension verknüpft mit Handlungsdimension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279360">
              <a:tabLst>
                <a:tab algn="l" pos="0"/>
                <a:tab algn="l" pos="406440"/>
                <a:tab algn="l" pos="609480"/>
                <a:tab algn="l" pos="812880"/>
                <a:tab algn="l" pos="1015920"/>
                <a:tab algn="l" pos="1219320"/>
                <a:tab algn="l" pos="1422360"/>
                <a:tab algn="l" pos="1625760"/>
                <a:tab algn="l" pos="1828800"/>
                <a:tab algn="l" pos="2031840"/>
                <a:tab algn="l" pos="2235240"/>
                <a:tab algn="l" pos="2438280"/>
                <a:tab algn="l" pos="2641680"/>
                <a:tab algn="l" pos="2844720"/>
                <a:tab algn="l" pos="3048120"/>
                <a:tab algn="l" pos="3251160"/>
                <a:tab algn="l" pos="3454560"/>
                <a:tab algn="l" pos="3657600"/>
                <a:tab algn="l" pos="3860640"/>
                <a:tab algn="l" pos="4064040"/>
                <a:tab algn="l" pos="4267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279360">
              <a:buClr>
                <a:srgbClr val="000000"/>
              </a:buClr>
              <a:buFont typeface="Arial"/>
              <a:buChar char="•"/>
              <a:tabLst>
                <a:tab algn="l" pos="406440"/>
                <a:tab algn="l" pos="609480"/>
                <a:tab algn="l" pos="812880"/>
                <a:tab algn="l" pos="1015920"/>
                <a:tab algn="l" pos="1219320"/>
                <a:tab algn="l" pos="1422360"/>
                <a:tab algn="l" pos="1625760"/>
                <a:tab algn="l" pos="1828800"/>
                <a:tab algn="l" pos="2031840"/>
                <a:tab algn="l" pos="2235240"/>
                <a:tab algn="l" pos="2438280"/>
                <a:tab algn="l" pos="2641680"/>
                <a:tab algn="l" pos="2844720"/>
                <a:tab algn="l" pos="3048120"/>
                <a:tab algn="l" pos="3251160"/>
                <a:tab algn="l" pos="3454560"/>
                <a:tab algn="l" pos="3657600"/>
                <a:tab algn="l" pos="3860640"/>
                <a:tab algn="l" pos="4064040"/>
                <a:tab algn="l" pos="42670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erden in einem längeren Entwicklungsprozess erworbe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279360">
              <a:tabLst>
                <a:tab algn="l" pos="0"/>
                <a:tab algn="l" pos="406440"/>
                <a:tab algn="l" pos="609480"/>
                <a:tab algn="l" pos="812880"/>
                <a:tab algn="l" pos="1015920"/>
                <a:tab algn="l" pos="1219320"/>
                <a:tab algn="l" pos="1422360"/>
                <a:tab algn="l" pos="1625760"/>
                <a:tab algn="l" pos="1828800"/>
                <a:tab algn="l" pos="2031840"/>
                <a:tab algn="l" pos="2235240"/>
                <a:tab algn="l" pos="2438280"/>
                <a:tab algn="l" pos="2641680"/>
                <a:tab algn="l" pos="2844720"/>
                <a:tab algn="l" pos="3048120"/>
                <a:tab algn="l" pos="3251160"/>
                <a:tab algn="l" pos="3454560"/>
                <a:tab algn="l" pos="3657600"/>
                <a:tab algn="l" pos="3860640"/>
                <a:tab algn="l" pos="4064040"/>
                <a:tab algn="l" pos="4267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279360">
              <a:buClr>
                <a:srgbClr val="000000"/>
              </a:buClr>
              <a:buFont typeface="Arial"/>
              <a:buChar char="•"/>
              <a:tabLst>
                <a:tab algn="l" pos="406440"/>
                <a:tab algn="l" pos="609480"/>
                <a:tab algn="l" pos="812880"/>
                <a:tab algn="l" pos="1015920"/>
                <a:tab algn="l" pos="1219320"/>
                <a:tab algn="l" pos="1422360"/>
                <a:tab algn="l" pos="1625760"/>
                <a:tab algn="l" pos="1828800"/>
                <a:tab algn="l" pos="2031840"/>
                <a:tab algn="l" pos="2235240"/>
                <a:tab algn="l" pos="2438280"/>
                <a:tab algn="l" pos="2641680"/>
                <a:tab algn="l" pos="2844720"/>
                <a:tab algn="l" pos="3048120"/>
                <a:tab algn="l" pos="3251160"/>
                <a:tab algn="l" pos="3454560"/>
                <a:tab algn="l" pos="3657600"/>
                <a:tab algn="l" pos="3860640"/>
                <a:tab algn="l" pos="4064040"/>
                <a:tab algn="l" pos="42670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ind Grundlage für das selbstständige Lösen von Problemen und für neue Fragestellungen und Aufgab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279360">
              <a:tabLst>
                <a:tab algn="l" pos="0"/>
                <a:tab algn="l" pos="406440"/>
                <a:tab algn="l" pos="609480"/>
                <a:tab algn="l" pos="812880"/>
                <a:tab algn="l" pos="1015920"/>
                <a:tab algn="l" pos="1219320"/>
                <a:tab algn="l" pos="1422360"/>
                <a:tab algn="l" pos="1625760"/>
                <a:tab algn="l" pos="1828800"/>
                <a:tab algn="l" pos="2031840"/>
                <a:tab algn="l" pos="2235240"/>
                <a:tab algn="l" pos="2438280"/>
                <a:tab algn="l" pos="2641680"/>
                <a:tab algn="l" pos="2844720"/>
                <a:tab algn="l" pos="3048120"/>
                <a:tab algn="l" pos="3251160"/>
                <a:tab algn="l" pos="3454560"/>
                <a:tab algn="l" pos="3657600"/>
                <a:tab algn="l" pos="3860640"/>
                <a:tab algn="l" pos="4064040"/>
                <a:tab algn="l" pos="4267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279360">
              <a:buClr>
                <a:srgbClr val="000000"/>
              </a:buClr>
              <a:buFont typeface="Arial"/>
              <a:buChar char="•"/>
              <a:tabLst>
                <a:tab algn="l" pos="406440"/>
                <a:tab algn="l" pos="609480"/>
                <a:tab algn="l" pos="812880"/>
                <a:tab algn="l" pos="1015920"/>
                <a:tab algn="l" pos="1219320"/>
                <a:tab algn="l" pos="1422360"/>
                <a:tab algn="l" pos="1625760"/>
                <a:tab algn="l" pos="1828800"/>
                <a:tab algn="l" pos="2031840"/>
                <a:tab algn="l" pos="2235240"/>
                <a:tab algn="l" pos="2438280"/>
                <a:tab algn="l" pos="2641680"/>
                <a:tab algn="l" pos="2844720"/>
                <a:tab algn="l" pos="3048120"/>
                <a:tab algn="l" pos="3251160"/>
                <a:tab algn="l" pos="3454560"/>
                <a:tab algn="l" pos="3657600"/>
                <a:tab algn="l" pos="3860640"/>
                <a:tab algn="l" pos="4064040"/>
                <a:tab algn="l" pos="4267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279360">
              <a:buClr>
                <a:srgbClr val="000000"/>
              </a:buClr>
              <a:buFont typeface="Arial"/>
              <a:buChar char="•"/>
              <a:tabLst>
                <a:tab algn="l" pos="406440"/>
                <a:tab algn="l" pos="609480"/>
                <a:tab algn="l" pos="812880"/>
                <a:tab algn="l" pos="1015920"/>
                <a:tab algn="l" pos="1219320"/>
                <a:tab algn="l" pos="1422360"/>
                <a:tab algn="l" pos="1625760"/>
                <a:tab algn="l" pos="1828800"/>
                <a:tab algn="l" pos="2031840"/>
                <a:tab algn="l" pos="2235240"/>
                <a:tab algn="l" pos="2438280"/>
                <a:tab algn="l" pos="2641680"/>
                <a:tab algn="l" pos="2844720"/>
                <a:tab algn="l" pos="3048120"/>
                <a:tab algn="l" pos="3251160"/>
                <a:tab algn="l" pos="3454560"/>
                <a:tab algn="l" pos="3657600"/>
                <a:tab algn="l" pos="3860640"/>
                <a:tab algn="l" pos="4064040"/>
                <a:tab algn="l" pos="4267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79F61-CF0D-43D4-A0EC-39E0F4C596F4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Foliennummernplatzhalter 4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5DE1C-4004-4F6B-877B-DE454862855A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2"/>
          <p:cNvSpPr/>
          <p:nvPr/>
        </p:nvSpPr>
        <p:spPr>
          <a:xfrm>
            <a:off x="1352520" y="2876400"/>
            <a:ext cx="721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3"/>
          <p:cNvSpPr/>
          <p:nvPr/>
        </p:nvSpPr>
        <p:spPr>
          <a:xfrm>
            <a:off x="419040" y="2363760"/>
            <a:ext cx="836316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elche Kompetenz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sollen bis zum Ende des Bildungsabschnitts entwickelt werden (KLP-Vorgaben, Schulcurriculum)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elcher Unterrichtsgegenstand ist geeigne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, um diese Kompetenzen zu entwickeln? In welch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nwendungs- und Handlungssituation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ist die Kompetenz relevant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ie muss auf dieser Grundlage das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Lernarrangemen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gestaltet sein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4"/>
          <p:cNvSpPr/>
          <p:nvPr/>
        </p:nvSpPr>
        <p:spPr>
          <a:xfrm>
            <a:off x="95400" y="1461960"/>
            <a:ext cx="893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  <a:ea typeface="ヒラギノ角ゴ Pro W3"/>
              </a:rPr>
              <a:t>Kompetenzerwartungen als Ausgangspunk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  <a:ea typeface="ヒラギノ角ゴ Pro W3"/>
              </a:rPr>
              <a:t>für die Unterrichtsplan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5"/>
          <p:cNvSpPr/>
          <p:nvPr/>
        </p:nvSpPr>
        <p:spPr>
          <a:xfrm>
            <a:off x="1709640" y="4979880"/>
            <a:ext cx="5781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Arial"/>
                <a:ea typeface="ヒラギノ角ゴ Pro W3"/>
              </a:rPr>
              <a:t>„</a:t>
            </a:r>
            <a:r>
              <a:rPr b="1" lang="de-DE" sz="1800" spc="-1" strike="noStrike">
                <a:solidFill>
                  <a:srgbClr val="000099"/>
                </a:solidFill>
                <a:latin typeface="Arial"/>
                <a:ea typeface="ヒラギノ角ゴ Pro W3"/>
              </a:rPr>
              <a:t>Nach ___Stunden zum Thema ____ erwarte ich, </a:t>
            </a:r>
            <a:br>
              <a:rPr sz="1800"/>
            </a:br>
            <a:br>
              <a:rPr sz="1800"/>
            </a:br>
            <a:r>
              <a:rPr b="1" lang="de-DE" sz="1800" spc="-1" strike="noStrike">
                <a:solidFill>
                  <a:srgbClr val="000099"/>
                </a:solidFill>
                <a:latin typeface="Arial"/>
                <a:ea typeface="ヒラギノ角ゴ Pro W3"/>
              </a:rPr>
              <a:t> dass die Studierenden…, …, …, … und  … können.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feld 8"/>
          <p:cNvSpPr/>
          <p:nvPr/>
        </p:nvSpPr>
        <p:spPr>
          <a:xfrm>
            <a:off x="-184320" y="776160"/>
            <a:ext cx="40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Kompetenzorientie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A17E3-7D7A-43FB-BE9E-EE795CC92BD5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5T06:56:38Z</dcterms:created>
  <dc:creator>Musiol</dc:creator>
  <dc:description/>
  <dc:language>en-US</dc:language>
  <cp:lastModifiedBy>Sohnius, Axel</cp:lastModifiedBy>
  <cp:lastPrinted>2014-08-24T10:29:18Z</cp:lastPrinted>
  <dcterms:modified xsi:type="dcterms:W3CDTF">2014-08-26T09:57:50Z</dcterms:modified>
  <cp:revision>638</cp:revision>
  <dc:subject/>
  <dc:title>Folie 1</dc:title>
</cp:coreProperties>
</file>