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A9E3-E24D-4CBA-810B-3B4AECC97416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3BD7-7076-44AF-8007-6BCBE3CA8397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1135-C2D3-4596-9276-70E19E710D87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337B-31DE-4396-8349-C1B62C2B32DD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691C-E31D-48CE-9A9C-801A568FD2B9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0D60-5E36-4FEB-9F16-01EB897990E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52F4-C60C-43D2-B717-9D6E5B4ACB5E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A2E0-C742-45F4-990A-971EB6AE8E68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8A06-4796-4FE7-AF8E-64C572157D9E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E841-526F-413E-879F-8870641392E0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C660-8F73-4F01-B6FC-2820CC303F70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FB78-B4B1-40FA-B17E-9EEAB85DA3AB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7F8A-1CDE-448C-9CA1-C86A9E3BFEFC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39E3-EAFD-45EE-A3C0-EBF7BBC0AC73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EFF4-7345-4C89-A600-2BDBC779D06A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F388-A404-4D32-B08A-19C5695FC585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DA80-EC19-4DC8-9D94-ABFD3936F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9FFA-A9E9-4B16-899E-018EB062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EF3F09-A68C-4260-B0C0-F1BE0A9F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AC14A4-3422-44D2-A672-EA1880DB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DC97A8-6D5D-42A9-92BD-9D558F92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8DC68B-2F7E-452C-A0BE-401E2B21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D019BF-CD83-4956-92FE-F47A3C21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AD0F6C-0A20-4096-A9C8-B804B8B4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709947-2F56-4074-9920-A1634D7F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4233F3-B06B-410B-9429-665552B0D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2911F6-5C7A-4D90-9261-92116B80E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3C8396-FC06-42CD-8E5E-E661F54F9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9C73-445D-4F04-B69E-0170D070E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1B4110-88A6-4264-B624-9601C0E9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F9BD56-D9B7-4FB4-A958-A175C9DA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CC37F1-6858-4E42-AC4E-A36243C3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56FCD3-6560-48B8-8651-4DE9B79C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6B9B3F-A361-44B8-B764-366B6943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A6AB91-83EE-4659-B3E6-D8A02846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6CDF99-6C65-4574-964B-774C9594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819F07-4C84-4681-A934-24E8C244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EFADCC-6B2F-4CDE-921A-7CACEB1A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8DE1FF-0BAE-453A-BE4C-E6759A55A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CE09-4D24-4517-81F8-A955C4F5D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99E430-66D7-405A-9AA5-20C496898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0F6638-A450-48A1-A7BA-062575349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A4C0E-CB17-449E-9586-E5DC78A5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8A77D-411C-44E6-9624-52DD9B6D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6E0EB-E698-4237-A54D-FBBA058F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B6CB5-9E0D-4EF4-9BAD-8DD7154C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E9D46-1EC3-4BE0-9EC1-2EB009E8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FDFE2C-C5B4-4D65-AD9F-F0FD337D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1B013-ACC1-4A5A-B9F2-A12762C6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7D0E9D-AE5E-4CCD-BBFD-5E039544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3E811-CB91-427A-87BC-639D5C73E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53999F-AC83-4B96-9853-F7B423C7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762BF8-930B-43F0-AEA9-27B79C6E2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A7C2D-A200-40AF-AFB6-1495B136D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339D28-52B8-42A6-B14A-7F2797698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054AC6-C608-4EA0-A63C-43529CDF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B8F40A-F2F6-4824-BC49-B02F6EF3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655A33-DA42-4F50-A1DA-FDD922C1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103CFB-6F21-474C-96D7-74C25BD7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44C080-6817-4F06-AF6B-0FEF510D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0348AC-6B8D-49D8-A4D4-73563F0A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723C-F129-4226-A6C0-F70C0554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49960B-DD04-4D3B-9BAC-1F65C29A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EEE8E7-BF92-495E-82FE-9872C7A0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2CA354-27A1-4B7A-877C-EC250B9A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83BB8E-EB79-4606-895F-68D3B1092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BBADDD-0854-4DF7-8A20-D062C5C18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2068-83F2-4008-B535-FD4EAC1C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C281-BA4B-4B4E-817C-809C0F8F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B79B-EEC9-49BE-8341-756486E6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FAFE9-FB43-4FB2-8CE8-3D8A4FE3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6A818-C996-438D-9A59-64F42D3D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1ED0-3392-4F50-9FA0-25948CF6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6F21-7D9F-4839-A8EE-9D45D7A1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C34D-6B8F-4C9F-A7FD-A422CC36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AEC6-7632-4FA2-A76A-932E772B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76D1-371D-4359-8215-3977E3AAC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13001-FDC6-408F-8B9A-353B2C6EA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73533-E449-4B67-9E8E-3CE9B0EE2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34FB1-C2CD-40ED-BD9E-C9E7D907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7D755-31E7-47FE-8495-0401BB07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5F9B6-F290-43F5-825D-D8B552EC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94383-5375-4668-9B9B-2861422B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4A15-368B-4A0E-BF46-71AF3015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27E9D-D38C-4CAE-B689-E4B8E70E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5C17F-A025-4929-8653-92BF1918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75F9A-2A41-48DF-8A18-699D671C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2199D-F20A-41BC-A7A8-F1BDA2AA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A1690-47E9-4967-9087-9FED5327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D23E3-D061-40C5-94CE-2507C28D8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4C8CD-AA0C-4BE7-B234-152CD7055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D35E4-34FD-4930-8289-D3762E235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CA712-D96D-4678-97F1-E7133458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7D971-1C43-45BD-A501-31EB7FEB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046D-02E0-4763-97C7-EE252E0B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2892E-8EAE-46C7-9E9F-C51B8F87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82F87-6A12-4E55-B915-700B81CC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4F8B9-2513-41B2-9D6E-27148B71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8E3DE-77E2-48F9-AAD7-61B63B0A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DF46E-CE63-4B8F-AFFF-D5A5B37B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46050-65B3-4AC2-9F94-F391E384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125B9-DDC0-4D94-9DD4-471AEEC6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79DC3-E5D0-403F-AD10-6C923C261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2C57A-7EB2-4D2D-9970-08420B96B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183A4-8906-464B-B489-41BBDD08A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3D99-4CB0-4C81-830B-108777B4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29EFB-E525-4D9E-AECF-53C3CD1E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1F836-B09E-4F4B-B428-51EEA144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664CF-AE48-44EC-BAB8-257EFC09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99D20-E196-450C-A361-E3AE34AF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0AB1D-2B2C-43D1-9F2F-482364F2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5B21E-02F2-4F54-B511-04715E58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F387C-6CF5-4555-8010-EC840B80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A8804-4BFA-4A60-814F-1B65595A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007EF-221D-4423-9156-54596C7D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F02FF-E7D3-4B19-BABC-5C3053E20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9342-6150-41E0-963C-38DBA611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1F81B-4A0F-44EB-A61F-B557FDEC7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797F4-79AB-4BFF-99B2-42E646AF5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BAF51-177B-4043-B4AF-AD0946E3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D889F-B845-4D56-983A-F8966B58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DA81A-C2EC-4FFA-A0CB-0B183FFA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700C9-0C00-4DF9-A7CB-7FD2D1B4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DDA20-73DB-47AE-9F47-86F8D258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721FE-31AF-4221-8394-B50B8798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98862-3BE5-4DB2-90B8-0E8145D3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FE782-ECB2-4A7C-A604-EA5DED36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724C-B1DA-4729-83DC-67C4FFC0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802B9-A7A2-4393-93D7-E6529212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1485C-3CD8-4D89-B620-8F1047E38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E500D-5BBB-4D96-B275-9EC6948C2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09953-A693-4131-8CA9-1C312913F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ED9BF-89DC-42FA-B307-AF397ACD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2CDE9-F11C-454C-A858-33EF5DFB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3E622-4100-46A4-993D-D6A91C6B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4C8AB-4F37-4DE0-9DA1-1554B9A3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64614-1F69-4AC7-8BD6-AB1A4C65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F84B7-9A82-4371-BD77-0FD9877A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0F2B-61BD-4140-8DE2-2D41FCB2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A398D-1EB0-43E8-93DF-EEF61088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ADDDA-6C54-42BE-9095-CF4F6BA1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3150D-75F4-4100-A48C-6B979578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8C155-8B78-41D2-B3B8-558832622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9EBF4-74A0-41A0-AD88-E96C081AE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0234F-8C59-485B-A474-C2ABAFC39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AFDD1-4C98-4CE9-97B6-4A350ECF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B54E0-BA69-4C71-BEB6-CAB2C375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10D13-AB63-4B0C-B581-2BC29033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DD059-5DB9-4D73-93A3-0EBF65F5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7000-6921-443E-BEAC-B6C81D05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2069C-AC75-404D-99F8-1AE7BB14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9026E-C159-4FD4-B632-5E5AAA5A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81723-A53E-45E5-B2B0-7DD12251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2BDE3-2F2E-45F4-A04A-F574A9B3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63144-67CD-490F-8162-5C231BC8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B5606-060E-4694-B88B-5750AFBDC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953EB-3011-4FA4-9E83-B234FC7B4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BCC634-A6CE-488C-AC8F-97B13975A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338C8F-835C-462F-8D6D-45C4D798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82290D-F09B-4BC3-A316-5B76784D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ec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htec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htec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htec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htec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0057-B134-407B-ACD0-1701F95D2B25}" type="datetime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htec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Gerade Verbindung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Ellips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Ellips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E51C-B484-4A61-B71D-8AE343C2803E}" type="slidenum">
              <a:rPr b="0" lang="de-DE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Gerade Verbindung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htec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htec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hteck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htec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hteck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hteck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hteck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Ellipse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Ellipse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hteck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1F9B-A790-4DD5-AD75-8E1E4971262A}" type="slidenum">
              <a:rPr b="0" lang="de-DE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AAAC-2E6E-4F8A-BC49-C5BDFBBB1777}" type="datetime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htec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htec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htec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htec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htec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htec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Gerade Verbindung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Ellips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Ellips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A735-0770-4E78-A18E-700665122AF9}" type="datetime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9DA5-C083-460D-9E6F-2C7712946E32}" type="slidenum">
              <a:rPr b="0" lang="de-DE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htec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hteck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hteck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htec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hteck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hteck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Gerade Verbindung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Ellipse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Ellipse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D9FC-A991-4924-8712-92DBB21ABB89}" type="slidenum">
              <a:rPr b="0" lang="de-DE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C1AD-3C88-40BD-BEC6-66C094B9A5EB}" type="datetime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htec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hteck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htec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hteck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hteck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Gerade Verbindung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hteck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Ellipse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Ellipse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529E-76FE-4A61-A22F-05E0F30CB6E1}" type="datetime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30F7-7E95-423B-8705-89A7D5D62F14}" type="slidenum">
              <a:rPr b="0" lang="de-DE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ec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htec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htec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htec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htec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htec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Gerade Verbindung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Ellips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Ellips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4464-BAA9-4C29-A648-8052D4ED338F}" type="datetime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FBD0-ECFC-4603-BE11-8B87419B9FAF}" type="slidenum">
              <a:rPr b="0" lang="de-DE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eck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htec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hteck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hteck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hteck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hteck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hteck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hteck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Gerade Verbindung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Ellipse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Ellipse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0CBE-78D8-419D-A741-419618A9B190}" type="datetime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EF51-9586-4F86-A22C-4624CD6D62A0}" type="slidenum">
              <a:rPr b="0" lang="de-DE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htec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htec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htec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htec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htec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htec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Gerade Verbindung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Ellips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Ellips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Gerade Verbindung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D3AA-FACE-4D08-86ED-40B8051EFDCF}" type="datetime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64C0-3FA9-4C0E-96FA-53B0F01C121C}" type="slidenum">
              <a:rPr b="0" lang="de-DE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Gerade Verbindung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hteck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hteck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htec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hteck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hteck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hteck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Gerade Verbindung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hteck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Ellipse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Ellipse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6BC6-7C5C-4EE1-AB51-5A3A1EACC912}" type="datetime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736F-8548-4B1C-A742-74DF95ECB51A}" type="slidenum">
              <a:rPr b="0" lang="de-DE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htec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htec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htec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htec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htec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htec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Gerade Verbindung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Ellips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Ellips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C4E8-FE44-405F-86FB-3ED0B054907C}" type="datetime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E5DB-E11E-4A5A-9EAC-0154B98DAE82}" type="slidenum">
              <a:rPr b="0" lang="de-DE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htec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hteck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htec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htec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hteck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hteck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DE9F-127D-4415-B8F3-3B8B51A5E817}" type="datetime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49E2-4FC4-4A3C-8818-6B472EB61692}" type="slidenum"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hteck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htec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htec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hteck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htec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hteck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hteck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Gerade Verbindung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Ellipse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Ellipse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hteck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14F2-02E6-4AA9-B305-C75EB131BD90}" type="slidenum">
              <a:rPr b="0" lang="de-DE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4CC8-E3BF-47AF-968F-1D8D1EFFFFBC}" type="datetime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25892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1f497d"/>
                </a:solidFill>
                <a:latin typeface="Georgia"/>
              </a:rPr>
              <a:t>HILFE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826560" y="691920"/>
            <a:ext cx="7812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200" spc="-1" strike="noStrike">
                <a:solidFill>
                  <a:srgbClr val="4f81bd"/>
                </a:solidFill>
                <a:latin typeface="Georgia"/>
              </a:rPr>
              <a:t>Schulinterner Lehrplan</a:t>
            </a:r>
            <a:endParaRPr b="0" lang="en-US" sz="42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5" name="Foliennummernplatzhalter 3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E850-2B43-4F59-89A2-0F4C0D28E88E}" type="slidenum">
              <a:rPr b="0" lang="de-DE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5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lang="de-DE" sz="4000" spc="-1" strike="noStrike">
                <a:solidFill>
                  <a:srgbClr val="4f81bd"/>
                </a:solidFill>
                <a:latin typeface="Arial"/>
                <a:ea typeface="Arial"/>
              </a:rPr>
              <a:t>Schulinterner Lehrplan</a:t>
            </a:r>
            <a:endParaRPr b="0" lang="en-US" sz="4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0" name="Textfeld 3"/>
          <p:cNvSpPr/>
          <p:nvPr/>
        </p:nvSpPr>
        <p:spPr>
          <a:xfrm>
            <a:off x="684360" y="849240"/>
            <a:ext cx="77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933c"/>
                </a:solidFill>
                <a:latin typeface="Arial"/>
                <a:ea typeface="Arial"/>
              </a:rPr>
              <a:t>Konkretisierung Unterrichtsvorhaben (Kap. 2.1.2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233280" y="1628640"/>
          <a:ext cx="8677440" cy="5131080"/>
        </p:xfrm>
        <a:graphic>
          <a:graphicData uri="http://schemas.openxmlformats.org/drawingml/2006/table">
            <a:tbl>
              <a:tblPr/>
              <a:tblGrid>
                <a:gridCol w="1587600"/>
                <a:gridCol w="2046240"/>
                <a:gridCol w="1857240"/>
                <a:gridCol w="3186360"/>
              </a:tblGrid>
              <a:tr h="594000">
                <a:tc gridSpan="4">
                  <a:txBody>
                    <a:bodyPr lIns="68040" rIns="6804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Unterrichtsvorhaben II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hema/Kontext: </a:t>
                      </a:r>
                      <a:r>
                        <a:rPr b="1" lang="de-DE" sz="13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Kein Leben ohne Zelle II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– </a:t>
                      </a:r>
                      <a:r>
                        <a:rPr b="1" i="1" lang="de-DE" sz="1300" spc="-1" strike="noStrike">
                          <a:solidFill>
                            <a:srgbClr val="e46c0a"/>
                          </a:solidFill>
                          <a:latin typeface="Georgia"/>
                        </a:rPr>
                        <a:t>Welche Bedeutung haben Zellkern und Nukleinsäuren für das Leben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8360">
                <a:tc gridSpan="4">
                  <a:txBody>
                    <a:bodyPr lIns="68040" rIns="6804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haltsfeld: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IF1  </a:t>
                      </a: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iologie der Zelle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02040">
                <a:tc gridSpan="2"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haltliche Schwerpunkte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Funktion des Zellker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Zellverdopplung und DN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Zeitbedarf: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ca. 8  Std. à 45 Minut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6680"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52" name="Foliennummernplatzhalter 2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AEF0-10F4-4B99-9312-2BC6FA48D5C8}" type="slidenum">
              <a:rPr b="0" lang="de-DE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5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lang="de-DE" sz="4000" spc="-1" strike="noStrike">
                <a:solidFill>
                  <a:srgbClr val="4f81bd"/>
                </a:solidFill>
                <a:latin typeface="Arial"/>
                <a:ea typeface="Arial"/>
              </a:rPr>
              <a:t>Schulinterner Lehrplan</a:t>
            </a:r>
            <a:endParaRPr b="0" lang="en-US" sz="4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4" name="Textfeld 3"/>
          <p:cNvSpPr/>
          <p:nvPr/>
        </p:nvSpPr>
        <p:spPr>
          <a:xfrm>
            <a:off x="684360" y="849240"/>
            <a:ext cx="77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933c"/>
                </a:solidFill>
                <a:latin typeface="Arial"/>
                <a:ea typeface="Arial"/>
              </a:rPr>
              <a:t>Konkretisierung Unterrichtsvorhaben (Kap. 2.1.2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233280" y="1628640"/>
          <a:ext cx="8677440" cy="5299200"/>
        </p:xfrm>
        <a:graphic>
          <a:graphicData uri="http://schemas.openxmlformats.org/drawingml/2006/table">
            <a:tbl>
              <a:tblPr/>
              <a:tblGrid>
                <a:gridCol w="1587600"/>
                <a:gridCol w="2046240"/>
                <a:gridCol w="1857240"/>
                <a:gridCol w="3186360"/>
              </a:tblGrid>
              <a:tr h="594360">
                <a:tc gridSpan="4">
                  <a:txBody>
                    <a:bodyPr lIns="68040" rIns="6804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Unterrichtsvorhaben II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hema/Kontext: </a:t>
                      </a:r>
                      <a:r>
                        <a:rPr b="1" lang="de-DE" sz="13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Kein Leben ohne Zelle II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– </a:t>
                      </a:r>
                      <a:r>
                        <a:rPr b="1" i="1" lang="de-DE" sz="1300" spc="-1" strike="noStrike">
                          <a:solidFill>
                            <a:srgbClr val="e46c0a"/>
                          </a:solidFill>
                          <a:latin typeface="Georgia"/>
                        </a:rPr>
                        <a:t>Welche Bedeutung haben Zellkern und Nukleinsäuren für das Leben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8360">
                <a:tc gridSpan="4">
                  <a:txBody>
                    <a:bodyPr lIns="68040" rIns="6804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haltsfeld: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IF1  </a:t>
                      </a: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iologie der Zelle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4360">
                <a:tc gridSpan="2"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haltliche Schwerpunkte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Funktion des Zellker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Zellverdopplung und DN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Zeitbedarf: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ca. 8  Std. à 45 Minut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chwerpunkte übergeordneter Kompetenzerwartungen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ie Studierenden können ...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UF4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bestehendes Wissen aufgrund neuer biologischer  Erfahrungen und Erkenntnisse  modifizieren und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1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in vorgegebenen Situationen biologische Probleme beschreiben, in Teilprobleme zerlegen und dazu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6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Modelle zur Beschreibung, Erklärung und Vorhersage biologischer Vorgänge begründet auswählen und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7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an ausgewählten Beispielen die Bedeutung, aber auch die Vorläufigkeit biologischer Modelle und Theorien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K4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biologische Aussagen und Behauptungen mit sachlich fundierten und überzeugenden Argumenten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1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bei der Bewertung von Sachverhalten in naturwissenschaft-lichen Zusammenhängen  fachliche, gesellschaftliche … ….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4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Möglichkeiten und Grenzen biologischer Problemlösungen und Sichtweisen mit Bezug auf die Zielsetzungen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2120"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56" name="Foliennummernplatzhalter 2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BA73-C058-4E40-B00D-B7DB5CA6FF4F}" type="slidenum">
              <a:rPr b="0" lang="de-DE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5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lang="de-DE" sz="4000" spc="-1" strike="noStrike">
                <a:solidFill>
                  <a:srgbClr val="4f81bd"/>
                </a:solidFill>
                <a:latin typeface="Arial"/>
                <a:ea typeface="Arial"/>
              </a:rPr>
              <a:t>Schulinterner Lehrplan</a:t>
            </a:r>
            <a:endParaRPr b="0" lang="en-US" sz="4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8" name="Textfeld 3"/>
          <p:cNvSpPr/>
          <p:nvPr/>
        </p:nvSpPr>
        <p:spPr>
          <a:xfrm>
            <a:off x="684360" y="849240"/>
            <a:ext cx="77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933c"/>
                </a:solidFill>
                <a:latin typeface="Arial"/>
                <a:ea typeface="Arial"/>
              </a:rPr>
              <a:t>Konkretisierung Unterrichtsvorhaben (Kap. 2.1.2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233280" y="1508040"/>
          <a:ext cx="8677440" cy="5349960"/>
        </p:xfrm>
        <a:graphic>
          <a:graphicData uri="http://schemas.openxmlformats.org/drawingml/2006/table">
            <a:tbl>
              <a:tblPr/>
              <a:tblGrid>
                <a:gridCol w="1587600"/>
                <a:gridCol w="2046240"/>
                <a:gridCol w="2217600"/>
                <a:gridCol w="2826000"/>
              </a:tblGrid>
              <a:tr h="594360">
                <a:tc gridSpan="4">
                  <a:txBody>
                    <a:bodyPr lIns="68040" rIns="6804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Unterrichtsvorhaben II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hema/Kontext: </a:t>
                      </a:r>
                      <a:r>
                        <a:rPr b="1" lang="de-DE" sz="13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Kein Leben ohne Zelle II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– </a:t>
                      </a:r>
                      <a:r>
                        <a:rPr b="1" i="1" lang="de-DE" sz="1300" spc="-1" strike="noStrike">
                          <a:solidFill>
                            <a:srgbClr val="e46c0a"/>
                          </a:solidFill>
                          <a:latin typeface="Georgia"/>
                        </a:rPr>
                        <a:t>Welche Bedeutung haben Zellkern und Nukleinsäuren für das Leben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8360">
                <a:tc gridSpan="4">
                  <a:txBody>
                    <a:bodyPr lIns="68040" rIns="6804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haltsfeld: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IF1  </a:t>
                      </a: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iologie der Zelle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4360">
                <a:tc gridSpan="2"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haltliche Schwerpunkte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Funktion des Zellker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Zellverdopplung und DN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Zeitbedarf: 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a.  8  Std. à 45 Minut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chwerpunkte übergeordneter Kompetenzerwartungen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ie Studierenden können ...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UF4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bestehendes Wissen aufgrund neuer biologischer  Erfahrungen und Erkenntnisse  modifizieren und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1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in vorgegebenen Situationen biologische Probleme beschreiben, in Teilprobleme zerlegen und dazu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6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Modelle zur Beschreibung, Erklärung und Vorhersage biologischer Vorgänge begründet auswählen und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7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an ausgewählten Beispielen die Bedeutung, aber auch die Vorläufigkeit biologischer Modelle und Theorien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K4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biologische Aussagen und Behauptungen mit sachlich fundierten und überzeugenden Argumenten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1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bei der Bewertung von Sachverhalten in naturwissenschaft-lichen Zusammenhängen  fachliche, gesellschaftliche … ….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4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Möglichkeiten und Grenzen biologischer Problemlösungen und Sichtweisen mit Bezug auf die Zielsetzungen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8636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ögliche didaktische Leitfragen / Sequenzierung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haltlicher Aspe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Konkretisiert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Kompetenz-</a:t>
                      </a:r>
                      <a:br>
                        <a:rPr sz="1300"/>
                      </a:b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rwartungen aus dem Kernlehrpl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ie Studierenden  können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mpfohlene Lehrmittel, Materialien un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Unterrichtsmethode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idaktisch-methodische Anmerkungen und Empfehlungen sowie Darstellung  der verbindlichen Absprachen der Fachkonferenz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60" name="Foliennummernplatzhalter 2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5CF5-BFB5-4551-86E9-D31526C7A8B5}" type="slidenum">
              <a:rPr b="0" lang="de-DE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5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lang="de-DE" sz="4000" spc="-1" strike="noStrike">
                <a:solidFill>
                  <a:srgbClr val="4f81bd"/>
                </a:solidFill>
                <a:latin typeface="Arial"/>
                <a:ea typeface="Arial"/>
              </a:rPr>
              <a:t>Schulinterner Lehrplan</a:t>
            </a:r>
            <a:endParaRPr b="0" lang="en-US" sz="4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62" name="Textfeld 3"/>
          <p:cNvSpPr/>
          <p:nvPr/>
        </p:nvSpPr>
        <p:spPr>
          <a:xfrm>
            <a:off x="684360" y="849240"/>
            <a:ext cx="77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933c"/>
                </a:solidFill>
                <a:latin typeface="Arial"/>
                <a:ea typeface="Arial"/>
              </a:rPr>
              <a:t>Konkretisierung Unterrichtsvorhaben (Kap. 2.1.2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63" name=""/>
          <p:cNvGraphicFramePr/>
          <p:nvPr/>
        </p:nvGraphicFramePr>
        <p:xfrm>
          <a:off x="233280" y="1628640"/>
          <a:ext cx="8677440" cy="5349960"/>
        </p:xfrm>
        <a:graphic>
          <a:graphicData uri="http://schemas.openxmlformats.org/drawingml/2006/table">
            <a:tbl>
              <a:tblPr/>
              <a:tblGrid>
                <a:gridCol w="1587600"/>
                <a:gridCol w="2046240"/>
                <a:gridCol w="2217600"/>
                <a:gridCol w="2826000"/>
              </a:tblGrid>
              <a:tr h="594360">
                <a:tc gridSpan="4">
                  <a:txBody>
                    <a:bodyPr lIns="68040" rIns="6804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Unterrichtsvorhaben II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hema/Kontext: </a:t>
                      </a:r>
                      <a:r>
                        <a:rPr b="1" lang="de-DE" sz="13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Kein Leben ohne Zelle II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– </a:t>
                      </a:r>
                      <a:r>
                        <a:rPr b="1" i="1" lang="de-DE" sz="1300" spc="-1" strike="noStrike">
                          <a:solidFill>
                            <a:srgbClr val="e46c0a"/>
                          </a:solidFill>
                          <a:latin typeface="Georgia"/>
                        </a:rPr>
                        <a:t>Welche Bedeutung haben Zellkern und Nukleinsäuren für das Leben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8360">
                <a:tc gridSpan="4">
                  <a:txBody>
                    <a:bodyPr lIns="68040" rIns="6804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haltsfeld: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IF1  </a:t>
                      </a: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iologie der Zelle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4360">
                <a:tc gridSpan="2"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haltliche Schwerpunkte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Funktion des Zellker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Zellverdopplung und DN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Zeitbedarf: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ca. 8  Std. à 45 Minut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chwerpunkte übergeordneter Kompetenzerwartungen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ie Studierenden können ...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UF4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bestehendes Wissen aufgrund neuer biologischer  Erfahrungen und Erkenntnisse  modifizieren und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1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in vorgegebenen Situationen biologische Probleme beschreiben, in Teilprobleme zerlegen und dazu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6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Modelle zur Beschreibung, Erklärung und Vorhersage biologischer Vorgänge begründet auswählen und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7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an ausgewählten Beispielen die Bedeutung, aber auch die Vorläufigkeit biologischer Modelle und Theorien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K4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biologische Aussagen und Behauptungen mit sachlich fundierten und überzeugenden Argumenten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1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bei der Bewertung von Sachverhalten in naturwissenschaft-lichen Zusammenhängen  fachliche, gesellschaftliche … ….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4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Möglichkeiten und Grenzen biologischer Problemlösungen und Sichtweisen mit Bezug auf die Zielsetzungen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8636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ögliche didaktische Leitfragen / Sequenzierung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haltlicher Aspe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Konkretisiert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Kompetenzerwar-tungen aus dem Kernlehrpl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ie Studierenden können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mpfohlene Lehrmittel, Materialien un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Unterrichtsmethode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idaktisch-methodische Anmerkungen und Empfehlungen sowie Darstellung  der verbindlichen Absprachen der Fachkonferenz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64" name="Pfeil nach links 6"/>
          <p:cNvSpPr/>
          <p:nvPr/>
        </p:nvSpPr>
        <p:spPr>
          <a:xfrm rot="19483800">
            <a:off x="767880" y="2509920"/>
            <a:ext cx="5113440" cy="316872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Aufzeigen einer möglichen Abfolge  von Unterrichtgegenständen verbunden mit didaktischen Leitfrage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Foliennummernplatzhalter 2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5E7F-194F-4F33-BD0D-C29EEB1A7D25}" type="slidenum">
              <a:rPr b="0" lang="de-DE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5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lang="de-DE" sz="4000" spc="-1" strike="noStrike">
                <a:solidFill>
                  <a:srgbClr val="4f81bd"/>
                </a:solidFill>
                <a:latin typeface="Arial"/>
                <a:ea typeface="Arial"/>
              </a:rPr>
              <a:t>Schulinterner Lehrplan</a:t>
            </a:r>
            <a:endParaRPr b="0" lang="en-US" sz="4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67" name="Textfeld 3"/>
          <p:cNvSpPr/>
          <p:nvPr/>
        </p:nvSpPr>
        <p:spPr>
          <a:xfrm>
            <a:off x="684360" y="849240"/>
            <a:ext cx="77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933c"/>
                </a:solidFill>
                <a:latin typeface="Arial"/>
                <a:ea typeface="Arial"/>
              </a:rPr>
              <a:t>Konkretisierung Unterrichtsvorhaben (Kap. 2.1.2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68" name=""/>
          <p:cNvGraphicFramePr/>
          <p:nvPr/>
        </p:nvGraphicFramePr>
        <p:xfrm>
          <a:off x="233280" y="1628640"/>
          <a:ext cx="8677440" cy="5349960"/>
        </p:xfrm>
        <a:graphic>
          <a:graphicData uri="http://schemas.openxmlformats.org/drawingml/2006/table">
            <a:tbl>
              <a:tblPr/>
              <a:tblGrid>
                <a:gridCol w="1587600"/>
                <a:gridCol w="2046240"/>
                <a:gridCol w="2217600"/>
                <a:gridCol w="2826000"/>
              </a:tblGrid>
              <a:tr h="594360">
                <a:tc gridSpan="4">
                  <a:txBody>
                    <a:bodyPr lIns="68040" rIns="6804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Unterrichtsvorhaben II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hema/Kontext: </a:t>
                      </a:r>
                      <a:r>
                        <a:rPr b="1" lang="de-DE" sz="13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Kein Leben ohne Zelle II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– </a:t>
                      </a:r>
                      <a:r>
                        <a:rPr b="1" i="1" lang="de-DE" sz="1300" spc="-1" strike="noStrike">
                          <a:solidFill>
                            <a:srgbClr val="e46c0a"/>
                          </a:solidFill>
                          <a:latin typeface="Georgia"/>
                        </a:rPr>
                        <a:t>Welche Bedeutung haben Zellkern und Nukleinsäuren für das Leben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8360">
                <a:tc gridSpan="4">
                  <a:txBody>
                    <a:bodyPr lIns="68040" rIns="6804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haltsfeld: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IF1  </a:t>
                      </a: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iologie der Zelle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4360">
                <a:tc gridSpan="2"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haltliche Schwerpunkte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Funktion des Zellker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Zellverdopplung und DN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Zeitbedarf: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ca. 8  Std. à 45 Minut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chwerpunkte übergeordneter Kompetenzerwartungen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ie Studierenden können ...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UF4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bestehendes Wissen aufgrund neuer biologischer  Erfahrungen und Erkenntnisse  modifizieren und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1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in vorgegebenen Situationen biologische Probleme beschreiben, in Teilprobleme zerlegen und dazu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6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Modelle zur Beschreibung, Erklärung und Vorhersage biologischer Vorgänge begründet auswählen und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7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an ausgewählten Beispielen die Bedeutung, aber auch die Vorläufigkeit biologischer Modelle und Theorien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K4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biologische Aussagen und Behauptungen mit sachlich fundierten und überzeugenden Argumenten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1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bei der Bewertung von Sachverhalten in naturwissenschaft-lichen Zusammenhängen  fachliche, gesellschaftliche … ….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4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Möglichkeiten und Grenzen biologischer Problemlösungen und Sichtweisen mit Bezug auf die Zielsetzungen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8636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ögliche didaktische Leitfragen / Sequenzierung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haltlicher Aspe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Konkretisiert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Kompetenzerwar-tungen aus dem Kernlehrpl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ie Studierenden können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mpfohlene Lehrmittel, Materialien un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Unterrichtsmethode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idaktisch-methodische Anmerkungen und Empfehlungen sowie Darstellung  der verbindlichen Absprachen der Fachkonferenz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69" name="Pfeil nach links 4"/>
          <p:cNvSpPr/>
          <p:nvPr/>
        </p:nvSpPr>
        <p:spPr>
          <a:xfrm rot="19153200">
            <a:off x="2322000" y="2359080"/>
            <a:ext cx="5112000" cy="3168720"/>
          </a:xfrm>
          <a:prstGeom prst="leftArrow">
            <a:avLst>
              <a:gd name="adj1" fmla="val 50000"/>
              <a:gd name="adj2" fmla="val 49989"/>
            </a:avLst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Aufnahme der konkretisierten Kompetenzerwartungen aus dem Kernlehrplan in 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unveränderter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 Form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0" name="Foliennummernplatzhalter 2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AED0-00F7-48F9-8AFD-BB0A65969F5F}" type="slidenum">
              <a:rPr b="0" lang="de-DE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5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lang="de-DE" sz="4000" spc="-1" strike="noStrike">
                <a:solidFill>
                  <a:srgbClr val="4f81bd"/>
                </a:solidFill>
                <a:latin typeface="Arial"/>
                <a:ea typeface="Arial"/>
              </a:rPr>
              <a:t>Schulinterner Lehrplan</a:t>
            </a:r>
            <a:endParaRPr b="0" lang="en-US" sz="4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72" name="Textfeld 3"/>
          <p:cNvSpPr/>
          <p:nvPr/>
        </p:nvSpPr>
        <p:spPr>
          <a:xfrm>
            <a:off x="684360" y="849240"/>
            <a:ext cx="77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933c"/>
                </a:solidFill>
                <a:latin typeface="Arial"/>
                <a:ea typeface="Arial"/>
              </a:rPr>
              <a:t>Konkretisierung Unterrichtsvorhaben (Kap. 2.1.2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73" name=""/>
          <p:cNvGraphicFramePr/>
          <p:nvPr/>
        </p:nvGraphicFramePr>
        <p:xfrm>
          <a:off x="233280" y="1628640"/>
          <a:ext cx="8677440" cy="5349960"/>
        </p:xfrm>
        <a:graphic>
          <a:graphicData uri="http://schemas.openxmlformats.org/drawingml/2006/table">
            <a:tbl>
              <a:tblPr/>
              <a:tblGrid>
                <a:gridCol w="1587600"/>
                <a:gridCol w="2046240"/>
                <a:gridCol w="2217600"/>
                <a:gridCol w="2826000"/>
              </a:tblGrid>
              <a:tr h="594360">
                <a:tc gridSpan="4">
                  <a:txBody>
                    <a:bodyPr lIns="68040" rIns="6804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Unterrichtsvorhaben II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hema/Kontext: </a:t>
                      </a:r>
                      <a:r>
                        <a:rPr b="1" lang="de-DE" sz="13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Kein Leben ohne Zelle II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– </a:t>
                      </a:r>
                      <a:r>
                        <a:rPr b="1" i="1" lang="de-DE" sz="1300" spc="-1" strike="noStrike">
                          <a:solidFill>
                            <a:srgbClr val="e46c0a"/>
                          </a:solidFill>
                          <a:latin typeface="Georgia"/>
                        </a:rPr>
                        <a:t>Welche Bedeutung haben Zellkern und Nukleinsäuren für das Leben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8360">
                <a:tc gridSpan="4">
                  <a:txBody>
                    <a:bodyPr lIns="68040" rIns="6804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haltsfeld: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IF1  </a:t>
                      </a: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iologie der Zelle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4360">
                <a:tc gridSpan="2"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haltliche Schwerpunkte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Funktion des Zellker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Zellverdopplung und DN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Zeitbedarf: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ca. 8  Std. à 45 Minut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chwerpunkte übergeordneter Kompetenzerwartungen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ie Studierenden können ...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UF4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bestehendes Wissen aufgrund neuer biologischer  Erfahrungen und Erkenntnisse  modifizieren und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1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in vorgegebenen Situationen biologische Probleme beschreiben, in Teilprobleme zerlegen und dazu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6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Modelle zur Beschreibung, Erklärung und Vorhersage biologischer Vorgänge begründet auswählen und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7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an ausgewählten Beispielen die Bedeutung, aber auch die Vorläufigkeit biologischer Modelle und Theorien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K4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biologische Aussagen und Behauptungen mit sachlich fundierten und überzeugenden Argumenten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1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bei der Bewertung von Sachverhalten in naturwissenschaft-lichen Zusammenhängen  fachliche, gesellschaftliche … ….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4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Möglichkeiten und Grenzen biologischer Problemlösungen und Sichtweisen mit Bezug auf die Zielsetzungen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8636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ögliche didaktische Leitfragen / Sequenzierung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haltlicher Aspe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Konkretisiert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Kompetenzerwar-tungen aus dem Kernlehrpl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ie Studierenden können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mpfohlene Lehrmittel, Materialien un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Unterrichtsmethode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idaktisch-methodische Anmerkungen und Empfehlungen sowie Darstellung  der verbindlichen Absprachen der Fachkonferenz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74" name="Pfeil nach links 4"/>
          <p:cNvSpPr/>
          <p:nvPr/>
        </p:nvSpPr>
        <p:spPr>
          <a:xfrm rot="18691200">
            <a:off x="4030920" y="2072160"/>
            <a:ext cx="5113440" cy="316872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Auflistung von empfohlenen guten Quellen, Unterrichtsmaterialien,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Medien, Internetadressen sowie Unterrichtsmethoden etc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5" name="Foliennummernplatzhalter 2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84E0-DB1A-4FD2-B5ED-1F8291A18934}" type="slidenum">
              <a:rPr b="0" lang="de-DE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5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lang="de-DE" sz="4000" spc="-1" strike="noStrike">
                <a:solidFill>
                  <a:srgbClr val="4f81bd"/>
                </a:solidFill>
                <a:latin typeface="Arial"/>
                <a:ea typeface="Arial"/>
              </a:rPr>
              <a:t>Schulinterner Lehrplan</a:t>
            </a:r>
            <a:endParaRPr b="0" lang="en-US" sz="4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77" name="Textfeld 3"/>
          <p:cNvSpPr/>
          <p:nvPr/>
        </p:nvSpPr>
        <p:spPr>
          <a:xfrm>
            <a:off x="684360" y="849240"/>
            <a:ext cx="77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933c"/>
                </a:solidFill>
                <a:latin typeface="Arial"/>
                <a:ea typeface="Arial"/>
              </a:rPr>
              <a:t>Konkretisierung Unterrichtsvorhaben (Kap. 2.1.2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233280" y="1628640"/>
          <a:ext cx="8677440" cy="5349960"/>
        </p:xfrm>
        <a:graphic>
          <a:graphicData uri="http://schemas.openxmlformats.org/drawingml/2006/table">
            <a:tbl>
              <a:tblPr/>
              <a:tblGrid>
                <a:gridCol w="1587600"/>
                <a:gridCol w="2046240"/>
                <a:gridCol w="2360520"/>
                <a:gridCol w="2683080"/>
              </a:tblGrid>
              <a:tr h="594360">
                <a:tc gridSpan="4">
                  <a:txBody>
                    <a:bodyPr lIns="68040" rIns="6804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Unterrichtsvorhaben II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hema/Kontext: </a:t>
                      </a:r>
                      <a:r>
                        <a:rPr b="1" lang="de-DE" sz="13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Kein Leben ohne Zelle II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– </a:t>
                      </a:r>
                      <a:r>
                        <a:rPr b="1" i="1" lang="de-DE" sz="1300" spc="-1" strike="noStrike">
                          <a:solidFill>
                            <a:srgbClr val="e46c0a"/>
                          </a:solidFill>
                          <a:latin typeface="Georgia"/>
                        </a:rPr>
                        <a:t>Welche Bedeutung haben Zellkern und Nukleinsäuren für das Leben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8360">
                <a:tc gridSpan="4">
                  <a:txBody>
                    <a:bodyPr lIns="68040" rIns="6804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haltsfeld: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IF1  </a:t>
                      </a: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iologie der Zelle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4360">
                <a:tc gridSpan="2"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haltliche Schwerpunkte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Funktion des Zellker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Zellverdopplung und DN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Zeitbedarf: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ca. 8  Std. à 45 Minut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chwerpunkte übergeordneter Kompetenzerwartungen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ie Studierenden können ...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UF4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bestehendes Wissen aufgrund neuer biologischer  Erfahrungen und Erkenntnisse  modifizieren und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1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in vorgegebenen Situationen biologische Probleme beschreiben, in Teilprobleme zerlegen und dazu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6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Modelle zur Beschreibung, Erklärung und Vorhersage biologischer Vorgänge begründet auswählen und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7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an ausgewählten Beispielen die Bedeutung, aber auch die Vorläufigkeit biologischer Modelle und Theorien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K4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biologische Aussagen und Behauptungen mit sachlich fundierten und überzeugenden Argumenten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1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bei der Bewertung von Sachverhalten in naturwissenschaft-lichen Zusammenhängen  fachliche, gesellschaftliche … ….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4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Möglichkeiten und Grenzen biologischer Problemlösungen und Sichtweisen mit Bezug auf die Zielsetzungen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8636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ögliche didaktische Leitfragen / Sequenzierung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haltlicher Aspe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Konkretisiert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Kompetenzerwar-tungen aus dem Kernlehrpl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ie Studierenden können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mpfohlene Lehrmittel, Materialien un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Unterrichtsmethode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idaktisch-methodische Anmerkungen und Empfehlungen sowie Darstellung  der verbindlichen Absprachen der Fachkonferenz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79" name="Pfeil nach rechts 4"/>
          <p:cNvSpPr/>
          <p:nvPr/>
        </p:nvSpPr>
        <p:spPr>
          <a:xfrm rot="2668800">
            <a:off x="2930040" y="2170080"/>
            <a:ext cx="5141880" cy="32115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Anmerkungen und Erklärungen zur Unterstützung eines kompetenzorientierten Unterrichts plus Markierung aller </a:t>
            </a:r>
            <a:r>
              <a:rPr b="1" lang="de-DE" sz="1800" spc="-1" strike="noStrike">
                <a:solidFill>
                  <a:srgbClr val="e46c0a"/>
                </a:solidFill>
                <a:latin typeface="Arial"/>
                <a:ea typeface="Arial"/>
              </a:rPr>
              <a:t>verbindlicher Fachkonferenzbeschlüss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Foliennummernplatzhalter 2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7518-105F-4675-BD0C-B6A65422AFFD}" type="slidenum">
              <a:rPr b="0" lang="de-DE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77770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lang="de-DE" sz="4000" spc="-1" strike="noStrike">
                <a:solidFill>
                  <a:srgbClr val="4f81bd"/>
                </a:solidFill>
                <a:latin typeface="Arial"/>
                <a:ea typeface="Arial"/>
              </a:rPr>
              <a:t>Schulinterner Lehrplan</a:t>
            </a:r>
            <a:endParaRPr b="0" lang="en-US" sz="4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82" name="Textfeld 3"/>
          <p:cNvSpPr/>
          <p:nvPr/>
        </p:nvSpPr>
        <p:spPr>
          <a:xfrm>
            <a:off x="250920" y="1341360"/>
            <a:ext cx="866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933c"/>
                </a:solidFill>
                <a:latin typeface="Arial"/>
                <a:ea typeface="Arial"/>
              </a:rPr>
              <a:t>Konkretisierung Unterrichtsvorhaben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933c"/>
                </a:solidFill>
                <a:latin typeface="Arial"/>
                <a:ea typeface="Arial"/>
              </a:rPr>
              <a:t>(abschließende Zeilen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3" name="Textfeld 1"/>
          <p:cNvSpPr/>
          <p:nvPr/>
        </p:nvSpPr>
        <p:spPr>
          <a:xfrm>
            <a:off x="343080" y="2781360"/>
            <a:ext cx="8569080" cy="360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agnose von Studierendenkompetenzen: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lbstevaluationsbogen mit Ich-Kompetenzen am Ende der Unterrichtsreih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eistungsbewertung: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eedbackbogen und angekündigt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ultiple-choic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Tests zur Mitose; schriftliche Übung (z.B. aus einer Hypothese oder einem Versuchsdesign auf die zugrunde liegende Fragestellung schließen) zur Ermittlung der Fragestellungskompetenz (E1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gf. Klausu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Foliennummernplatzhalter 2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1D24-53E9-4E98-B29C-BF6899E0BFC3}" type="slidenum">
              <a:rPr b="0" lang="de-DE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77770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lang="de-DE" sz="4000" spc="-1" strike="noStrike">
                <a:solidFill>
                  <a:srgbClr val="4f81bd"/>
                </a:solidFill>
                <a:latin typeface="Arial"/>
                <a:ea typeface="Arial"/>
              </a:rPr>
              <a:t>Schulinterner Lehrplan</a:t>
            </a:r>
            <a:endParaRPr b="0" lang="en-US" sz="4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86" name="Textfeld 3"/>
          <p:cNvSpPr/>
          <p:nvPr/>
        </p:nvSpPr>
        <p:spPr>
          <a:xfrm>
            <a:off x="611280" y="1643040"/>
            <a:ext cx="824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933c"/>
                </a:solidFill>
                <a:latin typeface="Arial"/>
                <a:ea typeface="Arial"/>
              </a:rPr>
              <a:t>Konkretisierung Unterrichtsvorhaben (Pflichtanteile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7" name="Textfeld 4"/>
          <p:cNvSpPr/>
          <p:nvPr/>
        </p:nvSpPr>
        <p:spPr>
          <a:xfrm>
            <a:off x="324000" y="2492280"/>
            <a:ext cx="8373960" cy="56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flichtanteile im Kopfbereich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Thema/Kontext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Inhaltsfeld/Inhaltsfelder mit den inhaltlichen Schwerpunkten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Zeitbedarf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die schwerpunktmäßig im Vordergrund stehenden übergeordneten Kompetenzerwartungen in ausgeschriebener Form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Empfehlung: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Angaben zu den Voraussetzungen zu dem Unterrichtsvorhaben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ispiel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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442800" indent="144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442800" indent="144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442800" indent="14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Foliennummernplatzhalter 2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1BE8-E5A8-4AC5-A724-E68D251B3A04}" type="slidenum">
              <a:rPr b="0" lang="de-DE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5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lang="de-DE" sz="4000" spc="-1" strike="noStrike">
                <a:solidFill>
                  <a:srgbClr val="4f81bd"/>
                </a:solidFill>
                <a:latin typeface="Arial"/>
                <a:ea typeface="Arial"/>
              </a:rPr>
              <a:t>Schulinterner Lehrplan</a:t>
            </a:r>
            <a:endParaRPr b="0" lang="en-US" sz="4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90" name="Textfeld 3"/>
          <p:cNvSpPr/>
          <p:nvPr/>
        </p:nvSpPr>
        <p:spPr>
          <a:xfrm>
            <a:off x="826920" y="84924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933c"/>
                </a:solidFill>
                <a:latin typeface="Arial"/>
                <a:ea typeface="Arial"/>
              </a:rPr>
              <a:t>Konkretisierung Unterrichtsvorhaben (Pflichtanteile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179280" y="1628640"/>
          <a:ext cx="8785440" cy="5299200"/>
        </p:xfrm>
        <a:graphic>
          <a:graphicData uri="http://schemas.openxmlformats.org/drawingml/2006/table">
            <a:tbl>
              <a:tblPr/>
              <a:tblGrid>
                <a:gridCol w="1606680"/>
                <a:gridCol w="2071800"/>
                <a:gridCol w="1881000"/>
                <a:gridCol w="3225960"/>
              </a:tblGrid>
              <a:tr h="594360">
                <a:tc gridSpan="4">
                  <a:txBody>
                    <a:bodyPr lIns="68040" rIns="6804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Unterrichtsvorhaben II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hema/Kontext: </a:t>
                      </a:r>
                      <a:r>
                        <a:rPr b="1" lang="de-DE" sz="13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Kein Leben ohne Zelle II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– </a:t>
                      </a:r>
                      <a:r>
                        <a:rPr b="1" i="1" lang="de-DE" sz="1300" spc="-1" strike="noStrike">
                          <a:solidFill>
                            <a:srgbClr val="e46c0a"/>
                          </a:solidFill>
                          <a:latin typeface="Georgia"/>
                        </a:rPr>
                        <a:t>Welche Bedeutung haben Zellkern und Nukleinsäuren für das Leben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8360">
                <a:tc gridSpan="4">
                  <a:txBody>
                    <a:bodyPr lIns="68040" rIns="6804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haltsfeld: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IF1  </a:t>
                      </a: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iologie der Zelle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6360">
                <a:tc gridSpan="2"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haltliche Schwerpunkte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Funktion des Zellker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Zellverdopplung und DN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Zeitbedarf: 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a.  8  Std. à 45 Minut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chwerpunkte übergeordneter Kompetenzerwartungen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ie Studierenden können ...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UF4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bestehendes Wissen aufgrund neuer biologischer  Erfahrungen und Erkenntnisse  modifizieren und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1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in vorgegebenen Situationen biologische Probleme beschreiben, in Teilprobleme zerlegen und dazu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6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Modelle zur Beschreibung, Erklärung und Vorhersage biologischer Vorgänge begründet auswählen und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7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an ausgewählten Beispielen die Bedeutung, aber auch die Vorläufigkeit biologischer Modelle und Theorien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K4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biologische Aussagen und Behauptungen mit sachlich fundierten und überzeugenden Argumenten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1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bei der Bewertung von Sachverhalten in naturwissenschaft-lichen Zusammenhängen  fachliche, gesellschaftliche … ….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4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Möglichkeiten und Grenzen biologischer Problemlösungen und Sichtweisen mit Bezug auf die Zielsetzungen … … 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0120"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92" name="Foliennummernplatzhalter 2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B0BF-930B-4069-B551-CC4C86C6FAFD}" type="slidenum">
              <a:rPr b="0" lang="de-DE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77770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lang="de-DE" sz="4000" spc="-1" strike="noStrike">
                <a:solidFill>
                  <a:srgbClr val="4f81bd"/>
                </a:solidFill>
                <a:latin typeface="Arial"/>
                <a:ea typeface="Arial"/>
              </a:rPr>
              <a:t>Schulinterner Lehrplan</a:t>
            </a:r>
            <a:endParaRPr b="0" lang="en-US" sz="4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7" name="Textfeld 3"/>
          <p:cNvSpPr/>
          <p:nvPr/>
        </p:nvSpPr>
        <p:spPr>
          <a:xfrm>
            <a:off x="1116000" y="164304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933c"/>
                </a:solidFill>
                <a:latin typeface="Arial"/>
                <a:ea typeface="Arial"/>
              </a:rPr>
              <a:t>Entscheidungen zum Unterricht (Kap. 2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Textfeld 4"/>
          <p:cNvSpPr/>
          <p:nvPr/>
        </p:nvSpPr>
        <p:spPr>
          <a:xfrm>
            <a:off x="179280" y="2781360"/>
            <a:ext cx="8785440" cy="39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Kap. 2.1.1: Im „Übersichtsraster Unterrichtsvorhaben“  werden die für alle Lehrerinnen und Lehrer gemäß Fachkonferenzbeschluss 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  <a:ea typeface="Arial"/>
              </a:rPr>
              <a:t>verbindlichen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Kontexte sowie die Verteilung und Reihenfolge der Unterrichtsvorhaben dargestellt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Kap. 2.1.2: Die exemplarische Ausgestaltung „möglicher konkretisierter Unterrichtsvorhaben“ hat nur 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  <a:ea typeface="Arial"/>
              </a:rPr>
              <a:t>empfehlend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Charakter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usnahmen, da 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  <a:ea typeface="Arial"/>
              </a:rPr>
              <a:t>verbindlic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die dem Unterrichtsvorhaben zugeordneten konkretisierten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Kompetenzerwartunge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die von der Fachkonferenz als verbindlich erklärten Beschlüsse zu  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didaktisch-methodischen Entscheidungen und zur Durchführung  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bestimmter Diagnoseinstrumente und Leistungsüberprüfungsforme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Foliennummernplatzhalter 2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352C-D19F-4836-9C77-78D79FDC6C50}" type="slidenum">
              <a:rPr b="0" lang="de-DE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77770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lang="de-DE" sz="4000" spc="-1" strike="noStrike">
                <a:solidFill>
                  <a:srgbClr val="4f81bd"/>
                </a:solidFill>
                <a:latin typeface="Arial"/>
                <a:ea typeface="Arial"/>
              </a:rPr>
              <a:t>Schulinterner Lehrplan</a:t>
            </a:r>
            <a:endParaRPr b="0" lang="en-US" sz="4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94" name="Textfeld 3"/>
          <p:cNvSpPr/>
          <p:nvPr/>
        </p:nvSpPr>
        <p:spPr>
          <a:xfrm>
            <a:off x="611280" y="1643040"/>
            <a:ext cx="824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933c"/>
                </a:solidFill>
                <a:latin typeface="Arial"/>
                <a:ea typeface="Arial"/>
              </a:rPr>
              <a:t>Konkretisierung Unterrichtsvorhaben (Pflichtanteile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5" name="Textfeld 4"/>
          <p:cNvSpPr/>
          <p:nvPr/>
        </p:nvSpPr>
        <p:spPr>
          <a:xfrm>
            <a:off x="250920" y="2924280"/>
            <a:ext cx="8532720" cy="51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flichtanteile im Spaltenbereich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e dem konkreten Unterrichtsvorhaben und Kontext zugeordneten konkretisierten Kompetenzerwartunge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e verpflichtenden Fachkonferenzbeschlüss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inige beispielhafte Angaben und Ausführungen in den anderen Spalte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gaben zur Diagnose und zur Form der Leistungsüberprüfu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ispiel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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442800" indent="144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442800" indent="144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442800" indent="14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Foliennummernplatzhalter 2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316A-C4A9-4E32-8965-BED1C086F97A}" type="slidenum">
              <a:rPr b="0" lang="de-DE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5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lang="de-DE" sz="4000" spc="-1" strike="noStrike">
                <a:solidFill>
                  <a:srgbClr val="4f81bd"/>
                </a:solidFill>
                <a:latin typeface="Arial"/>
                <a:ea typeface="Arial"/>
              </a:rPr>
              <a:t>Schulinterner Lehrplan</a:t>
            </a:r>
            <a:endParaRPr b="0" lang="en-US" sz="4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98" name="Textfeld 3"/>
          <p:cNvSpPr/>
          <p:nvPr/>
        </p:nvSpPr>
        <p:spPr>
          <a:xfrm>
            <a:off x="684360" y="849240"/>
            <a:ext cx="79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933c"/>
                </a:solidFill>
                <a:latin typeface="Arial"/>
                <a:ea typeface="Arial"/>
              </a:rPr>
              <a:t>Konkretisierung Unterrichtsvorhaben (Pflichtanteile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Foliennummernplatzhalter 2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96AB-F449-4897-8779-7914B784EA42}" type="slidenum">
              <a:rPr b="0" lang="de-DE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700" name=""/>
          <p:cNvGraphicFramePr/>
          <p:nvPr/>
        </p:nvGraphicFramePr>
        <p:xfrm>
          <a:off x="179280" y="1557360"/>
          <a:ext cx="8785440" cy="5102280"/>
        </p:xfrm>
        <a:graphic>
          <a:graphicData uri="http://schemas.openxmlformats.org/drawingml/2006/table">
            <a:tbl>
              <a:tblPr/>
              <a:tblGrid>
                <a:gridCol w="1648080"/>
                <a:gridCol w="2020680"/>
                <a:gridCol w="2236680"/>
                <a:gridCol w="2880000"/>
              </a:tblGrid>
              <a:tr h="118836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ögliche didaktische Leitfragen / Sequenzierung inhaltlicher Aspe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Konkretisierte Kompetenz-</a:t>
                      </a:r>
                      <a:br>
                        <a:rPr sz="1300"/>
                      </a:b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rwartungen des Kernlehrpl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ie Studierenden  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mpfohlene Lehrmittel/ Materialien und Unterrichts-method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idaktisch-methodische Anmerkungen  und Empfehlungen sowie Darstellung der verbindlichen Absprachen der Fachkonferenz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794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052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13920">
                <a:tc gridSpan="4"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 u="sng">
                          <a:solidFill>
                            <a:srgbClr val="000000"/>
                          </a:solidFill>
                          <a:uFillTx/>
                          <a:latin typeface="Georgia"/>
                        </a:rPr>
                        <a:t>Diagnose von Studierendenkompetenzen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ff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mindestens eine Angab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 u="sng">
                          <a:solidFill>
                            <a:srgbClr val="000000"/>
                          </a:solidFill>
                          <a:uFillTx/>
                          <a:latin typeface="Georgia"/>
                        </a:rPr>
                        <a:t>Leistungsbewertung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ff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mindestens eine Angabe (nicht nur  „ggf. Klausur“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01" name="Textfeld 10"/>
          <p:cNvSpPr/>
          <p:nvPr/>
        </p:nvSpPr>
        <p:spPr>
          <a:xfrm>
            <a:off x="1835280" y="2916360"/>
            <a:ext cx="16570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Georgia"/>
              </a:rPr>
              <a:t>Alle dem konkretisierten Unterrichtsvor-haben zugeordneten konkretisierten Kompetenzer-wartungen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Georgia"/>
              </a:rPr>
              <a:t>aus dem Kernlehrplan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2" name="Textfeld 11"/>
          <p:cNvSpPr/>
          <p:nvPr/>
        </p:nvSpPr>
        <p:spPr>
          <a:xfrm>
            <a:off x="3851280" y="2916360"/>
            <a:ext cx="15843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Georgia"/>
              </a:rPr>
              <a:t>Einige beispielhaft aufgeführte , besonders empfehlens-werte Lehr-mittel, Materialien, Unterrichts-methoden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3" name="Textfeld 12"/>
          <p:cNvSpPr/>
          <p:nvPr/>
        </p:nvSpPr>
        <p:spPr>
          <a:xfrm>
            <a:off x="6148440" y="2708280"/>
            <a:ext cx="27352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Georgia"/>
              </a:rPr>
              <a:t>Einige beispielhaft ausge-führte Erläuterungen, um Aspekte aus den anderen Spalten im Sinne der Spaltenüberschrift besonders herauszustellen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ff0000"/>
                </a:solidFill>
                <a:uFillTx/>
                <a:latin typeface="Georgia"/>
              </a:rPr>
              <a:t>Und besonders markiert / kenntlich gemacht: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Georgia"/>
              </a:rPr>
              <a:t>Aufnahme des verbindlichen Fachkonferenzbeschlusses. 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4" name="Textfeld 14"/>
          <p:cNvSpPr/>
          <p:nvPr/>
        </p:nvSpPr>
        <p:spPr>
          <a:xfrm>
            <a:off x="8515440" y="4064040"/>
            <a:ext cx="28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0" spc="-1" strike="noStrike">
                <a:solidFill>
                  <a:srgbClr val="ff0000"/>
                </a:solidFill>
                <a:latin typeface="Georgia"/>
              </a:rPr>
              <a:t>!</a:t>
            </a:r>
            <a:endParaRPr b="0" lang="en-US" sz="8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77770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lang="de-DE" sz="4000" spc="-1" strike="noStrike">
                <a:solidFill>
                  <a:srgbClr val="4f81bd"/>
                </a:solidFill>
                <a:latin typeface="Arial"/>
                <a:ea typeface="Arial"/>
              </a:rPr>
              <a:t>Schulinterner Lehrplan</a:t>
            </a:r>
            <a:endParaRPr b="0" lang="en-US" sz="4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06" name="Textfeld 3"/>
          <p:cNvSpPr/>
          <p:nvPr/>
        </p:nvSpPr>
        <p:spPr>
          <a:xfrm>
            <a:off x="611280" y="1643040"/>
            <a:ext cx="824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933c"/>
                </a:solidFill>
                <a:latin typeface="Arial"/>
                <a:ea typeface="Arial"/>
              </a:rPr>
              <a:t> </a:t>
            </a:r>
            <a:r>
              <a:rPr b="1" lang="de-DE" sz="2400" spc="-1" strike="noStrike">
                <a:solidFill>
                  <a:srgbClr val="77933c"/>
                </a:solidFill>
                <a:latin typeface="Arial"/>
                <a:ea typeface="Arial"/>
              </a:rPr>
              <a:t>Zeitschiene zur Erstellung des Schulcurriculum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Textfeld 4"/>
          <p:cNvSpPr/>
          <p:nvPr/>
        </p:nvSpPr>
        <p:spPr>
          <a:xfrm>
            <a:off x="312840" y="2781360"/>
            <a:ext cx="853272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or Unterrichtsbeginn Sommersemester 2015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ertigstellung aller Übersichtsraster und konkretisierter Unterrichts-vorhaben für die Einführungsphase plus Leistungskonzep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or Unterrichtsbeginn Schuljahr 2015/16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ertigstellung aller Übersichtsraster und konkretisierter Unterrichts-vorhaben für die Qualifikationsphase plus Leistungskonzep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ach Ablauf von drei Jahren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ertigstellung aller anderen Kapitel im Schulcurriculu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8" name="Foliennummernplatzhalter 2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B55D-460F-4F9B-BF0A-905C79CDB01C}" type="slidenum">
              <a:rPr b="0" lang="de-DE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77770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lang="de-DE" sz="4000" spc="-1" strike="noStrike">
                <a:solidFill>
                  <a:srgbClr val="4f81bd"/>
                </a:solidFill>
                <a:latin typeface="Arial"/>
                <a:ea typeface="Arial"/>
              </a:rPr>
              <a:t>Schulinterner Lehrplan</a:t>
            </a:r>
            <a:endParaRPr b="0" lang="en-US" sz="4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10" name="Textfeld 3"/>
          <p:cNvSpPr/>
          <p:nvPr/>
        </p:nvSpPr>
        <p:spPr>
          <a:xfrm>
            <a:off x="539640" y="164304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933c"/>
                </a:solidFill>
                <a:latin typeface="Arial"/>
                <a:ea typeface="Arial"/>
              </a:rPr>
              <a:t>Arbeitsaufträge Workshop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Textfeld 1"/>
          <p:cNvSpPr/>
          <p:nvPr/>
        </p:nvSpPr>
        <p:spPr>
          <a:xfrm>
            <a:off x="163440" y="2781360"/>
            <a:ext cx="87854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rstellen eines konkretisierten Unterrichtsvorhabens mit allen Elementen  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uf der Grundlage der vorliegenden „Kacheln“ zur E-Phase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aterial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onkretisierte Kompetenzerwartungen zu den beiden Inhaltsfeldern der E-Phase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Übersichtstabellen zur Gestaltung eines konkretisierten  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terrichtsvorhaben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elltafeln, Nadeln, Edding Stifte, Scheren, Tesafil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2" name="Foliennummernplatzhalter 2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4824-3851-4309-B079-E6C08637CA16}" type="slidenum">
              <a:rPr b="0" lang="de-DE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77770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lang="de-DE" sz="4000" spc="-1" strike="noStrike">
                <a:solidFill>
                  <a:srgbClr val="4f81bd"/>
                </a:solidFill>
                <a:latin typeface="Arial"/>
                <a:ea typeface="Arial"/>
              </a:rPr>
              <a:t>Schulinterner Lehrplan</a:t>
            </a:r>
            <a:endParaRPr b="0" lang="en-US" sz="4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1" name="Textfeld 3"/>
          <p:cNvSpPr/>
          <p:nvPr/>
        </p:nvSpPr>
        <p:spPr>
          <a:xfrm>
            <a:off x="611280" y="1643040"/>
            <a:ext cx="824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933c"/>
                </a:solidFill>
                <a:latin typeface="Arial"/>
                <a:ea typeface="Arial"/>
              </a:rPr>
              <a:t>Unterrichtsvorhaben im Übersichtsraster (Kap. 2.1.1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Textfeld 4"/>
          <p:cNvSpPr/>
          <p:nvPr/>
        </p:nvSpPr>
        <p:spPr>
          <a:xfrm>
            <a:off x="358920" y="2708280"/>
            <a:ext cx="842472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Struktur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Darstellung der gemäß Fachkonferenzbeschluss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verbindlich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Verteilung und Reihenfolge der Unterrichtsvorhabe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Darstellung der von der Fachkonferenz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festgelegt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Kontext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Zuordnung der Unterrichtsvorhaben zur EF bzw. Q-Phase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Bezug zu den Inhaltsfeldern und inhaltlichen Schwerpunktsetzunge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lvl="1" marL="264960" indent="-2649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usweisung schwerpunktartig angesteuerter übergeordneter Kompetenzerwartungen in Etikettenform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264960" indent="-2649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lvl="1" marL="264960" indent="-2649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Zeitbedarf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3" name="Foliennummernplatzhalter 2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1DF0-966D-4B6C-8C29-6A80D5CD4BB1}" type="slidenum">
              <a:rPr b="0" lang="de-DE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77770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lang="de-DE" sz="4000" spc="-1" strike="noStrike">
                <a:solidFill>
                  <a:srgbClr val="4f81bd"/>
                </a:solidFill>
                <a:latin typeface="Arial"/>
                <a:ea typeface="Arial"/>
              </a:rPr>
              <a:t>Schulinterner Lehrplan</a:t>
            </a:r>
            <a:endParaRPr b="0" lang="en-US" sz="4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5" name="Textfeld 3"/>
          <p:cNvSpPr/>
          <p:nvPr/>
        </p:nvSpPr>
        <p:spPr>
          <a:xfrm>
            <a:off x="1042920" y="164304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933c"/>
                </a:solidFill>
                <a:latin typeface="Arial"/>
                <a:ea typeface="Arial"/>
              </a:rPr>
              <a:t>Unterrichtsvorhabe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Textfeld 4"/>
          <p:cNvSpPr/>
          <p:nvPr/>
        </p:nvSpPr>
        <p:spPr>
          <a:xfrm>
            <a:off x="395280" y="2790720"/>
            <a:ext cx="8424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sind fachlich fundiert und kontextbezogen,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ebensweltbezogen, interessant, motivieren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aben Anknüpfungspunkte im Schulprogram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können von beliebiger, aber vereinbarter Länge sein,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aben den Anspruch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sämtlich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im Kernlehrplan angeführten Kompetenzerwartungen (übergeordnete und konkretisierte) in zwei Stufen (EF und Q-Phase) abzudecke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sind themen- /kontextbezogen: </a:t>
            </a:r>
            <a:r>
              <a:rPr b="0" lang="de-DE" sz="2000" spc="-1" strike="noStrike">
                <a:solidFill>
                  <a:srgbClr val="558ed5"/>
                </a:solidFill>
                <a:latin typeface="Arial"/>
                <a:ea typeface="Arial"/>
              </a:rPr>
              <a:t>Inhal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plus didaktische </a:t>
            </a:r>
            <a:r>
              <a:rPr b="0" i="1" lang="de-DE" sz="2000" spc="-1" strike="noStrike">
                <a:solidFill>
                  <a:srgbClr val="e46c0a"/>
                </a:solidFill>
                <a:latin typeface="Arial"/>
                <a:ea typeface="Arial"/>
              </a:rPr>
              <a:t>Leitfrag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Foliennummernplatzhalter 5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AA6A-6E24-46FB-ABC3-69CBCAB0924F}" type="slidenum">
              <a:rPr b="0" lang="de-DE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8" name="Textfeld 6"/>
          <p:cNvSpPr/>
          <p:nvPr/>
        </p:nvSpPr>
        <p:spPr>
          <a:xfrm>
            <a:off x="395280" y="5516640"/>
            <a:ext cx="8424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Z. B.: </a:t>
            </a:r>
            <a:r>
              <a:rPr b="1" lang="de-DE" sz="1800" spc="-1" strike="noStrike">
                <a:solidFill>
                  <a:srgbClr val="558ed5"/>
                </a:solidFill>
                <a:latin typeface="Arial"/>
                <a:ea typeface="Arial"/>
              </a:rPr>
              <a:t>Kein Leben ohne Zelle II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1" i="1" lang="de-DE" sz="1800" spc="-1" strike="noStrike">
                <a:solidFill>
                  <a:srgbClr val="e46c0a"/>
                </a:solidFill>
                <a:latin typeface="Arial"/>
                <a:ea typeface="Arial"/>
              </a:rPr>
              <a:t>Welche Bedeutung haben Zellkern und  Nukleinsäuren für das Leben?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77770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lang="de-DE" sz="4000" spc="-1" strike="noStrike">
                <a:solidFill>
                  <a:srgbClr val="4f81bd"/>
                </a:solidFill>
                <a:latin typeface="Arial"/>
                <a:ea typeface="Arial"/>
              </a:rPr>
              <a:t>Schulinterner Lehrplan</a:t>
            </a:r>
            <a:endParaRPr b="0" lang="en-US" sz="4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30" name="Textfeld 3"/>
          <p:cNvSpPr/>
          <p:nvPr/>
        </p:nvSpPr>
        <p:spPr>
          <a:xfrm>
            <a:off x="539640" y="164304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933c"/>
                </a:solidFill>
                <a:latin typeface="Arial"/>
                <a:ea typeface="Arial"/>
              </a:rPr>
              <a:t>Übersichtsraster Unterrichtsvorhaben (Ausschnitt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Textfeld 4"/>
          <p:cNvSpPr/>
          <p:nvPr/>
        </p:nvSpPr>
        <p:spPr>
          <a:xfrm>
            <a:off x="250920" y="2503440"/>
            <a:ext cx="8569080" cy="412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terrichtsvorhaben II: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Georgia"/>
            </a:endParaRPr>
          </a:p>
          <a:p>
            <a:pPr marL="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Thema/Kontext: </a:t>
            </a:r>
            <a:r>
              <a:rPr b="1" lang="de-DE" sz="1600" spc="-1" strike="noStrike">
                <a:solidFill>
                  <a:srgbClr val="558ed5"/>
                </a:solidFill>
                <a:latin typeface="Arial"/>
                <a:ea typeface="Arial"/>
              </a:rPr>
              <a:t>Kein Leben ohne Zelle II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1" i="1" lang="de-DE" sz="1600" spc="-1" strike="noStrike">
                <a:solidFill>
                  <a:srgbClr val="e46c0a"/>
                </a:solidFill>
                <a:latin typeface="Arial"/>
                <a:ea typeface="Arial"/>
              </a:rPr>
              <a:t>Welche Bedeutung haben Zellkern und Nukleinsäuren für das Leben?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Georgia"/>
            </a:endParaRPr>
          </a:p>
          <a:p>
            <a:pPr marL="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Kompetenz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889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  <a:ea typeface="Arial"/>
              </a:rPr>
              <a:t>UF4 Vernetzung</a:t>
            </a:r>
            <a:r>
              <a:rPr b="0" lang="de-DE" sz="1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889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  <a:ea typeface="Arial"/>
              </a:rPr>
              <a:t>E1    Probleme und Fragestellungen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889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  <a:ea typeface="Arial"/>
              </a:rPr>
              <a:t>E6    Modelle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889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  <a:ea typeface="Arial"/>
              </a:rPr>
              <a:t>E7    Arbeits- und Denkweisen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889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  <a:ea typeface="Arial"/>
              </a:rPr>
              <a:t>K4    Argumentation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889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  <a:ea typeface="Arial"/>
              </a:rPr>
              <a:t>B1    Kriterien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889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  <a:ea typeface="Arial"/>
              </a:rPr>
              <a:t>B4    Möglichkeiten und Grenzen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Georgia"/>
            </a:endParaRPr>
          </a:p>
          <a:p>
            <a:pPr marL="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haltsfeld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: IF 1 (Biologie der Zelle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Georgia"/>
            </a:endParaRPr>
          </a:p>
          <a:p>
            <a:pPr marL="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haltliche Schwerpunkt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8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  <a:ea typeface="Arial"/>
              </a:rPr>
              <a:t>Funktion des Zellkerns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8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  <a:ea typeface="Arial"/>
              </a:rPr>
              <a:t>Zellverdopplung und DNA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Georgia"/>
            </a:endParaRPr>
          </a:p>
          <a:p>
            <a:pPr marL="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Zeitbedar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: ca. 8 Std. à 45 Minute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Foliennummernplatzhalter 2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FD4F-DC72-463D-AD25-8DE5C8FA5D30}" type="slidenum">
              <a:rPr b="0" lang="de-DE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77770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lang="de-DE" sz="4000" spc="-1" strike="noStrike">
                <a:solidFill>
                  <a:srgbClr val="4f81bd"/>
                </a:solidFill>
                <a:latin typeface="Arial"/>
                <a:ea typeface="Arial"/>
              </a:rPr>
              <a:t>Schulinterner Lehrplan</a:t>
            </a:r>
            <a:endParaRPr b="0" lang="en-US" sz="4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34" name="Textfeld 3"/>
          <p:cNvSpPr/>
          <p:nvPr/>
        </p:nvSpPr>
        <p:spPr>
          <a:xfrm>
            <a:off x="1042920" y="164304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933c"/>
                </a:solidFill>
                <a:latin typeface="Arial"/>
                <a:ea typeface="Arial"/>
              </a:rPr>
              <a:t>Unterrichtsvorhaben und Zuordnung von Kompetenzerwartunge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Textfeld 4"/>
          <p:cNvSpPr/>
          <p:nvPr/>
        </p:nvSpPr>
        <p:spPr>
          <a:xfrm>
            <a:off x="395280" y="2803680"/>
            <a:ext cx="8569440" cy="3538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Für die EF-Phase gilt: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  <a:ea typeface="Arial"/>
              </a:rPr>
              <a:t>Alle übergeordneten Kompetenzerwartungen der EF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müssen einmal behandelt worden sein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Für die Q-Phase gilt: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  <a:ea typeface="Arial"/>
              </a:rPr>
              <a:t>Alle übergeordneten Kompetenzerwartungen der Q-Phas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müssen einmal schwerpunktartig behandelt worden sein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442800" indent="144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Foliennummernplatzhalter 2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E321-D106-40D4-A651-8EBEFC9C9364}" type="slidenum">
              <a:rPr b="0" lang="de-DE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77770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lang="de-DE" sz="4000" spc="-1" strike="noStrike">
                <a:solidFill>
                  <a:srgbClr val="4f81bd"/>
                </a:solidFill>
                <a:latin typeface="Arial"/>
                <a:ea typeface="Arial"/>
              </a:rPr>
              <a:t>Schulinterner Lehrplan</a:t>
            </a:r>
            <a:endParaRPr b="0" lang="en-US" sz="4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38" name="Textfeld 3"/>
          <p:cNvSpPr/>
          <p:nvPr/>
        </p:nvSpPr>
        <p:spPr>
          <a:xfrm>
            <a:off x="395280" y="164304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933c"/>
                </a:solidFill>
                <a:latin typeface="Arial"/>
                <a:ea typeface="Arial"/>
              </a:rPr>
              <a:t>Konkretisierung des Unterrichtsvorhabens (Kap. 2.1.2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Textfeld 4"/>
          <p:cNvSpPr/>
          <p:nvPr/>
        </p:nvSpPr>
        <p:spPr>
          <a:xfrm>
            <a:off x="379440" y="2565360"/>
            <a:ext cx="8424720" cy="44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Struktur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konkretisierte Kompetenzerwartungen aus dem Kernlehrpla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idaktische Leitfragen und Sequenzierung inhaltlicher Aspekt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ehrmittel, Materialien und Unterrichtsmethoden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idaktisch-methodische Anmerkungen mit Blick auf Kompetenzentwicklung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iagnoseinstrument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Form/Art und Anzahl von Leistungsüberprüfunge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Arial"/>
                <a:ea typeface="Arial"/>
              </a:rPr>
              <a:t>Verbindliche Absprachen der Fachkonferenz werden besonders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Arial"/>
                <a:ea typeface="Arial"/>
              </a:rPr>
              <a:t>    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  <a:ea typeface="Arial"/>
              </a:rPr>
              <a:t>markiert/kenntlich gemacht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Foliennummernplatzhalter 2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C5DD-8B73-4C6A-AC4D-17126A0F5EA4}" type="slidenum">
              <a:rPr b="0" lang="de-DE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5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lang="de-DE" sz="4000" spc="-1" strike="noStrike">
                <a:solidFill>
                  <a:srgbClr val="4f81bd"/>
                </a:solidFill>
                <a:latin typeface="Arial"/>
                <a:ea typeface="Arial"/>
              </a:rPr>
              <a:t>Schulinterner Lehrplan</a:t>
            </a:r>
            <a:endParaRPr b="0" lang="en-US" sz="4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42" name="Textfeld 3"/>
          <p:cNvSpPr/>
          <p:nvPr/>
        </p:nvSpPr>
        <p:spPr>
          <a:xfrm>
            <a:off x="684360" y="849240"/>
            <a:ext cx="77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933c"/>
                </a:solidFill>
                <a:latin typeface="Arial"/>
                <a:ea typeface="Arial"/>
              </a:rPr>
              <a:t>Konkretisierung Unterrichtsvorhaben (Kap. 2.1.2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43" name=""/>
          <p:cNvGraphicFramePr/>
          <p:nvPr/>
        </p:nvGraphicFramePr>
        <p:xfrm>
          <a:off x="233280" y="1628640"/>
          <a:ext cx="8677440" cy="5131080"/>
        </p:xfrm>
        <a:graphic>
          <a:graphicData uri="http://schemas.openxmlformats.org/drawingml/2006/table">
            <a:tbl>
              <a:tblPr/>
              <a:tblGrid>
                <a:gridCol w="1587600"/>
                <a:gridCol w="2046240"/>
                <a:gridCol w="1857240"/>
                <a:gridCol w="3186360"/>
              </a:tblGrid>
              <a:tr h="594000">
                <a:tc gridSpan="4">
                  <a:txBody>
                    <a:bodyPr lIns="68040" rIns="6804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Unterrichtsvorhaben II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hema/Kontext: </a:t>
                      </a:r>
                      <a:r>
                        <a:rPr b="1" lang="de-DE" sz="13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Kein Leben ohne Zelle II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– </a:t>
                      </a:r>
                      <a:r>
                        <a:rPr b="1" i="1" lang="de-DE" sz="1300" spc="-1" strike="noStrike">
                          <a:solidFill>
                            <a:srgbClr val="e46c0a"/>
                          </a:solidFill>
                          <a:latin typeface="Georgia"/>
                        </a:rPr>
                        <a:t>Welche Bedeutung haben Zellkern und Nukleinsäuren für das Leben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8360">
                <a:tc gridSpan="4">
                  <a:txBody>
                    <a:bodyPr lIns="68040" rIns="680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02040">
                <a:tc gridSpan="2"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6680"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44" name="Foliennummernplatzhalter 2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181E-A030-4696-A641-650FFD8CA201}" type="slidenum">
              <a:rPr b="0" lang="de-DE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5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lang="de-DE" sz="4000" spc="-1" strike="noStrike">
                <a:solidFill>
                  <a:srgbClr val="4f81bd"/>
                </a:solidFill>
                <a:latin typeface="Arial"/>
                <a:ea typeface="Arial"/>
              </a:rPr>
              <a:t>Schulinterner Lehrplan</a:t>
            </a:r>
            <a:endParaRPr b="0" lang="en-US" sz="4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46" name="Textfeld 3"/>
          <p:cNvSpPr/>
          <p:nvPr/>
        </p:nvSpPr>
        <p:spPr>
          <a:xfrm>
            <a:off x="684360" y="849240"/>
            <a:ext cx="77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933c"/>
                </a:solidFill>
                <a:latin typeface="Arial"/>
                <a:ea typeface="Arial"/>
              </a:rPr>
              <a:t>Konkretisierung Unterrichtsvorhaben (Kap. 2.1.2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47" name=""/>
          <p:cNvGraphicFramePr/>
          <p:nvPr/>
        </p:nvGraphicFramePr>
        <p:xfrm>
          <a:off x="233280" y="1628640"/>
          <a:ext cx="8677440" cy="5131080"/>
        </p:xfrm>
        <a:graphic>
          <a:graphicData uri="http://schemas.openxmlformats.org/drawingml/2006/table">
            <a:tbl>
              <a:tblPr/>
              <a:tblGrid>
                <a:gridCol w="1587600"/>
                <a:gridCol w="2046240"/>
                <a:gridCol w="1857240"/>
                <a:gridCol w="3186360"/>
              </a:tblGrid>
              <a:tr h="594000">
                <a:tc gridSpan="4">
                  <a:txBody>
                    <a:bodyPr lIns="68040" rIns="6804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Unterrichtsvorhaben II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hema/Kontext: </a:t>
                      </a:r>
                      <a:r>
                        <a:rPr b="1" lang="de-DE" sz="13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Kein Leben ohne Zelle II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– </a:t>
                      </a:r>
                      <a:r>
                        <a:rPr b="1" i="1" lang="de-DE" sz="1300" spc="-1" strike="noStrike">
                          <a:solidFill>
                            <a:srgbClr val="e46c0a"/>
                          </a:solidFill>
                          <a:latin typeface="Georgia"/>
                        </a:rPr>
                        <a:t>Welche Bedeutung haben Zellkern und Nukleinsäuren für das Leben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8360">
                <a:tc gridSpan="4">
                  <a:txBody>
                    <a:bodyPr lIns="68040" rIns="6804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haltsfeld: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IF1  </a:t>
                      </a: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iologie der Zelle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02040">
                <a:tc gridSpan="2"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6680"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48" name="Foliennummernplatzhalter 2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A6B4-1C9B-468F-A472-37B1FFDE0649}" type="slidenum">
              <a:rPr b="0" lang="de-DE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7T08:30:33Z</dcterms:created>
  <dc:creator>Henry</dc:creator>
  <dc:description/>
  <dc:language>en-US</dc:language>
  <cp:lastModifiedBy>Sohnius, Axel</cp:lastModifiedBy>
  <dcterms:modified xsi:type="dcterms:W3CDTF">2014-08-26T10:01:34Z</dcterms:modified>
  <cp:revision>101</cp:revision>
  <dc:subject/>
  <dc:title>Schulinternes Curriculum</dc:title>
</cp:coreProperties>
</file>