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BA56-12FF-4314-B271-868249887C3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121C-E1A4-4CE4-9C8E-9BA834263ED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3BDD-B62F-44AF-973E-1B4C5EE90FF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A9E5-A3F0-4E62-9B92-091B5C00890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F048-9844-401A-862E-63A9BFAE830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1B7A-FA23-4416-B675-BACA5A7C81E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7005-1E3C-417D-8350-D405DEC953E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494D-7E6D-4986-AD59-BDD4328B0CB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1F15-5DBF-4249-A16C-E2D9F36BA56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E6F3-0C02-4BBA-A8B3-43FA04A63BB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896B-0F7C-47FE-975D-51C4D1145B7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F78C-A859-439D-A5ED-B1C21FB2EB2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A2D7-5CC6-42DE-848B-59A9D036D09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BF2C-792A-42BB-B12E-D732A1804FC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111A-7A9E-4A7A-86BA-9099601E535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CE67-A4C2-47C4-8A2F-F9793C0180A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7F5-7DAC-4378-9A67-F6D0B635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B4F-266E-4DA7-8F9F-0C04D7FE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881FB-1E83-4A4B-A727-96980727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1C115-FBF7-4380-85F3-342DF069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1835C-EFB9-407F-B28D-26CDF7B9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4F050-BF87-4994-99B5-9445D92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EE37D-9E0C-43DB-B0B2-3C62BF1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03B45-E59F-4691-822A-DEBF73F5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2E118-DC52-4BE8-A1C0-752E628D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65327-27B9-4572-BEEC-F9FE5D42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C1C9E-3D08-442B-B639-F7443C99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9CA58-D4C0-49B0-B331-7BEC56B8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1FA-63B9-49D9-B702-B5C1989A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736DA-2E69-4513-8B64-52A046EE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3A59A-1FB5-4954-BD42-864CFA0F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7A7F0-1946-45EF-B92B-9B7CDD38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161AF-DCF4-491E-859D-91D2E97F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C4D18-CFC9-447A-B831-D283D032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57CB1-3955-404F-B895-C5BAAEA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0580C-056B-4757-AE2B-0C7CAC5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944D8-CF32-4FC3-ADEA-22F97D3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E0F6F-FF12-4FF2-B283-16D62873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67D48-1620-49F4-AFDD-33BC106B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640-1D69-459E-B573-A3A43FCB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B176C-9AE8-4ED8-9D6E-9757A089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8F431-3A96-4580-A39E-60BCDDC7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E70F7-84B0-4249-99B2-2222C6FB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34DA1-FA82-403F-8847-CA8A4AF9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F8A7A-84A7-4AD7-BB23-7B2D1B28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38E4F-FACE-464E-95F5-9A0144A4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7F5A6-D2EE-4635-92F8-A9087ECE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CEA8D-89E7-484D-8D79-3C9AA30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A32C7-05A9-41D0-889B-5C355B4A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A7AD8-208F-48B6-80D4-A1EDAFED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24E9-16BD-4D9D-8150-2D86783D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44D9D-0977-4E14-A0CF-4791E850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DF947-6A69-4BD3-870A-D6DEB699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6763F-97B9-4396-8EF9-F495C815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22E44-91B1-47BF-AC1B-D012B523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75C95-6AE0-42F9-9990-4B37C78C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40534-7913-4CA4-983C-7FFDF145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EB17E-3A8B-4985-ADD7-22EA5844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B3FF1-BE16-47D6-ABA2-86C8A443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431F1-73A5-42B4-9CD1-0C7C8767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78782-2A63-4D00-9552-08703B5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63E3-1D63-4506-A49D-895C07B2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5CE6B-D20B-48F5-94E1-4AA7FBD6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D8591-05A2-4084-977F-2ABAD6B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C87CE-0E3E-46E4-86CE-80628EF9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CBFBA-5C57-4CA7-8EEB-33CB7D71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2397F-F7EE-4F3F-9024-6FFE2B8D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BA68-FDEB-4FBA-920A-B38762C6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1294-93DF-464B-82A5-28F3FB5F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F623-D88F-4BE9-A8A5-6A91DD85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6066-6BC5-4037-ACB6-5DA1D909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7522-7965-4D6A-B93F-8F23715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067-EF5E-4592-888C-8DE973D1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DAC5-A081-4EB3-97B1-7E5CFA19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89CD-B759-49F5-8B6C-AE3B2D63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8210-2B4E-4E0C-8E57-445DF375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45EB-A548-4584-84D3-B5CF867E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43F8-6873-46B0-A92A-53C355ED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63AC-7704-420E-A916-F57FCBD6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A471-D8C9-4634-817F-27601C23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E8D5-02E4-4740-8EF4-7A983DD7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E9EA-1F12-48E7-83B9-D1461951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C65F-DFAC-4366-ADF2-AB052108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F3F-ED91-4CAE-BE43-EF139830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2253-F908-40F6-A165-2F18FE3A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5F11-D896-49AD-86F5-FCBBD76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C1048-3D8E-497D-A6B6-B6BF346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CF8E-C27F-4B22-98E8-B2C0AC11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A95C0-8BFA-44D8-85BF-84D52382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0F2E-BE1C-4DC9-BBDC-4B2993B0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AFAA-45BD-4ADE-AF9A-C8ADBCC9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9FC01-AF4F-477C-BDD9-DF5F915F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B475-3565-482C-A8EA-D936515E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75E2-036F-4CAA-964E-0EBE7F21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E27-9874-4A29-9F60-BD7E79D5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C2E6-5E9D-4CD5-B6E9-8A363994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F956-0106-4497-9468-D3EA4D41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736E-BCA4-40AC-A3CA-68AF8B5C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25C1-8AB0-4AAF-B344-D304B669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B4F2-A81B-4B1F-A6CC-708B81A3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9831B-215A-4A5D-8995-6723450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9CAD-25D9-4505-B821-A21F52A2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5C99D-8A2F-4231-AA9C-285E416A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E0A4-BF1F-44C9-9FF0-CE6F45D0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AD01-C0E6-4FCB-BA5E-B4938C60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B9B-1588-4EF2-83FA-45D965CA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CD18B-6672-491A-8053-BCBE45DB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727A3-440B-4DF7-BD24-01DB1244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127B-2AEA-43FC-AA6A-001F0DD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4B8A3-191D-42B9-B84C-7D62B2C4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3C6B6-0D59-4897-970C-08DBE6CE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2A9D-1CF1-4F87-8951-676B3CEF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EDC47-4A02-40F3-8EB9-6B7316EC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42E3F-59E6-4A8C-995F-3848785E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07EC3-F2BF-4D97-A519-58522B7A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0B406-845C-4B8E-BC6F-C0834B61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9A7-0FB1-4CAC-9878-1D624324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807DB-B070-4911-B049-5C02FAC2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62207-2D4A-4E5A-ADEF-3E82F72E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498EC-D11A-430A-B914-0D88C723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37ED-FFBE-4B51-802C-72892E33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ACC2B-E7B1-4339-99EB-CD530F31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9DEC-0867-4772-8791-DAA6FE9B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486CE-4387-47D5-B0C7-81CAA0D4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1E09-8501-490E-BD1E-ACC19243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FEA68-067B-4546-8573-8FD5E8F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974BF-9B2D-4A5A-BCC7-7275841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7A8-6D97-4528-B3A7-32C3779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6D938-4E46-4169-BA20-3B191F7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1ACD-31A3-468B-A63A-B3503D52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6ABE8-D63A-469F-BF2D-C03AFE6E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A23D8-EBB6-4ADC-BC14-686D732B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9A3EA-F660-4440-8E62-3258A01B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BF34-C466-4D35-B4F0-4253BF16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E962-8452-432A-808D-A7B2B45F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716F-08DD-40FB-BFFB-3C86ED9A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B6C2C-4B4E-4A54-8A24-667933C7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DAF33-04DE-4633-8339-EEE2E2F4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C1C-9C64-4EBC-8D45-09ECDFD3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8328E-010E-43F5-9830-9687444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5BC88-07D9-4672-A217-EC32AA9F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C9DE3-6573-4652-A6B0-C76164E8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67E36-608C-45F1-9FC2-E95C63E7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B1A92-71B2-4313-BCDC-85C16AC5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2A16B-4366-4854-9BD1-9C7988CA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ABCAF-D40F-4FDB-A757-E2C95F65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044B2-34D4-46CC-9687-FE329463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81E9F-2010-4B99-898D-31CECF3E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4C96-4718-4A64-A1F1-B5FEE70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040-315A-4A83-87CB-7E02C3FD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98E25-BBEB-4E21-A0C1-F8EDA5EB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4C139-B5E5-4399-8881-FC8E6F48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A9C9-5ED6-4636-86FE-15103D47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AD45C-7624-485C-983F-1B48C8FE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BC6F3-69F4-4634-91B9-FC337E2E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C8F40-055B-42B2-BC66-50944C60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60F9C-E9AE-4CB0-84C6-79A4064E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6C500-E35C-4D03-A9AE-C308792A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E5BD5-25E8-4772-BCBE-F0F0C71E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3FB56-97CA-4410-B394-E7940269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c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htec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htec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htec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htec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1B32-A023-4F57-85C3-83C923DB517D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htec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Gerade Verbindung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6DDD-9592-4C1B-B930-250CAE5B662E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Gerade Verbindung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htec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htec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htec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htec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htec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htec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htec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htec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CA5B-920D-4CCF-9986-C792BD7189B6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7592-E969-4B57-94F7-8FEDDD36EDEE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ec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htec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htec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htec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htec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htec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Gerade Verbindung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3BD-179B-46EC-B4FB-9B45E008926E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42DB-F01C-429C-90C9-E100702FF434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ec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htec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htec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htec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htec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htec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Gerade Verbindung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lipse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lipse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4685-A8BB-4E1A-86EF-8D6C5503F8A5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59B5-F287-4E92-9506-ADF73DB88CD3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ec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htec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htec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htec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htec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Gerade Verbindung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htec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lipse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lipse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5F30-096D-47AC-BF4A-CC0A482BD0F5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30CA-C23F-4152-9D0A-D99FDD8FA6B0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ec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htec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htec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htec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htec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htec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Gerade Verbindung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F39D-CBFC-4565-8C44-2C6126C00D81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7CB1-CD02-4C93-8D79-FAD0889B4369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ec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htec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htec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htec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htec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htec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htec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htec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Gerade Verbindung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lipse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lipse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1893-F7F9-4B35-8CE7-16E746B646B8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F1EE-FA69-42E1-944C-9077174DBBA8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ec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htec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htec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htec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htec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htec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Gerade Verbindung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Gerade Verbindung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44BE-1F07-48C8-BFEC-F09782C872F7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A86-8112-4F82-9F89-724609861E7C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Gerade Verbindung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htec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htec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htec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htec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htec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htec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Gerade Verbindung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htec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lipse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lipse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9677-7A5E-436B-B7E4-A4E71BD4355C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B3A0-76A6-449A-80B3-E4F1C6C0C822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ec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htec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htec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htec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htec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htec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Gerade Verbindung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1B58-5D15-4E27-92AA-5585119402BA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AC20-B466-473F-8BC4-85305277C3A4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ec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htec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htec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htec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htec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htec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5ED2-AC22-4117-95DB-6212B5C0BCA4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EAD6-D90D-4065-8D06-B46ACF690660}" type="slidenum"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ec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htec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htec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htec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htec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htec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htec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Gerade Verbindung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htec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BC4D-526E-456F-959D-D27029FCEAFC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CE29-82DA-4D13-946E-E95137323683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5892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f497d"/>
                </a:solidFill>
                <a:latin typeface="Georgia"/>
              </a:rPr>
              <a:t>HILF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826560" y="691920"/>
            <a:ext cx="7812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4f81bd"/>
                </a:solidFill>
                <a:latin typeface="Georgia"/>
              </a:rPr>
              <a:t>Schulinterner Lehrplan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Foliennummernplatzhalter 3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24E4-0E1E-4DCA-ACB8-667E9CFE1501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0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33280" y="1628640"/>
          <a:ext cx="8677440" cy="513108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1857240"/>
                <a:gridCol w="3186360"/>
              </a:tblGrid>
              <a:tr h="59400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04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66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2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CD46-632C-461E-9181-5A7F0968726F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4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233280" y="1628640"/>
          <a:ext cx="8677440" cy="529920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1857240"/>
                <a:gridCol w="318636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212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6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9DF7-7EBF-44B8-B1AA-7CC181BC6E8D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8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33280" y="1508040"/>
          <a:ext cx="8677440" cy="534996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2217600"/>
                <a:gridCol w="282600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. 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636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mpetenz-</a:t>
                      </a:r>
                      <a:br>
                        <a:rPr sz="1300"/>
                      </a:b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rwartungen aus dem Kernlehrpl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 können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, Materialien u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method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und Empfehlungen sowie Darstellung 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0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D912-1378-4F6C-8CAD-8336C43795AC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2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33280" y="1628640"/>
          <a:ext cx="8677440" cy="534996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2217600"/>
                <a:gridCol w="282600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636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mpetenzerwar-tungen aus dem Kernlehrpl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, Materialien u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method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und Empfehlungen sowie Darstellung 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4" name="Pfeil nach links 6"/>
          <p:cNvSpPr/>
          <p:nvPr/>
        </p:nvSpPr>
        <p:spPr>
          <a:xfrm rot="19483800">
            <a:off x="767880" y="2509920"/>
            <a:ext cx="5113440" cy="316872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Aufzeigen einer möglichen Abfolge  von Unterrichtgegenständen verbunden mit didaktischen Leitfrag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6B8-C94F-48D6-BEF3-7EA74822B1F9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7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33280" y="1628640"/>
          <a:ext cx="8677440" cy="534996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2217600"/>
                <a:gridCol w="282600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636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mpetenzerwar-tungen aus dem Kernlehrpl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, Materialien u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method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und Empfehlungen sowie Darstellung 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9" name="Pfeil nach links 4"/>
          <p:cNvSpPr/>
          <p:nvPr/>
        </p:nvSpPr>
        <p:spPr>
          <a:xfrm rot="19153200">
            <a:off x="2322000" y="2359080"/>
            <a:ext cx="5112000" cy="31687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Aufnahme der konkretisierten Kompetenzerwartungen aus dem Kernlehrplan in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nveränderter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 For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95FE-B172-4479-A774-7F9ED60EACBA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2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233280" y="1628640"/>
          <a:ext cx="8677440" cy="534996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2217600"/>
                <a:gridCol w="282600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636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mpetenzerwar-tungen aus dem Kernlehrpl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, Materialien u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method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und Empfehlungen sowie Darstellung 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74" name="Pfeil nach links 4"/>
          <p:cNvSpPr/>
          <p:nvPr/>
        </p:nvSpPr>
        <p:spPr>
          <a:xfrm rot="18691200">
            <a:off x="4030920" y="2072160"/>
            <a:ext cx="5113440" cy="316872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Auflistung von empfohlenen guten Quellen, Unterrichtsmaterialien,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Medien, Internetadressen sowie Unterrichtsmethoden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DE82-6749-4DAE-9AE1-170D75DA09C4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7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233280" y="1628640"/>
          <a:ext cx="8677440" cy="534996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2360520"/>
                <a:gridCol w="268308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636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mpetenzerwar-tungen aus dem Kernlehrpl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, Materialien u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method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und Empfehlungen sowie Darstellung 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79" name="Pfeil nach rechts 4"/>
          <p:cNvSpPr/>
          <p:nvPr/>
        </p:nvSpPr>
        <p:spPr>
          <a:xfrm rot="2668800">
            <a:off x="2930040" y="2170080"/>
            <a:ext cx="5141880" cy="32115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Anmerkungen und Erklärungen zur Unterstützung eines kompetenzorientierten Unterrichts plus Markierung aller </a:t>
            </a:r>
            <a:r>
              <a:rPr b="1" lang="de-DE" sz="1800" spc="-1" strike="noStrike">
                <a:solidFill>
                  <a:srgbClr val="e46c0a"/>
                </a:solidFill>
                <a:latin typeface="Arial"/>
                <a:ea typeface="Arial"/>
              </a:rPr>
              <a:t>verbindlicher Fachkonferenzbeschlüss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A1E1-2E25-4616-B8A5-15A7956352EE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82" name="Textfeld 3"/>
          <p:cNvSpPr/>
          <p:nvPr/>
        </p:nvSpPr>
        <p:spPr>
          <a:xfrm>
            <a:off x="250920" y="1341360"/>
            <a:ext cx="86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(abschließende Zeile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Textfeld 1"/>
          <p:cNvSpPr/>
          <p:nvPr/>
        </p:nvSpPr>
        <p:spPr>
          <a:xfrm>
            <a:off x="343080" y="2781360"/>
            <a:ext cx="8569080" cy="36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e von Studierendenkompetenzen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bstevaluationsbogen mit Ich-Kompetenzen am Ende der Unterrichtsreih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stungsbewertung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edbackbogen und angekündigt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-choi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Tests zur Mitose; schriftliche Übung (z.B. aus einer Hypothese oder einem Versuchsdesign auf die zugrunde liegende Fragestellung schließen) zur Ermittlung der Fragestellungskompetenz (E1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gf. Klausu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11E0-48AB-4CAB-BF4C-BA9A56A14172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86" name="Textfeld 3"/>
          <p:cNvSpPr/>
          <p:nvPr/>
        </p:nvSpPr>
        <p:spPr>
          <a:xfrm>
            <a:off x="611280" y="164304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Pflichtantei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Textfeld 4"/>
          <p:cNvSpPr/>
          <p:nvPr/>
        </p:nvSpPr>
        <p:spPr>
          <a:xfrm>
            <a:off x="324000" y="2492280"/>
            <a:ext cx="8373960" cy="56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flichtanteile im Kopfbereich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hema/Kontext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nhaltsfeld/Inhaltsfelder mit den inhaltlichen Schwerpunkte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Zeitbedarf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e schwerpunktmäßig im Vordergrund stehenden übergeordneten Kompetenzerwartungen in ausgeschriebener Form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mpfehlung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Angaben zu den Voraussetzungen zu dem Unterrichtsvorhabe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spiel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2125-4105-4681-9EA0-378F1715674B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0" name="Textfeld 3"/>
          <p:cNvSpPr/>
          <p:nvPr/>
        </p:nvSpPr>
        <p:spPr>
          <a:xfrm>
            <a:off x="826920" y="8492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Pflichtantei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79280" y="1628640"/>
          <a:ext cx="8785440" cy="5299200"/>
        </p:xfrm>
        <a:graphic>
          <a:graphicData uri="http://schemas.openxmlformats.org/drawingml/2006/table">
            <a:tbl>
              <a:tblPr/>
              <a:tblGrid>
                <a:gridCol w="1606680"/>
                <a:gridCol w="2071800"/>
                <a:gridCol w="1881000"/>
                <a:gridCol w="322596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. 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012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92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861E-96B4-41B5-A84C-4AA57E811215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Textfeld 3"/>
          <p:cNvSpPr/>
          <p:nvPr/>
        </p:nvSpPr>
        <p:spPr>
          <a:xfrm>
            <a:off x="1116000" y="16430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Entscheidungen zum Unterricht (Kap. 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Textfeld 4"/>
          <p:cNvSpPr/>
          <p:nvPr/>
        </p:nvSpPr>
        <p:spPr>
          <a:xfrm>
            <a:off x="179280" y="2781360"/>
            <a:ext cx="878544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ap. 2.1.1: Im „Übersichtsraster Unterrichtsvorhaben“  werden die für alle Lehrerinnen und Lehrer gemäß Fachkonferenzbeschluss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verbindliche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ntexte sowie die Verteilung und Reihenfolge der Unterrichtsvorhaben dargestellt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ap. 2.1.2: Die exemplarische Ausgestaltung „möglicher konkretisierter Unterrichtsvorhaben“ hat nur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empfehlend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Charakte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snahmen, da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verbindl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dem Unterrichtsvorhaben zugeordneten konkretisierten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erwartung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von der Fachkonferenz als verbindlich erklärten Beschlüsse zu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daktisch-methodischen Entscheidungen und zur Durchführung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stimmter Diagnoseinstrumente und Leistungsüberprüfungsform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66B5-EC13-4A5B-9D81-53B42F7E0FD2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4" name="Textfeld 3"/>
          <p:cNvSpPr/>
          <p:nvPr/>
        </p:nvSpPr>
        <p:spPr>
          <a:xfrm>
            <a:off x="611280" y="164304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Pflichtantei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Textfeld 4"/>
          <p:cNvSpPr/>
          <p:nvPr/>
        </p:nvSpPr>
        <p:spPr>
          <a:xfrm>
            <a:off x="250920" y="2924280"/>
            <a:ext cx="853272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flichtanteile im Spaltenbereich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dem konkreten Unterrichtsvorhaben und Kontext zugeordneten konkretisierten Kompetenzerwartun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verpflichtenden Fachkonferenzbeschlüs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ige beispielhafte Angaben und Ausführungen in den anderen Spalt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gaben zur Diagnose und zur Form der Leistungsüberprüfu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spiel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31E2-258B-4621-9C05-1F2F4AA69257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8" name="Textfeld 3"/>
          <p:cNvSpPr/>
          <p:nvPr/>
        </p:nvSpPr>
        <p:spPr>
          <a:xfrm>
            <a:off x="684360" y="8492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Pflichtantei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CE31-A5D4-4A64-A998-006A074519B2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179280" y="1557360"/>
          <a:ext cx="8785440" cy="5102280"/>
        </p:xfrm>
        <a:graphic>
          <a:graphicData uri="http://schemas.openxmlformats.org/drawingml/2006/table">
            <a:tbl>
              <a:tblPr/>
              <a:tblGrid>
                <a:gridCol w="1648080"/>
                <a:gridCol w="2020680"/>
                <a:gridCol w="2236680"/>
                <a:gridCol w="2880000"/>
              </a:tblGrid>
              <a:tr h="11883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Kompetenz-</a:t>
                      </a:r>
                      <a:br>
                        <a:rPr sz="1300"/>
                      </a:b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rwartungen des Kernlehrpl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 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/ Materialien und Unterrichts-method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 und Empfehlungen sowie Darstellung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9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5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3920">
                <a:tc gridSpan="4"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Diagnose von Studierendenkompetenzen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mindestens eine Anga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Leistungsbewertung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mindestens eine Angabe (nicht nur  „ggf. Klausur“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1" name="Textfeld 10"/>
          <p:cNvSpPr/>
          <p:nvPr/>
        </p:nvSpPr>
        <p:spPr>
          <a:xfrm>
            <a:off x="1835280" y="2916360"/>
            <a:ext cx="1657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Georgia"/>
              </a:rPr>
              <a:t>Alle dem konkretisierten Unterrichtsvor-haben zugeordneten konkretisierten Kompetenzer-wartungen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Georgia"/>
              </a:rPr>
              <a:t>aus dem Kernlehrpla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Textfeld 11"/>
          <p:cNvSpPr/>
          <p:nvPr/>
        </p:nvSpPr>
        <p:spPr>
          <a:xfrm>
            <a:off x="3851280" y="2916360"/>
            <a:ext cx="1584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Georgia"/>
              </a:rPr>
              <a:t>Einige beispielhaft aufgeführte , besonders empfehlens-werte Lehr-mittel, Materialien, Unterrichts-methode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Textfeld 12"/>
          <p:cNvSpPr/>
          <p:nvPr/>
        </p:nvSpPr>
        <p:spPr>
          <a:xfrm>
            <a:off x="6148440" y="2708280"/>
            <a:ext cx="27352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Georgia"/>
              </a:rPr>
              <a:t>Einige beispielhaft ausge-führte Erläuterungen, um Aspekte aus den anderen Spalten im Sinne der Spaltenüberschrift besonders herauszustelle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0000"/>
                </a:solidFill>
                <a:uFillTx/>
                <a:latin typeface="Georgia"/>
              </a:rPr>
              <a:t>Und besonders markiert / kenntlich gemacht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Georgia"/>
              </a:rPr>
              <a:t>Aufnahme des verbindlichen Fachkonferenzbeschlusses.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Textfeld 14"/>
          <p:cNvSpPr/>
          <p:nvPr/>
        </p:nvSpPr>
        <p:spPr>
          <a:xfrm>
            <a:off x="8515440" y="4064040"/>
            <a:ext cx="28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ff0000"/>
                </a:solidFill>
                <a:latin typeface="Georgia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6" name="Textfeld 3"/>
          <p:cNvSpPr/>
          <p:nvPr/>
        </p:nvSpPr>
        <p:spPr>
          <a:xfrm>
            <a:off x="611280" y="164304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 </a:t>
            </a: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Zeitschiene zur Erstellung des Schulcurriculu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Textfeld 4"/>
          <p:cNvSpPr/>
          <p:nvPr/>
        </p:nvSpPr>
        <p:spPr>
          <a:xfrm>
            <a:off x="312840" y="2781360"/>
            <a:ext cx="85327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terrichtsbeginn Sommersemester 2015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rtigstellung aller Übersichtsraster und konkretisierter Unterrichts-vorhaben für die Einführungsphase plus Leistungskonzep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terrichtsbeginn Schuljahr 2015/16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rtigstellung aller Übersichtsraster und konkretisierter Unterrichts-vorhaben für die Qualifikationsphase plus Leistungskonzep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ch Ablauf von drei Jahren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rtigstellung aller anderen Kapitel im Schulcurricul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78CF-6E1E-46C2-86BF-D29F7E94F84E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0" name="Textfeld 3"/>
          <p:cNvSpPr/>
          <p:nvPr/>
        </p:nvSpPr>
        <p:spPr>
          <a:xfrm>
            <a:off x="539640" y="16430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Arbeitsaufträge Worksho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Textfeld 1"/>
          <p:cNvSpPr/>
          <p:nvPr/>
        </p:nvSpPr>
        <p:spPr>
          <a:xfrm>
            <a:off x="163440" y="2781360"/>
            <a:ext cx="8785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en eines konkretisierten Unterrichtsvorhabens mit allen Elementen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uf der Grundlage der vorliegenden „Kacheln“ zur E-Phas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terial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nkretisierte Kompetenzerwartungen zu den beiden Inhaltsfeldern der E-Phas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bersichtstabellen zur Gestaltung eines konkretisierten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terrichtsvorhabe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ltafeln, Nadeln, Edding Stifte, Scheren, Tesafil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3384-6895-4332-BC49-EAF12923EC2E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Textfeld 3"/>
          <p:cNvSpPr/>
          <p:nvPr/>
        </p:nvSpPr>
        <p:spPr>
          <a:xfrm>
            <a:off x="611280" y="164304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Unterrichtsvorhaben im Übersichtsraster (Kap. 2.1.1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Textfeld 4"/>
          <p:cNvSpPr/>
          <p:nvPr/>
        </p:nvSpPr>
        <p:spPr>
          <a:xfrm>
            <a:off x="358920" y="2708280"/>
            <a:ext cx="84247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truktur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arstellung der gemäß Fachkonferenzbeschluss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verbindlich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Verteilung und Reihenfolge der Unterrichtsvorhab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arstellung der von der Fachkonferenz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estgeleg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Kontext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Zuordnung der Unterrichtsvorhaben zur EF bzw. Q-Phase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zug zu den Inhaltsfeldern und inhaltlichen Schwerpunktsetzung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lvl="1"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sweisung schwerpunktartig angesteuerter übergeordneter Kompetenzerwartungen in Etikettenfor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lvl="1"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Zeitbedarf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153A-E5B7-4311-8376-3A1A484D3FEC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Textfeld 3"/>
          <p:cNvSpPr/>
          <p:nvPr/>
        </p:nvSpPr>
        <p:spPr>
          <a:xfrm>
            <a:off x="1042920" y="16430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Unterrichtsvorhab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Textfeld 4"/>
          <p:cNvSpPr/>
          <p:nvPr/>
        </p:nvSpPr>
        <p:spPr>
          <a:xfrm>
            <a:off x="395280" y="2790720"/>
            <a:ext cx="842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ind fachlich fundiert und kontextbezogen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bensweltbezogen, interessant, motivieren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ben Anknüpfungspunkte im Schulprogram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önnen von beliebiger, aber vereinbarter Länge sein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ben den Anspruch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ämtlic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im Kernlehrplan angeführten Kompetenzerwartungen (übergeordnete und konkretisierte) in zwei Stufen (EF und Q-Phase) abzudeck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ind themen- /kontextbezogen: </a:t>
            </a:r>
            <a:r>
              <a:rPr b="0" lang="de-DE" sz="2000" spc="-1" strike="noStrike">
                <a:solidFill>
                  <a:srgbClr val="558ed5"/>
                </a:solidFill>
                <a:latin typeface="Arial"/>
                <a:ea typeface="Arial"/>
              </a:rPr>
              <a:t>Inhal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lus didaktische </a:t>
            </a:r>
            <a:r>
              <a:rPr b="0" i="1" lang="de-DE" sz="2000" spc="-1" strike="noStrike">
                <a:solidFill>
                  <a:srgbClr val="e46c0a"/>
                </a:solidFill>
                <a:latin typeface="Arial"/>
                <a:ea typeface="Arial"/>
              </a:rPr>
              <a:t>Leitfr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Foliennummernplatzhalter 5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B87E-C336-4365-A6ED-D991B29EAD29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Textfeld 6"/>
          <p:cNvSpPr/>
          <p:nvPr/>
        </p:nvSpPr>
        <p:spPr>
          <a:xfrm>
            <a:off x="395280" y="5516640"/>
            <a:ext cx="842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Z. B.: </a:t>
            </a:r>
            <a:r>
              <a:rPr b="1" lang="de-DE" sz="1800" spc="-1" strike="noStrike">
                <a:solidFill>
                  <a:srgbClr val="558ed5"/>
                </a:solidFill>
                <a:latin typeface="Arial"/>
                <a:ea typeface="Arial"/>
              </a:rPr>
              <a:t>Kein Leben ohne Zelle II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de-DE" sz="1800" spc="-1" strike="noStrike">
                <a:solidFill>
                  <a:srgbClr val="e46c0a"/>
                </a:solidFill>
                <a:latin typeface="Arial"/>
                <a:ea typeface="Arial"/>
              </a:rPr>
              <a:t>Welche Bedeutung haben Zellkern und  Nukleinsäuren für das Leben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0" name="Textfeld 3"/>
          <p:cNvSpPr/>
          <p:nvPr/>
        </p:nvSpPr>
        <p:spPr>
          <a:xfrm>
            <a:off x="539640" y="16430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Übersichtsraster Unterrichtsvorhaben (Ausschnit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Textfeld 4"/>
          <p:cNvSpPr/>
          <p:nvPr/>
        </p:nvSpPr>
        <p:spPr>
          <a:xfrm>
            <a:off x="250920" y="2503440"/>
            <a:ext cx="8569080" cy="412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terrichtsvorhaben II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Thema/Kontext: </a:t>
            </a:r>
            <a:r>
              <a:rPr b="1" lang="de-DE" sz="1600" spc="-1" strike="noStrike">
                <a:solidFill>
                  <a:srgbClr val="558ed5"/>
                </a:solidFill>
                <a:latin typeface="Arial"/>
                <a:ea typeface="Arial"/>
              </a:rPr>
              <a:t>Kein Leben ohne Zelle II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de-DE" sz="1600" spc="-1" strike="noStrike">
                <a:solidFill>
                  <a:srgbClr val="e46c0a"/>
                </a:solidFill>
                <a:latin typeface="Arial"/>
                <a:ea typeface="Arial"/>
              </a:rPr>
              <a:t>Welche Bedeutung haben Zellkern und Nukleinsäuren für das Leben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Kompet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UF4 Vernetzung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E1    Probleme und Fragestellungen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E6    Modelle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E7    Arbeits- und Denkweisen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K4    Argumentation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B1    Kriterien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B4    Möglichkeiten und Grenzen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haltsf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: IF 1 (Biologie der Zelle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haltliche Schwerpunk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Funktion des Zellkerns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Zellverdopplung und DNA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Zeitbe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: ca. 8 Std. à 45 Minut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1BA1-873F-40AD-8A97-117BFC9E337F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4" name="Textfeld 3"/>
          <p:cNvSpPr/>
          <p:nvPr/>
        </p:nvSpPr>
        <p:spPr>
          <a:xfrm>
            <a:off x="1042920" y="16430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Unterrichtsvorhaben und Zuordnung von Kompetenzerwartung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Textfeld 4"/>
          <p:cNvSpPr/>
          <p:nvPr/>
        </p:nvSpPr>
        <p:spPr>
          <a:xfrm>
            <a:off x="395280" y="2803680"/>
            <a:ext cx="8569440" cy="35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ür die EF-Phase gilt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Alle übergeordneten Kompetenzerwartungen der E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üssen einmal behandelt worden sei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ür die Q-Phase gilt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Alle übergeordneten Kompetenzerwartungen der Q-Phas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üssen einmal schwerpunktartig behandelt worden sei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355E-D539-4817-9C87-31037B9A1974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8" name="Textfeld 3"/>
          <p:cNvSpPr/>
          <p:nvPr/>
        </p:nvSpPr>
        <p:spPr>
          <a:xfrm>
            <a:off x="395280" y="16430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des Unterrichtsvorhabens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Textfeld 4"/>
          <p:cNvSpPr/>
          <p:nvPr/>
        </p:nvSpPr>
        <p:spPr>
          <a:xfrm>
            <a:off x="379440" y="2565360"/>
            <a:ext cx="8424720" cy="44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truktur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nkretisierte Kompetenzerwartungen aus dem Kernlehrpl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daktische Leitfragen und Sequenzierung inhaltlicher Aspek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hrmittel, Materialien und Unterrichtsmethode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daktisch-methodische Anmerkungen mit Blick auf Kompetenzentwicklung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agnoseinstrume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orm/Art und Anzahl von Leistungsüberprüfun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Verbindliche Absprachen der Fachkonferenz werden besonder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markiert/kenntlich gemach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598D-33A5-4B94-AB73-E5B30F0A50F2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2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233280" y="1628640"/>
          <a:ext cx="8677440" cy="513108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1857240"/>
                <a:gridCol w="3186360"/>
              </a:tblGrid>
              <a:tr h="59400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04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66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44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A405-46C0-4A11-B97C-0E0D7B34221C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6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33280" y="1628640"/>
          <a:ext cx="8677440" cy="513108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1857240"/>
                <a:gridCol w="3186360"/>
              </a:tblGrid>
              <a:tr h="59400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04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66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48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FEF5-4138-4975-8A73-B2617771EFA4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8:30:33Z</dcterms:created>
  <dc:creator>Henry</dc:creator>
  <dc:description/>
  <dc:language>en-US</dc:language>
  <cp:lastModifiedBy>Sohnius, Axel</cp:lastModifiedBy>
  <dcterms:modified xsi:type="dcterms:W3CDTF">2014-08-26T10:01:34Z</dcterms:modified>
  <cp:revision>101</cp:revision>
  <dc:subject/>
  <dc:title>Schulinternes Curriculum</dc:title>
</cp:coreProperties>
</file>